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 type="sldNum" idx="3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F1B99-1425-4C1C-B146-4B5DDE57B3F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CE1F4-7145-418A-BA12-DC42A9DD5B8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oal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- students should understand where we are heading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- see there is a new class of errors to be found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- deeper properties to be verifi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(than what a "normal" compiler or static analysis can do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02B07-0CF3-467D-B496-D7E0E877A40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6ABFD713-E4C5-4F9C-9E95-A60913AE8FAD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6"/>
          <p:cNvSpPr/>
          <p:nvPr/>
        </p:nvSpPr>
        <p:spPr>
          <a:xfrm>
            <a:off x="-7560" y="6634080"/>
            <a:ext cx="150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ltran,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AE5D3F06-7972-4C94-BBE6-7A7AC5F128A4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6"/>
          <p:cNvSpPr/>
          <p:nvPr/>
        </p:nvSpPr>
        <p:spPr>
          <a:xfrm>
            <a:off x="-7560" y="6634080"/>
            <a:ext cx="150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ltran,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5" descr="quiz.png"/>
          <p:cNvPicPr/>
          <p:nvPr/>
        </p:nvPicPr>
        <p:blipFill>
          <a:blip r:embed="rId3"/>
          <a:stretch/>
        </p:blipFill>
        <p:spPr>
          <a:xfrm>
            <a:off x="468360" y="40464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387" name="TextBox 6"/>
          <p:cNvSpPr/>
          <p:nvPr/>
        </p:nvSpPr>
        <p:spPr>
          <a:xfrm>
            <a:off x="6929640" y="69228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80a6"/>
                </a:solidFill>
                <a:latin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7" descr="wrong.png"/>
          <p:cNvPicPr/>
          <p:nvPr/>
        </p:nvPicPr>
        <p:blipFill>
          <a:blip r:embed="rId4"/>
          <a:stretch/>
        </p:blipFill>
        <p:spPr>
          <a:xfrm>
            <a:off x="6443640" y="620640"/>
            <a:ext cx="477720" cy="478080"/>
          </a:xfrm>
          <a:prstGeom prst="rect">
            <a:avLst/>
          </a:prstGeom>
          <a:ln w="0">
            <a:noFill/>
          </a:ln>
        </p:spPr>
      </p:pic>
      <p:sp>
        <p:nvSpPr>
          <p:cNvPr id="389" name="TextBox 8"/>
          <p:cNvSpPr/>
          <p:nvPr/>
        </p:nvSpPr>
        <p:spPr>
          <a:xfrm>
            <a:off x="1042920" y="32868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Calibri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900ACF0D-4C36-4DC8-9689-098F6C92629F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6"/>
          <p:cNvSpPr/>
          <p:nvPr/>
        </p:nvSpPr>
        <p:spPr>
          <a:xfrm>
            <a:off x="-7560" y="6634080"/>
            <a:ext cx="150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ltran,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DBAE10BE-1013-42C7-9F82-7E6409F64695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6"/>
          <p:cNvSpPr/>
          <p:nvPr/>
        </p:nvSpPr>
        <p:spPr>
          <a:xfrm>
            <a:off x="-7560" y="6634080"/>
            <a:ext cx="150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ltran,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625E95BF-87B8-4EA5-9FD8-8085AF13ACDA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-7560" y="6634080"/>
            <a:ext cx="150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ltran,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c1fe8a76-f479-4240-b975-cf131fd69cdc" descr="6CE50D91-52A1-418C-81F5-BA85E68CC41F@hsd1"/>
          <p:cNvPicPr/>
          <p:nvPr/>
        </p:nvPicPr>
        <p:blipFill>
          <a:blip r:embed="rId3"/>
          <a:stretch/>
        </p:blipFill>
        <p:spPr>
          <a:xfrm>
            <a:off x="468360" y="1484280"/>
            <a:ext cx="8342280" cy="2781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E41542A3-9D71-4F3D-8C65-190172F1144A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-7560" y="6634080"/>
            <a:ext cx="150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ltran,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c1fe8a76-f479-4240-b975-cf131fd69cdc" descr="6CE50D91-52A1-418C-81F5-BA85E68CC41F@hsd1"/>
          <p:cNvPicPr/>
          <p:nvPr/>
        </p:nvPicPr>
        <p:blipFill>
          <a:blip r:embed="rId3"/>
          <a:stretch/>
        </p:blipFill>
        <p:spPr>
          <a:xfrm>
            <a:off x="7020000" y="260280"/>
            <a:ext cx="1836720" cy="6127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25335C8E-0FDB-46B9-B80B-F9E471F9B3B3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-7560" y="6634080"/>
            <a:ext cx="150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ltran,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5819760" y="153504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c1fe8a76-f479-4240-b975-cf131fd69cdc" descr="6CE50D91-52A1-418C-81F5-BA85E68CC41F@hsd1"/>
          <p:cNvPicPr/>
          <p:nvPr/>
        </p:nvPicPr>
        <p:blipFill>
          <a:blip r:embed="rId3"/>
          <a:stretch/>
        </p:blipFill>
        <p:spPr>
          <a:xfrm>
            <a:off x="826920" y="2060640"/>
            <a:ext cx="7507440" cy="2502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0EEE0D27-CEBE-4654-99D8-40DC5B1193F8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-7560" y="6634080"/>
            <a:ext cx="150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ltran,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5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7"/>
          <p:cNvGrpSpPr/>
          <p:nvPr/>
        </p:nvGrpSpPr>
        <p:grpSpPr>
          <a:xfrm>
            <a:off x="2879640" y="2641680"/>
            <a:ext cx="3373560" cy="1574640"/>
            <a:chOff x="2879640" y="2641680"/>
            <a:chExt cx="3373560" cy="1574640"/>
          </a:xfrm>
        </p:grpSpPr>
        <p:sp>
          <p:nvSpPr>
            <p:cNvPr id="170" name="TextBox 7"/>
            <p:cNvSpPr/>
            <p:nvPr/>
          </p:nvSpPr>
          <p:spPr>
            <a:xfrm>
              <a:off x="4405320" y="2828880"/>
              <a:ext cx="1847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Calibri"/>
                </a:rPr>
                <a:t>Quiz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1" name="Picture 2" descr="C:\Users\ochem\AppData\Local\Temp\Rar$DR28.624\AdaCoreU Package\icons\quiz.png"/>
            <p:cNvPicPr/>
            <p:nvPr/>
          </p:nvPicPr>
          <p:blipFill>
            <a:blip r:embed="rId3"/>
            <a:stretch/>
          </p:blipFill>
          <p:spPr>
            <a:xfrm>
              <a:off x="2879640" y="2641680"/>
              <a:ext cx="1575000" cy="1574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2" name="c1fe8a76-f479-4240-b975-cf131fd69cdc" descr="6CE50D91-52A1-418C-81F5-BA85E68CC41F@hsd1"/>
          <p:cNvPicPr/>
          <p:nvPr/>
        </p:nvPicPr>
        <p:blipFill>
          <a:blip r:embed="rId4"/>
          <a:stretch/>
        </p:blipFill>
        <p:spPr>
          <a:xfrm>
            <a:off x="6948360" y="260280"/>
            <a:ext cx="1835280" cy="61272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80B9B01F-9DC8-4F1E-8E7B-F13F071D2E3B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-7560" y="6634080"/>
            <a:ext cx="150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ltran,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c1fe8a76-f479-4240-b975-cf131fd69cdc" descr="6CE50D91-52A1-418C-81F5-BA85E68CC41F@hsd1"/>
          <p:cNvPicPr/>
          <p:nvPr/>
        </p:nvPicPr>
        <p:blipFill>
          <a:blip r:embed="rId3"/>
          <a:stretch/>
        </p:blipFill>
        <p:spPr>
          <a:xfrm>
            <a:off x="7020000" y="260280"/>
            <a:ext cx="1836720" cy="6127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A0A2DC54-EC7B-4245-B1E1-37D25147169E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-7560" y="6634080"/>
            <a:ext cx="150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ltran,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5" descr="quiz.png"/>
          <p:cNvPicPr/>
          <p:nvPr/>
        </p:nvPicPr>
        <p:blipFill>
          <a:blip r:embed="rId3"/>
          <a:stretch/>
        </p:blipFill>
        <p:spPr>
          <a:xfrm>
            <a:off x="468360" y="40464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ABC8491C-51E4-4D6B-A252-D20351F76D5B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6"/>
          <p:cNvSpPr/>
          <p:nvPr/>
        </p:nvSpPr>
        <p:spPr>
          <a:xfrm>
            <a:off x="-7560" y="6634080"/>
            <a:ext cx="150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ltran,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5"/>
          <p:cNvSpPr/>
          <p:nvPr/>
        </p:nvSpPr>
        <p:spPr>
          <a:xfrm>
            <a:off x="6896880" y="108000"/>
            <a:ext cx="1811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80a6"/>
                </a:solidFill>
                <a:latin typeface="Arial"/>
              </a:rPr>
              <a:t>YES</a:t>
            </a:r>
            <a:br>
              <a:rPr sz="1400"/>
            </a:br>
            <a:r>
              <a:rPr b="1" lang="en-US" sz="1100" spc="-1" strike="noStrike">
                <a:solidFill>
                  <a:srgbClr val="1780a6"/>
                </a:solidFill>
                <a:latin typeface="Arial"/>
              </a:rPr>
              <a:t>(click on the check ic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6"/>
          <p:cNvSpPr/>
          <p:nvPr/>
        </p:nvSpPr>
        <p:spPr>
          <a:xfrm>
            <a:off x="6902640" y="627120"/>
            <a:ext cx="2204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80a6"/>
                </a:solidFill>
                <a:latin typeface="Arial"/>
              </a:rPr>
              <a:t>NO</a:t>
            </a:r>
            <a:br>
              <a:rPr sz="1400"/>
            </a:br>
            <a:r>
              <a:rPr b="1" lang="en-US" sz="1100" spc="-1" strike="noStrike">
                <a:solidFill>
                  <a:srgbClr val="1780a6"/>
                </a:solidFill>
                <a:latin typeface="Arial"/>
              </a:rPr>
              <a:t> (click on the error location(s)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quiz.png"/>
          <p:cNvPicPr/>
          <p:nvPr/>
        </p:nvPicPr>
        <p:blipFill>
          <a:blip r:embed="rId3"/>
          <a:stretch/>
        </p:blipFill>
        <p:spPr>
          <a:xfrm>
            <a:off x="468360" y="404640"/>
            <a:ext cx="431640" cy="4320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8" descr="wrong.png"/>
          <p:cNvPicPr/>
          <p:nvPr/>
        </p:nvPicPr>
        <p:blipFill>
          <a:blip r:embed="rId4"/>
          <a:stretch/>
        </p:blipFill>
        <p:spPr>
          <a:xfrm>
            <a:off x="6443640" y="620640"/>
            <a:ext cx="477720" cy="47808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9" descr="correct.png"/>
          <p:cNvPicPr/>
          <p:nvPr/>
        </p:nvPicPr>
        <p:blipFill>
          <a:blip r:embed="rId5"/>
          <a:stretch/>
        </p:blipFill>
        <p:spPr>
          <a:xfrm>
            <a:off x="6443640" y="115920"/>
            <a:ext cx="482760" cy="482400"/>
          </a:xfrm>
          <a:prstGeom prst="rect">
            <a:avLst/>
          </a:prstGeom>
          <a:ln w="0">
            <a:noFill/>
          </a:ln>
        </p:spPr>
      </p:pic>
      <p:sp>
        <p:nvSpPr>
          <p:cNvPr id="301" name="TextBox 10"/>
          <p:cNvSpPr/>
          <p:nvPr/>
        </p:nvSpPr>
        <p:spPr>
          <a:xfrm>
            <a:off x="1042920" y="32868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Calibri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AEB77D82-17C5-4ECF-99FF-4397C7BE175E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6"/>
          <p:cNvSpPr/>
          <p:nvPr/>
        </p:nvSpPr>
        <p:spPr>
          <a:xfrm>
            <a:off x="-7560" y="6634080"/>
            <a:ext cx="150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ltran,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5" descr="quiz.png"/>
          <p:cNvPicPr/>
          <p:nvPr/>
        </p:nvPicPr>
        <p:blipFill>
          <a:blip r:embed="rId3"/>
          <a:stretch/>
        </p:blipFill>
        <p:spPr>
          <a:xfrm>
            <a:off x="468360" y="40464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343" name="TextBox 6"/>
          <p:cNvSpPr/>
          <p:nvPr/>
        </p:nvSpPr>
        <p:spPr>
          <a:xfrm>
            <a:off x="6894720" y="18900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80a6"/>
                </a:solidFill>
                <a:latin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7" descr="correct.png"/>
          <p:cNvPicPr/>
          <p:nvPr/>
        </p:nvPicPr>
        <p:blipFill>
          <a:blip r:embed="rId4"/>
          <a:stretch/>
        </p:blipFill>
        <p:spPr>
          <a:xfrm>
            <a:off x="6443640" y="115920"/>
            <a:ext cx="482760" cy="482400"/>
          </a:xfrm>
          <a:prstGeom prst="rect">
            <a:avLst/>
          </a:prstGeom>
          <a:ln w="0">
            <a:noFill/>
          </a:ln>
        </p:spPr>
      </p:pic>
      <p:sp>
        <p:nvSpPr>
          <p:cNvPr id="345" name="TextBox 8"/>
          <p:cNvSpPr/>
          <p:nvPr/>
        </p:nvSpPr>
        <p:spPr>
          <a:xfrm>
            <a:off x="1042920" y="32868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Calibri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/>
          </p:nvPr>
        </p:nvSpPr>
        <p:spPr>
          <a:xfrm>
            <a:off x="380880" y="2666880"/>
            <a:ext cx="8382240" cy="96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Arial"/>
              </a:rPr>
              <a:t>What Is Static Analysis?</a:t>
            </a:r>
            <a:endParaRPr b="1" lang="en-US" sz="4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80a6"/>
                </a:solidFill>
                <a:latin typeface="Calibri"/>
              </a:rPr>
              <a:t>Title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What is static analysis? 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formal verification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verifying compiler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Starting point: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 couple of examples from list of common programming errors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quick dem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"exhaustive testing of psuedo code", 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CS concepts of proof later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verifying compiler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5:00:23Z</dcterms:created>
  <dc:creator>ochem</dc:creator>
  <dc:description/>
  <dc:language>en-US</dc:language>
  <cp:lastModifiedBy>Angela Wallenburg</cp:lastModifiedBy>
  <cp:lastPrinted>2014-03-31T13:09:07Z</cp:lastPrinted>
  <dcterms:modified xsi:type="dcterms:W3CDTF">2014-06-20T18:33:47Z</dcterms:modified>
  <cp:revision>2140</cp:revision>
  <dc:subject/>
  <dc:title>Diapositive 1</dc:title>
</cp:coreProperties>
</file>