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Angela Wallenburg" initials="A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presProps" Target="presProps.xml"/><Relationship Id="rId90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4-11-18T13:19:03.079000000" idx="1">
    <p:pos x="1775" y="439"/>
    <p:text>Students object to the need of Count and use of Is_Empty/Is_Full here. SPARK 2005 students would just want to implement the latter as normal functions.
Consider using another example to illustrate ghost functions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9A67-43EF-4270-98D2-54282EFDE1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48B8-7C14-47AD-8C58-952BFD474C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D20F-F62D-444B-82D0-6B7B710F76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93DC-E800-491F-826D-8A46BEAF9A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type representing the state abstraction that should no tbe lim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E138-90B2-4E24-A566-3953C37A26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923F-0E66-4BB6-87E7-7A715FCCD9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97AFE24-7843-471B-B484-F78BB74CFB5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A591182-8415-449C-B1BE-D41E4463776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C247C62-6703-4F8C-BF5A-A4774AE2701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2CBC133-E77D-4AEA-8E53-B5B5721856A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911C70D-2FF2-48C6-A9CE-CA14822880C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387546E-9B5C-4BB5-B66C-90067D8F2B4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F6B3CB7-6296-4469-8C2B-AAEE369A570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57EEDD9-5A58-48D4-8E78-9C5D0668C12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81D488E-307D-42B1-8E8A-FCB663EB9FC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76C533A-5B84-4B00-850F-F72DBA76CE2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69572A3-12AC-45EA-BDAA-7093DF0A978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A9060C8-CED5-4E1C-B1D5-DAB9687CB54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610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" descr=""/>
          <p:cNvPicPr/>
          <p:nvPr/>
        </p:nvPicPr>
        <p:blipFill>
          <a:blip r:embed="rId2"/>
          <a:stretch/>
        </p:blipFill>
        <p:spPr>
          <a:xfrm>
            <a:off x="1116000" y="730080"/>
            <a:ext cx="6350040" cy="29149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80a6"/>
              </a:solidFill>
              <a:latin typeface="Calibri"/>
              <a:ea typeface="Arial Bold"/>
            </a:endParaRPr>
          </a:p>
        </p:txBody>
      </p:sp>
      <p:sp>
        <p:nvSpPr>
          <p:cNvPr id="518" name="Text Placeholder 1"/>
          <p:cNvSpPr/>
          <p:nvPr/>
        </p:nvSpPr>
        <p:spPr>
          <a:xfrm>
            <a:off x="395280" y="3357720"/>
            <a:ext cx="83818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"/>
              </a:rPr>
              <a:t>Abstraction and Refin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PARK Support for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da and SPARK support abstraction through the separation of declaration and bod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programs may, and packages must, have separate declarations and bo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claration is the abstract view and the body is the refined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Ada package is the vehicle fo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tract data types - Ada private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traction of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RK 2014 state abst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RK 2014 external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80a6"/>
              </a:solidFill>
              <a:latin typeface="Calibri"/>
              <a:ea typeface="Arial Bold"/>
            </a:endParaRPr>
          </a:p>
        </p:txBody>
      </p:sp>
      <p:sp>
        <p:nvSpPr>
          <p:cNvPr id="544" name="Text Placeholder 1"/>
          <p:cNvSpPr/>
          <p:nvPr/>
        </p:nvSpPr>
        <p:spPr>
          <a:xfrm>
            <a:off x="395280" y="3357720"/>
            <a:ext cx="83818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"/>
              </a:rPr>
              <a:t>Abstract Data Typ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 Data Type Example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tack is an abstract data type of package Stack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But this declaration does not provide any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684360" y="1773360"/>
          <a:ext cx="7848360" cy="39416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9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Size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1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p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lear (S :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 (S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 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Item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  (S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 It :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Must be valid Ada in private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 Data Type Example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e need to ensure that subprograms are only called with valid actual parameter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84360" y="2133720"/>
          <a:ext cx="7848360" cy="41446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1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Size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1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p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(S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lear (S :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 (S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 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(S);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  (S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 It :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(S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Must be valid Ada in private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1" name="Rounded Rectangular Callout 1"/>
          <p:cNvSpPr/>
          <p:nvPr/>
        </p:nvSpPr>
        <p:spPr>
          <a:xfrm>
            <a:off x="6156360" y="2133720"/>
            <a:ext cx="2303280" cy="863640"/>
          </a:xfrm>
          <a:prstGeom prst="wedgeRoundRectCallout">
            <a:avLst>
              <a:gd name="adj1" fmla="val -75037"/>
              <a:gd name="adj2" fmla="val 132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s_Empt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s_Ful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o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re abstractions of properties of a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ounded Rectangular Callout 1"/>
          <p:cNvSpPr/>
          <p:nvPr/>
        </p:nvSpPr>
        <p:spPr>
          <a:xfrm>
            <a:off x="6156360" y="3573360"/>
            <a:ext cx="2303280" cy="863640"/>
          </a:xfrm>
          <a:prstGeom prst="wedgeRoundRectCallout">
            <a:avLst>
              <a:gd name="adj1" fmla="val -81365"/>
              <a:gd name="adj2" fmla="val 41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require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t to be empty when we get it’s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ular Callout 1"/>
          <p:cNvSpPr/>
          <p:nvPr/>
        </p:nvSpPr>
        <p:spPr>
          <a:xfrm>
            <a:off x="6156360" y="5445000"/>
            <a:ext cx="2303280" cy="863640"/>
          </a:xfrm>
          <a:prstGeom prst="wedgeRoundRectCallout">
            <a:avLst>
              <a:gd name="adj1" fmla="val -98537"/>
              <a:gd name="adj2" fmla="val -431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ust not be full when pushed or empty when po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roof functions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But we have not provided a contract specifying the behaviour of the subprogram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this we declare some proof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express abstract properti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684360" y="2997360"/>
          <a:ext cx="7848360" cy="25192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251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lement (S : Stack_Type; N : Positive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e =&gt; N &lt;= Count (S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7" name="Rounded Rectangular Callout 1"/>
          <p:cNvSpPr/>
          <p:nvPr/>
        </p:nvSpPr>
        <p:spPr>
          <a:xfrm>
            <a:off x="6227640" y="2997360"/>
            <a:ext cx="2303640" cy="647640"/>
          </a:xfrm>
          <a:prstGeom prst="wedgeRoundRectCallout">
            <a:avLst>
              <a:gd name="adj1" fmla="val -70962"/>
              <a:gd name="adj2" fmla="val -19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umber of items i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ounded Rectangular Callout 1"/>
          <p:cNvSpPr/>
          <p:nvPr/>
        </p:nvSpPr>
        <p:spPr>
          <a:xfrm>
            <a:off x="684360" y="4724280"/>
            <a:ext cx="5398920" cy="720720"/>
          </a:xfrm>
          <a:prstGeom prst="wedgeRoundRectCallout">
            <a:avLst>
              <a:gd name="adj1" fmla="val -39245"/>
              <a:gd name="adj2" fmla="val -1051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Gh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 that the functions can only be called from contracts (or other ghost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ounded Rectangular Callout 1"/>
          <p:cNvSpPr/>
          <p:nvPr/>
        </p:nvSpPr>
        <p:spPr>
          <a:xfrm>
            <a:off x="6227640" y="4005360"/>
            <a:ext cx="2303640" cy="647640"/>
          </a:xfrm>
          <a:prstGeom prst="wedgeRoundRectCallout">
            <a:avLst>
              <a:gd name="adj1" fmla="val -75097"/>
              <a:gd name="adj2" fmla="val -61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th element of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roof functions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But we have not provided a contract specifying the behaviour of the subprogram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this we declare some proof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express abstract properti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chang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n expression function written in terms of the other two proof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84360" y="2997360"/>
          <a:ext cx="7848360" cy="25192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251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Unchanged (Invariant_Part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_Stack : Stack_Type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1 .. Count (Invariant_Part)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ement (Invariant_Part, I) = Element (New_Stack, I)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e =&gt; Count (Invariant_Part) &lt;= Count (New_Stack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3" name="Rounded Rectangular Callout 1"/>
          <p:cNvSpPr/>
          <p:nvPr/>
        </p:nvSpPr>
        <p:spPr>
          <a:xfrm>
            <a:off x="6156360" y="1844640"/>
            <a:ext cx="2376360" cy="1224000"/>
          </a:xfrm>
          <a:prstGeom prst="wedgeRoundRectCallout">
            <a:avLst>
              <a:gd name="adj1" fmla="val -55083"/>
              <a:gd name="adj2" fmla="val 59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variant_Pa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esents the part of the stack which has not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ounded Rectangular Callout 1"/>
          <p:cNvSpPr/>
          <p:nvPr/>
        </p:nvSpPr>
        <p:spPr>
          <a:xfrm>
            <a:off x="684360" y="4508640"/>
            <a:ext cx="4464000" cy="936360"/>
          </a:xfrm>
          <a:prstGeom prst="wedgeRoundRectCallout">
            <a:avLst>
              <a:gd name="adj1" fmla="val -36254"/>
              <a:gd name="adj2" fmla="val -70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Gh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 th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chang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n only be called from contracts (or other ghost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ounded Rectangular Callout 1"/>
          <p:cNvSpPr/>
          <p:nvPr/>
        </p:nvSpPr>
        <p:spPr>
          <a:xfrm>
            <a:off x="5435640" y="4508640"/>
            <a:ext cx="3097080" cy="936360"/>
          </a:xfrm>
          <a:prstGeom prst="wedgeRoundRectCallout">
            <a:avLst>
              <a:gd name="adj1" fmla="val -2930"/>
              <a:gd name="adj2" fmla="val -1139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the items in the invariant part of the stack are the same in the new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 Contracts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Now we can write the contracts using the proof fun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84360" y="2133720"/>
          <a:ext cx="7848360" cy="36716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6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lear (S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Is_Empty 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 (S) 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 (S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 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(S) or Count (S) &lt; Stack_Siz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Unchanged (S'Old, 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p (S) = I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 (S) = Count (S)'Old + 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ement (S, Count (S)) = I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9" name="Rounded Rectangular Callout 1"/>
          <p:cNvSpPr/>
          <p:nvPr/>
        </p:nvSpPr>
        <p:spPr>
          <a:xfrm>
            <a:off x="5003640" y="4076640"/>
            <a:ext cx="3313440" cy="1584360"/>
          </a:xfrm>
          <a:prstGeom prst="wedgeRoundRectCallout">
            <a:avLst>
              <a:gd name="adj1" fmla="val -46574"/>
              <a:gd name="adj2" fmla="val -6197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op of the stack is the new item, the rest of the stack is unchanged and there is one more item in the s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 Contracts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Now we can write the contracts using the proof fun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684360" y="2133720"/>
          <a:ext cx="7848360" cy="36716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6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  (S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; 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(S) or Count (S) &gt;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It = Top (S)'Ol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changed (S, S'Old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 (S) = Count (S)'Old -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3" name="Rounded Rectangular Callout 1"/>
          <p:cNvSpPr/>
          <p:nvPr/>
        </p:nvSpPr>
        <p:spPr>
          <a:xfrm>
            <a:off x="4572000" y="3500280"/>
            <a:ext cx="3313080" cy="1584360"/>
          </a:xfrm>
          <a:prstGeom prst="wedgeRoundRectCallout">
            <a:avLst>
              <a:gd name="adj1" fmla="val -37444"/>
              <a:gd name="adj2" fmla="val -64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tem is taken from the top of the stack and the rest of the stack remains unchanged.  There is one less item in the s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efinement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finement of the abstract data type is in the private par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finement of proof functions (where required) is in the body of the packa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684360" y="1844640"/>
          <a:ext cx="7848360" cy="21607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216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Point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Stack_Siz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dex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Point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Stack_Siz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ecto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dex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: Stack_Point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Vecto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efinement  of (proof) func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body of a proof function is usually an express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84360" y="2276640"/>
          <a:ext cx="7848360" cy="31683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1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Natural (S.P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lement (S : Stack; N : Positive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.V (Index (N)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0" name="Rounded Rectangular Callout 1"/>
          <p:cNvSpPr/>
          <p:nvPr/>
        </p:nvSpPr>
        <p:spPr>
          <a:xfrm>
            <a:off x="3492360" y="4581360"/>
            <a:ext cx="5040360" cy="649440"/>
          </a:xfrm>
          <a:prstGeom prst="wedgeRoundRectCallout">
            <a:avLst>
              <a:gd name="adj1" fmla="val -73106"/>
              <a:gd name="adj2" fmla="val -1298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x the Nth element of the concret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ounded Rectangular Callout 1"/>
          <p:cNvSpPr/>
          <p:nvPr/>
        </p:nvSpPr>
        <p:spPr>
          <a:xfrm>
            <a:off x="3492360" y="2781360"/>
            <a:ext cx="5040360" cy="647640"/>
          </a:xfrm>
          <a:prstGeom prst="wedgeRoundRectCallout">
            <a:avLst>
              <a:gd name="adj1" fmla="val 16546"/>
              <a:gd name="adj2" fmla="val -79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 is represented by the stack po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ion and Decomposi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ivide and Conqu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e a large problem into subproblems to solve separat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bstrac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stripping an idea of its concrete accompaniment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y the problem by removing or hiding irrelevant de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bstraction allows decomposition to be perform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the key to encaps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esign involves alternating between abstraction and decomposi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til original problem is reduced to a set of problems we know how to sol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efinement  of functions used in abstract contra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body of a function used in a contract is usually an express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_Emp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_Fu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684360" y="2637000"/>
          <a:ext cx="7848360" cy="34560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45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S.P = 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S.P = Stack_Siz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p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S.V (S.P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5" name="Rounded Rectangular Callout 1"/>
          <p:cNvSpPr/>
          <p:nvPr/>
        </p:nvSpPr>
        <p:spPr>
          <a:xfrm>
            <a:off x="3492360" y="2997360"/>
            <a:ext cx="5040360" cy="502920"/>
          </a:xfrm>
          <a:prstGeom prst="wedgeRoundRectCallout">
            <a:avLst>
              <a:gd name="adj1" fmla="val 12624"/>
              <a:gd name="adj2" fmla="val -637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tack is empty when the stack pointer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ounded Rectangular Callout 1"/>
          <p:cNvSpPr/>
          <p:nvPr/>
        </p:nvSpPr>
        <p:spPr>
          <a:xfrm>
            <a:off x="3492360" y="5084640"/>
            <a:ext cx="5040360" cy="648000"/>
          </a:xfrm>
          <a:prstGeom prst="wedgeRoundRectCallout">
            <a:avLst>
              <a:gd name="adj1" fmla="val -2453"/>
              <a:gd name="adj2" fmla="val -926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tem at the top of the stack is indexed via the stack po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ular Callout 1"/>
          <p:cNvSpPr/>
          <p:nvPr/>
        </p:nvSpPr>
        <p:spPr>
          <a:xfrm>
            <a:off x="2843280" y="3933720"/>
            <a:ext cx="5689440" cy="503280"/>
          </a:xfrm>
          <a:prstGeom prst="wedgeRoundRectCallout">
            <a:avLst>
              <a:gd name="adj1" fmla="val 12444"/>
              <a:gd name="adj2" fmla="val -9055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tack is full when the stack pointer = Stack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ercis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040"/>
                </a:solidFill>
                <a:latin typeface="Calibri"/>
              </a:rPr>
              <a:t>Exercis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bstraction and Refin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Using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ivate data typ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80a6"/>
              </a:solidFill>
              <a:latin typeface="Calibri"/>
              <a:ea typeface="Arial Bold"/>
            </a:endParaRPr>
          </a:p>
        </p:txBody>
      </p:sp>
      <p:sp>
        <p:nvSpPr>
          <p:cNvPr id="592" name="Text Placeholder 1"/>
          <p:cNvSpPr/>
          <p:nvPr/>
        </p:nvSpPr>
        <p:spPr>
          <a:xfrm>
            <a:off x="395280" y="2924280"/>
            <a:ext cx="83818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"/>
              </a:rPr>
              <a:t>State Abs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da allows data to be “hidden”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declaring objects in the private part or immediately within the body of a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ate represented by this hidden data still ex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hidden data is declared in a library-level package it is global data of the entir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flow analysis and proof the state embodied by this hidden data cannot be igno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a dilemma: the data is not visible but we need to refer to it for flow analysis and pro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PARK 2014 represents the hidden state of a package by one or more </a:t>
            </a:r>
            <a:r>
              <a:rPr b="1" i="1" lang="en-US" sz="2400" spc="-1" strike="noStrike">
                <a:solidFill>
                  <a:srgbClr val="404040"/>
                </a:solidFill>
                <a:latin typeface="Calibri"/>
              </a:rPr>
              <a:t>state abstra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PARK 2014 State Abstrac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tate abstraction is declared using an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  <a:ea typeface="Courier New"/>
              </a:rPr>
              <a:t>Abstract_State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spect specification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bstract_St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pect can only be applied to package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me introduced by a state abstraction can only be used in Global and Depends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denoted in a Global contract to indicate that the subprogram in some way reads or updates one or more variables represented by the state abs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 abstraction has to be refined in the body of the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 abstraction may be hierarch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tate abstraction may be refined into lower-level (not visible to a client of the package) state-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Abstraction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ngleton sta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have seen the stack example using abstract data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can be many such stacks but a package declaring a state abstraction is a singleton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684360" y="2924280"/>
          <a:ext cx="7848360" cy="37177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71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_State =&gt; The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Size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1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Abstraction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ngleton sta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have seen the stack example using abstract data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can be many such stacks but a package declaring a state abstraction is a singleton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684360" y="2924280"/>
          <a:ext cx="7848360" cy="37177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71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_State =&gt; The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Size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1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3" name="Rounded Rectangular Callout 1"/>
          <p:cNvSpPr/>
          <p:nvPr/>
        </p:nvSpPr>
        <p:spPr>
          <a:xfrm>
            <a:off x="5796000" y="2924280"/>
            <a:ext cx="2735280" cy="792000"/>
          </a:xfrm>
          <a:prstGeom prst="wedgeRoundRectCallout">
            <a:avLst>
              <a:gd name="adj1" fmla="val -116333"/>
              <a:gd name="adj2" fmla="val 254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on of the state abstra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Abstraction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ngleton sta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have seen the stack example using abstract data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can be many such stacks but a package declaring a state abstraction is a singleton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684360" y="2924280"/>
          <a:ext cx="7848360" cy="37177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71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_State =&gt; The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Size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1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7" name="Rounded Rectangular Callout 1"/>
          <p:cNvSpPr/>
          <p:nvPr/>
        </p:nvSpPr>
        <p:spPr>
          <a:xfrm>
            <a:off x="5796000" y="2924280"/>
            <a:ext cx="2735280" cy="792000"/>
          </a:xfrm>
          <a:prstGeom prst="wedgeRoundRectCallout">
            <a:avLst>
              <a:gd name="adj1" fmla="val -116333"/>
              <a:gd name="adj2" fmla="val 254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on of the state abstra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ounded Rectangular Callout 1"/>
          <p:cNvSpPr/>
          <p:nvPr/>
        </p:nvSpPr>
        <p:spPr>
          <a:xfrm>
            <a:off x="5796000" y="3789360"/>
            <a:ext cx="2735280" cy="934920"/>
          </a:xfrm>
          <a:prstGeom prst="wedgeRoundRectCallout">
            <a:avLst>
              <a:gd name="adj1" fmla="val -125337"/>
              <a:gd name="adj2" fmla="val 372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ust be a global rather than  a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Abstraction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ngleton sta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have seen the stack example using abstract data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can be many such stacks but a package declaring a state abstraction is a singleton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684360" y="2924280"/>
          <a:ext cx="7848360" cy="37177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71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_State =&gt; The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Size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1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2" name="Rounded Rectangular Callout 1"/>
          <p:cNvSpPr/>
          <p:nvPr/>
        </p:nvSpPr>
        <p:spPr>
          <a:xfrm>
            <a:off x="5796000" y="2924280"/>
            <a:ext cx="2735280" cy="792000"/>
          </a:xfrm>
          <a:prstGeom prst="wedgeRoundRectCallout">
            <a:avLst>
              <a:gd name="adj1" fmla="val -116333"/>
              <a:gd name="adj2" fmla="val 254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on of the state abstra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ounded Rectangular Callout 1"/>
          <p:cNvSpPr/>
          <p:nvPr/>
        </p:nvSpPr>
        <p:spPr>
          <a:xfrm>
            <a:off x="5796000" y="3789360"/>
            <a:ext cx="2735280" cy="934920"/>
          </a:xfrm>
          <a:prstGeom prst="wedgeRoundRectCallout">
            <a:avLst>
              <a:gd name="adj1" fmla="val -125337"/>
              <a:gd name="adj2" fmla="val 372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ust be a global rather than  a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ounded Rectangular Callout 1"/>
          <p:cNvSpPr/>
          <p:nvPr/>
        </p:nvSpPr>
        <p:spPr>
          <a:xfrm>
            <a:off x="5796000" y="4941720"/>
            <a:ext cx="2735280" cy="1440000"/>
          </a:xfrm>
          <a:prstGeom prst="wedgeRoundRectCallout">
            <a:avLst>
              <a:gd name="adj1" fmla="val -85907"/>
              <a:gd name="adj2" fmla="val 41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odes of the Global contracts follow the modes of the parameters 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Abstraction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ngleton sta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_Stack may be initialized during package elabo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itializes contract specifies for clients that it is initializ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84360" y="2637000"/>
          <a:ext cx="7848360" cy="39319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931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_State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s =&gt; The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Size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1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8" name="Rounded Rectangular Callout 1"/>
          <p:cNvSpPr/>
          <p:nvPr/>
        </p:nvSpPr>
        <p:spPr>
          <a:xfrm>
            <a:off x="5435640" y="2708280"/>
            <a:ext cx="3095640" cy="1225440"/>
          </a:xfrm>
          <a:prstGeom prst="wedgeRoundRectCallout">
            <a:avLst>
              <a:gd name="adj1" fmla="val -107925"/>
              <a:gd name="adj2" fmla="val 135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itializes contract specifies tha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initialized during package elab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ion by Parameteris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gnore identity of actual data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efine abstraction in terms of formal parameters, to which actual data is boun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Presence, type and number of actual parameters is importa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84360" y="3716280"/>
          <a:ext cx="7632720" cy="194472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194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_Sqrt (N : Integer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ult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ute the 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sul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_Sqr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Abstraction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dding some contracts to ensure calls are vali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684360" y="1773360"/>
          <a:ext cx="7848360" cy="465588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65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_State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s =&gt; The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Size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:= 10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22" name="Rounded Rectangular Callout 1"/>
          <p:cNvSpPr/>
          <p:nvPr/>
        </p:nvSpPr>
        <p:spPr>
          <a:xfrm>
            <a:off x="5796000" y="3645000"/>
            <a:ext cx="2735280" cy="1008000"/>
          </a:xfrm>
          <a:prstGeom prst="wedgeRoundRectCallout">
            <a:avLst>
              <a:gd name="adj1" fmla="val -134240"/>
              <a:gd name="adj2" fmla="val 468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s with globals can be called in assertion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ular Callout 1"/>
          <p:cNvSpPr/>
          <p:nvPr/>
        </p:nvSpPr>
        <p:spPr>
          <a:xfrm>
            <a:off x="5796000" y="4869000"/>
            <a:ext cx="2735280" cy="1512720"/>
          </a:xfrm>
          <a:prstGeom prst="wedgeRoundRectCallout">
            <a:avLst>
              <a:gd name="adj1" fmla="val -131546"/>
              <a:gd name="adj2" fmla="val 2704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econditions are essentially the same as 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ut using the parameterless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Initial Condition contra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e also need specify the initial state of the sta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the main purpose of the Initial_Condition contract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itial_Condition contract has to be satisfied by the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l_Condition contracts can be used in packages without state abst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instance to specify the state of a deferred const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1187280" y="2205000"/>
          <a:ext cx="7345440" cy="158760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58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_State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s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_Condition =&gt; Is_Emp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27" name="Rounded Rectangular Callout 1"/>
          <p:cNvSpPr/>
          <p:nvPr/>
        </p:nvSpPr>
        <p:spPr>
          <a:xfrm>
            <a:off x="5292720" y="2997360"/>
            <a:ext cx="3240000" cy="647640"/>
          </a:xfrm>
          <a:prstGeom prst="wedgeRoundRectCallout">
            <a:avLst>
              <a:gd name="adj1" fmla="val -69305"/>
              <a:gd name="adj2" fmla="val -16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e we are promising that the stack is initially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roof functions and State Abstrac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o specify the behaviour we need some proof fun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chang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 declared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these functions require a parameter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 state abstraction does not have 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_St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uld be a global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ut no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n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need a type to represent the state abs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1187280" y="2205000"/>
          <a:ext cx="7345440" cy="24382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243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 (S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lement (S : Stack; N : Positive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e =&gt; N &lt;= Count (S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Unchanged (Invariant_Part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_Stack : 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1 .. Count (Invariant_Part)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ement (Invariant_Part, I) = Element (New_Stack, I)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e =&gt; Count (Invariant_Part) &lt;= Count (New_Stack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Indefinite Type representing a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Limit the use of type by making it indefinit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make it limited though, as this will prevent the use of ‘Old for objects of the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_Ty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not be declared without initia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116000" y="2492280"/>
          <a:ext cx="7416720" cy="51912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&lt;&gt;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34" name="Rounded Rectangular Callout 1"/>
          <p:cNvSpPr/>
          <p:nvPr/>
        </p:nvSpPr>
        <p:spPr>
          <a:xfrm>
            <a:off x="4932360" y="2276640"/>
            <a:ext cx="3600360" cy="647640"/>
          </a:xfrm>
          <a:prstGeom prst="wedgeRoundRectCallout">
            <a:avLst>
              <a:gd name="adj1" fmla="val -92740"/>
              <a:gd name="adj2" fmla="val -742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known discriminant makes the type indefi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Indefinite Type representing a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Limit the use of type by making it indefinit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make it a limited type though, as this will prevent the use of ‘Old for objects of the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_Ty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not be declared without initia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can now declare our proof functions using this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16000" y="2492280"/>
          <a:ext cx="7416720" cy="51912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&lt;&gt;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38" name="Rounded Rectangular Callout 1"/>
          <p:cNvSpPr/>
          <p:nvPr/>
        </p:nvSpPr>
        <p:spPr>
          <a:xfrm>
            <a:off x="4932360" y="2276640"/>
            <a:ext cx="3600360" cy="647640"/>
          </a:xfrm>
          <a:prstGeom prst="wedgeRoundRectCallout">
            <a:avLst>
              <a:gd name="adj1" fmla="val -92740"/>
              <a:gd name="adj2" fmla="val -742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known discriminant makes the type indefi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116000" y="3789360"/>
          <a:ext cx="7416720" cy="24382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243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ount (S : Stack_Type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lement (S : Stack_Type; N : Positive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tem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e =&gt; N &lt;= Count (S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Unchanged (Invariant_Part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_Stack : Stack_Type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1 .. Count (Invariant_Part)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ement (Invariant_Part, I) = Element (New_Stack, I)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e =&gt; Count (Invariant_Part) &lt;= Count (New_Stack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Indefinite Type representing a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But how do we relate the state abstraction to the type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declaring a function with the state abstraction as a global and returning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_Ty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usually use the same identifier for the state abstraction and the function that represents it.  The names are overlo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made a ghost function preventing the function from being used in initializations of Ad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prevents the declaration of objects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ck_Ty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ub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116000" y="2637000"/>
          <a:ext cx="7416720" cy="10080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he_Stack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tracts for a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Now we can write the contracts using the proof fun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84360" y="2205000"/>
          <a:ext cx="7848360" cy="32400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324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 (The_Stack) &lt; Stack_Siz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Top = I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changed (The_Stack'Old, The_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 (The_Stack) = Count (The_Stack)'Old + 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ement (The_Stack, Count (The_Stack)) = It;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46" name="Rounded Rectangular Callout 1"/>
          <p:cNvSpPr/>
          <p:nvPr/>
        </p:nvSpPr>
        <p:spPr>
          <a:xfrm>
            <a:off x="4788000" y="4149720"/>
            <a:ext cx="3744720" cy="1081080"/>
          </a:xfrm>
          <a:prstGeom prst="wedgeRoundRectCallout">
            <a:avLst>
              <a:gd name="adj1" fmla="val -26731"/>
              <a:gd name="adj2" fmla="val -891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postcondition we are denoting the function representing the state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ounded Rectangular Callout 1"/>
          <p:cNvSpPr/>
          <p:nvPr/>
        </p:nvSpPr>
        <p:spPr>
          <a:xfrm>
            <a:off x="4788000" y="1989000"/>
            <a:ext cx="3744720" cy="648000"/>
          </a:xfrm>
          <a:prstGeom prst="wedgeRoundRectCallout">
            <a:avLst>
              <a:gd name="adj1" fmla="val -57189"/>
              <a:gd name="adj2" fmla="val 379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Global contract we are denoting the state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ounded Rectangular Callout 1"/>
          <p:cNvSpPr/>
          <p:nvPr/>
        </p:nvSpPr>
        <p:spPr>
          <a:xfrm>
            <a:off x="684360" y="4149720"/>
            <a:ext cx="3743280" cy="1081080"/>
          </a:xfrm>
          <a:prstGeom prst="wedgeRoundRectCallout">
            <a:avLst>
              <a:gd name="adj1" fmla="val -18254"/>
              <a:gd name="adj2" fmla="val -1439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s can be called in pre and postconditions even if they hav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s a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tracts for a state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Now we can write the contracts using the proof fun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684360" y="2205000"/>
          <a:ext cx="7848360" cy="24480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244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 el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 (The_Stack) &gt;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It = Top'Ol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changed (The_Stack, The_Stack'Old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 (The_Stack) = Count (The_Stack)'Old -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52" name="Rounded Rectangular Callout 1"/>
          <p:cNvSpPr/>
          <p:nvPr/>
        </p:nvSpPr>
        <p:spPr>
          <a:xfrm>
            <a:off x="684360" y="3789360"/>
            <a:ext cx="3743280" cy="647640"/>
          </a:xfrm>
          <a:prstGeom prst="wedgeRoundRectCallout">
            <a:avLst>
              <a:gd name="adj1" fmla="val -4310"/>
              <a:gd name="adj2" fmla="val -1551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s with State Abstractions as a global may be used with ‘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ounded Rectangular Callout 1"/>
          <p:cNvSpPr/>
          <p:nvPr/>
        </p:nvSpPr>
        <p:spPr>
          <a:xfrm>
            <a:off x="4643280" y="3789360"/>
            <a:ext cx="3889440" cy="647640"/>
          </a:xfrm>
          <a:prstGeom prst="wedgeRoundRectCallout">
            <a:avLst>
              <a:gd name="adj1" fmla="val 1800"/>
              <a:gd name="adj2" fmla="val -803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function result also has a ‘Ol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The full declaration of the indefinite private type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o what is this indefinite private type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simplest cases it could be the type actually used to declare the hidden state represented by the state abs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ly, the hidden state may be represented by a model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may be inconvenient to have hidden state as a single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idden state is large and assertion expressions are to be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idden state is complex and a simpler model is des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on-limited model type may be used to represent a limited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116000" y="2421000"/>
          <a:ext cx="7343640" cy="2016000"/>
        </p:xfrm>
        <a:graphic>
          <a:graphicData uri="http://schemas.openxmlformats.org/drawingml/2006/table">
            <a:tbl>
              <a:tblPr/>
              <a:tblGrid>
                <a:gridCol w="7343640"/>
              </a:tblGrid>
              <a:tr h="20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Point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Stack_Siz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dex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Point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Stack_Siz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ecto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dex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: Stack_Point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Vecto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: A model state representing several objects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model state declaration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ld be a record as on the previous 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in the body the constituents of the state abstraction could be independent ob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58920" y="2997360"/>
          <a:ext cx="7058160" cy="2225520"/>
        </p:xfrm>
        <a:graphic>
          <a:graphicData uri="http://schemas.openxmlformats.org/drawingml/2006/table">
            <a:tbl>
              <a:tblPr/>
              <a:tblGrid>
                <a:gridCol w="705816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bod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_Stack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fined_State =&gt; (The_Stack =&gt; SP, V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P  : Stack_Point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ec : Vecto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… Bodies of sub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ion by Specific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gnore details of computation to be perform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ocus on what component is to accomplish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900000" y="2133720"/>
          <a:ext cx="7417080" cy="94428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_Sqrt (N : Integer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multiple state abstrac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684360" y="907920"/>
          <a:ext cx="7848360" cy="53834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538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domet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_State =&gt; (State, Factory_Resets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s =&gt; (State, Factory_Rese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ri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– miles so far on this tri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t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total mileage of vehi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Zero_Tri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State), -- In_Out because Total not re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   =&gt;  Trip = 0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tal = Total'Ol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 (N : Natural)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f N &lt; Natural'Last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 + 1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)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increment milage of odo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State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Trip = Increment (Trip'Old)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tal = Increment (Total'Old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actory_Resets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Factory_Reset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domet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62" name="Rounded Rectangular Callout 1"/>
          <p:cNvSpPr/>
          <p:nvPr/>
        </p:nvSpPr>
        <p:spPr>
          <a:xfrm>
            <a:off x="5867280" y="907920"/>
            <a:ext cx="2665440" cy="649440"/>
          </a:xfrm>
          <a:prstGeom prst="wedgeRoundRectCallout">
            <a:avLst>
              <a:gd name="adj1" fmla="val -69370"/>
              <a:gd name="adj2" fmla="val 258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ate abstractions in this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ounded Rectangular Callout 1"/>
          <p:cNvSpPr/>
          <p:nvPr/>
        </p:nvSpPr>
        <p:spPr>
          <a:xfrm>
            <a:off x="4427640" y="2708280"/>
            <a:ext cx="4033800" cy="433440"/>
          </a:xfrm>
          <a:prstGeom prst="wedgeRoundRectCallout">
            <a:avLst>
              <a:gd name="adj1" fmla="val -71953"/>
              <a:gd name="adj2" fmla="val -623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rivate definite type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ounded Rectangular Callout 1"/>
          <p:cNvSpPr/>
          <p:nvPr/>
        </p:nvSpPr>
        <p:spPr>
          <a:xfrm>
            <a:off x="5508720" y="1628640"/>
            <a:ext cx="3024000" cy="432000"/>
          </a:xfrm>
          <a:prstGeom prst="wedgeRoundRectCallout">
            <a:avLst>
              <a:gd name="adj1" fmla="val -108300"/>
              <a:gd name="adj2" fmla="val 5031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 functions 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ounded Rectangular Callout 1"/>
          <p:cNvSpPr/>
          <p:nvPr/>
        </p:nvSpPr>
        <p:spPr>
          <a:xfrm>
            <a:off x="4140360" y="5805360"/>
            <a:ext cx="4321080" cy="432000"/>
          </a:xfrm>
          <a:prstGeom prst="wedgeRoundRectCallout">
            <a:avLst>
              <a:gd name="adj1" fmla="val -15851"/>
              <a:gd name="adj2" fmla="val -844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resents the other state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Abstractions in general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ngle package can have zero or more state abstra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package contains hidden state it has at least one state abs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a package has hidden state but no state abstractions GNATprove will synthesize a state abstraction for each object comprising th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function representing a state abstrac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have the same name, but does not have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ingle state abstraction ma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zero or more functions representing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instance a complex state abstraction may represent several different properties such as Temperature and Pres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 represented by zero or more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ypes need not be private or indefin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Content Placeholder 3" descr=""/>
          <p:cNvPicPr/>
          <p:nvPr/>
        </p:nvPicPr>
        <p:blipFill>
          <a:blip r:embed="rId1"/>
          <a:stretch/>
        </p:blipFill>
        <p:spPr>
          <a:xfrm>
            <a:off x="2516040" y="596880"/>
            <a:ext cx="4111920" cy="58564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te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ach state abstraction has to be refin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 abstraction requires a package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ckage body specifies the refin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 abstraction is refined on to one or mo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stitue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is a null refin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nstituent is a concrete Ada variable or a lower-level state abs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state abstraction is specified as initialized then all of its constituents must be initializ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n initial condition is specified for the state abstraction then its constituents must satisfy the initial con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re is no state abstraction specified for a package which has hidden state GNATprove synthesizes a 1:1 refin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state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finement of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A_Sta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finement and declaration of the hidden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684360" y="2205000"/>
          <a:ext cx="7848360" cy="195120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tract in packag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d in package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58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_State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s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_Condition =&gt; Is_Emp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&lt;&gt;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_Stack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fined_State =&gt; (The_Stack =&gt; 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ack_Type :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P =&gt; 0, V =&gt;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75" name="Rounded Rectangular Callout 1"/>
          <p:cNvSpPr/>
          <p:nvPr/>
        </p:nvSpPr>
        <p:spPr>
          <a:xfrm>
            <a:off x="2195640" y="4724280"/>
            <a:ext cx="2808000" cy="1729080"/>
          </a:xfrm>
          <a:prstGeom prst="wedgeRoundRectCallout">
            <a:avLst>
              <a:gd name="adj1" fmla="val 51328"/>
              <a:gd name="adj2" fmla="val -13156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inemen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tate abstraction into its constituents using Refined_State con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ounded Rectangular Callout 1"/>
          <p:cNvSpPr/>
          <p:nvPr/>
        </p:nvSpPr>
        <p:spPr>
          <a:xfrm>
            <a:off x="5435640" y="4724280"/>
            <a:ext cx="3097080" cy="1729080"/>
          </a:xfrm>
          <a:prstGeom prst="wedgeRoundRectCallout">
            <a:avLst>
              <a:gd name="adj1" fmla="val -33189"/>
              <a:gd name="adj2" fmla="val -9604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on of the hidden state and its initialization as required by the Initializes and Initial_Condi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efinement of Global  contrac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Global contracts of subprograms also need refin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in terms of the state abstraction in their spec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xample the global refinemen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s_Emp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684360" y="2492280"/>
          <a:ext cx="7848360" cy="245772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tract in packag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d in package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01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he_Stack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Empt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he_Stack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ack_Typ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s_Empt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.P = 0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80" name="Rounded Rectangular Callout 1"/>
          <p:cNvSpPr/>
          <p:nvPr/>
        </p:nvSpPr>
        <p:spPr>
          <a:xfrm>
            <a:off x="1619280" y="5013360"/>
            <a:ext cx="2952720" cy="1368360"/>
          </a:xfrm>
          <a:prstGeom prst="wedgeRoundRectCallout">
            <a:avLst>
              <a:gd name="adj1" fmla="val 64611"/>
              <a:gd name="adj2" fmla="val -156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mplementation of The_Stack is simply to return the current value of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ounded Rectangular Callout 1"/>
          <p:cNvSpPr/>
          <p:nvPr/>
        </p:nvSpPr>
        <p:spPr>
          <a:xfrm>
            <a:off x="4859280" y="5084640"/>
            <a:ext cx="3673440" cy="1297080"/>
          </a:xfrm>
          <a:prstGeom prst="wedgeRoundRectCallout">
            <a:avLst>
              <a:gd name="adj1" fmla="val 6578"/>
              <a:gd name="adj2" fmla="val -621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inement of the Global contrac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sing a Refined_Global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efinement of Global  contrac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body of a subprogram has a Refined_Global contrac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nd only if it uses constituents of a state abstraction given in the Global contract of its spec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 refinement of Global contract of Pu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84360" y="2852640"/>
          <a:ext cx="7848360" cy="243072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19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tract in packag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d in package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011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_Out =&gt; The_Stack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e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s_Fu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r e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unt (The_Stack) &lt; Stack_Siz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ost =&gt; Top = I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nchanged (The_Stack'Old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_Stack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unt (The_Stack)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unt (The_Stack)'Old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(In_Out =&gt; 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.P := S.P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.V (S.P) := I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ush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85" name="Rounded Rectangular Callout 1"/>
          <p:cNvSpPr/>
          <p:nvPr/>
        </p:nvSpPr>
        <p:spPr>
          <a:xfrm>
            <a:off x="4859280" y="5229360"/>
            <a:ext cx="3673440" cy="936360"/>
          </a:xfrm>
          <a:prstGeom prst="wedgeRoundRectCallout">
            <a:avLst>
              <a:gd name="adj1" fmla="val 814"/>
              <a:gd name="adj2" fmla="val -20697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inement of the Global contrac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sing a Refined_Global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state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finement of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Odomet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finement and declaration of the hidden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684360" y="3141720"/>
          <a:ext cx="7848360" cy="316692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4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tract in packag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d in package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71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domet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(Stat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actory_Resets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itializes =&gt; (Stat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actory_Rese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domet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State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tate =&gt;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Concrete_Trip, Concrete_Total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actory_Resets =&gt; Reset_Cou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crete_Total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crete_Trip : Natura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set_Count : Natura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89" name="Rounded Rectangular Callout 1"/>
          <p:cNvSpPr/>
          <p:nvPr/>
        </p:nvSpPr>
        <p:spPr>
          <a:xfrm>
            <a:off x="1547640" y="5157720"/>
            <a:ext cx="2808360" cy="1079640"/>
          </a:xfrm>
          <a:prstGeom prst="wedgeRoundRectCallout">
            <a:avLst>
              <a:gd name="adj1" fmla="val 61504"/>
              <a:gd name="adj2" fmla="val 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on of the constituents of the two state abst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ounded Rectangular Callout 1"/>
          <p:cNvSpPr/>
          <p:nvPr/>
        </p:nvSpPr>
        <p:spPr>
          <a:xfrm>
            <a:off x="3492360" y="2205000"/>
            <a:ext cx="5040360" cy="719280"/>
          </a:xfrm>
          <a:prstGeom prst="wedgeRoundRectCallout">
            <a:avLst>
              <a:gd name="adj1" fmla="val 36527"/>
              <a:gd name="adj2" fmla="val 258560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abstra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refined into two constituents 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actory_Res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o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state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finement of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Odomet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finem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i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ory_Re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684360" y="3141720"/>
          <a:ext cx="7848360" cy="30956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tract in packag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d in package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265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ri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ot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actory_Rese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Factory_Reset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ri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Concrete_Trip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Concrete_Tri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ot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Concrete_Tot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Concrete_Tota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actory_Rese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Reset_Coun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Reset_Cou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94" name="Rounded Rectangular Callout 1"/>
          <p:cNvSpPr/>
          <p:nvPr/>
        </p:nvSpPr>
        <p:spPr>
          <a:xfrm>
            <a:off x="684360" y="5157720"/>
            <a:ext cx="4032000" cy="1079640"/>
          </a:xfrm>
          <a:prstGeom prst="wedgeRoundRectCallout">
            <a:avLst>
              <a:gd name="adj1" fmla="val 99560"/>
              <a:gd name="adj2" fmla="val 102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set_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the only constituent of the refinement of state abstra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actory_Re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ounded Rectangular Callout 1"/>
          <p:cNvSpPr/>
          <p:nvPr/>
        </p:nvSpPr>
        <p:spPr>
          <a:xfrm>
            <a:off x="684360" y="2133720"/>
            <a:ext cx="3527280" cy="934920"/>
          </a:xfrm>
          <a:prstGeom prst="wedgeRoundRectCallout">
            <a:avLst>
              <a:gd name="adj1" fmla="val 84462"/>
              <a:gd name="adj2" fmla="val 210550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ly uses the constitue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crete_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the refinemen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ounded Rectangular Callout 1"/>
          <p:cNvSpPr/>
          <p:nvPr/>
        </p:nvSpPr>
        <p:spPr>
          <a:xfrm>
            <a:off x="5003640" y="2133720"/>
            <a:ext cx="3529080" cy="934920"/>
          </a:xfrm>
          <a:prstGeom prst="wedgeRoundRectCallout">
            <a:avLst>
              <a:gd name="adj1" fmla="val -26115"/>
              <a:gd name="adj2" fmla="val 131361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ly uses the constitue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oncrete_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the refinemen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state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finement of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Odomet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finem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684360" y="2060640"/>
          <a:ext cx="7848360" cy="351612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3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tract in packag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d in package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307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a0043"/>
                          </a:solidFill>
                          <a:latin typeface="Courier-Bold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 </a:t>
                      </a:r>
                      <a:r>
                        <a:rPr b="1" lang="en-US" sz="1400" spc="-1" strike="noStrike">
                          <a:solidFill>
                            <a:srgbClr val="6a0043"/>
                          </a:solidFill>
                          <a:latin typeface="Courier-Bold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State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Trip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Trip'Old) </a:t>
                      </a:r>
                      <a:r>
                        <a:rPr b="1" lang="en-US" sz="1400" spc="-1" strike="noStrike">
                          <a:solidFill>
                            <a:srgbClr val="6a0043"/>
                          </a:solidFill>
                          <a:latin typeface="Courier-Bold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ta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Total'Old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crem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(In_Out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Concrete_Total, Concrete_Trip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Local_Inc (N :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if N &lt; Natural'Las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 +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crete_Trip :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cal_Inc (Concrete_Trip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crete_Total :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cal_Inc (Concrete_Total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crem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00" name="Rounded Rectangular Callout 1"/>
          <p:cNvSpPr/>
          <p:nvPr/>
        </p:nvSpPr>
        <p:spPr>
          <a:xfrm>
            <a:off x="755640" y="4149720"/>
            <a:ext cx="3311640" cy="1079640"/>
          </a:xfrm>
          <a:prstGeom prst="wedgeRoundRectCallout">
            <a:avLst>
              <a:gd name="adj1" fmla="val 88379"/>
              <a:gd name="adj2" fmla="val -133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cr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ads and updates both constituents of the refinemen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ion by Specific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gnore details of computation to be perform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ocus on what the component is to accomplish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Ada specification by itself is insuffici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contract is required to state the functi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900000" y="2133720"/>
          <a:ext cx="7417080" cy="94428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_Sqrt (N : Integer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=&gt; N &gt;=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I_Sqrt’Result * I_Sqrt’Result &lt;= N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_Sqrt’Result + 1) * (I_Sqrt’Result + 1) &gt; 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Null state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null refin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ate abstraction does not represent any actual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feature is useful for minimising changes to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a package may have some extra state in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when a package has hidden state remo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258920" y="3357720"/>
          <a:ext cx="6337440" cy="863280"/>
        </p:xfrm>
        <a:graphic>
          <a:graphicData uri="http://schemas.openxmlformats.org/drawingml/2006/table">
            <a:tbl>
              <a:tblPr/>
              <a:tblGrid>
                <a:gridCol w="6337440"/>
              </a:tblGrid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State =&gt; (State =&gt; nul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null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4360" y="1197000"/>
          <a:ext cx="7848360" cy="479088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tract in packag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d in package b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35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ampl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 (X : Natural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X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Y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_Out =&gt; Stat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ampl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ampl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State =&gt; (State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 (X : Natural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X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1 .. Natural'Last - 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X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Y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X &lt;= Natural'Last - 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X := X + 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 if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Exampl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07" name="Rounded Rectangular Callout 1"/>
          <p:cNvSpPr/>
          <p:nvPr/>
        </p:nvSpPr>
        <p:spPr>
          <a:xfrm>
            <a:off x="684360" y="4581360"/>
            <a:ext cx="2808000" cy="792360"/>
          </a:xfrm>
          <a:prstGeom prst="wedgeRoundRectCallout">
            <a:avLst>
              <a:gd name="adj1" fmla="val 109217"/>
              <a:gd name="adj2" fmla="val -76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quire a Refined_Global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efined postcondi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refined postcondition may be specified on a bod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Generally not required, the refinement of a function used in a pre or postcondition normally suff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used to specify properties related to the implementa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oject may only require proof of absence of run-time ex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certain units are critical and need proof of other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one use of a refined post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bstract postcondition (defaults to True) and the refined postcondition must both be satisfied by the bod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a Refined_Post contrac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n example adapting the singleton stack shown earlier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verall project requires proof of absence of run-time exce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it requires a proof that the elements in the stack other than the top are invari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this, from an abstract view we only need the proof func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187280" y="4149720"/>
          <a:ext cx="7345440" cy="7318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The_Stack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ho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13" name="Rounded Rectangular Callout 1"/>
          <p:cNvSpPr/>
          <p:nvPr/>
        </p:nvSpPr>
        <p:spPr>
          <a:xfrm>
            <a:off x="3780000" y="5157720"/>
            <a:ext cx="3311280" cy="1079640"/>
          </a:xfrm>
          <a:prstGeom prst="wedgeRoundRectCallout">
            <a:avLst>
              <a:gd name="adj1" fmla="val -55115"/>
              <a:gd name="adj2" fmla="val -11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can mak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he_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lobal and obviate the need for Stack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a Refined_Post contrac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specification of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Push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Po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of functions to demonstrate that the remainder of the stack is invariant have been rem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he func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has also been removed from the postcon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684360" y="1844640"/>
          <a:ext cx="7848360" cy="28227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282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_Out =&gt; The_Stack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e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s_Fu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r els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unt &lt; Stack_Siz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ost =&gt; Count = Count'Old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op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_Out =&gt; The_Stack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e =&gt;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o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s_Empt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r els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unt &gt;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ost =&gt; Count = Count'Old -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a Refined_Post contrac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refinement and implementation of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Push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ncluding the proof of stack invariance in the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187280" y="2205000"/>
          <a:ext cx="7345440" cy="329256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329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State =&gt; (The_Stack =&gt; (P, V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 : Stack_Pointer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Vector :=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the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=&gt; 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ush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(In_Out =&gt; (P, V)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Post =&gt; V = V'Old'Update (P =&gt; It) 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op = I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unt = Count'Old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 := P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(P) := I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ush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20" name="Rounded Rectangular Callout 1"/>
          <p:cNvSpPr/>
          <p:nvPr/>
        </p:nvSpPr>
        <p:spPr>
          <a:xfrm>
            <a:off x="3059280" y="4437000"/>
            <a:ext cx="5472000" cy="1224000"/>
          </a:xfrm>
          <a:prstGeom prst="wedgeRoundRectCallout">
            <a:avLst>
              <a:gd name="adj1" fmla="val 3513"/>
              <a:gd name="adj2" fmla="val -854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ined postcondition specified using Refined_Post contract includes invariance of stack elements check.  We can use the ‘Update attribute because we know V is an arra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a Refined_Post contrac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refinement and implementation of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Po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ncluding the proof of stack invariance in the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187280" y="2205000"/>
          <a:ext cx="7345440" cy="246240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246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op (I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tem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(In_Out =&gt; P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put  =&gt; 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t := V (P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 := P -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o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24" name="Rounded Rectangular Callout 1"/>
          <p:cNvSpPr/>
          <p:nvPr/>
        </p:nvSpPr>
        <p:spPr>
          <a:xfrm>
            <a:off x="3348000" y="3573360"/>
            <a:ext cx="5183280" cy="1006560"/>
          </a:xfrm>
          <a:prstGeom prst="wedgeRoundRectCallout">
            <a:avLst>
              <a:gd name="adj1" fmla="val -36865"/>
              <a:gd name="adj2" fmla="val -1142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Refined_Post contract is needed to prove the invariance of the stack elements.  The fact that V has mode Input assures this invar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ercis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040"/>
                </a:solidFill>
                <a:latin typeface="Calibri"/>
              </a:rPr>
              <a:t>Exercis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tate abstrac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The Part_Of Contrac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8" name="Content Placeholder 3" descr=""/>
          <p:cNvPicPr/>
          <p:nvPr/>
        </p:nvPicPr>
        <p:blipFill>
          <a:blip r:embed="rId1"/>
          <a:stretch/>
        </p:blipFill>
        <p:spPr>
          <a:xfrm>
            <a:off x="647640" y="1195560"/>
            <a:ext cx="7848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The Part_Of Contrac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Hidden state may be declar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mediately within a package body, as we have s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also in the private part of a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n private child pack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Part_Of contract is used whe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laring variables in a private part of a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state declared in a private ch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ion by Specific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gnore details of computation to be perform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ocus on what the component is to accomplish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Ada specification by itself is insuffici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contract is required to state the functi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ecise contracts for abstra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mal languages (such as Z and VDM) facilitate mathematical and automated reaso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SPARK 2014 expression language is side-effect free, and is a suitable formal language for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900000" y="2133720"/>
          <a:ext cx="7417080" cy="94428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_Sqrt (N : Integer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=&gt; N &gt;=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I_Sqrt’Result * I_Sqrt’Result &lt;= N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_Sqrt’Result + 1) * (I_Sqrt’Result + 1) &gt; 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art_Of Contract in a private par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private part of a package is logically part of the bod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les or state abstractions declared in the private part are hidden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variable or state abstraction must be a constituent of a state abstraction of the pack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 abstraction can be declared in the private p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declaring a package with a state abstr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laring state in the private part is not so common but it allows children of the package to access the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of a Part_Of contract in a private par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Part_Of contract specifies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which state abstraction of the package the state is a constitu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187280" y="2205000"/>
          <a:ext cx="7129800" cy="3240000"/>
        </p:xfrm>
        <a:graphic>
          <a:graphicData uri="http://schemas.openxmlformats.org/drawingml/2006/table">
            <a:tbl>
              <a:tblPr/>
              <a:tblGrid>
                <a:gridCol w="7129800"/>
              </a:tblGrid>
              <a:tr h="324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ata_In_Privat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(In_Body, In_Private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itializes =&gt; In_Bo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I :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_Out =&gt; In_Body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v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Hidden_Data : Natural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art_Of =&gt; In_Priv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ata_In_Priv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36" name="Rounded Rectangular Callout 1"/>
          <p:cNvSpPr/>
          <p:nvPr/>
        </p:nvSpPr>
        <p:spPr>
          <a:xfrm>
            <a:off x="2771640" y="4508640"/>
            <a:ext cx="5545440" cy="720720"/>
          </a:xfrm>
          <a:prstGeom prst="wedgeRoundRectCallout">
            <a:avLst>
              <a:gd name="adj1" fmla="val -34226"/>
              <a:gd name="adj2" fmla="val -892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ble declared in the private part is hidden state and must be a constituent of a state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ounded Rectangular Callout 1"/>
          <p:cNvSpPr/>
          <p:nvPr/>
        </p:nvSpPr>
        <p:spPr>
          <a:xfrm>
            <a:off x="6084720" y="2492280"/>
            <a:ext cx="2232360" cy="936720"/>
          </a:xfrm>
          <a:prstGeom prst="wedgeRoundRectCallout">
            <a:avLst>
              <a:gd name="adj1" fmla="val -77009"/>
              <a:gd name="adj2" fmla="val 109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dden_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a constituen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_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efinement of state declared in the private par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tate declared in the private part of a packa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appear as a constituent in the refinement of the state abstraction named in the Part_Of con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187280" y="2565360"/>
          <a:ext cx="7129800" cy="2951280"/>
        </p:xfrm>
        <a:graphic>
          <a:graphicData uri="http://schemas.openxmlformats.org/drawingml/2006/table">
            <a:tbl>
              <a:tblPr/>
              <a:tblGrid>
                <a:gridCol w="7129800"/>
              </a:tblGrid>
              <a:tr h="295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ata_In_Privat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State =&gt; (In_Body =&gt; (Last_Value, Sum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_Private =&gt; Hidden_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ast_Valu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s-I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is-I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um : Natural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41" name="Rounded Rectangular Callout 1"/>
          <p:cNvSpPr/>
          <p:nvPr/>
        </p:nvSpPr>
        <p:spPr>
          <a:xfrm>
            <a:off x="2124000" y="4797360"/>
            <a:ext cx="6193080" cy="719280"/>
          </a:xfrm>
          <a:prstGeom prst="wedgeRoundRectCallout">
            <a:avLst>
              <a:gd name="adj1" fmla="val -16333"/>
              <a:gd name="adj2" fmla="val -2275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tate abstraction could comprise constituents declared in both the private part and the bod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ounded Rectangular Callout 1"/>
          <p:cNvSpPr/>
          <p:nvPr/>
        </p:nvSpPr>
        <p:spPr>
          <a:xfrm>
            <a:off x="4932360" y="3645000"/>
            <a:ext cx="3384720" cy="936360"/>
          </a:xfrm>
          <a:prstGeom prst="wedgeRoundRectCallout">
            <a:avLst>
              <a:gd name="adj1" fmla="val -32231"/>
              <a:gd name="adj2" fmla="val -664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dden_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a constituen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_Priv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it need not be the only constit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Hierarchical Design and Programming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e have already seen examples of nested subprogram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mplementation of subprogram bodies can be defe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ody of a subprogram must always be legal Ada even if it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Packages can be nest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visible or private parts as well as in the body of pack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ckages may also be nested within subprogram bo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Packages can have childre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packages and sub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hild can be public (visible) or priv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Part_Of contract applies to private packages with stat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art_Of contract does not apply to a package that is visible at library-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imple Example of Hierarchical Design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parent package declares state abstra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Flow analysis will check that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F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is not called before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684360" y="1844640"/>
          <a:ext cx="7632720" cy="32925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9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bstract_State =&gt; (State_1, State_2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ializes =&gt; State_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State_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 :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In_Out =&gt; State_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put =&gt; State_2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set (X :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(Output =&gt; State_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ar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48" name="Rounded Rectangular Callout 1"/>
          <p:cNvSpPr/>
          <p:nvPr/>
        </p:nvSpPr>
        <p:spPr>
          <a:xfrm>
            <a:off x="4211640" y="1844640"/>
            <a:ext cx="4032360" cy="432000"/>
          </a:xfrm>
          <a:prstGeom prst="wedgeRoundRectCallout">
            <a:avLst>
              <a:gd name="adj1" fmla="val -35074"/>
              <a:gd name="adj2" fmla="val 70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ate abstractions ar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ounded Rectangular Callout 1"/>
          <p:cNvSpPr/>
          <p:nvPr/>
        </p:nvSpPr>
        <p:spPr>
          <a:xfrm>
            <a:off x="5003640" y="2565360"/>
            <a:ext cx="3313440" cy="792360"/>
          </a:xfrm>
          <a:prstGeom prst="wedgeRoundRectCallout">
            <a:avLst>
              <a:gd name="adj1" fmla="val -96611"/>
              <a:gd name="adj2" fmla="val -3139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_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initialized during package 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ounded Rectangular Callout 1"/>
          <p:cNvSpPr/>
          <p:nvPr/>
        </p:nvSpPr>
        <p:spPr>
          <a:xfrm>
            <a:off x="5003640" y="3573360"/>
            <a:ext cx="3313440" cy="792360"/>
          </a:xfrm>
          <a:prstGeom prst="wedgeRoundRectCallout">
            <a:avLst>
              <a:gd name="adj1" fmla="val -65069"/>
              <a:gd name="adj2" fmla="val 22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_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initialized each tim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imple Example of Hierarchical Design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parent has a private child packa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684360" y="1844640"/>
          <a:ext cx="7632720" cy="32925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9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arent.Private_Chil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(Child_Stat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art_Of =&gt; Parent.State_1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itializes =&gt; Child_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: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art_Of =&gt; Parent.State_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et (X :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Output =&gt; Child_Stat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Ge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Child_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arent.Private_Chil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54" name="Rounded Rectangular Callout 1"/>
          <p:cNvSpPr/>
          <p:nvPr/>
        </p:nvSpPr>
        <p:spPr>
          <a:xfrm>
            <a:off x="2195640" y="2205000"/>
            <a:ext cx="6337080" cy="432000"/>
          </a:xfrm>
          <a:prstGeom prst="wedgeRoundRectCallout">
            <a:avLst>
              <a:gd name="adj1" fmla="val -17337"/>
              <a:gd name="adj2" fmla="val 873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hild’s state abstraction is part of the parent’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ounded Rectangular Callout 1"/>
          <p:cNvSpPr/>
          <p:nvPr/>
        </p:nvSpPr>
        <p:spPr>
          <a:xfrm>
            <a:off x="5219640" y="3645000"/>
            <a:ext cx="3313080" cy="1512720"/>
          </a:xfrm>
          <a:prstGeom prst="wedgeRoundRectCallout">
            <a:avLst>
              <a:gd name="adj1" fmla="val -81148"/>
              <a:gd name="adj2" fmla="val -527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variable declared in the visible or private part of a private child is not generally visible and must be part of a more visi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imple Example of Hierarchical Design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body of the parent must have a refin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refinement must be consistent with the Part_Of contracts and include all constituents that are Part_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684360" y="1844640"/>
          <a:ext cx="7632720" cy="201132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arent.Private_Chil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ar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State =&gt; (State_1 =&gt; (Private_Child.Child_State,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_State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</a:t>
                      </a: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ate_2 =&gt; Private_Child.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_State : Natural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59" name="Rounded Rectangular Callout 1"/>
          <p:cNvSpPr/>
          <p:nvPr/>
        </p:nvSpPr>
        <p:spPr>
          <a:xfrm>
            <a:off x="684360" y="4365720"/>
            <a:ext cx="7848360" cy="934920"/>
          </a:xfrm>
          <a:prstGeom prst="wedgeRoundRectCallout">
            <a:avLst>
              <a:gd name="adj1" fmla="val -14888"/>
              <a:gd name="adj2" fmla="val -105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ody_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tituen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_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initialized here, the other constituent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ild_St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initialized b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ivate_Chi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gether satisfying the promise to initialize State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ular Callout 1"/>
          <p:cNvSpPr/>
          <p:nvPr/>
        </p:nvSpPr>
        <p:spPr>
          <a:xfrm>
            <a:off x="4140360" y="1628640"/>
            <a:ext cx="4176720" cy="1008360"/>
          </a:xfrm>
          <a:prstGeom prst="wedgeRoundRectCallout">
            <a:avLst>
              <a:gd name="adj1" fmla="val -57134"/>
              <a:gd name="adj2" fmla="val 57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_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refined i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hild_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ivate_Chi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state within the body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ular Callout 1"/>
          <p:cNvSpPr/>
          <p:nvPr/>
        </p:nvSpPr>
        <p:spPr>
          <a:xfrm>
            <a:off x="4356000" y="3573360"/>
            <a:ext cx="4176720" cy="719280"/>
          </a:xfrm>
          <a:prstGeom prst="wedgeRoundRectCallout">
            <a:avLst>
              <a:gd name="adj1" fmla="val -60814"/>
              <a:gd name="adj2" fmla="val -774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_2 is refined i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clared in the visible par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ivate_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ublic children of private packages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public child of a private package is like a private chil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larations are not visible at library-lev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variable or state abstraction declared in the public child’s specification must be part of a more visible state abs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with stateless root package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parent package at the root of the tree has no stat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has a public child which declares a state abstraction and operations on this state abstrac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684360" y="1844640"/>
          <a:ext cx="7632720" cy="30492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oo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PARK_Mod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oo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7" name=""/>
          <p:cNvGraphicFramePr/>
          <p:nvPr/>
        </p:nvGraphicFramePr>
        <p:xfrm>
          <a:off x="684360" y="3213000"/>
          <a:ext cx="7632720" cy="3078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07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oot.Publi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Stat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itializes =&gt;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Stat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p_1 (X :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_Out =&gt; Stat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p_2 (X, Y : Natural)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_Out =&gt; Stat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oot.Publi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68" name="Rounded Rectangular Callout 1"/>
          <p:cNvSpPr/>
          <p:nvPr/>
        </p:nvSpPr>
        <p:spPr>
          <a:xfrm>
            <a:off x="4140360" y="3141720"/>
            <a:ext cx="4176720" cy="1008000"/>
          </a:xfrm>
          <a:prstGeom prst="wedgeRoundRectCallout">
            <a:avLst>
              <a:gd name="adj1" fmla="val -63018"/>
              <a:gd name="adj2" fmla="val 1637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public child visible at library-level and its state abstractions cannot have a Part_Of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with stateless root package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root parent has private children with stat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.Private_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similarly decla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755640" y="2276640"/>
          <a:ext cx="7632720" cy="265248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265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oot.Publi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oot.Private_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PARK_Mod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_State =&gt; (Priv_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art_Of =&gt; Root.Public.State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itializes =&gt; Priv_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v_1_Op (X :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(In_Out =&gt; Priv_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lobal =&gt; Priv_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oot.Private_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72" name="Rounded Rectangular Callout 1"/>
          <p:cNvSpPr/>
          <p:nvPr/>
        </p:nvSpPr>
        <p:spPr>
          <a:xfrm>
            <a:off x="4716360" y="1844640"/>
            <a:ext cx="3816360" cy="1008000"/>
          </a:xfrm>
          <a:prstGeom prst="wedgeRoundRectCallout">
            <a:avLst>
              <a:gd name="adj1" fmla="val -103537"/>
              <a:gd name="adj2" fmla="val -39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ot.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as to be withed because state abstra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riv_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par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ot.Public.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tracts can be abstract and refined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ntracts themselves may be abstrac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using functions to represent behavi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press abstract properties of Dictionary and are used in the contrac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84360" y="2205000"/>
          <a:ext cx="7632720" cy="316872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16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ictionar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unt (Dic : Dictionary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pacity (Dic : Dictionary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as (Dic : Dictionary; X : Elemen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tem (Dic : Dictionary; Key : String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lem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t (Dic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ictionary; X : Element; Key : String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Insert X so that it will be retrievable through 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Count (Dic) &lt; Capacity (Dic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Has (Dic, X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tem (Dic, Key) = X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 (Dic) = Count (Dic)’Old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with stateless root package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root parent has no body but the public child must have a body with a refin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684360" y="3213000"/>
          <a:ext cx="7632720" cy="137160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1372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oot.Private_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oot.Private_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d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oot.Publi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State =&gt; (State =&gt; (Root.Private_1.Priv_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          </a:t>
                      </a: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oot.Private_2.Priv_2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76" name="Rounded Rectangular Callout 1"/>
          <p:cNvSpPr/>
          <p:nvPr/>
        </p:nvSpPr>
        <p:spPr>
          <a:xfrm>
            <a:off x="4500720" y="4941720"/>
            <a:ext cx="3816360" cy="1008360"/>
          </a:xfrm>
          <a:prstGeom prst="wedgeRoundRectCallout">
            <a:avLst>
              <a:gd name="adj1" fmla="val -86097"/>
              <a:gd name="adj2" fmla="val -1278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ot.Public.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refined into the state abstractions of its private sib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ounded Rectangular Callout 1"/>
          <p:cNvSpPr/>
          <p:nvPr/>
        </p:nvSpPr>
        <p:spPr>
          <a:xfrm>
            <a:off x="4067280" y="2133720"/>
            <a:ext cx="4249800" cy="863640"/>
          </a:xfrm>
          <a:prstGeom prst="wedgeRoundRectCallout">
            <a:avLst>
              <a:gd name="adj1" fmla="val -73939"/>
              <a:gd name="adj2" fmla="val 95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ot.Private_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ot_Private_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ave to be wit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 with stateless root package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mplementation of the operations of </a:t>
            </a:r>
            <a:r>
              <a:rPr b="1" lang="en-US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Root.Public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684360" y="1916280"/>
          <a:ext cx="7632720" cy="43592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435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Root.Private_1.F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Root.Private_1.Priv_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p_1 (X : Natural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(In_Out =&gt; Root.Private_1.Priv_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oot.Private_1.Priv_1_Op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p_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p_2 (X, Y : Natural) </a:t>
                      </a: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fined_Global =&gt; (In_Out =&gt; (Root.Private_1.Priv_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                             </a:t>
                      </a: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oot.Private_2.Priv_2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fi-FI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oot.Private_1.Priv_1_Op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oot.Private_2.Priv_2_Op (Y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p_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oot.Publi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81" name="Rounded Rectangular Callout 1"/>
          <p:cNvSpPr/>
          <p:nvPr/>
        </p:nvSpPr>
        <p:spPr>
          <a:xfrm>
            <a:off x="4643280" y="5229360"/>
            <a:ext cx="3673800" cy="1008000"/>
          </a:xfrm>
          <a:prstGeom prst="wedgeRoundRectCallout">
            <a:avLst>
              <a:gd name="adj1" fmla="val -22935"/>
              <a:gd name="adj2" fmla="val -76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ined_Global contract is in terms of the constituents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oot.Public.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Data Abstraction and Package Hierarchy ru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plex hierarchies can be built with Ada packag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quently the rules for data abstraction are compl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following simple rules will suffice for most situa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ackage that has hidden state must declare a state abstraction to represent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ackage declaring one or more state abstractions requires a body containing a refinement of each state abs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body of a package where the refinement of a state abstraction is visible you must refer to its constituents and not the state abst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Data Abstraction and Package Hierarchy ru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imple rules for Part_Of contrac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that is visible at library-level does not have a Part_Of con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declared in the private part of a package must have a Part_Of contract stating of which state abstraction it is a constitu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declared in a private child package or public child package thereof must have a Part_Of contract stating to which more visible state abstraction it belo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Data Abstraction and Package Hierarchy ru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imple rules for (Refined_)Global contrac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package declares one or more state abstractions and a subprogram declared in its visible part has a Global contract denoting one or more of the state abstractions, the subprogam body must have a Refined_Global contract on its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package body with a refinement of a state abstraction only the constituents of the state abstraction shall be denoted in Global and Refined_Global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ther cases, the golden rule is that a state abstraction and one or more of its constituents (where they are both visible) do not appear in the same Global or Refined_Global contra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For more complex situations refer to the SPARK R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straction and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wo different views of the same entit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abstract specification and contract captures what it do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refinement, its implementation,  captures more detail of how it is 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re can be multiple levels of refin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fined view of a higher-level abstract view may be the abstract view of a lower-level compon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da and SPARK support hierarchical abstraction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dvantages of Abstrac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bstraction simplifies implementation and maintenanc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lementation of one abstraction does not depend on the implementation of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ed only understand the other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 behaviour, not it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Effects of modifications are bound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specification remains unchanged, changes to implementation do not propagat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eparation demonstrably achieved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ly if the contracts of abstractions are described fully and accurately in the first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Efstathopoulos Pavlos</cp:lastModifiedBy>
  <cp:lastPrinted>2014-03-31T13:09:07Z</cp:lastPrinted>
  <dcterms:modified xsi:type="dcterms:W3CDTF">2016-04-22T14:07:53Z</dcterms:modified>
  <cp:revision>2587</cp:revision>
  <dc:subject/>
  <dc:title>Diapositive 1</dc:title>
</cp:coreProperties>
</file>