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0890-480A-469A-9FF7-0AC349C45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2127-33FB-45E2-B245-147C66157F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ation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a equality symbol is =, .not =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D193-41B2-47AB-829A-6FDD33B9A9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EE43-55B8-42E5-8445-1E3CF78A88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5B80-5C80-4592-B8E2-634F94A547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B0A7-5B56-47EF-978F-0F3DB2BC7F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CE6A-B41E-45E7-B95C-DF483B5509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DA53-E602-4A10-A094-B5F0CA07DE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904B-7E9D-4AF2-8FB5-0924B7CA81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5089-A444-44E4-84AA-F620CA6097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9034-D2F3-4BC1-AF9C-9A0DA53FB3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20E3-0C4F-4D2F-8917-A5F3EA459A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D4F8-0C57-4B49-9C5F-FFC01DBC77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A812-33ED-4310-A32B-94A28817FD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8592-9AAC-4B6B-A300-102BFD781A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C23C-608F-4209-8805-2B4C58C060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5BED-E835-4B5B-938B-27ECA51E91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9D98-464A-49CF-B73C-3824A68429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106D-D6F5-404D-8D57-55D6AC2258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AD3D-73D4-446D-817C-CE29F77966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CCC4-E5A0-4C73-991F-B6AEE548C0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6B49-5B23-470E-A039-47D069FAF3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CF159D94-F9A9-4E02-BBB4-5FAE7E95F78D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D148D0FA-09CF-4E81-B44F-0CA05E7CED1C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75A3FF72-4689-4760-ACC6-76EF3DF3D206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977BD91D-8D93-4BF3-A4FE-8575BA1A0803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daCoreU-isolated.png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DA93EE4D-85A9-4E7E-8907-D5BFA72CB9A2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10810FDC-9ACD-4915-AF64-74E51120280E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  <a:ea typeface="Arial"/>
              </a:rPr>
              <a:t>university.adaco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AdaCoreU-isolated.png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A38B230D-FBE5-4048-8591-042976262D56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9D407076-BDAD-451F-A7A9-8947BA902D39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A2384C88-A49E-4B58-B21A-93A246DEE75A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  <a:ea typeface="Arial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1C1E0D28-B795-42B4-9A28-B29383B6E018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correct.png"/>
          <p:cNvPicPr/>
          <p:nvPr/>
        </p:nvPicPr>
        <p:blipFill>
          <a:blip r:embed="rId4"/>
          <a:stretch/>
        </p:blipFill>
        <p:spPr>
          <a:xfrm>
            <a:off x="644364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  <a:ea typeface="Arial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Slide: </a:t>
            </a:r>
            <a:fld id="{F5477DC3-772F-441C-918A-6C1F869C699F}" type="slidenum"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7" descr="wrong.png"/>
          <p:cNvPicPr/>
          <p:nvPr/>
        </p:nvPicPr>
        <p:blipFill>
          <a:blip r:embed="rId4"/>
          <a:stretch/>
        </p:blipFill>
        <p:spPr>
          <a:xfrm>
            <a:off x="6443640" y="35892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  <a:ea typeface="Arial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579240" y="3933360"/>
            <a:ext cx="820548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0a6"/>
                </a:solidFill>
                <a:latin typeface="Calibri"/>
                <a:ea typeface="ヒラギノ角ゴ ProN W3"/>
              </a:rPr>
              <a:t>Statements</a:t>
            </a:r>
            <a:endParaRPr b="1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7924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a1a1a"/>
              </a:solidFill>
              <a:latin typeface="Calibri"/>
              <a:ea typeface="ヒラギノ角ゴ ProN W3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092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  <a:ea typeface="ヒラギノ角ゴ ProN W3"/>
              </a:rPr>
              <a:t>university.adacore.com</a:t>
            </a:r>
            <a:endParaRPr b="1" lang="en-US" sz="1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For .. Loop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eration can be done over a rang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range is always given in ascending ord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iteration always goes to the successor, or predecessor if reverse is specifi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43280" y="1773360"/>
          <a:ext cx="3744720" cy="82224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340000" y="3357720"/>
          <a:ext cx="4824360" cy="822240"/>
        </p:xfrm>
        <a:graphic>
          <a:graphicData uri="http://schemas.openxmlformats.org/drawingml/2006/table">
            <a:tbl>
              <a:tblPr/>
              <a:tblGrid>
                <a:gridCol w="482436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 ..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")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t cal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2914560" y="5486400"/>
          <a:ext cx="3745080" cy="82224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ver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For .. Loop Control Variab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variable declared in the for loop can be explicitly typ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may be of any discrete type. When no range is specified, the whole type range is taken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control variable is constant in the loop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2411280" y="2173320"/>
          <a:ext cx="4681800" cy="82404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2411280" y="4221000"/>
          <a:ext cx="4681800" cy="82260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226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aract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X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411280" y="5702400"/>
          <a:ext cx="4681800" cy="82224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:= X +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21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2195640" y="5979960"/>
            <a:ext cx="2570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For .. Loop Range Evalu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loop range is evaluated </a:t>
            </a:r>
            <a:r>
              <a:rPr b="1" lang="en-US" sz="2400" spc="-1" strike="noStrike" u="sng">
                <a:solidFill>
                  <a:srgbClr val="404040"/>
                </a:solidFill>
                <a:uFillTx/>
                <a:latin typeface="Calibri"/>
              </a:rPr>
              <a:t>once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, when entering the loop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195640" y="3614760"/>
          <a:ext cx="5041800" cy="82224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.. B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= B + 1; -- no effect on the 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25" name="Picture 11" descr="C:\Users\ochem3\Desktop\AdaCoreU Package\AdaCoreU Package\icons\hazard.png"/>
          <p:cNvPicPr/>
          <p:nvPr/>
        </p:nvPicPr>
        <p:blipFill>
          <a:blip r:embed="rId1"/>
          <a:stretch/>
        </p:blipFill>
        <p:spPr>
          <a:xfrm>
            <a:off x="8501040" y="157320"/>
            <a:ext cx="46368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Declare Block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n any sequence of statements, it may be useful to re-open declarative blocks or a sub sequence of expressions (for new variable declaration, exception handlers…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an be done through a new declare boc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2195640" y="4494240"/>
          <a:ext cx="5041800" cy="131112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Null Statemen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is illegal to have an empty sequence of statements but …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…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’s possible to use a statement that does nothing, the null stat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195640" y="4494240"/>
          <a:ext cx="5041800" cy="131112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36" name="Oval 2"/>
          <p:cNvSpPr/>
          <p:nvPr/>
        </p:nvSpPr>
        <p:spPr>
          <a:xfrm>
            <a:off x="2343240" y="3036960"/>
            <a:ext cx="4712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3"/>
          <p:cNvSpPr/>
          <p:nvPr/>
        </p:nvSpPr>
        <p:spPr>
          <a:xfrm>
            <a:off x="2579760" y="3324240"/>
            <a:ext cx="390600" cy="1112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933480" y="4489560"/>
            <a:ext cx="438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ompilation error, = is the equality symbol in 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76360" y="3036960"/>
            <a:ext cx="2570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2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has been assigned to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2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has been assigned to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4" name="Oval 2"/>
          <p:cNvSpPr/>
          <p:nvPr/>
        </p:nvSpPr>
        <p:spPr>
          <a:xfrm>
            <a:off x="2343240" y="3036960"/>
            <a:ext cx="4712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3"/>
          <p:cNvSpPr/>
          <p:nvPr/>
        </p:nvSpPr>
        <p:spPr>
          <a:xfrm>
            <a:off x="2579760" y="3324240"/>
            <a:ext cx="390600" cy="1112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588960" y="4489560"/>
            <a:ext cx="473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ompilation error, := is not an operator, can’t be used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in a 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76360" y="3036960"/>
            <a:ext cx="2570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ome General Inform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tatements can be spread on several lines, and need to be completed by a ;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tatements need to be written in a sequence of stat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2843280" y="4581360"/>
          <a:ext cx="3744720" cy="131148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i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ut_Line ("Hello World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 World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2914560" y="2262240"/>
          <a:ext cx="3745080" cy="131112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 World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75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2514600" y="4869000"/>
            <a:ext cx="2570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763640" y="2163600"/>
          <a:ext cx="5616720" cy="25308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5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Integer'Value (Get_Line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9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Simple digit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 .. Integer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Long 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'First .. -1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ega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63640" y="2163600"/>
          <a:ext cx="5616720" cy="25308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5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Integer'Value (Get_Line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9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Simple digit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 .. Integer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Long 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'First .. -1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ega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2" name="Oval 2"/>
          <p:cNvSpPr/>
          <p:nvPr/>
        </p:nvSpPr>
        <p:spPr>
          <a:xfrm>
            <a:off x="1952640" y="2708280"/>
            <a:ext cx="2332080" cy="172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3"/>
          <p:cNvSpPr/>
          <p:nvPr/>
        </p:nvSpPr>
        <p:spPr>
          <a:xfrm flipH="1">
            <a:off x="2343240" y="4437000"/>
            <a:ext cx="774720" cy="808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581040" y="5237280"/>
            <a:ext cx="33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ompilation error, 0 value is mi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76360" y="2708280"/>
            <a:ext cx="2570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763640" y="2163600"/>
          <a:ext cx="5616720" cy="25308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5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Integer'Value (Get_Line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Integer'Last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Integer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atural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763640" y="2163600"/>
          <a:ext cx="5616720" cy="25308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5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Integer'Value (Get_Line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Integer'Last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Integer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atural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0" name="Oval 2"/>
          <p:cNvSpPr/>
          <p:nvPr/>
        </p:nvSpPr>
        <p:spPr>
          <a:xfrm>
            <a:off x="2313000" y="3465360"/>
            <a:ext cx="3051000" cy="250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3"/>
          <p:cNvSpPr/>
          <p:nvPr/>
        </p:nvSpPr>
        <p:spPr>
          <a:xfrm flipH="1">
            <a:off x="1560600" y="3608280"/>
            <a:ext cx="752400" cy="1549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471960" y="5140440"/>
            <a:ext cx="56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ompilation Error, 1 .. Integer'Last and 0 .. Integer'Last overl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32080" y="3382920"/>
            <a:ext cx="2570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5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763640" y="2163600"/>
          <a:ext cx="5616720" cy="25308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5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Float := 10.0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 .. Float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’First .. -1.0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ega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763640" y="2163600"/>
          <a:ext cx="5616720" cy="253080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25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Float := 10.0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 .. Float'Last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Posi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loat'First .. -1.0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gative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8" name="Oval 2"/>
          <p:cNvSpPr/>
          <p:nvPr/>
        </p:nvSpPr>
        <p:spPr>
          <a:xfrm>
            <a:off x="1952640" y="2708280"/>
            <a:ext cx="139536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3"/>
          <p:cNvSpPr/>
          <p:nvPr/>
        </p:nvSpPr>
        <p:spPr>
          <a:xfrm flipH="1" flipV="1">
            <a:off x="1187280" y="1915920"/>
            <a:ext cx="774720" cy="9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"/>
          <p:cNvSpPr/>
          <p:nvPr/>
        </p:nvSpPr>
        <p:spPr>
          <a:xfrm>
            <a:off x="302400" y="1413000"/>
            <a:ext cx="49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ompilation Error, the value evaluated must be disc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46120" y="2739960"/>
            <a:ext cx="25740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6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 := 1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6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 := 1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6" name="Oval 2"/>
          <p:cNvSpPr/>
          <p:nvPr/>
        </p:nvSpPr>
        <p:spPr>
          <a:xfrm>
            <a:off x="1952640" y="3284640"/>
            <a:ext cx="139536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3"/>
          <p:cNvSpPr/>
          <p:nvPr/>
        </p:nvSpPr>
        <p:spPr>
          <a:xfrm flipH="1">
            <a:off x="1483920" y="3429000"/>
            <a:ext cx="46836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4"/>
          <p:cNvSpPr/>
          <p:nvPr/>
        </p:nvSpPr>
        <p:spPr>
          <a:xfrm>
            <a:off x="306000" y="4076640"/>
            <a:ext cx="594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ompilation Error, I is constant in the loop, assignment is forbid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92200" y="3300480"/>
            <a:ext cx="2574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What is the output of this code? (7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 ..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I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What is the output of this code? (7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 ..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I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4" name="TextBox 4"/>
          <p:cNvSpPr/>
          <p:nvPr/>
        </p:nvSpPr>
        <p:spPr>
          <a:xfrm>
            <a:off x="286920" y="4076640"/>
            <a:ext cx="68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Nothing, the loop has an empty range, needs “reverse 0 .. 10” to be backwa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If Statements / If Express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If statement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If expression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971640" y="1773360"/>
          <a:ext cx="7599240" cy="2041560"/>
        </p:xfrm>
        <a:graphic>
          <a:graphicData uri="http://schemas.openxmlformats.org/drawingml/2006/table">
            <a:tbl>
              <a:tblPr/>
              <a:tblGrid>
                <a:gridCol w="3800520"/>
                <a:gridCol w="3798720"/>
              </a:tblGrid>
              <a:tr h="204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B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Else... 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 == 0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A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 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B == 0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B is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Else...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539640" y="4654440"/>
          <a:ext cx="8280360" cy="1798920"/>
        </p:xfrm>
        <a:graphic>
          <a:graphicData uri="http://schemas.openxmlformats.org/drawingml/2006/table">
            <a:tbl>
              <a:tblPr/>
              <a:tblGrid>
                <a:gridCol w="4138560"/>
                <a:gridCol w="4141800"/>
              </a:tblGrid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A is 0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B is 0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Else"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A == 0 ? "A is 0"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B == 0 ? "B is 0"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Else..."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80" name="TextBox 1"/>
          <p:cNvSpPr/>
          <p:nvPr/>
        </p:nvSpPr>
        <p:spPr>
          <a:xfrm>
            <a:off x="8031960" y="18255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8228880" y="470520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7"/>
          <p:cNvSpPr/>
          <p:nvPr/>
        </p:nvSpPr>
        <p:spPr>
          <a:xfrm>
            <a:off x="4215600" y="18255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8"/>
          <p:cNvSpPr/>
          <p:nvPr/>
        </p:nvSpPr>
        <p:spPr>
          <a:xfrm>
            <a:off x="4079880" y="477684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!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not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763640" y="2997360"/>
          <a:ext cx="5616720" cy="86328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!= 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 is not 0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9" name="Oval 2"/>
          <p:cNvSpPr/>
          <p:nvPr/>
        </p:nvSpPr>
        <p:spPr>
          <a:xfrm>
            <a:off x="2340000" y="2997360"/>
            <a:ext cx="43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traight Connector 3"/>
          <p:cNvSpPr/>
          <p:nvPr/>
        </p:nvSpPr>
        <p:spPr>
          <a:xfrm flipH="1">
            <a:off x="2555640" y="2527200"/>
            <a:ext cx="468360" cy="470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"/>
          <p:cNvSpPr/>
          <p:nvPr/>
        </p:nvSpPr>
        <p:spPr>
          <a:xfrm>
            <a:off x="812880" y="2189160"/>
            <a:ext cx="458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ompilation Error, the Ada inequality symbol is “/=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7" descr="C:\Users\ochem3\Desktop\AdaCoreU Package\AdaCoreU Package\icons\wrong.png"/>
          <p:cNvPicPr/>
          <p:nvPr/>
        </p:nvPicPr>
        <p:blipFill>
          <a:blip r:embed="rId1"/>
          <a:stretch/>
        </p:blipFill>
        <p:spPr>
          <a:xfrm>
            <a:off x="1476360" y="3235320"/>
            <a:ext cx="2570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 : Natur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763640" y="2773440"/>
          <a:ext cx="5616720" cy="13111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 : Natur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7" name="TextBox 4"/>
          <p:cNvSpPr/>
          <p:nvPr/>
        </p:nvSpPr>
        <p:spPr>
          <a:xfrm>
            <a:off x="865440" y="4581360"/>
            <a:ext cx="42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orrect, although the I declaration is redund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What is the output of this code? (10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763640" y="2651040"/>
          <a:ext cx="5616720" cy="15559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55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10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   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loo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What is the output of this code? (10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763640" y="2651040"/>
          <a:ext cx="5616720" cy="1555920"/>
        </p:xfrm>
        <a:graphic>
          <a:graphicData uri="http://schemas.openxmlformats.org/drawingml/2006/table">
            <a:tbl>
              <a:tblPr/>
              <a:tblGrid>
                <a:gridCol w="5616720"/>
              </a:tblGrid>
              <a:tr h="155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X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10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   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A"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loo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2" name="TextBox 4"/>
          <p:cNvSpPr/>
          <p:nvPr/>
        </p:nvSpPr>
        <p:spPr>
          <a:xfrm>
            <a:off x="1914480" y="486900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“</a:t>
            </a: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A” / the range is evaluated before entering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ndition Operator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mparis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Binary Boolean Operators and Short Circuit Form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871640" y="4643280"/>
          <a:ext cx="5724720" cy="1009800"/>
        </p:xfrm>
        <a:graphic>
          <a:graphicData uri="http://schemas.openxmlformats.org/drawingml/2006/table">
            <a:tbl>
              <a:tblPr/>
              <a:tblGrid>
                <a:gridCol w="1144440"/>
                <a:gridCol w="1144800"/>
                <a:gridCol w="1146240"/>
                <a:gridCol w="1144440"/>
                <a:gridCol w="1144800"/>
              </a:tblGrid>
              <a:tr h="64008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nary Boolean Op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 Circui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 Fo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 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2808360" y="2276640"/>
          <a:ext cx="3492360" cy="369720"/>
        </p:xfrm>
        <a:graphic>
          <a:graphicData uri="http://schemas.openxmlformats.org/drawingml/2006/table">
            <a:tbl>
              <a:tblPr/>
              <a:tblGrid>
                <a:gridCol w="582480"/>
                <a:gridCol w="581040"/>
                <a:gridCol w="582480"/>
                <a:gridCol w="582840"/>
                <a:gridCol w="581040"/>
                <a:gridCol w="58248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 Note on the Binary Boolean Operator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nd”, “or” are not short-circuit, both operands are always evaluat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hort-circuit execution is used for “and then” and </a:t>
            </a:r>
            <a:br>
              <a:rPr sz="2400"/>
            </a:b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“or else”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571760" y="2362320"/>
          <a:ext cx="6095880" cy="2746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= 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/ X &gt; 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- MAY RAISE AN 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1571760" y="4307040"/>
          <a:ext cx="6095880" cy="2743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= 0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 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/ X &gt; 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Case Statement / Case Express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52360" y="981000"/>
          <a:ext cx="8712360" cy="3168720"/>
        </p:xfrm>
        <a:graphic>
          <a:graphicData uri="http://schemas.openxmlformats.org/drawingml/2006/table">
            <a:tbl>
              <a:tblPr/>
              <a:tblGrid>
                <a:gridCol w="3743280"/>
                <a:gridCol w="4969080"/>
              </a:tblGrid>
              <a:tr h="316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zero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9 .. -1 | 1 .. 9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digit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other"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it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)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0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ea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9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8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7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6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4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3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2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2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5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6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8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ca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9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digit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ea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faul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f ("other"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971640" y="4581360"/>
          <a:ext cx="7421400" cy="1800360"/>
        </p:xfrm>
        <a:graphic>
          <a:graphicData uri="http://schemas.openxmlformats.org/drawingml/2006/table">
            <a:tbl>
              <a:tblPr/>
              <a:tblGrid>
                <a:gridCol w="4103640"/>
                <a:gridCol w="3317760"/>
              </a:tblGrid>
              <a:tr h="180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zero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9 .. -1 | 1 .. 9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digit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other"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 direct equival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96" name="TextBox 5"/>
          <p:cNvSpPr/>
          <p:nvPr/>
        </p:nvSpPr>
        <p:spPr>
          <a:xfrm>
            <a:off x="8292960" y="10335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6"/>
          <p:cNvSpPr/>
          <p:nvPr/>
        </p:nvSpPr>
        <p:spPr>
          <a:xfrm>
            <a:off x="3423600" y="10335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  <a:ea typeface="Arial"/>
              </a:rPr>
              <a:t>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Case Statements Ru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ll values covered by the type of the expression should be cover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Values must be uniqu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571760" y="2276640"/>
          <a:ext cx="6095880" cy="1188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…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-- NOK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1571760" y="4255920"/>
          <a:ext cx="6095880" cy="19209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…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0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'First .. 0 =&gt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NOK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Negative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Loop Stat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Loop is introduced by the loop / end loop bloc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Loop can be controlled by a exit condition through a while stat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843280" y="2117880"/>
          <a:ext cx="3744720" cy="131112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");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a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2916360" y="5025960"/>
          <a:ext cx="3744720" cy="106704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lt; 1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"Hello");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A := A +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it Statemen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t any time, a loop can be broken by an exit statement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In case of nested loops, names can be given to exit an outer loop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5003640" y="1700280"/>
          <a:ext cx="3745080" cy="115884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A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&gt; 1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= B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755640" y="1700280"/>
          <a:ext cx="3745080" cy="201276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201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A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gt; 1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= B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771640" y="4511520"/>
          <a:ext cx="3745080" cy="1798920"/>
        </p:xfrm>
        <a:graphic>
          <a:graphicData uri="http://schemas.openxmlformats.org/drawingml/2006/table">
            <a:tbl>
              <a:tblPr/>
              <a:tblGrid>
                <a:gridCol w="3745080"/>
              </a:tblGrid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_1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A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_2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= B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oop_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&gt; 1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Angela Wallenburg</cp:lastModifiedBy>
  <dcterms:modified xsi:type="dcterms:W3CDTF">2014-12-08T02:45:49Z</dcterms:modified>
  <cp:revision>159</cp:revision>
  <dc:subject/>
  <dc:title>Diapositive 1</dc:title>
</cp:coreProperties>
</file>