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000E-55D3-400D-8853-C7444BB30CA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D2F8-8E55-4BAA-9A5C-274AB6B606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86F0-97F0-4613-A4EF-C2CE9F3D1DD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2D9B-DE1C-4C7E-B692-5F768B7A779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397A-BDC2-416F-918E-A2A14FED16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CD2A-5E2A-4428-BE96-C2C1C4328F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BB65-F931-442D-A845-273DA38393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get higher resolution picks from ist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4195-7BAC-4CEA-A13D-AAB803EAE0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CE63-88BC-4AFF-BC89-A55C5A2D057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D79C-4BD4-4B43-AE46-D8EC2F32E7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ABC421D-7920-45DD-A564-89E97DFCBDF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383F826-4CA5-4D01-B540-330C5CCC2CE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6"/>
          <p:cNvSpPr/>
          <p:nvPr/>
        </p:nvSpPr>
        <p:spPr>
          <a:xfrm>
            <a:off x="6929640" y="692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38F9C14-C40B-4EF3-B943-831FB57B3F8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3C38033-DBC5-417F-93AD-83FB67FD5C5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E05ECC9-3CB3-4061-9E9A-5D92AB487002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468360" y="1484280"/>
            <a:ext cx="8342280" cy="2781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0AA482C-5BDD-4A88-AF62-2913732D2FF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7020000" y="260280"/>
            <a:ext cx="1836720" cy="612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B81F3CC-740E-4459-922A-0BEF7AEDA82A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826920" y="2060640"/>
            <a:ext cx="7507440" cy="2502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EB4A018-8229-4E56-A743-4ED46F2728B0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2879640" y="2641680"/>
            <a:ext cx="3373560" cy="1574640"/>
            <a:chOff x="2879640" y="2641680"/>
            <a:chExt cx="3373560" cy="1574640"/>
          </a:xfrm>
        </p:grpSpPr>
        <p:sp>
          <p:nvSpPr>
            <p:cNvPr id="170" name="TextBox 7"/>
            <p:cNvSpPr/>
            <p:nvPr/>
          </p:nvSpPr>
          <p:spPr>
            <a:xfrm>
              <a:off x="440532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Quiz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2" descr="C:\Users\ochem\AppData\Local\Temp\Rar$DR28.624\AdaCoreU Package\icons\quiz.png"/>
            <p:cNvPicPr/>
            <p:nvPr/>
          </p:nvPicPr>
          <p:blipFill>
            <a:blip r:embed="rId3"/>
            <a:stretch/>
          </p:blipFill>
          <p:spPr>
            <a:xfrm>
              <a:off x="2879640" y="2641680"/>
              <a:ext cx="1575000" cy="157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c1fe8a76-f479-4240-b975-cf131fd69cdc" descr="6CE50D91-52A1-418C-81F5-BA85E68CC41F@hsd1"/>
          <p:cNvPicPr/>
          <p:nvPr/>
        </p:nvPicPr>
        <p:blipFill>
          <a:blip r:embed="rId4"/>
          <a:stretch/>
        </p:blipFill>
        <p:spPr>
          <a:xfrm>
            <a:off x="6948360" y="260280"/>
            <a:ext cx="1835280" cy="612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3A64D45-9844-443B-BD49-70C4D324DBFD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7020000" y="260280"/>
            <a:ext cx="1836720" cy="612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867D92A-9A17-43E4-B84F-24673698247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DDA4B82-DA47-449D-966B-D72728C85F4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6896880" y="108000"/>
            <a:ext cx="181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(click on the check ic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6902640" y="627120"/>
            <a:ext cx="2204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 (click on the error location(s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correct.png"/>
          <p:cNvPicPr/>
          <p:nvPr/>
        </p:nvPicPr>
        <p:blipFill>
          <a:blip r:embed="rId5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0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F89BF67-8F4F-4A88-BB3B-D3AED6540896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-7560" y="66340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Altran, AdaCo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6"/>
          <p:cNvSpPr/>
          <p:nvPr/>
        </p:nvSpPr>
        <p:spPr>
          <a:xfrm>
            <a:off x="6894720" y="189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correct.png"/>
          <p:cNvPicPr/>
          <p:nvPr/>
        </p:nvPicPr>
        <p:blipFill>
          <a:blip r:embed="rId4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18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Some more slides for the Scaling Up modules</a:t>
            </a:r>
            <a:endParaRPr b="1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Some Scaling Up PIc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517" name="Picture 1" descr=""/>
          <p:cNvPicPr/>
          <p:nvPr/>
        </p:nvPicPr>
        <p:blipFill>
          <a:blip r:embed="rId1"/>
          <a:stretch/>
        </p:blipFill>
        <p:spPr>
          <a:xfrm>
            <a:off x="1523880" y="1333440"/>
            <a:ext cx="6096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1780a6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1523880" y="133200"/>
            <a:ext cx="609624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1780a6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523" name="Picture 1" descr=""/>
          <p:cNvPicPr/>
          <p:nvPr/>
        </p:nvPicPr>
        <p:blipFill>
          <a:blip r:embed="rId1"/>
          <a:stretch/>
        </p:blipFill>
        <p:spPr>
          <a:xfrm>
            <a:off x="2381400" y="1790640"/>
            <a:ext cx="4381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Brown- Green-Field Pic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519120" y="1022400"/>
            <a:ext cx="82296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Brown- Green-Field Pic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2615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Abstraction and Refinemen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532" name="Picture 1" descr=""/>
          <p:cNvPicPr/>
          <p:nvPr/>
        </p:nvPicPr>
        <p:blipFill>
          <a:blip r:embed="rId1"/>
          <a:stretch/>
        </p:blipFill>
        <p:spPr>
          <a:xfrm>
            <a:off x="1116000" y="730080"/>
            <a:ext cx="6350040" cy="29149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"/>
          <p:cNvPicPr/>
          <p:nvPr/>
        </p:nvPicPr>
        <p:blipFill>
          <a:blip r:embed="rId2"/>
          <a:stretch/>
        </p:blipFill>
        <p:spPr>
          <a:xfrm>
            <a:off x="468360" y="3794040"/>
            <a:ext cx="811692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</a:rPr>
              <a:t>Refinemen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5023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Tit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oin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er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Angela Wallenburg</cp:lastModifiedBy>
  <cp:lastPrinted>2014-03-31T13:09:07Z</cp:lastPrinted>
  <dcterms:modified xsi:type="dcterms:W3CDTF">2014-07-21T10:56:39Z</dcterms:modified>
  <cp:revision>2147</cp:revision>
  <dc:subject/>
  <dc:title>Diapositive 1</dc:title>
</cp:coreProperties>
</file>