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10A2-446B-44B2-81EC-A9DA7C4087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spark-2014.org/entries/detail/spark-2014-rationale-loop-invariants" TargetMode="External"/><Relationship Id="rId2" Type="http://schemas.openxmlformats.org/officeDocument/2006/relationships/hyperlink" Target="http://www.spark-2014.org/entries/detail/spark-2014-rationale-formal-containers" TargetMode="External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FC4-309D-4B63-AEFA-D665051C82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4485-BC93-4079-9AD4-C927887546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K. We have not seen the implementation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FB3-649E-4C92-9877-384EE2E441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K. We have not seen the implementation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3B0-BA26-4DCE-9387-11C339B650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K. We have not seen the implementation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33F-5F3E-41A8-8436-6C6A5090BB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mal containers closely resemble Ada 2012 bounded containers except that cursors are not tied to a particular container and can be valid in several of them (using same cursor for before and af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86A-A139-4A1B-BF71-3F0D099BBB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998-C518-4FAD-AE1E-1E2DF1266C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7B2-E41D-438E-B839-A54848CC2B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F2A-3D1E-47D3-8777-05AC164D4B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23BA-2E1A-4E02-8444-99CDCA87A4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at we use a call to the procedure Clear at the beginning of the program for GNATprove to know that the set R is empty. There is a proposal to lift this restr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oof of Double_All requires a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loop invarian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 It states that we have already included in R the elements that appear in S before the Current cursor using the function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rst_To_Previou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 We also need to bound the length of R to be able to prove that we do not exceed the capacity of R. Remark that we cannot prove that the length of R is equal to the number of already included elements. Indeed, since we do not know the definition of Equivalent_Elements, it could be the case that two elements of S have the same double modulo this re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NATprove proves automatically that the code of Double_All cannot raise a run-time exception, and that is implements the contrac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ame condition statements are common enough for the formal containers packages to include specific functions that facilitate their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unction First_To_Previous takes a container Cont and a cursor Cu in argument and returns a container that is Cont where Cu and every cursor following it in Cont have been rem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9645-74C0-4CDB-A0D1-7FAE95C535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DB9-8B0B-41DB-99E0-EF2279BBA1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servation: Root * Root could cause intermediate overflow in some instantiations, could use compiler flag to use minimized or eleminated mode for intermediate overflow checking of contra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9F32-12CE-4EB2-B45D-56C5026ADA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92543E1-E7BC-4C61-8BB5-17306E7D169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ABDCC05-5A7D-4B60-84E4-B0E713FAE87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735A249-98A3-42F6-8276-2BB55F68583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E6045C3-4EAA-4016-B4B8-BAD879FE858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2E32118-7385-4BA2-A983-E84C842EFB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66D9AE3-7D2F-4CFA-BD2F-B677FC49A8E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39D7F54-D7F2-40D1-8A0F-15BD3020596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894B77A-B7A1-496E-9966-8D78D002723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5DD7E28-C39A-4266-B5F2-809ADEA4A90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04E0CAB-1C79-4911-8AE7-657CF3F7D14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F321E68-EFCC-47FD-B9AE-EDEE00FE406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8F8070E-138B-4193-808E-583ECFA6A0C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94920" y="3012840"/>
            <a:ext cx="838188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Generics in SPARK 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Natur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analyze this instantiation; it is successful and we get the following summ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84360" y="1989000"/>
          <a:ext cx="7632720" cy="7318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atur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187280" y="3933720"/>
          <a:ext cx="7129800" cy="179892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alyzed 1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unit natural_isqrt, 2 subprograms and packages out of 2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_Isqrt at natural_isqrt.ads:3 flow analyzed (0 errors and 0 warnings) and proved (0 chec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_isqrt at natural_isqrt.ads:3 flow analyzed (0 errors and 0 warnings) and proved (13 chec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Integ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84360" y="1989000"/>
          <a:ext cx="7632720" cy="7318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Integ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684360" y="1989000"/>
          <a:ext cx="7632720" cy="7318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5" name="Rounded Rectangular Callout 1"/>
          <p:cNvSpPr/>
          <p:nvPr/>
        </p:nvSpPr>
        <p:spPr>
          <a:xfrm>
            <a:off x="5435640" y="2852640"/>
            <a:ext cx="3240000" cy="720720"/>
          </a:xfrm>
          <a:prstGeom prst="wedgeRoundRectCallout">
            <a:avLst>
              <a:gd name="adj1" fmla="val -62078"/>
              <a:gd name="adj2" fmla="val -768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tiated with an actual of subtype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Integ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analyze this instantiation; it is unsuccessful and we get th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blem is that the integer square root is not defined for integers with negative valu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4360" y="1989000"/>
          <a:ext cx="7632720" cy="7318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1187280" y="4076640"/>
          <a:ext cx="7056720" cy="94464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qrt.ads:5:11: warning: postcondition might f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prbuild: *** compilation phase fai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natprove: error during generation and proof of VCs, abor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add a precondition to the generic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the value of N must be greater or equal to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84360" y="2133720"/>
          <a:ext cx="7848360" cy="1798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N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) + 1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add a precondition to the generic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the value of N must be greater or equal to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84360" y="2133720"/>
          <a:ext cx="7848360" cy="1798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N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) + 1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6" name="Rounded Rectangular Callout 1"/>
          <p:cNvSpPr/>
          <p:nvPr/>
        </p:nvSpPr>
        <p:spPr>
          <a:xfrm>
            <a:off x="6156360" y="3068640"/>
            <a:ext cx="2376360" cy="431640"/>
          </a:xfrm>
          <a:prstGeom prst="wedgeRoundRectCallout">
            <a:avLst>
              <a:gd name="adj1" fmla="val -200277"/>
              <a:gd name="adj2" fmla="val -2774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ondition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add a precondition to the generic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the value of N must be greater or equal to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analysis of the instanti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_Isq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successful and we get the following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all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_Isq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proof obligation N &gt;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84360" y="2133720"/>
          <a:ext cx="7848360" cy="1798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N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) + 1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187280" y="4724280"/>
          <a:ext cx="7345440" cy="137160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372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alyzed 1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unit integer_isqrt, 2 subprograms and packages out of 2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_Isqrt at integer_isqrt.ads:3 flow analyzed (0 errors and 0 warnings) and proved (0 chec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_isqrt at integer_isqrt.ads:3 flow analyzed (0 errors and 0 warnings) and proved (13 chec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1" name="Rounded Rectangular Callout 1"/>
          <p:cNvSpPr/>
          <p:nvPr/>
        </p:nvSpPr>
        <p:spPr>
          <a:xfrm>
            <a:off x="6156360" y="3068640"/>
            <a:ext cx="2376360" cy="431640"/>
          </a:xfrm>
          <a:prstGeom prst="wedgeRoundRectCallout">
            <a:avLst>
              <a:gd name="adj1" fmla="val -200277"/>
              <a:gd name="adj2" fmla="val -2774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ondition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ainers – Richer Data Structur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066920" y="1142640"/>
            <a:ext cx="44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mproved containers in Ada 2012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better iter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bounded containers with fixed static capa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rmal containers in SPARK 2014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ful and complex data structures off the shel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 model of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ly specified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ilar to bounded contai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" descr=""/>
          <p:cNvPicPr/>
          <p:nvPr/>
        </p:nvPicPr>
        <p:blipFill>
          <a:blip r:embed="rId1"/>
          <a:stretch/>
        </p:blipFill>
        <p:spPr>
          <a:xfrm>
            <a:off x="324000" y="963720"/>
            <a:ext cx="366372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ainer Librari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has a large container librar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PARK formal container librar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Ada bounded containers but with a formal model and A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sors for accessing elements of containers behave differently in the formal container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subprogram that references a container element via a cursor has the container object as a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ursor may be used to reference more than one container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lly a container C and its entry value C’O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ormal Container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4000" y="1196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da.Containers.Formal_Hashed_Se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 generic paramet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ctual parameters for functions Hash, Equivalent Elements and “=“ must not have any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84360" y="2276640"/>
          <a:ext cx="7848360" cy="22255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h (Element : Element_Typ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h_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quivalent_Elements (Left, Right : Element_Ty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=" (Left, Right : Element_Typ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s in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enerics and programming in the lar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generic unit can be written once and used in many different 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ch of the Ada Library, particularly the Container Library, is supplied as generic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K supports generics but it is not the generic unit that is analyzed, rather each individual instan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stantiation of a generic may or may not be provably free from run-time exce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rticular instantiation may or may not be in SPARK depending on the actual parameters used in the instan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xample of this situation follows in a few sl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PARK Iterabl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erable container types may be declared in SPARK 2014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es iteration over the elements of a container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spec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terabl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applied to any non-arra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spect Iterable requires the following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=&gt; returns a cursor to the first element of the contai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 =&gt; returns the cursor to the next element from the current cur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_Element =&gt; returns a Boolean indicating the presence of an element of the container at the current cur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ment (optional) returns the value of the element of the container at the current cur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lement iterator can only be used in a quantified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e SPARK 2014 RM 5.2.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ormal Container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stantiation of generic formal container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function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ivalent_Elemen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_Equa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must not read or write any global vari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functio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ivalent_Elemen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hould be an equivalence relation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84360" y="1773360"/>
          <a:ext cx="7848360" cy="2879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8796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h (Id : Element_Type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h_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quivalent_Elements (I1, I2 : Element_Type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Equal (I1, I2 : Element_Type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1 = I2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Sets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a.Containers.Formal_Hashed_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Element_Type        =&gt; Element_Typ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h                =&gt; Has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valent_Elements =&gt; Equivalent_Element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="                 =&gt; My_Equ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ormal Container Example - GNATprov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NATprove proves these properti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the properties about the functions we have defined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xiomatisation, to reduce the need for heavy contracts in library: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agma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notate (GNATprove, External_Axiomatization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611280" y="836640"/>
          <a:ext cx="7993080" cy="39304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93048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Reflex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ert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 Equivalent_Elements (E, E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Symme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2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quivalent_Elements (E1, E2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Equivalent_Elements (E2, E1))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Transi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2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3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_Typ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quivalent_Elements (E1, E2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Equivalent_Elements (E2, E3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valent_Elements (E1, E3)))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ormal Container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ing our formal container instantiation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My_Set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539640" y="2708280"/>
          <a:ext cx="8064720" cy="1803240"/>
        </p:xfrm>
        <a:graphic>
          <a:graphicData uri="http://schemas.openxmlformats.org/drawingml/2006/table">
            <a:tbl>
              <a:tblPr/>
              <a:tblGrid>
                <a:gridCol w="8064720"/>
              </a:tblGrid>
              <a:tr h="18032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_Size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stan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Se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Sets.Set (Capacity =&gt; Set_Size,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Modulus  =&gt; Default_Modulus (Set_Size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ouble_All (S : My_Set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Se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 =&gt; E &lt;= 50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 =&gt; Contains (Double_All'Result, 2 * E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1" name="Rounded Rectangular Callout 1"/>
          <p:cNvSpPr/>
          <p:nvPr/>
        </p:nvSpPr>
        <p:spPr>
          <a:xfrm>
            <a:off x="6588000" y="1773360"/>
            <a:ext cx="2087640" cy="863640"/>
          </a:xfrm>
          <a:prstGeom prst="wedgeRoundRectCallout">
            <a:avLst>
              <a:gd name="adj1" fmla="val -66875"/>
              <a:gd name="adj2" fmla="val 1135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ulus discriminant is used for the hash fun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ular Callout 1"/>
          <p:cNvSpPr/>
          <p:nvPr/>
        </p:nvSpPr>
        <p:spPr>
          <a:xfrm>
            <a:off x="5796000" y="4797360"/>
            <a:ext cx="2735280" cy="1023840"/>
          </a:xfrm>
          <a:prstGeom prst="wedgeRoundRectCallout">
            <a:avLst>
              <a:gd name="adj1" fmla="val -50125"/>
              <a:gd name="adj2" fmla="val -809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esult of the function contains all the doubles of the elements of the function argu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ular Callout 1"/>
          <p:cNvSpPr/>
          <p:nvPr/>
        </p:nvSpPr>
        <p:spPr>
          <a:xfrm>
            <a:off x="2050920" y="4797360"/>
            <a:ext cx="1727280" cy="503280"/>
          </a:xfrm>
          <a:prstGeom prst="wedgeRoundRectCallout">
            <a:avLst>
              <a:gd name="adj1" fmla="val 2314"/>
              <a:gd name="adj2" fmla="val -1159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ment it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ormal Container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NATprove proves implementation 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Double_Al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ing typical function for frame condition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4360" y="1700280"/>
          <a:ext cx="8064360" cy="350496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350496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ouble_All (S : My_Set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Se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      : My_Se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rent : Cursor := First (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ear (R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_Element (S, Current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_Invari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Length (R) &lt;= Length (First_To_Previous (S, Current)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u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rst_To_Previous (S, Current)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ains (R, 2 * Element (S, Cu)))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lude (R, 2 * Element (S, Current)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(S, Current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ouble_Al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395280" y="5732640"/>
          <a:ext cx="8353440" cy="36036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3603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rst_To_Previous (Container : Set; Current : Curso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8" name="Rounded Rectangular Callout 1"/>
          <p:cNvSpPr/>
          <p:nvPr/>
        </p:nvSpPr>
        <p:spPr>
          <a:xfrm>
            <a:off x="7020000" y="3429000"/>
            <a:ext cx="1655640" cy="504720"/>
          </a:xfrm>
          <a:prstGeom prst="wedgeRoundRectCallout">
            <a:avLst>
              <a:gd name="adj1" fmla="val -307745"/>
              <a:gd name="adj2" fmla="val -6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sor it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enerics in SPAR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s in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mple generic subprogram – integer square roo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684360" y="1989000"/>
          <a:ext cx="7848360" cy="1727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 + 1)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s in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mple generic subprogram – integer square roo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684360" y="1989000"/>
          <a:ext cx="7848360" cy="1727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 + 1)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3" name="Rounded Rectangular Callout 1"/>
          <p:cNvSpPr/>
          <p:nvPr/>
        </p:nvSpPr>
        <p:spPr>
          <a:xfrm>
            <a:off x="5435640" y="1916280"/>
            <a:ext cx="3097080" cy="720720"/>
          </a:xfrm>
          <a:prstGeom prst="wedgeRoundRectCallout">
            <a:avLst>
              <a:gd name="adj1" fmla="val -107750"/>
              <a:gd name="adj2" fmla="val 15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ic formal parameter,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s in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mple generic subprogram – integer square roo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try to prove the generic subprogram directly we get th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4360" y="1989000"/>
          <a:ext cx="7848360" cy="1727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 + 1)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1187280" y="5229360"/>
          <a:ext cx="7345440" cy="9442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qrt.adb:1:11: Generic unit is not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prbuild: *** compilation phase fai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natprove: error during analysis and translation to intermediate language, abor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s in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mple generic subprogram – integer square roo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try to prove the generic subprogram directly we get th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84360" y="1989000"/>
          <a:ext cx="7848360" cy="1727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ne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; Root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umb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Root * Root &lt;= 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oot + 1) * (Roo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187280" y="5229360"/>
          <a:ext cx="7345440" cy="9442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qrt.adb:1:11: Generic unit is not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prbuild: *** compilation phase fai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natprove: error during analysis and translation to intermediate language, abor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2" name="Rounded Rectangular Callout 1"/>
          <p:cNvSpPr/>
          <p:nvPr/>
        </p:nvSpPr>
        <p:spPr>
          <a:xfrm>
            <a:off x="5508720" y="4653000"/>
            <a:ext cx="3024000" cy="647640"/>
          </a:xfrm>
          <a:prstGeom prst="wedgeRoundRectCallout">
            <a:avLst>
              <a:gd name="adj1" fmla="val -108601"/>
              <a:gd name="adj2" fmla="val 53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ic units are not analyzed di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Natur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84360" y="1989000"/>
          <a:ext cx="7848360" cy="7318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atur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Natur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84360" y="1989000"/>
          <a:ext cx="7848360" cy="7318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atur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9" name="Rounded Rectangular Callout 1"/>
          <p:cNvSpPr/>
          <p:nvPr/>
        </p:nvSpPr>
        <p:spPr>
          <a:xfrm>
            <a:off x="4643280" y="1700280"/>
            <a:ext cx="3745080" cy="720720"/>
          </a:xfrm>
          <a:prstGeom prst="wedgeRoundRectCallout">
            <a:avLst>
              <a:gd name="adj1" fmla="val -87458"/>
              <a:gd name="adj2" fmla="val 15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K_Mode On, we want the instantiation to be in S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eneric Instanti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we instantiat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sqr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with a generic actual of Natur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4360" y="1989000"/>
          <a:ext cx="7848360" cy="7318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_Isqr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qrt (Natur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3" name="Rounded Rectangular Callout 1"/>
          <p:cNvSpPr/>
          <p:nvPr/>
        </p:nvSpPr>
        <p:spPr>
          <a:xfrm>
            <a:off x="4643280" y="1700280"/>
            <a:ext cx="3745080" cy="720720"/>
          </a:xfrm>
          <a:prstGeom prst="wedgeRoundRectCallout">
            <a:avLst>
              <a:gd name="adj1" fmla="val -87458"/>
              <a:gd name="adj2" fmla="val 15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K_Mode On, we want the instantiation to be in S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1"/>
          <p:cNvSpPr/>
          <p:nvPr/>
        </p:nvSpPr>
        <p:spPr>
          <a:xfrm>
            <a:off x="5292720" y="2852640"/>
            <a:ext cx="3240000" cy="720720"/>
          </a:xfrm>
          <a:prstGeom prst="wedgeRoundRectCallout">
            <a:avLst>
              <a:gd name="adj1" fmla="val -62078"/>
              <a:gd name="adj2" fmla="val -768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ntiated with an actual of subtype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6-10-13T14:27:31Z</dcterms:modified>
  <cp:revision>2485</cp:revision>
  <dc:subject/>
  <dc:title>Diapositive 1</dc:title>
</cp:coreProperties>
</file>