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D37-D986-48E2-A4E4-FD20F2CFC6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97DE-6DA7-41BB-A5FD-5B546FD4AB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C8C-13FA-4EE2-ACEB-344EEBDB18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71C-1E67-4DCE-B8E4-FA9F7576FD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3442-F4FE-409B-AEEA-0F91762A52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E5A6-2802-4CE9-A07B-6CF84FC483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97A-774B-4A11-85C3-1435B96A0A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BBA-3C14-4163-9130-BBD006E8CC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E65-F999-445D-BF2B-070BCF90B0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171E-223E-478B-9601-BA6388DDEC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3CE0-8362-4A26-A0AC-F77B0AB8FB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9A4-A07A-46CE-B000-7A8E1819F1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A72-CAFC-4C1D-8BC3-F93CAC9868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C183-3B83-4244-AE23-8DD27AF1D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A6C-CEAA-4E7B-8E39-517DE4BAA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5FA4-AEC1-4055-BD7A-0EBC26F7A6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266D-24C1-4974-ABEF-4B3C3C3153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FEE-A0E2-4A2D-8053-4E969205A1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2C7-6CCA-4C21-9524-D0FDE06C24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778D51D-B552-4FE5-8DE3-0EFBE455163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920087C-BF37-441F-A5CB-5E4858162205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077D0F5-3CCE-47E6-8B55-30CC65EC360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C5023C9-AABB-47A3-AAF6-FF9D5E05DFA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6842234-4642-4A9B-929F-0F87116F809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52FA4EE-3DAC-4C6A-82F2-D748F691D98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619280" y="4221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university.adaco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daCoreU-isolated.png"/>
          <p:cNvPicPr/>
          <p:nvPr/>
        </p:nvPicPr>
        <p:blipFill>
          <a:blip r:embed="rId3"/>
          <a:stretch/>
        </p:blipFill>
        <p:spPr>
          <a:xfrm>
            <a:off x="3851280" y="1341360"/>
            <a:ext cx="165888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EC7292C-C92D-42AB-88A8-342EF4161A3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7159EF1-8467-4FFC-ADE7-A1026068519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C8D2873-5676-4906-8840-D5E420A5103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2C919A6-616D-4FE5-9BAB-937940EEE37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correct.png"/>
          <p:cNvPicPr/>
          <p:nvPr/>
        </p:nvPicPr>
        <p:blipFill>
          <a:blip r:embed="rId4"/>
          <a:stretch/>
        </p:blipFill>
        <p:spPr>
          <a:xfrm>
            <a:off x="6443640" y="353880"/>
            <a:ext cx="482760" cy="4827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946DCEF-5F74-44AD-A0FF-081ACE6B530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6480" y="6634080"/>
            <a:ext cx="117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wrong.png"/>
          <p:cNvPicPr/>
          <p:nvPr/>
        </p:nvPicPr>
        <p:blipFill>
          <a:blip r:embed="rId4"/>
          <a:stretch/>
        </p:blipFill>
        <p:spPr>
          <a:xfrm>
            <a:off x="6443640" y="35892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579240" y="3933360"/>
            <a:ext cx="820548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0a6"/>
                </a:solidFill>
                <a:latin typeface="Calibri"/>
                <a:ea typeface="Arial"/>
              </a:rPr>
              <a:t>Subprograms</a:t>
            </a:r>
            <a:endParaRPr b="1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9240" y="4581360"/>
            <a:ext cx="82054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a1a1a"/>
              </a:solidFill>
              <a:latin typeface="Calibri"/>
              <a:ea typeface="ヒラギノ角ゴ ProN W3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0920" y="4941720"/>
            <a:ext cx="8204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fbfbf"/>
                </a:solidFill>
                <a:latin typeface="Calibri"/>
                <a:ea typeface="ヒラギノ角ゴ ProN W3"/>
              </a:rPr>
              <a:t>university.adacore.com</a:t>
            </a:r>
            <a:endParaRPr b="1" lang="en-US" sz="1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liasing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has to detect “obvious” aliasing erro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71640" y="2276640"/>
          <a:ext cx="7561080" cy="338292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33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Change (X, 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X := X * 2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Y := Y * 4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X + Y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One : Integer :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 Integer := 4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= Change (One, On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warning: writable actual for "X" overlaps with actual for "Y"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wo := Change (One, Two) - Change (One, Two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 warning: result may differ if evaluated after other actual in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Overloading (1/2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Ada allows overloading of subprogram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Overloading is allowed if specification differ by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mber of paramet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ype of paramet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ult typ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Some aspects of the specification are not taken into account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ameter nam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ameter sub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ameter mod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ameter default express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2700360" y="1700280"/>
          <a:ext cx="3168720" cy="4572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Float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708360" y="3429000"/>
          <a:ext cx="5040360" cy="63972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ub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ositiv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ang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1 .. Integer'La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V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Print (W 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Positive);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4" name="Picture 8" descr="wrong.png"/>
          <p:cNvPicPr/>
          <p:nvPr/>
        </p:nvPicPr>
        <p:blipFill>
          <a:blip r:embed="rId1"/>
          <a:stretch/>
        </p:blipFill>
        <p:spPr>
          <a:xfrm>
            <a:off x="3419640" y="378936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Overloading (2/2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verloading may introduce ambiguities at call tim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mbiguities can be solved with additional inform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268360" y="3284640"/>
          <a:ext cx="5040360" cy="283500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Appl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Orange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Nb_Apples : Apple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rint (Nb_Oranges : Oranges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_A : Apples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N_A);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Print (0);              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-- N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Oranges'(0));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int (Nb_Oranges =&gt; 0);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-- 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518" name="Picture 8" descr="wrong.png"/>
          <p:cNvPicPr/>
          <p:nvPr/>
        </p:nvPicPr>
        <p:blipFill>
          <a:blip r:embed="rId1"/>
          <a:stretch/>
        </p:blipFill>
        <p:spPr>
          <a:xfrm>
            <a:off x="2027160" y="5445000"/>
            <a:ext cx="2412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Operator Overloading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fault operators (=, /=, *, /, +, -, &gt;, &lt;, &gt;=, &lt;=, and, or…) can be overloaded, added or removed for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=“ overloading will automatically generate the corresponding “/=“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826920" y="2421000"/>
          <a:ext cx="7848720" cy="3017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istan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urfa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w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loa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Distan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istan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remove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*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Surfa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urfac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bstra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removes "*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*" (L, R : Distance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urface;            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- adds "*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Rec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important_Fiel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mportant_Field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co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=" (L, R : Rec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oolea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L.Important_Field = R.Important_Fiel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=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Nested Subprogram and Access to Global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ubprogram can be nested in any scop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nested subprogram will have access to the parent subprogram parameters, and variables declared befor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411280" y="3773520"/>
          <a:ext cx="4680000" cy="21034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Null procedures and expression fun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subprogram with no body can be declared as null (see later for actual usages of this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function that consists only of the evaluation of an expression can be completed at the specification level as an expression-fun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his comes in handy when writing e.g. Pre / Post condi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340000" y="2492280"/>
          <a:ext cx="3600360" cy="28728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 nul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835280" y="4653000"/>
          <a:ext cx="5400720" cy="28728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dd (L, R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(L + 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2016000" y="2422440"/>
          <a:ext cx="5112000" cy="2013120"/>
        </p:xfrm>
        <a:graphic>
          <a:graphicData uri="http://schemas.openxmlformats.org/drawingml/2006/table">
            <a:tbl>
              <a:tblPr/>
              <a:tblGrid>
                <a:gridCol w="5112000"/>
              </a:tblGrid>
              <a:tr h="201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999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016000" y="2422440"/>
          <a:ext cx="5112000" cy="2013120"/>
        </p:xfrm>
        <a:graphic>
          <a:graphicData uri="http://schemas.openxmlformats.org/drawingml/2006/table">
            <a:tbl>
              <a:tblPr/>
              <a:tblGrid>
                <a:gridCol w="5112000"/>
              </a:tblGrid>
              <a:tr h="201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_Line (Integer'Image (V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999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33" name="Oval 2"/>
          <p:cNvSpPr/>
          <p:nvPr/>
        </p:nvSpPr>
        <p:spPr>
          <a:xfrm>
            <a:off x="2297160" y="4067280"/>
            <a:ext cx="9637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3"/>
          <p:cNvSpPr/>
          <p:nvPr/>
        </p:nvSpPr>
        <p:spPr>
          <a:xfrm flipH="1">
            <a:off x="2441160" y="4435560"/>
            <a:ext cx="33804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861120" y="5067360"/>
            <a:ext cx="38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F is called, but its return value is not sto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wrong.png"/>
          <p:cNvPicPr/>
          <p:nvPr/>
        </p:nvPicPr>
        <p:blipFill>
          <a:blip r:embed="rId1"/>
          <a:stretch/>
        </p:blipFill>
        <p:spPr>
          <a:xfrm>
            <a:off x="1739880" y="40766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Subprograms in Ada: Specifica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da differentiates functions (returning values) and procedures (with no return values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50920" y="2421000"/>
          <a:ext cx="8713800" cy="639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o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*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74" name="Rounded Rectangular Callout 1"/>
          <p:cNvSpPr/>
          <p:nvPr/>
        </p:nvSpPr>
        <p:spPr>
          <a:xfrm>
            <a:off x="468360" y="1123920"/>
            <a:ext cx="1584360" cy="360360"/>
          </a:xfrm>
          <a:prstGeom prst="wedgeRoundRectCallout">
            <a:avLst>
              <a:gd name="adj1" fmla="val -2847"/>
              <a:gd name="adj2" fmla="val 31022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rogram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ular Callout 7"/>
          <p:cNvSpPr/>
          <p:nvPr/>
        </p:nvSpPr>
        <p:spPr>
          <a:xfrm>
            <a:off x="2124000" y="1197000"/>
            <a:ext cx="1584360" cy="360360"/>
          </a:xfrm>
          <a:prstGeom prst="wedgeRoundRectCallout">
            <a:avLst>
              <a:gd name="adj1" fmla="val -87333"/>
              <a:gd name="adj2" fmla="val 30208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ounded Rectangular Callout 8"/>
          <p:cNvSpPr/>
          <p:nvPr/>
        </p:nvSpPr>
        <p:spPr>
          <a:xfrm>
            <a:off x="2627280" y="1628640"/>
            <a:ext cx="1368360" cy="360360"/>
          </a:xfrm>
          <a:prstGeom prst="wedgeRoundRectCallout">
            <a:avLst>
              <a:gd name="adj1" fmla="val -83634"/>
              <a:gd name="adj2" fmla="val 193550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ounded Rectangular Callout 9"/>
          <p:cNvSpPr/>
          <p:nvPr/>
        </p:nvSpPr>
        <p:spPr>
          <a:xfrm>
            <a:off x="4211640" y="1773360"/>
            <a:ext cx="1008000" cy="358560"/>
          </a:xfrm>
          <a:prstGeom prst="wedgeRoundRectCallout">
            <a:avLst>
              <a:gd name="adj1" fmla="val -99666"/>
              <a:gd name="adj2" fmla="val 15827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ular Callout 10"/>
          <p:cNvSpPr/>
          <p:nvPr/>
        </p:nvSpPr>
        <p:spPr>
          <a:xfrm>
            <a:off x="1908000" y="3357720"/>
            <a:ext cx="1368720" cy="358560"/>
          </a:xfrm>
          <a:prstGeom prst="wedgeRoundRectCallout">
            <a:avLst>
              <a:gd name="adj1" fmla="val -35402"/>
              <a:gd name="adj2" fmla="val -145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4098240" y="2446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8391600" y="244620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2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1" name="Oval 2"/>
          <p:cNvSpPr/>
          <p:nvPr/>
        </p:nvSpPr>
        <p:spPr>
          <a:xfrm>
            <a:off x="2502000" y="3316320"/>
            <a:ext cx="16383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3"/>
          <p:cNvSpPr/>
          <p:nvPr/>
        </p:nvSpPr>
        <p:spPr>
          <a:xfrm flipH="1">
            <a:off x="2646360" y="3684600"/>
            <a:ext cx="6746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046520" y="4299120"/>
            <a:ext cx="374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V is an input, read-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wrong.png"/>
          <p:cNvPicPr/>
          <p:nvPr/>
        </p:nvPicPr>
        <p:blipFill>
          <a:blip r:embed="rId1"/>
          <a:stretch/>
        </p:blipFill>
        <p:spPr>
          <a:xfrm>
            <a:off x="2027160" y="335772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303640" y="2743200"/>
          <a:ext cx="4536720" cy="137160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 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2303640" y="2743200"/>
          <a:ext cx="4536720" cy="137160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 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3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Oval 2"/>
          <p:cNvSpPr/>
          <p:nvPr/>
        </p:nvSpPr>
        <p:spPr>
          <a:xfrm>
            <a:off x="4140360" y="3794040"/>
            <a:ext cx="31248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3"/>
          <p:cNvSpPr/>
          <p:nvPr/>
        </p:nvSpPr>
        <p:spPr>
          <a:xfrm flipH="1">
            <a:off x="3645000" y="4162320"/>
            <a:ext cx="652320" cy="48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862200" y="4649760"/>
            <a:ext cx="55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parenthesis are not allowed if no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2"/>
          <p:cNvSpPr/>
          <p:nvPr/>
        </p:nvSpPr>
        <p:spPr>
          <a:xfrm>
            <a:off x="3560760" y="2738520"/>
            <a:ext cx="31104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3"/>
          <p:cNvSpPr/>
          <p:nvPr/>
        </p:nvSpPr>
        <p:spPr>
          <a:xfrm flipH="1">
            <a:off x="3645000" y="3106800"/>
            <a:ext cx="71280" cy="1542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wrong.png"/>
          <p:cNvPicPr/>
          <p:nvPr/>
        </p:nvPicPr>
        <p:blipFill>
          <a:blip r:embed="rId1"/>
          <a:stretch/>
        </p:blipFill>
        <p:spPr>
          <a:xfrm>
            <a:off x="2100240" y="2759040"/>
            <a:ext cx="239760" cy="238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wrong.png"/>
          <p:cNvPicPr/>
          <p:nvPr/>
        </p:nvPicPr>
        <p:blipFill>
          <a:blip r:embed="rId2"/>
          <a:stretch/>
        </p:blipFill>
        <p:spPr>
          <a:xfrm>
            <a:off x="2100240" y="3789360"/>
            <a:ext cx="2397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232000" y="2209680"/>
          <a:ext cx="4680000" cy="24386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3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4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232000" y="2209680"/>
          <a:ext cx="4680000" cy="24386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3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P (V : Integer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V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W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este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0" name="Oval 2"/>
          <p:cNvSpPr/>
          <p:nvPr/>
        </p:nvSpPr>
        <p:spPr>
          <a:xfrm>
            <a:off x="2654280" y="2781360"/>
            <a:ext cx="16365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3"/>
          <p:cNvSpPr/>
          <p:nvPr/>
        </p:nvSpPr>
        <p:spPr>
          <a:xfrm flipH="1">
            <a:off x="2695320" y="3141720"/>
            <a:ext cx="72396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1043280" y="4756320"/>
            <a:ext cx="449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W is not yet visible at this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wrong.png"/>
          <p:cNvPicPr/>
          <p:nvPr/>
        </p:nvPicPr>
        <p:blipFill>
          <a:blip r:embed="rId1"/>
          <a:stretch/>
        </p:blipFill>
        <p:spPr>
          <a:xfrm>
            <a:off x="1955880" y="28526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232000" y="2743200"/>
          <a:ext cx="4680000" cy="137160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A STRING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String (1 .. 2) :=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5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2232000" y="2743200"/>
          <a:ext cx="4680000" cy="137160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unc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tring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"A STRING"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 : String (1 .. 2) := 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68" name="Oval 2"/>
          <p:cNvSpPr/>
          <p:nvPr/>
        </p:nvSpPr>
        <p:spPr>
          <a:xfrm>
            <a:off x="3438360" y="3795840"/>
            <a:ext cx="16369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3"/>
          <p:cNvSpPr/>
          <p:nvPr/>
        </p:nvSpPr>
        <p:spPr>
          <a:xfrm flipH="1">
            <a:off x="3582720" y="4164120"/>
            <a:ext cx="67284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1915200" y="4802040"/>
            <a:ext cx="45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Run-Time erro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the size of V and the value return by F do not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8" descr="wrong.png"/>
          <p:cNvPicPr/>
          <p:nvPr/>
        </p:nvPicPr>
        <p:blipFill>
          <a:blip r:embed="rId1"/>
          <a:stretch/>
        </p:blipFill>
        <p:spPr>
          <a:xfrm>
            <a:off x="1979640" y="376704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538360" y="3170160"/>
          <a:ext cx="4068720" cy="517680"/>
        </p:xfrm>
        <a:graphic>
          <a:graphicData uri="http://schemas.openxmlformats.org/drawingml/2006/table">
            <a:tbl>
              <a:tblPr/>
              <a:tblGrid>
                <a:gridCol w="406872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Data :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esul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780a6"/>
                </a:solidFill>
                <a:latin typeface="Arial Bold"/>
                <a:ea typeface="Arial Bold"/>
              </a:rPr>
              <a:t>(6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538360" y="3170160"/>
          <a:ext cx="4068720" cy="517680"/>
        </p:xfrm>
        <a:graphic>
          <a:graphicData uri="http://schemas.openxmlformats.org/drawingml/2006/table">
            <a:tbl>
              <a:tblPr/>
              <a:tblGrid>
                <a:gridCol w="406872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Data :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Result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76" name="Oval 2"/>
          <p:cNvSpPr/>
          <p:nvPr/>
        </p:nvSpPr>
        <p:spPr>
          <a:xfrm>
            <a:off x="2577960" y="3357720"/>
            <a:ext cx="379440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"/>
          <p:cNvSpPr/>
          <p:nvPr/>
        </p:nvSpPr>
        <p:spPr>
          <a:xfrm flipH="1">
            <a:off x="2722680" y="3726000"/>
            <a:ext cx="1752480" cy="56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"/>
          <p:cNvSpPr/>
          <p:nvPr/>
        </p:nvSpPr>
        <p:spPr>
          <a:xfrm>
            <a:off x="1920960" y="4292640"/>
            <a:ext cx="60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Parameter names and modes are not significant enough for over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wrong.png"/>
          <p:cNvPicPr/>
          <p:nvPr/>
        </p:nvPicPr>
        <p:blipFill>
          <a:blip r:embed="rId1"/>
          <a:stretch/>
        </p:blipFill>
        <p:spPr>
          <a:xfrm>
            <a:off x="2268360" y="342576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Integer :=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Float := 0.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ubprograms in Ada: Declaration and Body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claration is optional, but must be given before us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unctions result cannot be ignor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pletion / body is introduced by “is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268360" y="2781360"/>
          <a:ext cx="4537080" cy="118908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 Integer := V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-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2268360" y="1916280"/>
          <a:ext cx="4464360" cy="433080"/>
        </p:xfrm>
        <a:graphic>
          <a:graphicData uri="http://schemas.openxmlformats.org/drawingml/2006/table">
            <a:tbl>
              <a:tblPr/>
              <a:tblGrid>
                <a:gridCol w="4464360"/>
              </a:tblGrid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 :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85" name="Rounded Rectangular Callout 6"/>
          <p:cNvSpPr/>
          <p:nvPr/>
        </p:nvSpPr>
        <p:spPr>
          <a:xfrm>
            <a:off x="755640" y="1989000"/>
            <a:ext cx="1152360" cy="360360"/>
          </a:xfrm>
          <a:prstGeom prst="wedgeRoundRectCallout">
            <a:avLst>
              <a:gd name="adj1" fmla="val 75277"/>
              <a:gd name="adj2" fmla="val -235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ular Callout 7"/>
          <p:cNvSpPr/>
          <p:nvPr/>
        </p:nvSpPr>
        <p:spPr>
          <a:xfrm>
            <a:off x="755640" y="2924280"/>
            <a:ext cx="1152360" cy="360360"/>
          </a:xfrm>
          <a:prstGeom prst="wedgeRoundRectCallout">
            <a:avLst>
              <a:gd name="adj1" fmla="val 75277"/>
              <a:gd name="adj2" fmla="val -235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7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2303640" y="2957400"/>
          <a:ext cx="4536720" cy="944640"/>
        </p:xfrm>
        <a:graphic>
          <a:graphicData uri="http://schemas.openxmlformats.org/drawingml/2006/table">
            <a:tbl>
              <a:tblPr/>
              <a:tblGrid>
                <a:gridCol w="4536720"/>
              </a:tblGrid>
              <a:tr h="944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Integer := 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Float := 0.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4" name="Oval 2"/>
          <p:cNvSpPr/>
          <p:nvPr/>
        </p:nvSpPr>
        <p:spPr>
          <a:xfrm>
            <a:off x="2577960" y="3549600"/>
            <a:ext cx="48132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3"/>
          <p:cNvSpPr/>
          <p:nvPr/>
        </p:nvSpPr>
        <p:spPr>
          <a:xfrm flipH="1">
            <a:off x="2722320" y="3917880"/>
            <a:ext cx="96840" cy="56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1908360" y="4653000"/>
            <a:ext cx="36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Compilation error, call to P is ambigu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wrong.png"/>
          <p:cNvPicPr/>
          <p:nvPr/>
        </p:nvPicPr>
        <p:blipFill>
          <a:blip r:embed="rId1"/>
          <a:stretch/>
        </p:blipFill>
        <p:spPr>
          <a:xfrm>
            <a:off x="2027160" y="3622680"/>
            <a:ext cx="2412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224000" y="1996920"/>
          <a:ext cx="6696000" cy="28656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V : Integer; Times : Inte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Ti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+ 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tiply (Res, X, 5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8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224000" y="1996920"/>
          <a:ext cx="6696000" cy="286560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 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V : Integer; Times : Inte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Time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+ V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ultiply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 : Integer := 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10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tiply (Res, X, 50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92" name="Oval 2"/>
          <p:cNvSpPr/>
          <p:nvPr/>
        </p:nvSpPr>
        <p:spPr>
          <a:xfrm>
            <a:off x="2085840" y="3068640"/>
            <a:ext cx="1478160" cy="36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3"/>
          <p:cNvSpPr/>
          <p:nvPr/>
        </p:nvSpPr>
        <p:spPr>
          <a:xfrm flipH="1">
            <a:off x="1547640" y="3436920"/>
            <a:ext cx="1278000" cy="1647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4"/>
          <p:cNvSpPr/>
          <p:nvPr/>
        </p:nvSpPr>
        <p:spPr>
          <a:xfrm>
            <a:off x="475200" y="515772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Erroneous, R is not initialized when entering Multi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wrong.png"/>
          <p:cNvPicPr/>
          <p:nvPr/>
        </p:nvPicPr>
        <p:blipFill>
          <a:blip r:embed="rId1"/>
          <a:stretch/>
        </p:blipFill>
        <p:spPr>
          <a:xfrm>
            <a:off x="900000" y="3119400"/>
            <a:ext cx="2397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620720" y="1569960"/>
          <a:ext cx="5904000" cy="371808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371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u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=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, W : My_Int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W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9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620720" y="1569960"/>
          <a:ext cx="5904000" cy="371808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371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I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, R : My_In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&lt; 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ru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 = 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f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, W : My_Int :=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 = W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0" name="Straight Connector 3"/>
          <p:cNvSpPr/>
          <p:nvPr/>
        </p:nvSpPr>
        <p:spPr>
          <a:xfrm flipH="1">
            <a:off x="2592360" y="3789360"/>
            <a:ext cx="1116000" cy="1636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498600" y="5425920"/>
            <a:ext cx="558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Infinite recursion on "=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A conversion could fix the problem, e.g. Integer (L) = Integer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8" descr="wrong.png"/>
          <p:cNvPicPr/>
          <p:nvPr/>
        </p:nvPicPr>
        <p:blipFill>
          <a:blip r:embed="rId1"/>
          <a:stretch/>
        </p:blipFill>
        <p:spPr>
          <a:xfrm>
            <a:off x="1258920" y="3551400"/>
            <a:ext cx="239760" cy="237960"/>
          </a:xfrm>
          <a:prstGeom prst="rect">
            <a:avLst/>
          </a:prstGeom>
          <a:ln w="0">
            <a:noFill/>
          </a:ln>
        </p:spPr>
      </p:pic>
      <p:sp>
        <p:nvSpPr>
          <p:cNvPr id="603" name="Straight Connector 3"/>
          <p:cNvSpPr/>
          <p:nvPr/>
        </p:nvSpPr>
        <p:spPr>
          <a:xfrm>
            <a:off x="3419640" y="3789360"/>
            <a:ext cx="57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440000" y="1996920"/>
          <a:ext cx="6264000" cy="2865600"/>
        </p:xfrm>
        <a:graphic>
          <a:graphicData uri="http://schemas.openxmlformats.org/drawingml/2006/table">
            <a:tbl>
              <a:tblPr/>
              <a:tblGrid>
                <a:gridCol w="6264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Re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/= 0.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4360" y="333360"/>
            <a:ext cx="194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Arial Bold"/>
              </a:rPr>
              <a:t>(10/10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440000" y="1996920"/>
          <a:ext cx="6264000" cy="2865600"/>
        </p:xfrm>
        <a:graphic>
          <a:graphicData uri="http://schemas.openxmlformats.org/drawingml/2006/table">
            <a:tbl>
              <a:tblPr/>
              <a:tblGrid>
                <a:gridCol w="6264000"/>
              </a:tblGrid>
              <a:tr h="286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L : Rec; I : Float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Rec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/= 0.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8" name="TextBox 4"/>
          <p:cNvSpPr/>
          <p:nvPr/>
        </p:nvSpPr>
        <p:spPr>
          <a:xfrm>
            <a:off x="716040" y="5137200"/>
            <a:ext cx="443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598f"/>
                </a:solidFill>
                <a:latin typeface="Arial"/>
              </a:rPr>
              <a:t>OK – the declaration of "=" creates an implicit "/=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Parameter Mod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Mode "in"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ecifies that actual parameter is not alter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reading of formals is allowe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ault mo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Mode "out"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tual is expected to be alter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riting is expec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Initial value is not defin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Mode "in out"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tual is expected to be both read and alter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th reading &amp; updating of formals is allow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35280" y="5013360"/>
          <a:ext cx="5903640" cy="1371600"/>
        </p:xfrm>
        <a:graphic>
          <a:graphicData uri="http://schemas.openxmlformats.org/drawingml/2006/table">
            <a:tbl>
              <a:tblPr/>
              <a:tblGrid>
                <a:gridCol w="590364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Result: out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 Integer := V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:= R *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ult :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-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Parameter Passing Mechanism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assed either “by-copy” or “by-reference”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y-Cop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l denotes a separate object from the 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py of the actual is placed into the formal before the c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py of the formal is placed back into the actual after the c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By-Referen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l denotes a view of the 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and updates to the formal directly affect the 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arameter types control mechanism selec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the parameter m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Standardized Parameter Passing Ru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By-Copy typ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calar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cess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ivate types that are fully defined as by-copy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By-Reference typ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agged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ask types and Protected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mited typ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osite types with by-reference component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ivate types that are fully defined as by-reference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Implementation-defined types</a:t>
            </a:r>
            <a:endParaRPr b="1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rray types containing only by-copy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on-limited record types containing only by-copy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mplementation chooses most efficient meth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Subprogram Call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f no parameter is given, no parenthesis is allow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amed argument is possibl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ou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404040"/>
                </a:solidFill>
                <a:latin typeface="Calibri"/>
              </a:rPr>
              <a:t>in out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modes require an obje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3132000" y="1916280"/>
          <a:ext cx="2664000" cy="639720"/>
        </p:xfrm>
        <a:graphic>
          <a:graphicData uri="http://schemas.openxmlformats.org/drawingml/2006/table">
            <a:tbl>
              <a:tblPr/>
              <a:tblGrid>
                <a:gridCol w="26640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 := F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771640" y="3284640"/>
          <a:ext cx="3456000" cy="6476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A, B, C :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B =&gt; 0, C =&gt; 0, A =&gt;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771640" y="4799160"/>
          <a:ext cx="3456000" cy="10062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X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V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Default Valu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” parameters can be provided with a default val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fault values are dynamic expressions, evaluated a the point of call if no explicit expression is give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268360" y="2565360"/>
          <a:ext cx="5040360" cy="28728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A : Integer := 0; B : Integer := 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2771640" y="5126040"/>
          <a:ext cx="3456000" cy="8222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;          -- A = 0, B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1);      -- A = 1, B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B =&gt; 2); -- A = 0, B 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(1, 2);   -- A = 1, B =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Indefinite Parameters and Return Typ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ubprograms can have indefinite parameters and return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straints are computed at the point of cal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on’t assume boundarie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195640" y="2276640"/>
          <a:ext cx="5040360" cy="118872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ment (Stmt : String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"/*" &amp; Stmt &amp; "*/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mmen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Comment ("a=0");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return /*a=0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195640" y="4676760"/>
          <a:ext cx="5040360" cy="1920960"/>
        </p:xfrm>
        <a:graphic>
          <a:graphicData uri="http://schemas.openxmlformats.org/drawingml/2006/table">
            <a:tbl>
              <a:tblPr/>
              <a:tblGrid>
                <a:gridCol w="5040360"/>
              </a:tblGrid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mt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tring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J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Stmt'Length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-- Incorr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mt (J) := ' '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o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i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: String := "ABCxxx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it (S (4 .. 6)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35:52Z</dcterms:created>
  <dc:creator>ochem</dc:creator>
  <dc:description/>
  <dc:language>en-US</dc:language>
  <cp:lastModifiedBy>Wallenburg Angela</cp:lastModifiedBy>
  <dcterms:modified xsi:type="dcterms:W3CDTF">2016-11-21T17:57:15Z</dcterms:modified>
  <cp:revision>384</cp:revision>
  <dc:subject/>
  <dc:title>Diapositive 1</dc:title>
</cp:coreProperties>
</file>