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63DF992-6210-4825-ACD8-C4D0233F582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CD22454-F09A-4820-AFFC-094509944AB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4BA07D0-C8F2-43CD-A42A-B8E181EE0AB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EB39A56-2E5D-49CD-A12E-58660145F0A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-7920" y="0"/>
            <a:ext cx="9151920" cy="685800"/>
          </a:xfrm>
          <a:prstGeom prst="rect">
            <a:avLst/>
          </a:prstGeom>
          <a:gradFill rotWithShape="0">
            <a:gsLst>
              <a:gs pos="0">
                <a:srgbClr val="040b11"/>
              </a:gs>
              <a:gs pos="100000">
                <a:srgbClr val="0d25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F04C41B-7B19-4BC1-869E-DFAACA4A7E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reative Commons License"/>
          <p:cNvPicPr/>
          <p:nvPr/>
        </p:nvPicPr>
        <p:blipFill>
          <a:blip r:embed="rId3"/>
          <a:stretch/>
        </p:blipFill>
        <p:spPr>
          <a:xfrm>
            <a:off x="788508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28508E0-F441-43A2-B41F-89ED08A6A9E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5E1335-C9CC-4631-A97F-21667F43931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reative Commons License"/>
          <p:cNvPicPr/>
          <p:nvPr/>
        </p:nvPicPr>
        <p:blipFill>
          <a:blip r:embed="rId3"/>
          <a:stretch/>
        </p:blipFill>
        <p:spPr>
          <a:xfrm>
            <a:off x="7904160" y="158760"/>
            <a:ext cx="110664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daCoreU-isolated.png"/>
          <p:cNvPicPr/>
          <p:nvPr/>
        </p:nvPicPr>
        <p:blipFill>
          <a:blip r:embed="rId4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6F5FDD2-B769-405A-83C2-9AA14381BCC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5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CFC0F02-9D3B-450C-BDDF-38A713F3FBE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C8284BE-9794-4145-BBD1-556E7A816E6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993584A-A6CB-4238-8B5A-531D37487AE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BE8830D-3870-490F-A7E7-C753B299765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ヒラギノ角ゴ ProN W3"/>
              </a:rPr>
              <a:t>SPARK 2014 Introduction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1a1a"/>
                </a:solidFill>
                <a:latin typeface="Calibri"/>
                <a:ea typeface="ヒラギノ角ゴ ProN W3"/>
              </a:rPr>
              <a:t>Presented by Quentin Ochem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Loop Invariant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Before we start … quantifie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quantifier is a construction used to define a property true for an entire set, or at least one element of the se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may be used in contracts, either for static or dynamic check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47640" y="2421000"/>
          <a:ext cx="6096240" cy="10792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A := (10, 20, 3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1 : Boolean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’Range =&gt; V (J) &gt;= 1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2 : Boolean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’Range =&gt; V (J) &gt;= 20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r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1332000" y="4724280"/>
          <a:ext cx="6464160" cy="1081080"/>
        </p:xfrm>
        <a:graphic>
          <a:graphicData uri="http://schemas.openxmlformats.org/drawingml/2006/table">
            <a:tbl>
              <a:tblPr/>
              <a:tblGrid>
                <a:gridCol w="6464160"/>
              </a:tblGrid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ynamic_Predicate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'Length &lt;=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'First + 1 .. A'Last =&gt; A (J - 1) &lt; A (J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oop Invaria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loop invariant is a condition that is always true in the lo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is used to prove the postcond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't be created by the prover, but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ce specified it is proved by the prov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checked at run-time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oop Invariant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47640" y="3068640"/>
          <a:ext cx="6096240" cy="1554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(X) /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_Invari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'First .. X =&gt; A (X) = 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Loop Invaria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u texte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rom the requirements, we can deduce the following in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1 - Write the invariant in the Longest_Common_Prefix loop for this in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2 – Run tests in main.adb to verify that this invariant seem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3 – Use GNATprove to prove the in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Tableau 6" descr=""/>
          <p:cNvPicPr/>
          <p:nvPr/>
        </p:nvPicPr>
        <p:blipFill>
          <a:blip r:embed="rId1"/>
          <a:stretch/>
        </p:blipFill>
        <p:spPr>
          <a:xfrm>
            <a:off x="993600" y="1798560"/>
            <a:ext cx="723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Question 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Loop Variant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oop Invaria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 loop variant is used to determine the termination of a loop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t's based on the verification that the loop contains a (bounded) discrete type that always increases and decreases, and does not get ou 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t can't be created by the prover, but…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once specified it is proved by the prov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t can be checked at run-time 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oop Invariant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547640" y="3068640"/>
          <a:ext cx="6096240" cy="1554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(X) /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_Variant (Increases =&gt; 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Question 4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Contract Case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 Case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contract case can be used to link an input condition to an output cond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input of the subprogram as defined by the pre-condition must be completely covered (others =&gt; will allow to consider remaining cases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contract cases must not overla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above is checked either by the prover, or on the input provided at test-tim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Our Requirement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pecial Post-Condition / Contract Cases Attribut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'Result access to the result of a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'Old access to the value of an expression before the cal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 Case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547640" y="3068640"/>
          <a:ext cx="6096240" cy="1554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X, Y : Natural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act_Cases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X 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= 0 =&gt; F'Result =&gt; 0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&gt;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= 0 =&gt; F'Result =&gt; X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&gt; 0 =&gt; F'Result =&gt; Y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F'Result =&gt; X + 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Contract Ca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u texte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rom the requirements, we can set the following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1 - Write the contract cases for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2 – Run tests in main.adb to verify that these contracts seem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3 – Use GNATprove to prove the contrac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Tableau 6" descr=""/>
          <p:cNvPicPr/>
          <p:nvPr/>
        </p:nvPicPr>
        <p:blipFill>
          <a:blip r:embed="rId1"/>
          <a:stretch/>
        </p:blipFill>
        <p:spPr>
          <a:xfrm>
            <a:off x="420840" y="1798560"/>
            <a:ext cx="817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Question 5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Post-Condition Equality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ost-Condi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 post-condition is a Boolean expression to check after the call to a subprogram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t is a constraint to the implementer, defining expectations on the subprogram behavior and effect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t relates to the subprogram outputs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t can be composed of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visible name in the visible scope of the subprogram (even if defined afterward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parameter of the sub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alues of any of the above before the call to the subprogram (see la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 of a sub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t is part of the specification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ost-Conditions Exam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47640" y="1916280"/>
          <a:ext cx="6096240" cy="3313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X : Integer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F'Result &lt;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Y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X + Y 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Y) /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Initialize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d : Boolean := Fals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ialize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Post 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Espace réservé du texte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rom the requirements, we can set the following post-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1 - Write the post condition for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2 – Run tests in main.adb to verify that this post-condition seem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3 – Use GNATprove to prove the post-condition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Tableau 6" descr=""/>
          <p:cNvPicPr/>
          <p:nvPr/>
        </p:nvPicPr>
        <p:blipFill>
          <a:blip r:embed="rId1"/>
          <a:stretch/>
        </p:blipFill>
        <p:spPr>
          <a:xfrm>
            <a:off x="420840" y="1920960"/>
            <a:ext cx="8173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Question 6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Calibri"/>
                <a:ea typeface="Arial"/>
              </a:rPr>
              <a:t>Post-Condition Completnes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Post 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Espace réservé du texte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rom the requirements, one part of the post-condition is missing, the fact that the prefix is indeed the biggest 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1 – Complete the above post condition for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2 – Run tests in main.adb to verify that this post-condition seems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3 – Use GNATprove to prove the post-condition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Tableau 6" descr=""/>
          <p:cNvPicPr/>
          <p:nvPr/>
        </p:nvPicPr>
        <p:blipFill>
          <a:blip r:embed="rId1"/>
          <a:stretch/>
        </p:blipFill>
        <p:spPr>
          <a:xfrm>
            <a:off x="420840" y="1938240"/>
            <a:ext cx="81738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quireme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iven a global array A containing intege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iven two integer X and Y, indexes of 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turn the biggest common prefix of the two sub-arrays starting at X and Y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{X = 2, Y = 6} =&gt; R = 4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619280" y="465300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What we are going to do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algorithm is implemented (it may have bugs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're going to write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're going to check those contract with GNATpro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're going to debug these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957320" y="2193840"/>
          <a:ext cx="5229360" cy="2470320"/>
        </p:xfrm>
        <a:graphic>
          <a:graphicData uri="http://schemas.openxmlformats.org/drawingml/2006/table">
            <a:tbl>
              <a:tblPr/>
              <a:tblGrid>
                <a:gridCol w="5229360"/>
              </a:tblGrid>
              <a:tr h="247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CP (X, Y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 Natura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+ L &lt; A'L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+ L &lt; A'L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(X + L) = A (Y + 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:= L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C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80880" y="293976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Pre-Condition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e-Condi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precondition is a Boolean expression to check before the call to a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is a constraint to the caller, defining expectations under which a subprogram can be called in addition to parameter type constrai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relates to the subprogram inpu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composed 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visible name in the visible scope of the subprogram (even if defined afterwar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parameter of the sub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is part of the spec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e-Conditions Exam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547640" y="1916280"/>
          <a:ext cx="6096240" cy="3457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4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X : Integer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X * X &lt;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 : Integer; Y : Integ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X + Y = 0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Y) /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C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Initialize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d : Boolean := Fals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Other_C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Initialize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Pre-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Espace réservé du texte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he question rea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1 - Write the pre-condition on Longest_Common_Prefix that corresponds to this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2 – Write tests in main.adb that show that this pre-condition seems to fail and succeed when ex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Q3 – Use GNATprove to demonstrate that the precondition is indeed verified and not verified depending on th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Tableau 6" descr=""/>
          <p:cNvPicPr/>
          <p:nvPr/>
        </p:nvPicPr>
        <p:blipFill>
          <a:blip r:embed="rId1"/>
          <a:stretch/>
        </p:blipFill>
        <p:spPr>
          <a:xfrm>
            <a:off x="993600" y="2000160"/>
            <a:ext cx="723600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Quentin Ochem</cp:lastModifiedBy>
  <dcterms:modified xsi:type="dcterms:W3CDTF">2013-09-23T16:05:15Z</dcterms:modified>
  <cp:revision>221</cp:revision>
  <dc:subject/>
  <dc:title>Diapositive 1</dc:title>
</cp:coreProperties>
</file>