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49C8-8226-4CBB-9AE8-457BD4A347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4A31-E108-47AE-A211-E44EB8C8AD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D46A-E420-4CA6-B770-4BE2444FFC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0B3B-085F-4FAA-A76A-71DA3BE978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6A22-9790-4C99-B77E-D93D6E14C0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7547-9E8B-4933-A21F-9280E36333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6EAA-9DB7-42F7-AB28-77FB5B367A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3596-FAB0-4A5A-A42D-9CEC55FBCF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F6BF-77AD-49BC-84DC-715C927750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DDDB-9302-49FA-9644-DA3B8C4CEB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6100-99A6-43C9-9804-31C9ECE993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DA2B-1E6D-494B-92B0-39EBC8290A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7095-705C-4E60-ADEB-2ADD2A5F6C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E7C6-0E69-4A2F-BBDD-AB73F15E0C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D243-63CB-4929-A9D7-FBF80726AE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574B-CAD5-4C52-8F05-6E3D5DB678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41AC-F44B-41F0-AB3B-829AF4AE23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D5AA-F08A-4A0B-A811-77A6EF0038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FF6C-B40E-4B39-A411-E18A81F451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B12B-9524-4851-A1E3-5B80B1185B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00CD-0CAD-4861-BD89-25927B567E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030E-A49F-4C94-A8C9-044FCDA588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4582-7F49-4CA9-A07B-13B379D12E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C10352D-4B13-41AF-8B5C-2A6A9EF001B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127B559-66B5-40A0-8721-A8EDB865536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89E9FF8-87E9-4373-AFC6-34CF5FDDC91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9BD2BD6-5BD6-423A-B0D1-6D2C5A7E0FD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daCoreU-isolated.png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F0C257F-D305-4BEE-93B8-F499880E31F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D967C15-A497-4B03-8538-2E10C925085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1619280" y="4221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university.adaco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AdaCoreU-isolated.png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5F41735-8166-4F23-ACD9-4162279AFAD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ADF9BE9-F816-4FCF-AB1E-98D72DF0C74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49CA373-171F-46E4-B7FA-3602C38F422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A532ECB-9891-478F-8F4F-57F93F0EC31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correct.png"/>
          <p:cNvPicPr/>
          <p:nvPr/>
        </p:nvPicPr>
        <p:blipFill>
          <a:blip r:embed="rId4"/>
          <a:stretch/>
        </p:blipFill>
        <p:spPr>
          <a:xfrm>
            <a:off x="644364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24D1660-234F-4891-876E-F50FE069E7C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wrong.png"/>
          <p:cNvPicPr/>
          <p:nvPr/>
        </p:nvPicPr>
        <p:blipFill>
          <a:blip r:embed="rId4"/>
          <a:stretch/>
        </p:blipFill>
        <p:spPr>
          <a:xfrm>
            <a:off x="6443640" y="35892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342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579240" y="3933360"/>
            <a:ext cx="820548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0a6"/>
                </a:solidFill>
                <a:latin typeface="Calibri"/>
                <a:ea typeface="ヒラギノ角ゴ ProN W3"/>
              </a:rPr>
              <a:t>Record Types</a:t>
            </a:r>
            <a:endParaRPr b="1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79240" y="4581360"/>
            <a:ext cx="8205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a1a1a"/>
              </a:solidFill>
              <a:latin typeface="Calibri"/>
              <a:ea typeface="ヒラギノ角ゴ ProN W3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0920" y="4941720"/>
            <a:ext cx="82040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Calibri"/>
                <a:ea typeface="ヒラギノ角ゴ ProN W3"/>
              </a:rPr>
              <a:t>university.adacore.com</a:t>
            </a:r>
            <a:endParaRPr b="1" lang="en-US" sz="1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Usage of a Record with Discrimina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s for arrays – the unconstrained part has to be specifi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ccessing to a component not accessible for a given constraint will raise </a:t>
            </a:r>
            <a:r>
              <a:rPr b="1" i="1" lang="en-US" sz="2400" spc="-1" strike="noStrike">
                <a:solidFill>
                  <a:srgbClr val="404040"/>
                </a:solidFill>
                <a:latin typeface="Calibri"/>
              </a:rPr>
              <a:t>Constraint_Erro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Note: A discriminant is constant, set at object declar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476360" y="1844640"/>
          <a:ext cx="6095880" cy="1008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0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Shape (Circle) := …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2 : Shape := V1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OK, constrained by initial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.Radius := 0.0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OK, radius is in the Circle cas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2.X2 := 0.0;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Raises constraint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ggregates with Discriminan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ame as record aggregates – but have to give a value to the discrimina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Only the values related to the constraint are suppli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116000" y="4267080"/>
          <a:ext cx="7129440" cy="457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Shape := (Kind =&gt; Line, X =&gt; 0.0, Y =&gt; 0.0, X2 =&gt; 10.0, Y2 =&gt; 10.0)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Shape := (Circle, 0.0, 0.0, 5.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A =&gt; 1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1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A =&gt; 1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13" name="Oval 2"/>
          <p:cNvSpPr/>
          <p:nvPr/>
        </p:nvSpPr>
        <p:spPr>
          <a:xfrm>
            <a:off x="2793960" y="3716280"/>
            <a:ext cx="141768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3"/>
          <p:cNvSpPr/>
          <p:nvPr/>
        </p:nvSpPr>
        <p:spPr>
          <a:xfrm flipH="1">
            <a:off x="2370240" y="4084560"/>
            <a:ext cx="1133280" cy="560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789840" y="4724280"/>
            <a:ext cx="66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, the aggregate should give a default value for other fields,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for example (A =&gt; 1, others =&gt; &lt;&gt;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8" descr="wrong.png"/>
          <p:cNvPicPr/>
          <p:nvPr/>
        </p:nvPicPr>
        <p:blipFill>
          <a:blip r:embed="rId1"/>
          <a:stretch/>
        </p:blipFill>
        <p:spPr>
          <a:xfrm>
            <a:off x="1476360" y="378144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2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763640" y="2408400"/>
          <a:ext cx="5616720" cy="20412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My_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1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2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763640" y="2408400"/>
          <a:ext cx="5616720" cy="20412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My_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1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21" name="Oval 2"/>
          <p:cNvSpPr/>
          <p:nvPr/>
        </p:nvSpPr>
        <p:spPr>
          <a:xfrm>
            <a:off x="2793960" y="4076640"/>
            <a:ext cx="192240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"/>
          <p:cNvSpPr/>
          <p:nvPr/>
        </p:nvSpPr>
        <p:spPr>
          <a:xfrm flipH="1">
            <a:off x="2369880" y="4444920"/>
            <a:ext cx="1385640" cy="560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790560" y="5084640"/>
            <a:ext cx="523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, all components are not of the same type,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y can't be given a common value through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8" descr="wrong.png"/>
          <p:cNvPicPr/>
          <p:nvPr/>
        </p:nvPicPr>
        <p:blipFill>
          <a:blip r:embed="rId1"/>
          <a:stretch/>
        </p:blipFill>
        <p:spPr>
          <a:xfrm>
            <a:off x="1476360" y="414180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2195640" y="2895480"/>
          <a:ext cx="4752720" cy="1067040"/>
        </p:xfrm>
        <a:graphic>
          <a:graphicData uri="http://schemas.openxmlformats.org/drawingml/2006/table">
            <a:tbl>
              <a:tblPr/>
              <a:tblGrid>
                <a:gridCol w="4752720"/>
              </a:tblGrid>
              <a:tr h="1067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 : Cel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2195640" y="2895480"/>
          <a:ext cx="4752720" cy="1067040"/>
        </p:xfrm>
        <a:graphic>
          <a:graphicData uri="http://schemas.openxmlformats.org/drawingml/2006/table">
            <a:tbl>
              <a:tblPr/>
              <a:tblGrid>
                <a:gridCol w="4752720"/>
              </a:tblGrid>
              <a:tr h="1067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ell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 : Cel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29" name="Oval 2"/>
          <p:cNvSpPr/>
          <p:nvPr/>
        </p:nvSpPr>
        <p:spPr>
          <a:xfrm>
            <a:off x="3419640" y="3360600"/>
            <a:ext cx="6141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3"/>
          <p:cNvSpPr/>
          <p:nvPr/>
        </p:nvSpPr>
        <p:spPr>
          <a:xfrm flipH="1">
            <a:off x="2995200" y="3728880"/>
            <a:ext cx="731880" cy="560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739800" y="428940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, this type definition is recurs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8" descr="wrong.png"/>
          <p:cNvPicPr/>
          <p:nvPr/>
        </p:nvPicPr>
        <p:blipFill>
          <a:blip r:embed="rId1"/>
          <a:stretch/>
        </p:blipFill>
        <p:spPr>
          <a:xfrm>
            <a:off x="1835280" y="342576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763640" y="2408400"/>
          <a:ext cx="5616720" cy="20412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My_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da Type Model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2" name="Content Placeholder 3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90331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763640" y="2408400"/>
          <a:ext cx="5616720" cy="20412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My_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37" name="TextBox 4"/>
          <p:cNvSpPr/>
          <p:nvPr/>
        </p:nvSpPr>
        <p:spPr>
          <a:xfrm>
            <a:off x="792360" y="5084640"/>
            <a:ext cx="677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is is correct. In the absence of explicit values given in the record defini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, B, C and D will be of whatever value is in the memory at this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5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5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2" name="Oval 2"/>
          <p:cNvSpPr/>
          <p:nvPr/>
        </p:nvSpPr>
        <p:spPr>
          <a:xfrm>
            <a:off x="2921040" y="3716280"/>
            <a:ext cx="49860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3"/>
          <p:cNvSpPr/>
          <p:nvPr/>
        </p:nvSpPr>
        <p:spPr>
          <a:xfrm flipH="1">
            <a:off x="2700000" y="4084560"/>
            <a:ext cx="469800" cy="560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4"/>
          <p:cNvSpPr/>
          <p:nvPr/>
        </p:nvSpPr>
        <p:spPr>
          <a:xfrm>
            <a:off x="789480" y="4724280"/>
            <a:ext cx="473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, only the named notation is all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in singleton values, e.g. (A =&gt;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8" descr="wrong.png"/>
          <p:cNvPicPr/>
          <p:nvPr/>
        </p:nvPicPr>
        <p:blipFill>
          <a:blip r:embed="rId1"/>
          <a:stretch/>
        </p:blipFill>
        <p:spPr>
          <a:xfrm>
            <a:off x="1476360" y="378144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6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tring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V =&gt; 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6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tring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V =&gt; 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0" name="Oval 2"/>
          <p:cNvSpPr/>
          <p:nvPr/>
        </p:nvSpPr>
        <p:spPr>
          <a:xfrm>
            <a:off x="2101680" y="2992320"/>
            <a:ext cx="160668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3"/>
          <p:cNvSpPr/>
          <p:nvPr/>
        </p:nvSpPr>
        <p:spPr>
          <a:xfrm flipH="1">
            <a:off x="1908000" y="3360600"/>
            <a:ext cx="997200" cy="1076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793800" y="4560840"/>
            <a:ext cx="59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, a record can't have an unconstrained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8" descr="wrong.png"/>
          <p:cNvPicPr/>
          <p:nvPr/>
        </p:nvPicPr>
        <p:blipFill>
          <a:blip r:embed="rId1"/>
          <a:stretch/>
        </p:blipFill>
        <p:spPr>
          <a:xfrm>
            <a:off x="1476360" y="305748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7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ring (1 .. 1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S =&gt; 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7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ring (1 .. 10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R := (S =&gt; 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8" name="Oval 2"/>
          <p:cNvSpPr/>
          <p:nvPr/>
        </p:nvSpPr>
        <p:spPr>
          <a:xfrm>
            <a:off x="3492360" y="3714840"/>
            <a:ext cx="136692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3"/>
          <p:cNvSpPr/>
          <p:nvPr/>
        </p:nvSpPr>
        <p:spPr>
          <a:xfrm flipH="1">
            <a:off x="3296880" y="4083120"/>
            <a:ext cx="879480" cy="1076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792000" y="5189400"/>
            <a:ext cx="66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Run-time error (and possible a compile-time warning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 size of the string given here is 5, while we expect a string of 10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8" descr="wrong.png"/>
          <p:cNvPicPr/>
          <p:nvPr/>
        </p:nvPicPr>
        <p:blipFill>
          <a:blip r:embed="rId1"/>
          <a:stretch/>
        </p:blipFill>
        <p:spPr>
          <a:xfrm>
            <a:off x="1476360" y="378000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763640" y="2408400"/>
          <a:ext cx="5616720" cy="20412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(D : Intege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 := (D =&gt; 5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 := (D =&gt; 6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1763640" y="2408400"/>
          <a:ext cx="5616720" cy="20412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04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(D : Intege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 := (D =&gt; 5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 := (D =&gt; 6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6" name="Oval 2"/>
          <p:cNvSpPr/>
          <p:nvPr/>
        </p:nvSpPr>
        <p:spPr>
          <a:xfrm>
            <a:off x="2124000" y="4116240"/>
            <a:ext cx="13683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3"/>
          <p:cNvSpPr/>
          <p:nvPr/>
        </p:nvSpPr>
        <p:spPr>
          <a:xfrm flipH="1">
            <a:off x="1928520" y="4484520"/>
            <a:ext cx="879480" cy="1076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546480" y="5570640"/>
            <a:ext cx="401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V1 and V2 have different discriminant valu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y're considered structurally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8" descr="wrong.png"/>
          <p:cNvPicPr/>
          <p:nvPr/>
        </p:nvPicPr>
        <p:blipFill>
          <a:blip r:embed="rId1"/>
          <a:stretch/>
        </p:blipFill>
        <p:spPr>
          <a:xfrm>
            <a:off x="1476360" y="411624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1258920" y="1919160"/>
          <a:ext cx="6626160" cy="3019680"/>
        </p:xfrm>
        <a:graphic>
          <a:graphicData uri="http://schemas.openxmlformats.org/drawingml/2006/table">
            <a:tbl>
              <a:tblPr/>
              <a:tblGrid>
                <a:gridCol w="6626160"/>
              </a:tblGrid>
              <a:tr h="301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_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ircle, Line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ne  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ircle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Record Typ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Allow to store named heterogeneous data in a type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Fields are accessed through dot notation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59280" y="2421000"/>
          <a:ext cx="2663640" cy="822240"/>
        </p:xfrm>
        <a:graphic>
          <a:graphicData uri="http://schemas.openxmlformats.org/drawingml/2006/table">
            <a:tbl>
              <a:tblPr/>
              <a:tblGrid>
                <a:gridCol w="266364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d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2987640" y="4292640"/>
          <a:ext cx="3160800" cy="824040"/>
        </p:xfrm>
        <a:graphic>
          <a:graphicData uri="http://schemas.openxmlformats.org/drawingml/2006/table">
            <a:tbl>
              <a:tblPr/>
              <a:tblGrid>
                <a:gridCol w="3160800"/>
              </a:tblGrid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hap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.X := 0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.Id :=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1258920" y="1919160"/>
          <a:ext cx="6626160" cy="3019680"/>
        </p:xfrm>
        <a:graphic>
          <a:graphicData uri="http://schemas.openxmlformats.org/drawingml/2006/table">
            <a:tbl>
              <a:tblPr/>
              <a:tblGrid>
                <a:gridCol w="6626160"/>
              </a:tblGrid>
              <a:tr h="301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_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ircle, Line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ne  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ircle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4" name="Oval 2"/>
          <p:cNvSpPr/>
          <p:nvPr/>
        </p:nvSpPr>
        <p:spPr>
          <a:xfrm>
            <a:off x="2376360" y="3860640"/>
            <a:ext cx="682920" cy="368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3"/>
          <p:cNvSpPr/>
          <p:nvPr/>
        </p:nvSpPr>
        <p:spPr>
          <a:xfrm flipH="1">
            <a:off x="2181240" y="4229280"/>
            <a:ext cx="536400" cy="1076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790920" y="5300640"/>
            <a:ext cx="319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X and Y components are dupli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8" descr="wrong.png"/>
          <p:cNvPicPr/>
          <p:nvPr/>
        </p:nvPicPr>
        <p:blipFill>
          <a:blip r:embed="rId1"/>
          <a:stretch/>
        </p:blipFill>
        <p:spPr>
          <a:xfrm>
            <a:off x="971640" y="393228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0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258920" y="1311120"/>
          <a:ext cx="6626160" cy="4237200"/>
        </p:xfrm>
        <a:graphic>
          <a:graphicData uri="http://schemas.openxmlformats.org/drawingml/2006/table">
            <a:tbl>
              <a:tblPr/>
              <a:tblGrid>
                <a:gridCol w="6626160"/>
              </a:tblGrid>
              <a:tr h="423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_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ircle, Line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ne  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ircle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hape := (Circle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Kind := Lin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X2 :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Y2 :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0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1258920" y="1311120"/>
          <a:ext cx="6626160" cy="4237200"/>
        </p:xfrm>
        <a:graphic>
          <a:graphicData uri="http://schemas.openxmlformats.org/drawingml/2006/table">
            <a:tbl>
              <a:tblPr/>
              <a:tblGrid>
                <a:gridCol w="6626160"/>
              </a:tblGrid>
              <a:tr h="423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_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ircle, Line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ne  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ircle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hape := (Circle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Kind := Lin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X2 :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Y2 := 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2" name="Oval 2"/>
          <p:cNvSpPr/>
          <p:nvPr/>
        </p:nvSpPr>
        <p:spPr>
          <a:xfrm>
            <a:off x="1619280" y="4705200"/>
            <a:ext cx="201600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3"/>
          <p:cNvSpPr/>
          <p:nvPr/>
        </p:nvSpPr>
        <p:spPr>
          <a:xfrm flipH="1">
            <a:off x="2180880" y="5073480"/>
            <a:ext cx="446040" cy="1076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791280" y="6145200"/>
            <a:ext cx="36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 discriminant of an object is con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8" descr="wrong.png"/>
          <p:cNvPicPr/>
          <p:nvPr/>
        </p:nvPicPr>
        <p:blipFill>
          <a:blip r:embed="rId1"/>
          <a:stretch/>
        </p:blipFill>
        <p:spPr>
          <a:xfrm>
            <a:off x="971640" y="477036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Nested Record Typ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Any kind of definite type can be used as component type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Size may only be known at elaboration time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s impact on code genera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826920" y="3500280"/>
          <a:ext cx="2880000" cy="1554480"/>
        </p:xfrm>
        <a:graphic>
          <a:graphicData uri="http://schemas.openxmlformats.org/drawingml/2006/table">
            <a:tbl>
              <a:tblPr/>
              <a:tblGrid>
                <a:gridCol w="2880000"/>
              </a:tblGrid>
              <a:tr h="155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on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 : String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   : Positi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4282920" y="3500280"/>
          <a:ext cx="3961080" cy="155448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155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 : Natural := Compute_Le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_Ty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new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(1 .. Len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 : Name_Typ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   : Positi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Default Valu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Default Values can be provided to record components: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Default values are dynamic expressions evaluated at object elaboration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3132000" y="1700280"/>
          <a:ext cx="2880000" cy="822240"/>
        </p:xfrm>
        <a:graphic>
          <a:graphicData uri="http://schemas.openxmlformats.org/drawingml/2006/table">
            <a:tbl>
              <a:tblPr/>
              <a:tblGrid>
                <a:gridCol w="28800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2843280" y="3429000"/>
          <a:ext cx="4032360" cy="320040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3200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x, Cy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Cx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: Integer := C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: Position; -- = (0,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x :=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y :=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: Position; -- = (1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ggregates (1/2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Like arrays, record values can be given through aggregat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Named aggregates are possible (but cannot switch back to positional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2050920" y="2276640"/>
          <a:ext cx="4896000" cy="2103120"/>
        </p:xfrm>
        <a:graphic>
          <a:graphicData uri="http://schemas.openxmlformats.org/drawingml/2006/table">
            <a:tbl>
              <a:tblPr/>
              <a:tblGrid>
                <a:gridCol w="4896000"/>
              </a:tblGrid>
              <a:tr h="210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 : String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: Positio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enter : Position := (0,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ircle : Shape := (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' '), Cent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2124000" y="5630760"/>
          <a:ext cx="4896000" cy="822600"/>
        </p:xfrm>
        <a:graphic>
          <a:graphicData uri="http://schemas.openxmlformats.org/drawingml/2006/table">
            <a:tbl>
              <a:tblPr/>
              <a:tblGrid>
                <a:gridCol w="4896000"/>
              </a:tblGrid>
              <a:tr h="8226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 : Position := (0, Y =&gt; 0);     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: Position := (X =&gt; 0, Y =&gt; 0);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3 : Position := (Y =&gt; 0, X =&gt; 0);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4 : Position := (X =&gt; 0, 0);      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89" name="Picture 8" descr="wrong.png"/>
          <p:cNvPicPr/>
          <p:nvPr/>
        </p:nvPicPr>
        <p:blipFill>
          <a:blip r:embed="rId1"/>
          <a:stretch/>
        </p:blipFill>
        <p:spPr>
          <a:xfrm>
            <a:off x="1908000" y="616572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ggregates (2/2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Named aggregate is required for one-elements records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Default values can be referred as &lt;&gt; after a name or others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If all remaining types are the same, others can use an expression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2195640" y="1700280"/>
          <a:ext cx="4895640" cy="1189080"/>
        </p:xfrm>
        <a:graphic>
          <a:graphicData uri="http://schemas.openxmlformats.org/drawingml/2006/table">
            <a:tbl>
              <a:tblPr/>
              <a:tblGrid>
                <a:gridCol w="4895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ingleto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Singleton := (V =&gt; 0);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2 : Singleton := (0);      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2195640" y="3357720"/>
          <a:ext cx="4895640" cy="1188720"/>
        </p:xfrm>
        <a:graphic>
          <a:graphicData uri="http://schemas.openxmlformats.org/drawingml/2006/table">
            <a:tbl>
              <a:tblPr/>
              <a:tblGrid>
                <a:gridCol w="489564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, C, D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ec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Rec := (A =&gt; 0, B =&gt; &lt;&gt;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&gt;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2268360" y="5373720"/>
          <a:ext cx="4896000" cy="1189080"/>
        </p:xfrm>
        <a:graphic>
          <a:graphicData uri="http://schemas.openxmlformats.org/drawingml/2006/table">
            <a:tbl>
              <a:tblPr/>
              <a:tblGrid>
                <a:gridCol w="48960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, D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Rec := (0, 0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.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95" name="Picture 8" descr="wrong.png"/>
          <p:cNvPicPr/>
          <p:nvPr/>
        </p:nvPicPr>
        <p:blipFill>
          <a:blip r:embed="rId1"/>
          <a:stretch/>
        </p:blipFill>
        <p:spPr>
          <a:xfrm>
            <a:off x="1908000" y="263700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Discriminant Rationa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Only a subset of the components are needed to use this type, depending on the contex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hy do we need to use the memory for Radius if the shape is a line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203640" y="2600280"/>
          <a:ext cx="2663640" cy="1189080"/>
        </p:xfrm>
        <a:graphic>
          <a:graphicData uri="http://schemas.openxmlformats.org/drawingml/2006/table">
            <a:tbl>
              <a:tblPr/>
              <a:tblGrid>
                <a:gridCol w="2663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er_Radius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Use of a Discrimina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ypes can be parameterized after a discrete typ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is type is indefinite, need to be constrained at object declar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547640" y="1844640"/>
          <a:ext cx="6096240" cy="24685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46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_Kin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ircle, Line, Torus)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hape (Kind : Shape_Kind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, Y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Kin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ine  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2, Y2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rus 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er_Radius, Inner_Radius :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ircle    =&g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us : Float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547640" y="5958000"/>
          <a:ext cx="6096240" cy="279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7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Shape (Circl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Florian Schanda</cp:lastModifiedBy>
  <dcterms:modified xsi:type="dcterms:W3CDTF">2015-12-04T13:24:09Z</dcterms:modified>
  <cp:revision>330</cp:revision>
  <dc:subject/>
  <dc:title>Diapositive 1</dc:title>
</cp:coreProperties>
</file>