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0F6-76AF-4CFB-B4E1-A280090CD4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31CE-125E-48BD-B2F5-70F2FFE2A9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5A91-F2D2-4701-B7B3-01C2F409F8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CBE-EBEF-4C50-8BA6-38827DA2AB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C5BF-AE1E-4F16-A154-91AE05680F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6606-3253-4A11-AD11-18611644A0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gnment is wrong, V1 and V2 are not of the sam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87F4-E851-47AB-A34D-957D9FBC59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gnment is wrong, V1 and V2 are not of the same 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BEEB-199B-406E-A0A4-07827068BE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is wrong, boundaries are equals to ‘First, ‘First + 1 and ‘First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09F2-6701-4C25-8667-0329708E0C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is wrong, boundaries are equals to ‘First, ‘First + 1 and ‘First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7CF8-38FC-4F10-9CC1-FCDE1E246C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3205-A641-47E6-A374-513DD06FB2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88E7-4F17-4486-B2CF-2A3C88771A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6005-C4A2-4DA4-A2B5-59111786CA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7C28-E07C-49A6-98A3-ABA299428D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6881-2C51-4E59-857E-6280D63F06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0F97-0CB9-412A-BF74-0A43ADA442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755-8F7F-4978-9A65-2ECE29755A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doesn’t work because TS is already constr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C595-A305-4130-9406-89EDF65E2A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186E-D110-42A0-B4DF-9448BA23B5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 has to be constrained for thi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3E22-E062-40C7-845B-2673646A1C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C8EE-65CC-47CB-9DD8-C15A2F806C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F1F5-9FC6-4166-815C-0AAEEED580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42E9-34C1-4351-B914-5BFB14F02C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8F8F902-8375-40FD-9514-08427E0D6AB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49118ED-C275-484F-9D74-FCFD22B0234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5C1FBAD-EB0C-4ADE-8ED9-1B007C5DF02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55D69D9-BCEB-4209-899C-BA8EC08FEA8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214B0ED-88A8-4F54-A731-164CB587D77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A2FF640-8E68-44FB-B001-28C4675A738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09E86D1-5086-4EAF-B057-F53A4D8EB97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58447DA-6349-47D5-A4E4-44211EE3E79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B6FC78A-041E-40A7-A326-A0B20CD35F4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E436BF6-44D2-4840-A94E-AE826B1A6C3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correct.png"/>
          <p:cNvPicPr/>
          <p:nvPr/>
        </p:nvPicPr>
        <p:blipFill>
          <a:blip r:embed="rId4"/>
          <a:stretch/>
        </p:blipFill>
        <p:spPr>
          <a:xfrm>
            <a:off x="644364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5C4E36B-1C10-4206-8C5F-38100697298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wrong.png"/>
          <p:cNvPicPr/>
          <p:nvPr/>
        </p:nvPicPr>
        <p:blipFill>
          <a:blip r:embed="rId4"/>
          <a:stretch/>
        </p:blipFill>
        <p:spPr>
          <a:xfrm>
            <a:off x="6443640" y="35892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  <a:ea typeface="ヒラギノ角ゴ ProN W3"/>
              </a:rPr>
              <a:t>Arrays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a1a1a"/>
              </a:solidFill>
              <a:latin typeface="Calibri"/>
              <a:ea typeface="ヒラギノ角ゴ ProN W3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  <a:ea typeface="ヒラギノ角ゴ ProN W3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 Literals (Aggregates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ggregates can be used to provide values to an array as a whole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They can be used wherever an array value is expected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Finite aggregate can initialize variable constraints, lower bound will be equal to T'First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692360" y="2060640"/>
          <a:ext cx="6337080" cy="118908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{[&lt;position&gt; =&gt; ] &lt;expression&gt;,} [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&lt;expression&gt;]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, 2, 3)     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finite positional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 =&gt; 1, 2 =&gt; 10, 3 =&gt; 30)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finite named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indefinite positional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1 =&gt; 1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indefinite named aggre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1692360" y="4869000"/>
          <a:ext cx="6337080" cy="118908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2 : T := (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=&gt; 0); -- NOK (initializ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 -- OK (assign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06" name="Picture 8" descr="wrong.png"/>
          <p:cNvPicPr/>
          <p:nvPr/>
        </p:nvPicPr>
        <p:blipFill>
          <a:blip r:embed="rId1"/>
          <a:stretch/>
        </p:blipFill>
        <p:spPr>
          <a:xfrm>
            <a:off x="1403280" y="544500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 Concaten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wo 1-dimensional arrays can be concatenated through the “&amp;” operato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ulting array lower bound is the lower bound of the left oper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n array can be concatenated with a valu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547640" y="2565360"/>
          <a:ext cx="6096240" cy="1006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:= (4, 5, 6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 : T := A1 &amp; A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571760" y="4869000"/>
          <a:ext cx="6095880" cy="8283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:= A1 &amp; 4 &amp; 5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 Equalit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wo 1-dimensional arrays are equal i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size is 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components are equal one by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ctual indexes do not matter in array equalit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47640" y="2781360"/>
          <a:ext cx="6096240" cy="1554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1 = A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-- ALWAYS FA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Loops over an Arra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rough an index loo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rough an object loop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547640" y="1989000"/>
          <a:ext cx="6096240" cy="1371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'Rang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I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1547640" y="4797360"/>
          <a:ext cx="6096240" cy="1371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Matric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wo dimensional array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ttributes are 'First (dimension), 'Last (dimension), 'Range (dimension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rrays of array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547640" y="1989000"/>
          <a:ext cx="6985080" cy="82260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8226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,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, 0 ..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, 0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1547640" y="5230800"/>
          <a:ext cx="6985080" cy="100656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1 (0 ..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2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(0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String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trings are regular array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re is a special String litera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e package ASCII provides names for Character valu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979640" y="1989000"/>
          <a:ext cx="5545080" cy="27468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Positiv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haract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979640" y="3429000"/>
          <a:ext cx="5545080" cy="45720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 : String := "This is it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String := "Here come quotes ("")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979640" y="4941720"/>
          <a:ext cx="5545080" cy="27468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 : String := "This is nul terminated" &amp; ASCII.NU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Default Component Valu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By default, arrays do not come with default valu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t’s possible to force a default value initialization through a static expression (value known at compile-time)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For performance reasons, the above may not be desirable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258920" y="1916280"/>
          <a:ext cx="6985080" cy="82224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 (1))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isplays an uninitialized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1258920" y="4149720"/>
          <a:ext cx="6985080" cy="100656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fault_Component_Value =&gt;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 (1))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Displays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016000" y="2743200"/>
          <a:ext cx="5113440" cy="13716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My_In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016000" y="2743200"/>
          <a:ext cx="5113440" cy="13716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y_In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My_Int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5" name="TextBox 4"/>
          <p:cNvSpPr/>
          <p:nvPr/>
        </p:nvSpPr>
        <p:spPr>
          <a:xfrm>
            <a:off x="1574640" y="479736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Everything is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da Type Model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2" name="Content Placeholder 3" descr=""/>
          <p:cNvPicPr/>
          <p:nvPr/>
        </p:nvPicPr>
        <p:blipFill>
          <a:blip r:embed="rId1"/>
          <a:stretch/>
        </p:blipFill>
        <p:spPr>
          <a:xfrm>
            <a:off x="-49320" y="115920"/>
            <a:ext cx="9028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016000" y="2925720"/>
          <a:ext cx="5113440" cy="100656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016000" y="2925720"/>
          <a:ext cx="5113440" cy="100656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0" name="Oval 2"/>
          <p:cNvSpPr/>
          <p:nvPr/>
        </p:nvSpPr>
        <p:spPr>
          <a:xfrm>
            <a:off x="2195640" y="3220920"/>
            <a:ext cx="9633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3"/>
          <p:cNvSpPr/>
          <p:nvPr/>
        </p:nvSpPr>
        <p:spPr>
          <a:xfrm flipH="1">
            <a:off x="2339640" y="3589200"/>
            <a:ext cx="33804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762840" y="4221000"/>
            <a:ext cx="334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is can actually compile fine,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but will fail at compilation due to the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mount of data reserved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wrong.png"/>
          <p:cNvPicPr/>
          <p:nvPr/>
        </p:nvPicPr>
        <p:blipFill>
          <a:blip r:embed="rId1"/>
          <a:stretch/>
        </p:blipFill>
        <p:spPr>
          <a:xfrm>
            <a:off x="1763640" y="328464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016000" y="2743200"/>
          <a:ext cx="5113440" cy="13716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1 (1 .. 3)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2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016000" y="2743200"/>
          <a:ext cx="5113440" cy="13716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1 (1 .. 3)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2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8" name="Oval 2"/>
          <p:cNvSpPr/>
          <p:nvPr/>
        </p:nvSpPr>
        <p:spPr>
          <a:xfrm>
            <a:off x="2225520" y="3778200"/>
            <a:ext cx="9637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3"/>
          <p:cNvSpPr/>
          <p:nvPr/>
        </p:nvSpPr>
        <p:spPr>
          <a:xfrm flipH="1">
            <a:off x="2369880" y="4146480"/>
            <a:ext cx="33804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790200" y="4778280"/>
            <a:ext cx="473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V1 and V2 are not of the same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8" descr="wrong.png"/>
          <p:cNvPicPr/>
          <p:nvPr/>
        </p:nvPicPr>
        <p:blipFill>
          <a:blip r:embed="rId1"/>
          <a:stretch/>
        </p:blipFill>
        <p:spPr>
          <a:xfrm>
            <a:off x="1763640" y="378936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016000" y="2925720"/>
          <a:ext cx="5113440" cy="100656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0) := V (1) + V (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016000" y="2925720"/>
          <a:ext cx="5113440" cy="100656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:= (1, 2, 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0) := V (1) + V (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6" name="Oval 2"/>
          <p:cNvSpPr/>
          <p:nvPr/>
        </p:nvSpPr>
        <p:spPr>
          <a:xfrm>
            <a:off x="2268360" y="3627360"/>
            <a:ext cx="23749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3"/>
          <p:cNvSpPr/>
          <p:nvPr/>
        </p:nvSpPr>
        <p:spPr>
          <a:xfrm flipH="1">
            <a:off x="3288960" y="3995640"/>
            <a:ext cx="166680" cy="55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747720" y="4653000"/>
            <a:ext cx="77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se three accesses are wrong, V is constrained between Integer’First .. Integer’First +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wrong.png"/>
          <p:cNvPicPr/>
          <p:nvPr/>
        </p:nvPicPr>
        <p:blipFill>
          <a:blip r:embed="rId1"/>
          <a:stretch/>
        </p:blipFill>
        <p:spPr>
          <a:xfrm>
            <a:off x="1741320" y="364500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016000" y="2743200"/>
          <a:ext cx="5113440" cy="118908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(1 ..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(10 .. 11)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2016000" y="2743200"/>
          <a:ext cx="5113440" cy="118908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(1 ..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(10 .. 11) :=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4" name="TextBox 4"/>
          <p:cNvSpPr/>
          <p:nvPr/>
        </p:nvSpPr>
        <p:spPr>
          <a:xfrm>
            <a:off x="740520" y="4653000"/>
            <a:ext cx="73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Everything is OK. The assignement will slide the values of V2 in the correct inde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016000" y="2560680"/>
          <a:ext cx="5113440" cy="173664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016000" y="2560680"/>
          <a:ext cx="5113440" cy="173664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736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10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cl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= V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9" name="TextBox 4"/>
          <p:cNvSpPr/>
          <p:nvPr/>
        </p:nvSpPr>
        <p:spPr>
          <a:xfrm>
            <a:off x="766080" y="4653000"/>
            <a:ext cx="705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No problem. Even if the value of X changes, the array declaration is not impacted</a:t>
            </a:r>
            <a:br>
              <a:rPr sz="1400"/>
            </a:b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V1 and V2 have the same bound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s are First Class Citize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ll arrays are (doubly) typed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rrays types properties are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index type (can be any discrete type, with optional specific boundari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component type (can be any definite typ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rrays objects properties are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 array typ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ecific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ecific val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611280" y="1773360"/>
          <a:ext cx="8064360" cy="822240"/>
        </p:xfrm>
        <a:graphic>
          <a:graphicData uri="http://schemas.openxmlformats.org/drawingml/2006/table">
            <a:tbl>
              <a:tblPr/>
              <a:tblGrid>
                <a:gridCol w="4033800"/>
                <a:gridCol w="403056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T (0 .. 14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 A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[15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76" name="TextBox 1"/>
          <p:cNvSpPr/>
          <p:nvPr/>
        </p:nvSpPr>
        <p:spPr>
          <a:xfrm>
            <a:off x="4124160" y="17733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156520" y="17715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2016000" y="2743200"/>
          <a:ext cx="5113440" cy="13716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(1 .. 3) := (10, 20, 3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(10, 20, 30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1'Rang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(I) := V1 (I) + V2 (I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016000" y="2743200"/>
          <a:ext cx="5113440" cy="13716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: T (1 .. 3) := (10, 20, 3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2 : T := (10, 20, 30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1'Rang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1 (I) := V1 (I) + V2 (I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4" name="Oval 2"/>
          <p:cNvSpPr/>
          <p:nvPr/>
        </p:nvSpPr>
        <p:spPr>
          <a:xfrm>
            <a:off x="4254480" y="3627360"/>
            <a:ext cx="7491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3"/>
          <p:cNvSpPr/>
          <p:nvPr/>
        </p:nvSpPr>
        <p:spPr>
          <a:xfrm flipH="1">
            <a:off x="4397400" y="3995640"/>
            <a:ext cx="231840" cy="55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763200" y="4653000"/>
            <a:ext cx="675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V2 (I) will raise an exception because the range is different from the one of 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8" descr="wrong.png"/>
          <p:cNvPicPr/>
          <p:nvPr/>
        </p:nvPicPr>
        <p:blipFill>
          <a:blip r:embed="rId1"/>
          <a:stretch/>
        </p:blipFill>
        <p:spPr>
          <a:xfrm>
            <a:off x="1763640" y="369396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969920" y="3105000"/>
          <a:ext cx="5204160" cy="648000"/>
        </p:xfrm>
        <a:graphic>
          <a:graphicData uri="http://schemas.openxmlformats.org/drawingml/2006/table">
            <a:tbl>
              <a:tblPr/>
              <a:tblGrid>
                <a:gridCol w="520416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2 .. 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1969920" y="3105000"/>
          <a:ext cx="5204160" cy="648000"/>
        </p:xfrm>
        <a:graphic>
          <a:graphicData uri="http://schemas.openxmlformats.org/drawingml/2006/table">
            <a:tbl>
              <a:tblPr/>
              <a:tblGrid>
                <a:gridCol w="520416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2 .. 9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2" name="Oval 2"/>
          <p:cNvSpPr/>
          <p:nvPr/>
        </p:nvSpPr>
        <p:spPr>
          <a:xfrm>
            <a:off x="2484360" y="3443400"/>
            <a:ext cx="10080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3"/>
          <p:cNvSpPr/>
          <p:nvPr/>
        </p:nvSpPr>
        <p:spPr>
          <a:xfrm flipH="1">
            <a:off x="2626920" y="3811680"/>
            <a:ext cx="360360" cy="55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764280" y="4437000"/>
            <a:ext cx="60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boundaries of T are fixed, can’t be changed at object decl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wrong.png"/>
          <p:cNvPicPr/>
          <p:nvPr/>
        </p:nvPicPr>
        <p:blipFill>
          <a:blip r:embed="rId1"/>
          <a:stretch/>
        </p:blipFill>
        <p:spPr>
          <a:xfrm>
            <a:off x="1741320" y="347652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871640" y="3292560"/>
          <a:ext cx="5400720" cy="3650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_Array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871640" y="3292560"/>
          <a:ext cx="5400720" cy="36504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_Array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0" name="Oval 2"/>
          <p:cNvSpPr/>
          <p:nvPr/>
        </p:nvSpPr>
        <p:spPr>
          <a:xfrm>
            <a:off x="6372360" y="3259080"/>
            <a:ext cx="7491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"/>
          <p:cNvSpPr/>
          <p:nvPr/>
        </p:nvSpPr>
        <p:spPr>
          <a:xfrm flipH="1">
            <a:off x="6514920" y="3608280"/>
            <a:ext cx="231480" cy="55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4545000" y="4273560"/>
            <a:ext cx="38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rray can only contain constrained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8" descr="wrong.png"/>
          <p:cNvPicPr/>
          <p:nvPr/>
        </p:nvPicPr>
        <p:blipFill>
          <a:blip r:embed="rId1"/>
          <a:stretch/>
        </p:blipFill>
        <p:spPr>
          <a:xfrm>
            <a:off x="1596960" y="3284640"/>
            <a:ext cx="23832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376360" y="2833560"/>
          <a:ext cx="4391280" cy="1190880"/>
        </p:xfrm>
        <a:graphic>
          <a:graphicData uri="http://schemas.openxmlformats.org/drawingml/2006/table">
            <a:tbl>
              <a:tblPr/>
              <a:tblGrid>
                <a:gridCol w="4391280"/>
              </a:tblGrid>
              <a:tr h="119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fault_Component_Value =&gt; 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376360" y="2833560"/>
          <a:ext cx="4391280" cy="1190880"/>
        </p:xfrm>
        <a:graphic>
          <a:graphicData uri="http://schemas.openxmlformats.org/drawingml/2006/table">
            <a:tbl>
              <a:tblPr/>
              <a:tblGrid>
                <a:gridCol w="4391280"/>
              </a:tblGrid>
              <a:tr h="119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fault_Component_Value =&gt; 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8" name="Oval 2"/>
          <p:cNvSpPr/>
          <p:nvPr/>
        </p:nvSpPr>
        <p:spPr>
          <a:xfrm>
            <a:off x="5541840" y="3330720"/>
            <a:ext cx="3747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3"/>
          <p:cNvSpPr/>
          <p:nvPr/>
        </p:nvSpPr>
        <p:spPr>
          <a:xfrm flipH="1">
            <a:off x="5508720" y="3716280"/>
            <a:ext cx="231840" cy="55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4"/>
          <p:cNvSpPr/>
          <p:nvPr/>
        </p:nvSpPr>
        <p:spPr>
          <a:xfrm>
            <a:off x="3794040" y="4357800"/>
            <a:ext cx="26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X is not a static ex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(unknown at compile-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8" descr="wrong.png"/>
          <p:cNvPicPr/>
          <p:nvPr/>
        </p:nvPicPr>
        <p:blipFill>
          <a:blip r:embed="rId1"/>
          <a:stretch/>
        </p:blipFill>
        <p:spPr>
          <a:xfrm>
            <a:off x="2124000" y="339552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Definite vs. Indefinite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finite types are types that can be used to create objects without additional inform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size is 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constraints are 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ndefinite types need additional constrai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rray types can be definite or indefini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onents of array types must be definit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476360" y="4076640"/>
          <a:ext cx="6095880" cy="10065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efinit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10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definit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Definit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Indefinite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 Indic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rray indexes can be of any discrete type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er (signed or modula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um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rray indexes can be defined on any contiguous range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rray index range may be empty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rray indexes are computed at the point of array declaration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547640" y="335772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haract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'a' .. 'z'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3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0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4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Boolean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1547640" y="5230800"/>
          <a:ext cx="6096240" cy="646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 changes to X don't change A instances after this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ccessing Array Componen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rray components can be directly access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rray types and array objects offer ‘Length, ‘Range, ‘First and ‘Last attribut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 access, bounds are dynamically checked and raise Constraint_Error if out of ran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547640" y="170028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(1)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1547640" y="515772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of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A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V (0) := 0.0;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89" name="Picture 8" descr="wrong.png"/>
          <p:cNvPicPr/>
          <p:nvPr/>
        </p:nvPicPr>
        <p:blipFill>
          <a:blip r:embed="rId1"/>
          <a:stretch/>
        </p:blipFill>
        <p:spPr>
          <a:xfrm>
            <a:off x="1258920" y="5732640"/>
            <a:ext cx="237960" cy="23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 Cop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rray operations are first class citize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n copy operations, lengths are checked, but not actual indic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47640" y="1916280"/>
          <a:ext cx="6096240" cy="1188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= A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1571760" y="4292640"/>
          <a:ext cx="6095880" cy="1554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 : T (1 .. 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= A2;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A1 := A3; 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494" name="Picture 8" descr="wrong.png"/>
          <p:cNvPicPr/>
          <p:nvPr/>
        </p:nvPicPr>
        <p:blipFill>
          <a:blip r:embed="rId1"/>
          <a:stretch/>
        </p:blipFill>
        <p:spPr>
          <a:xfrm>
            <a:off x="1332000" y="5589720"/>
            <a:ext cx="2379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 Initializ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rray copy can occur at initialization tim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the array type is of an indefinite type, then an object of this type can deduce bounds from initializ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547640" y="184464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1 .. 20) := A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547640" y="462276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224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:= A1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-- A2 bounds are 1 .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rray Slic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t’s possible to consider only a part of the array using a slic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array with only one dim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lices can be used where an array object is requir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547640" y="4289400"/>
          <a:ext cx="6096240" cy="13716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&lt;&gt;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 T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2 : T (1 .. 20) := …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:= A2 (1 .. 1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1 (2 .. 4) := A2 (5 .. 7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Wallenburg Angela</cp:lastModifiedBy>
  <dcterms:modified xsi:type="dcterms:W3CDTF">2016-10-10T07:53:29Z</dcterms:modified>
  <cp:revision>262</cp:revision>
  <dc:subject/>
  <dc:title>Diapositive 1</dc:title>
</cp:coreProperties>
</file>