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4047-DFFD-4775-AA62-35A0CDF175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104F-3E0C-4787-A586-93F912F0AC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8AA-3FF6-4318-9A81-1FA6341A49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9FAC-1567-4726-9103-C348821279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1D9-8EBD-4CF4-9C2B-9072FF7603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43E0-109A-4E3F-B121-E5FB5D653F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BC84-0379-4B3B-A1E5-0A3627541C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9784-A228-424B-B286-712A9CCDBE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ault command line runs both flow analysis and proo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ED7C-04F9-494B-A48C-3EA9550B9B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the chapter “Exercise: Data Flow Analysis” in the exercise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this exercise you will learn how to use the SPARK tools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Detect basic data flow e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…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ヒラギノ角ゴ ProN W3"/>
              </a:rPr>
              <a:t>[need to add more exercises to cover ineffective assignments, arrays, records, 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E57A-28DF-439A-8833-B283FB825B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't forget to cover analysis across packages which can detect use of uninitialized variables at start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't forget to explain when we deal with entire variables and when we deal with sub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FFF0-82E7-448C-B2EB-CAF7F95FB0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ch example shows a different example of use of an uninitialized variable that can be detected by the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the last case it’s the call to Inner which is wrong, not the assignment Y := Y +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4506-66DE-4EAF-BD86-6874D6A29F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A4C1-419B-432A-8E6E-B2FAA0AAC0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e that the tools don’t currently detect stable loop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F4DD-210F-4F2E-9321-6BB586ACE0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85F9-D8A4-43F4-8314-27F12B4E6B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AC8B-DC50-466D-8B54-F09522E602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the final bullet we could equally add 'safety properties', i.e. don't want do derive high integrity data from low integrity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703D-42BE-4BA8-9859-4676038FF6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204BBB4-FF02-4915-B5E3-224D043EA72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0656EC3-B95B-4C4A-8DC1-079D587751B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CE6841E8-CD4F-4547-820D-4A8DB5FE62D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4D57AEB-BD21-468C-AB1F-08E48A9D21C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5E2E93C-EBAF-42BD-8A89-0125A6449A1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F85E579-5B10-4A77-B256-774BAD8D3B5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672635E-1FAE-4537-8EF9-079ADECDA2E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1CF6DD6-55CF-47A5-82FA-9A75DCCC43B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CFF4A1D-8D1C-4B0D-846D-F61F63614CE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8B4B431-2C2D-4BE8-93EA-1881812A670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13D5D38-B650-4915-BD95-1F95E8122A4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7F666FC-B319-4413-90B9-811B55B9A08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80880" y="234936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  <a:ea typeface="Arial"/>
              </a:rPr>
              <a:t>Data Flow Analysis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Flow Analysis – Why Do We Care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mproper initialisation errors is listed as one of the most dangerous programming errors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SPARK flow analysis identifie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variables that have not been initialized prior to them being rea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the SPARK flow analysis finds no uninitialized variables then there really are non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dentifying Ineffective Stateme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very statement should have a purpo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ineffective statement ha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effect on any output variable and therefore has no effect on the behaviour of the co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presence of ineffective statements reduces the quality and the maintainabiliy of the co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SPARK Toolset identifie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neffective stat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Flow Analysis of Composite Obje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4000" y="980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rray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 analysis treats array objects a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le, entire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nging one element of an array object preserves the value of the other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cord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ing and reading of fields of records is analysed in terms of those fiel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s and reads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treated as operations on records in their entir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rrays and Flow Analysi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4000" y="980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onsider the following types and obje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(An array with one element is not very interesting!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116000" y="1773360"/>
          <a:ext cx="6408720" cy="100800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dex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ng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1 .. 2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array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dex)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   : 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, J : Inde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rrays and Flow Analysi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4000" y="980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Let’s assume the initial value of A is (x, y), and we execute the assignment statement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final value of A might be (True, y) or (x, True) depending on the value of I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Note that at least one element of the initial value is preserved in both cas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o the final value of A must depend on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nitial value of A (because one element of A is preserv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the value of I (because I specifies which element of A is updat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116000" y="1989000"/>
          <a:ext cx="2232000" cy="4320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(I) := Tru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rrays and Flow Analysi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4000" y="980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Let’s assume the initial value of A is (x, y), and we execute the assignment statement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ree possible outcome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True, y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I = J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x, True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I = J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True, True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I /= 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low analysis doesn’t know the values of I and J so conservatively assumes that A depends on A, I and J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116000" y="1989000"/>
          <a:ext cx="4321080" cy="640080"/>
        </p:xfrm>
        <a:graphic>
          <a:graphicData uri="http://schemas.openxmlformats.org/drawingml/2006/table">
            <a:tbl>
              <a:tblPr/>
              <a:tblGrid>
                <a:gridCol w="432108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(I) := Tru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(J) := Tru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rrays and Flow Analysi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4000" y="980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 general, there is no way for the flow analyser to determine whether a sequence of assignments to an array has updated all the elements of the array or a subset of the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o initializing an array with a sequence of statements will result in a flow erro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Don’t “fix” this by changing the mode of A to ‘in out’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042920" y="3860640"/>
          <a:ext cx="7777080" cy="15843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it_Array (A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)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(1) := True; -- flow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(2) := Tru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it_Arra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rrays and Flow Analysi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4000" y="980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f possible, use an aggregate to initialize the arra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(“others” could be used in this particular instance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low analysis knows that the array must be fully defined by the aggregate so no errors are report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042920" y="1628640"/>
          <a:ext cx="7777080" cy="1224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rocedure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it_Array (A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)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:= (1 .. 2 =&gt; Tru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n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Init_Arra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Flow Analysis Using  </a:t>
            </a: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NATprov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4000" y="9806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rom the command lin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gnatprove --mode=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 GP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3903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ercis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040"/>
                </a:solidFill>
                <a:latin typeface="Calibri"/>
              </a:rPr>
              <a:t>Exercis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Data Flow Analysi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Overview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hat is flow analysis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hich errors does it detect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How does flow analysis work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low analysis of composite obje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low analysis using GNATprov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What is Flow Analysis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tatic analysis performed by GNATprov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Models the variables used by a sub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c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mal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Models how information flows through the statements in the sub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om initial values of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final values of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erforms checks and detects errors..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What Classes of Errors Does It Detect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Use of uninitialized variabl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187280" y="1916280"/>
          <a:ext cx="3168720" cy="137160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371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Y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X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= X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1187280" y="3789360"/>
          <a:ext cx="6572520" cy="1736640"/>
        </p:xfrm>
        <a:graphic>
          <a:graphicData uri="http://schemas.openxmlformats.org/drawingml/2006/table">
            <a:tbl>
              <a:tblPr/>
              <a:tblGrid>
                <a:gridCol w="657252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uter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ner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= Y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n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n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5076720" y="1844640"/>
          <a:ext cx="3529080" cy="14400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44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 (X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 (Y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 (Y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What Classes of Errors Does It Detect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effective stateme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tements which update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t which have no effect on the final value of any var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042920" y="2924280"/>
          <a:ext cx="6408720" cy="155412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Y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Z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:= X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:= T + 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 := 3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What Classes of Errors Does It Detect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Unused variabl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re are two unused variables in this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42920" y="2492280"/>
          <a:ext cx="6408720" cy="122400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22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Y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Z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 : Integer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 := X + 1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;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What Classes of Errors Does It Detect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More classes of errors can be detected if contracts are added, more about that later…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Flow Analysis – Why Do We Care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3" name="Content Placeholder 1" descr=""/>
          <p:cNvPicPr/>
          <p:nvPr/>
        </p:nvPicPr>
        <p:blipFill>
          <a:blip r:embed="rId1"/>
          <a:stretch/>
        </p:blipFill>
        <p:spPr>
          <a:xfrm>
            <a:off x="1714680" y="1557360"/>
            <a:ext cx="5715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Flow Analysis – Why Do We Care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mmon origin of error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e CWE(Common Weakness Enumeration)/SANS list of “Most Dangerous Software Errors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ertification requireme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example to ensure there is no dead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eed a well-defined basis for deeper analysis (proof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ATprove analysis later down the line is not sound in the presence of some of these err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Security properti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vanced flow analysis with contracts, more about this later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Angela Wallenburg</cp:lastModifiedBy>
  <cp:lastPrinted>2014-03-31T13:09:07Z</cp:lastPrinted>
  <dcterms:modified xsi:type="dcterms:W3CDTF">2014-11-17T16:21:05Z</dcterms:modified>
  <cp:revision>2220</cp:revision>
  <dc:subject/>
  <dc:title>Diapositive 1</dc:title>
</cp:coreProperties>
</file>