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49C6B-E074-47A4-B260-DDCB249D50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8E8D-417C-4016-A6B1-A3F053A18F4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C5FAA-BBE1-4A6A-BF66-C6366CD02C0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F79D0-226C-4B50-BC63-07397E846B3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FA0D6-677D-4860-9014-B7D225DC8D6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9A86-F571-4BF1-AFED-C464E35085D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8509-983C-4A86-BFDD-3DBCC119B39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9E71-9C56-4CB6-8030-B246F57719F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63A91-1308-4E37-91B2-F7D56D2D591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577F0-07F5-443D-BE86-D5F10DE319A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BE391-8D9B-41B2-9A59-893BA65005D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3D66A-055E-4312-981F-CC3FA77AE87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5BA8A-0918-4670-9A19-0FC5A873344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D6270-7C6D-4090-9E41-A463184B86C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53747-6BD5-4B9A-A85B-506EEA54BD2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60D85-2040-4A15-8464-B08A3D8E536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865FC-8AC5-42B5-BD74-122C8F14710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F2850-F2FD-4CA3-A4D4-E8FCAC300D6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32BAE-2F75-4EB0-87F2-A1320C438FF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C9AB7-A145-4C7B-80AD-BD78A994CF6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ilation e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is a circular dependency between P1 and P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FCBDC4-DF1E-4920-B04E-7B1DBDDBA5D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020A-EFC0-48D1-ADE2-6569B3052A6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5125C-B476-4630-9E8B-825E38FD4FC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BFB5-FB5E-4F46-97AD-50429C86672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525024-DF67-4F8E-A936-7D37FF836C0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6196-542C-46EC-853B-20F79AAACC9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47975-98A0-4895-B17E-785A1A457AC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D9DF7-2698-4E47-804A-2322993E0BF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F6BBF-BDB9-4CC5-9989-9F1877B31FC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AF762-D0F8-462A-B0A8-F9A96273F50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37251-99DD-4530-8AA3-492AE01856E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528F3-B9B5-4305-8F53-256AA9E5226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7BDCB-2DC2-462D-9EB9-4887AD8C7EA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4E239-0783-4D0D-A327-ACF19CC82D2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EBE54-86D1-4283-93E6-80DED5BA5BA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A1ACC-F480-4115-9694-D1DBF62DD4F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0432D-2B9F-4D0E-9BB8-204DF7CE610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7838F-93C0-4A3F-BD2D-A9D7B81926C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C6BCD-AACC-4CF7-8B04-316CFB498E6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EA53-A7B9-4D3B-8E2B-50377BA393F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1EE06-2A7B-4E14-B38A-3090B209453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1EF84-128D-4E22-BA06-F098E58488B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88E80-249D-4A77-926F-B90305EBB65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A2C83-4460-45D0-A588-5FF05193EFD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pects we will see more of in SP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is also used for parameters in gene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69DC0-4878-4196-B1BC-A02C5A4689B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440" y="3928320"/>
            <a:ext cx="78469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6280" y="114300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44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06280" y="3928320"/>
            <a:ext cx="38289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386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1840" y="114300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4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386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1840" y="3928320"/>
            <a:ext cx="252648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4643D2C-2413-4570-8959-B6F4F7FD1B7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6550B54-9B40-41D8-8DD7-254B87464A4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373F12D-0159-4FA6-B140-F0AF352A97E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067F588-7A92-4A9F-A27A-EA8415CB927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2B20D92-B740-4439-8507-15BD4DF5B8F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C12F39C-2321-4AC4-9402-2E7AE9FD95F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9319F3C-1A7E-4A4A-8CFE-16AC03659D1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2879640" y="2641680"/>
            <a:ext cx="3384000" cy="1573200"/>
            <a:chOff x="2879640" y="2641680"/>
            <a:chExt cx="3384000" cy="1573200"/>
          </a:xfrm>
        </p:grpSpPr>
        <p:sp>
          <p:nvSpPr>
            <p:cNvPr id="170" name="Text Box 6"/>
            <p:cNvSpPr/>
            <p:nvPr/>
          </p:nvSpPr>
          <p:spPr>
            <a:xfrm>
              <a:off x="441576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1" name="Picture 7" descr="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3200" cy="15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E09399C-5C70-45B7-AA05-E8E82CF52C1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2A2AF1D-3E37-4D91-8145-2D5EE481A38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2BFE7CC-E75E-47E3-983B-714B061F06F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689184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7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F9B75C5-F69E-4FBA-84A9-C1D46FDB97C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-1944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692712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7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1143000"/>
            <a:ext cx="78469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579600" y="3933720"/>
            <a:ext cx="82054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</a:rPr>
              <a:t>Pack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57960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1128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</a:rPr>
              <a:t>university.adacor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 Note about Operator Symbol Vi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With only a “with” clause, operators on types will not be visi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Use type will specifically allow visibility to operators of 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Prefix notation is possible to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456000" y="3573360"/>
          <a:ext cx="2644920" cy="1008000"/>
        </p:xfrm>
        <a:graphic>
          <a:graphicData uri="http://schemas.openxmlformats.org/drawingml/2006/table">
            <a:tbl>
              <a:tblPr/>
              <a:tblGrid>
                <a:gridCol w="2644920"/>
              </a:tblGrid>
              <a:tr h="1008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1763640" y="4653000"/>
          <a:ext cx="2644920" cy="1371600"/>
        </p:xfrm>
        <a:graphic>
          <a:graphicData uri="http://schemas.openxmlformats.org/drawingml/2006/table">
            <a:tbl>
              <a:tblPr/>
              <a:tblGrid>
                <a:gridCol w="2644920"/>
              </a:tblGrid>
              <a:tr h="13716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P1.T := 0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P1."+" (A, B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241960" y="4653000"/>
          <a:ext cx="2644920" cy="1554120"/>
        </p:xfrm>
        <a:graphic>
          <a:graphicData uri="http://schemas.openxmlformats.org/drawingml/2006/table">
            <a:tbl>
              <a:tblPr/>
              <a:tblGrid>
                <a:gridCol w="2644920"/>
              </a:tblGrid>
              <a:tr h="155412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 type P1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P1.T := 0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A + B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2754360" y="3127320"/>
          <a:ext cx="3637080" cy="260676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260676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out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754360" y="1268280"/>
          <a:ext cx="3637080" cy="126540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126540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2754360" y="3127320"/>
          <a:ext cx="3637080" cy="260676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260676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754360" y="1268280"/>
          <a:ext cx="3637080" cy="126540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126540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19" name="Text Box 13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14"/>
          <p:cNvSpPr/>
          <p:nvPr/>
        </p:nvSpPr>
        <p:spPr>
          <a:xfrm>
            <a:off x="3000240" y="1844640"/>
            <a:ext cx="2724120" cy="3682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5"/>
          <p:cNvSpPr/>
          <p:nvPr/>
        </p:nvSpPr>
        <p:spPr>
          <a:xfrm flipH="1">
            <a:off x="2482560" y="2212920"/>
            <a:ext cx="1881000" cy="71136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180000" y="2637000"/>
            <a:ext cx="328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ead is not implemented in the b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7" descr=""/>
          <p:cNvPicPr/>
          <p:nvPr/>
        </p:nvPicPr>
        <p:blipFill>
          <a:blip r:embed="rId1"/>
          <a:stretch/>
        </p:blipFill>
        <p:spPr>
          <a:xfrm>
            <a:off x="2455920" y="1909800"/>
            <a:ext cx="239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2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771640" y="3894120"/>
          <a:ext cx="3638520" cy="1432080"/>
        </p:xfrm>
        <a:graphic>
          <a:graphicData uri="http://schemas.openxmlformats.org/drawingml/2006/table">
            <a:tbl>
              <a:tblPr/>
              <a:tblGrid>
                <a:gridCol w="3638520"/>
              </a:tblGrid>
              <a:tr h="143208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754360" y="1268280"/>
          <a:ext cx="3637080" cy="210348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210348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out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2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771640" y="3894120"/>
          <a:ext cx="3638520" cy="1432080"/>
        </p:xfrm>
        <a:graphic>
          <a:graphicData uri="http://schemas.openxmlformats.org/drawingml/2006/table">
            <a:tbl>
              <a:tblPr/>
              <a:tblGrid>
                <a:gridCol w="3638520"/>
              </a:tblGrid>
              <a:tr h="143208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V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Writ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2754360" y="1268280"/>
          <a:ext cx="3637080" cy="2103480"/>
        </p:xfrm>
        <a:graphic>
          <a:graphicData uri="http://schemas.openxmlformats.org/drawingml/2006/table">
            <a:tbl>
              <a:tblPr/>
              <a:tblGrid>
                <a:gridCol w="3637080"/>
              </a:tblGrid>
              <a:tr h="210348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 (V : Integer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 (V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X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Manage 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0" name="Oval 14"/>
          <p:cNvSpPr/>
          <p:nvPr/>
        </p:nvSpPr>
        <p:spPr>
          <a:xfrm>
            <a:off x="3000240" y="2197080"/>
            <a:ext cx="2724120" cy="94464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 flipH="1">
            <a:off x="2482560" y="3141720"/>
            <a:ext cx="1881000" cy="6462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179280" y="3481560"/>
            <a:ext cx="210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body can't be writ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 a package spe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17" descr=""/>
          <p:cNvPicPr/>
          <p:nvPr/>
        </p:nvPicPr>
        <p:blipFill>
          <a:blip r:embed="rId1"/>
          <a:stretch/>
        </p:blipFill>
        <p:spPr>
          <a:xfrm>
            <a:off x="2316240" y="2614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477040" y="2922480"/>
          <a:ext cx="2216160" cy="100656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1452600" y="2924280"/>
          <a:ext cx="2573280" cy="100620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10062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5477040" y="2922480"/>
          <a:ext cx="2216160" cy="100656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452600" y="2924280"/>
          <a:ext cx="2573280" cy="100620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10062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0" name="Oval 14"/>
          <p:cNvSpPr/>
          <p:nvPr/>
        </p:nvSpPr>
        <p:spPr>
          <a:xfrm>
            <a:off x="5691240" y="3213000"/>
            <a:ext cx="1238040" cy="3682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5"/>
          <p:cNvSpPr/>
          <p:nvPr/>
        </p:nvSpPr>
        <p:spPr>
          <a:xfrm flipH="1">
            <a:off x="5649480" y="3581280"/>
            <a:ext cx="662040" cy="71136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4210560" y="4437000"/>
            <a:ext cx="47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"with P1;" is needed on P2 for the declaration to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17" descr=""/>
          <p:cNvPicPr/>
          <p:nvPr/>
        </p:nvPicPr>
        <p:blipFill>
          <a:blip r:embed="rId1"/>
          <a:stretch/>
        </p:blipFill>
        <p:spPr>
          <a:xfrm>
            <a:off x="5219640" y="3278160"/>
            <a:ext cx="239760" cy="2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500120" y="2143080"/>
          <a:ext cx="3002040" cy="71460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714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357880" y="2136600"/>
          <a:ext cx="2716200" cy="137160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571760" y="471492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500120" y="2143080"/>
          <a:ext cx="3002040" cy="71460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714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357880" y="2136600"/>
          <a:ext cx="2716200" cy="137160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us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571760" y="471492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2" name="Oval 20"/>
          <p:cNvSpPr/>
          <p:nvPr/>
        </p:nvSpPr>
        <p:spPr>
          <a:xfrm>
            <a:off x="5508720" y="2852640"/>
            <a:ext cx="1079280" cy="2890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21"/>
          <p:cNvSpPr/>
          <p:nvPr/>
        </p:nvSpPr>
        <p:spPr>
          <a:xfrm flipH="1">
            <a:off x="5467320" y="3141720"/>
            <a:ext cx="582480" cy="79200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22"/>
          <p:cNvSpPr/>
          <p:nvPr/>
        </p:nvSpPr>
        <p:spPr>
          <a:xfrm>
            <a:off x="4211640" y="4005360"/>
            <a:ext cx="451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 is declared in the body of P1, not reachable from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23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38320" cy="2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The Ada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package is the base of software architecture in 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’s a semantic entity checked by the 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separates clearly a specification and an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19240" y="3657600"/>
          <a:ext cx="7169040" cy="2651040"/>
        </p:xfrm>
        <a:graphic>
          <a:graphicData uri="http://schemas.openxmlformats.org/drawingml/2006/table">
            <a:tbl>
              <a:tblPr/>
              <a:tblGrid>
                <a:gridCol w="3585960"/>
                <a:gridCol w="3583080"/>
              </a:tblGrid>
              <a:tr h="265104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h *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ifndef __P_H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define __P_H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* p.c *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() {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143000" y="2560680"/>
          <a:ext cx="3002040" cy="173664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173664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5286240" y="2560680"/>
          <a:ext cx="2716200" cy="173664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73664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1.T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143000" y="2560680"/>
          <a:ext cx="3002040" cy="173664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173664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5286240" y="2560680"/>
          <a:ext cx="2716200" cy="173664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73664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1.T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2" name="Oval 14"/>
          <p:cNvSpPr/>
          <p:nvPr/>
        </p:nvSpPr>
        <p:spPr>
          <a:xfrm>
            <a:off x="5148360" y="2565360"/>
            <a:ext cx="1079280" cy="2872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 flipH="1">
            <a:off x="4641840" y="2852640"/>
            <a:ext cx="1047600" cy="208908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2627280" y="5084640"/>
            <a:ext cx="35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re is a circularity between P1 and 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7"/>
          <p:cNvSpPr/>
          <p:nvPr/>
        </p:nvSpPr>
        <p:spPr>
          <a:xfrm>
            <a:off x="1042920" y="2565360"/>
            <a:ext cx="1081080" cy="2872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1584360" y="2852640"/>
            <a:ext cx="3058920" cy="208908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19" descr=""/>
          <p:cNvPicPr/>
          <p:nvPr/>
        </p:nvPicPr>
        <p:blipFill>
          <a:blip r:embed="rId1"/>
          <a:stretch/>
        </p:blipFill>
        <p:spPr>
          <a:xfrm>
            <a:off x="4836960" y="261468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0" descr=""/>
          <p:cNvPicPr/>
          <p:nvPr/>
        </p:nvPicPr>
        <p:blipFill>
          <a:blip r:embed="rId2"/>
          <a:stretch/>
        </p:blipFill>
        <p:spPr>
          <a:xfrm>
            <a:off x="733320" y="2565360"/>
            <a:ext cx="238320" cy="2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500120" y="1857240"/>
          <a:ext cx="3002040" cy="173700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173700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357880" y="185724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5357880" y="4780080"/>
          <a:ext cx="2716200" cy="137160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00120" y="1857240"/>
          <a:ext cx="3002040" cy="1737000"/>
        </p:xfrm>
        <a:graphic>
          <a:graphicData uri="http://schemas.openxmlformats.org/drawingml/2006/table">
            <a:tbl>
              <a:tblPr/>
              <a:tblGrid>
                <a:gridCol w="3002040"/>
              </a:tblGrid>
              <a:tr h="1737000">
                <a:tc>
                  <a:txBody>
                    <a:bodyPr lIns="90000" rIns="90000" tIns="54360" bIns="4536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P2.T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5357880" y="185724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5357880" y="4780080"/>
          <a:ext cx="2716200" cy="137160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T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7" name="Text Box 20"/>
          <p:cNvSpPr/>
          <p:nvPr/>
        </p:nvSpPr>
        <p:spPr>
          <a:xfrm>
            <a:off x="684360" y="4365720"/>
            <a:ext cx="371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re is no circularity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P1 depends only the spec of 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body of P2 depends on the spec of P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21"/>
          <p:cNvSpPr/>
          <p:nvPr/>
        </p:nvSpPr>
        <p:spPr>
          <a:xfrm>
            <a:off x="6516720" y="2924280"/>
            <a:ext cx="1440" cy="172872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22"/>
          <p:cNvSpPr/>
          <p:nvPr/>
        </p:nvSpPr>
        <p:spPr>
          <a:xfrm>
            <a:off x="3564000" y="3573360"/>
            <a:ext cx="2844720" cy="115092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23"/>
          <p:cNvSpPr/>
          <p:nvPr/>
        </p:nvSpPr>
        <p:spPr>
          <a:xfrm flipH="1">
            <a:off x="4570560" y="2421000"/>
            <a:ext cx="723600" cy="144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071720" y="2025720"/>
          <a:ext cx="2644560" cy="100656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4786200" y="4786200"/>
          <a:ext cx="2430720" cy="1428840"/>
        </p:xfrm>
        <a:graphic>
          <a:graphicData uri="http://schemas.openxmlformats.org/drawingml/2006/table">
            <a:tbl>
              <a:tblPr/>
              <a:tblGrid>
                <a:gridCol w="2430720"/>
              </a:tblGrid>
              <a:tr h="14288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4786200" y="2217600"/>
          <a:ext cx="2216160" cy="64008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64008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071720" y="2025720"/>
          <a:ext cx="2644560" cy="100656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4786200" y="4786200"/>
          <a:ext cx="2430720" cy="1428840"/>
        </p:xfrm>
        <a:graphic>
          <a:graphicData uri="http://schemas.openxmlformats.org/drawingml/2006/table">
            <a:tbl>
              <a:tblPr/>
              <a:tblGrid>
                <a:gridCol w="2430720"/>
              </a:tblGrid>
              <a:tr h="14288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786200" y="2217600"/>
          <a:ext cx="2216160" cy="64008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64008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9" name="Text Box 20"/>
          <p:cNvSpPr/>
          <p:nvPr/>
        </p:nvSpPr>
        <p:spPr>
          <a:xfrm>
            <a:off x="755640" y="4005360"/>
            <a:ext cx="427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child package has use-visibility over its par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405080" y="2743200"/>
          <a:ext cx="2216160" cy="137160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5024520" y="292572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405080" y="2743200"/>
          <a:ext cx="2216160" cy="137160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371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024520" y="2925720"/>
          <a:ext cx="2716200" cy="1006560"/>
        </p:xfrm>
        <a:graphic>
          <a:graphicData uri="http://schemas.openxmlformats.org/drawingml/2006/table">
            <a:tbl>
              <a:tblPr/>
              <a:tblGrid>
                <a:gridCol w="271620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6" name="Oval 14"/>
          <p:cNvSpPr/>
          <p:nvPr/>
        </p:nvSpPr>
        <p:spPr>
          <a:xfrm>
            <a:off x="1835280" y="2708280"/>
            <a:ext cx="1081080" cy="2890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5"/>
          <p:cNvSpPr/>
          <p:nvPr/>
        </p:nvSpPr>
        <p:spPr>
          <a:xfrm>
            <a:off x="2376360" y="2997360"/>
            <a:ext cx="698760" cy="2087280"/>
          </a:xfrm>
          <a:prstGeom prst="line">
            <a:avLst/>
          </a:prstGeom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1403280" y="5084640"/>
            <a:ext cx="333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child always  depends on its par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is create a circularity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17" descr=""/>
          <p:cNvPicPr/>
          <p:nvPr/>
        </p:nvPicPr>
        <p:blipFill>
          <a:blip r:embed="rId1"/>
          <a:stretch/>
        </p:blipFill>
        <p:spPr>
          <a:xfrm>
            <a:off x="1116000" y="2757600"/>
            <a:ext cx="237960" cy="2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714680" y="2357280"/>
          <a:ext cx="2215800" cy="714600"/>
        </p:xfrm>
        <a:graphic>
          <a:graphicData uri="http://schemas.openxmlformats.org/drawingml/2006/table">
            <a:tbl>
              <a:tblPr/>
              <a:tblGrid>
                <a:gridCol w="2215800"/>
              </a:tblGrid>
              <a:tr h="714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714680" y="4222800"/>
          <a:ext cx="2430360" cy="1428840"/>
        </p:xfrm>
        <a:graphic>
          <a:graphicData uri="http://schemas.openxmlformats.org/drawingml/2006/table">
            <a:tbl>
              <a:tblPr/>
              <a:tblGrid>
                <a:gridCol w="2430360"/>
              </a:tblGrid>
              <a:tr h="14288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5357880" y="2214720"/>
          <a:ext cx="2573280" cy="100620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10062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"/>
          <p:cNvSpPr/>
          <p:nvPr/>
        </p:nvSpPr>
        <p:spPr>
          <a:xfrm>
            <a:off x="428472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714680" y="2357280"/>
          <a:ext cx="2215800" cy="714600"/>
        </p:xfrm>
        <a:graphic>
          <a:graphicData uri="http://schemas.openxmlformats.org/drawingml/2006/table">
            <a:tbl>
              <a:tblPr/>
              <a:tblGrid>
                <a:gridCol w="2215800"/>
              </a:tblGrid>
              <a:tr h="7146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1714680" y="4222800"/>
          <a:ext cx="2430360" cy="1428840"/>
        </p:xfrm>
        <a:graphic>
          <a:graphicData uri="http://schemas.openxmlformats.org/drawingml/2006/table">
            <a:tbl>
              <a:tblPr/>
              <a:tblGrid>
                <a:gridCol w="2430360"/>
              </a:tblGrid>
              <a:tr h="14288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P1.Child.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357880" y="2214720"/>
          <a:ext cx="2573280" cy="100620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10062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.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8" name="Text Box 20"/>
          <p:cNvSpPr/>
          <p:nvPr/>
        </p:nvSpPr>
        <p:spPr>
          <a:xfrm>
            <a:off x="4141080" y="4581360"/>
            <a:ext cx="489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body of P1 depends on the specification of P1.Chi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1"/>
          <p:cNvSpPr/>
          <p:nvPr/>
        </p:nvSpPr>
        <p:spPr>
          <a:xfrm>
            <a:off x="2771640" y="3068640"/>
            <a:ext cx="1800" cy="108108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2"/>
          <p:cNvSpPr/>
          <p:nvPr/>
        </p:nvSpPr>
        <p:spPr>
          <a:xfrm flipH="1">
            <a:off x="2914200" y="2924280"/>
            <a:ext cx="2235240" cy="122544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3"/>
          <p:cNvSpPr/>
          <p:nvPr/>
        </p:nvSpPr>
        <p:spPr>
          <a:xfrm flipV="1">
            <a:off x="3924360" y="2698920"/>
            <a:ext cx="1224000" cy="10800"/>
          </a:xfrm>
          <a:prstGeom prst="line">
            <a:avLst/>
          </a:prstGeom>
          <a:ln cap="sq" w="25560">
            <a:solidFill>
              <a:srgbClr val="41941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General Structure of a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ntities should be put in the body except if they have to be ex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body is easier to change than th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285920" y="1268280"/>
          <a:ext cx="6573960" cy="2708280"/>
        </p:xfrm>
        <a:graphic>
          <a:graphicData uri="http://schemas.openxmlformats.org/drawingml/2006/table">
            <a:tbl>
              <a:tblPr/>
              <a:tblGrid>
                <a:gridCol w="6573960"/>
              </a:tblGrid>
              <a:tr h="270828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public part of the specif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, exceptions, tasks…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visible to the external us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by the compiler for all depend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--  bo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declaration of subprograms, variables, exceptions, tasks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</a:t>
                      </a:r>
                      <a:r>
                        <a:rPr b="0" i="1" lang="en-US" sz="1200" spc="-1" strike="noStrike">
                          <a:solidFill>
                            <a:srgbClr val="3366ff"/>
                          </a:solidFill>
                          <a:latin typeface="Courier New"/>
                        </a:rPr>
                        <a:t>implementation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 subprogram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used for the compiler from 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in certain cases, visible from the compiler for depend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77920" y="907920"/>
          <a:ext cx="6095880" cy="2941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941920">
                <a:tc>
                  <a:txBody>
                    <a:bodyPr lIns="90000" rIns="90000" tIns="540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_Stack_Array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0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ack_Int_Typ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ata : Int_Stack_Array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st : Integer := 0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; Val : Integer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ty_Stack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 :=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(Data =&gt; (others =&gt; 0), Last =&gt; 0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798640" y="3860640"/>
          <a:ext cx="6096240" cy="27082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08280">
                <a:tc>
                  <a:txBody>
                    <a:bodyPr lIns="90000" rIns="90000" tIns="55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; Val : Integer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Last := S.Last + 1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Data (S.Last) := Val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sh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 (S :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ack_Int_Type)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.Last := S.Last - 1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 S.Data (S.Last + 1)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p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_Stack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ccessing components of a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ly entities declared in the public part are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ntities are referenced through the dot 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714920" y="2428920"/>
          <a:ext cx="2073240" cy="100656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1500120" y="2428920"/>
          <a:ext cx="2216160" cy="100656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ub_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4643280" y="3786120"/>
          <a:ext cx="2430720" cy="2103480"/>
        </p:xfrm>
        <a:graphic>
          <a:graphicData uri="http://schemas.openxmlformats.org/drawingml/2006/table">
            <a:tbl>
              <a:tblPr/>
              <a:tblGrid>
                <a:gridCol w="2430720"/>
              </a:tblGrid>
              <a:tr h="210348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.Pub_Proc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1.Priv_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500120" y="3720960"/>
          <a:ext cx="2216160" cy="1006560"/>
        </p:xfrm>
        <a:graphic>
          <a:graphicData uri="http://schemas.openxmlformats.org/drawingml/2006/table">
            <a:tbl>
              <a:tblPr/>
              <a:tblGrid>
                <a:gridCol w="22161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v_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87" name="Picture 27" descr=""/>
          <p:cNvPicPr/>
          <p:nvPr/>
        </p:nvPicPr>
        <p:blipFill>
          <a:blip r:embed="rId1"/>
          <a:stretch/>
        </p:blipFill>
        <p:spPr>
          <a:xfrm>
            <a:off x="4332240" y="5062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Child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69280" indent="-269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child unit is an extension of a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be used to organize the namespace or break big packages into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hild units have visibility over pa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Generally speaking, it’s a good habit to break functionality into packages</a:t>
            </a: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 as much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571920" y="3449520"/>
          <a:ext cx="2073240" cy="863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863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285840" y="3676680"/>
          <a:ext cx="2073240" cy="863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863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1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3571920" y="4449600"/>
          <a:ext cx="2073240" cy="863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863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786720" y="3676680"/>
          <a:ext cx="2073240" cy="863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863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3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3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3000240" y="5445000"/>
          <a:ext cx="3502080" cy="863640"/>
        </p:xfrm>
        <a:graphic>
          <a:graphicData uri="http://schemas.openxmlformats.org/drawingml/2006/table">
            <a:tbl>
              <a:tblPr/>
              <a:tblGrid>
                <a:gridCol w="3502080"/>
              </a:tblGrid>
              <a:tr h="863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p-child_2-grand_child.a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.Child_2.Grand_Child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ull dependencies (“with claus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With clause” defines a dependency between two pack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Gives access to all the public decla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an be applied to the spec or the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 dependency is normally done to a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pecification with” applies to the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pecification with” applies to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here is no other tra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bout the usage of the "with"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ith is a highly overloaded Ada reserved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used to declare a dependency between two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used to introduce an asp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can be used to extend a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d others situations a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564000" y="4149720"/>
          <a:ext cx="2490840" cy="457200"/>
        </p:xfrm>
        <a:graphic>
          <a:graphicData uri="http://schemas.openxmlformats.org/drawingml/2006/table">
            <a:tbl>
              <a:tblPr/>
              <a:tblGrid>
                <a:gridCol w="2490840"/>
              </a:tblGrid>
              <a:tr h="4572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line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564000" y="5229360"/>
          <a:ext cx="2490840" cy="463320"/>
        </p:xfrm>
        <a:graphic>
          <a:graphicData uri="http://schemas.openxmlformats.org/drawingml/2006/table">
            <a:tbl>
              <a:tblPr/>
              <a:tblGrid>
                <a:gridCol w="2490840"/>
              </a:tblGrid>
              <a:tr h="46332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635280" y="2924280"/>
          <a:ext cx="2490840" cy="458640"/>
        </p:xfrm>
        <a:graphic>
          <a:graphicData uri="http://schemas.openxmlformats.org/drawingml/2006/table">
            <a:tbl>
              <a:tblPr/>
              <a:tblGrid>
                <a:gridCol w="2490840"/>
              </a:tblGrid>
              <a:tr h="458640">
                <a:tc>
                  <a:txBody>
                    <a:bodyPr lIns="90000" rIns="90000" tIns="55080" bIns="4608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a.Text_IO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i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316080" y="23184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Dependency shortcut (“use claus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85800" y="114300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refix may be over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“use clause” allows omit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introduce ambigu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be placed in any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071720" y="3375000"/>
          <a:ext cx="2644560" cy="118908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118908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643280" y="3252960"/>
          <a:ext cx="2430720" cy="3200400"/>
        </p:xfrm>
        <a:graphic>
          <a:graphicData uri="http://schemas.openxmlformats.org/drawingml/2006/table">
            <a:tbl>
              <a:tblPr/>
              <a:tblGrid>
                <a:gridCol w="2430720"/>
              </a:tblGrid>
              <a:tr h="320040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1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2;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d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X : 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1.Proc1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P2.Proc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071720" y="4700520"/>
          <a:ext cx="2644560" cy="100656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100656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oc1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2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07" name="Picture 21" descr=""/>
          <p:cNvPicPr/>
          <p:nvPr/>
        </p:nvPicPr>
        <p:blipFill>
          <a:blip r:embed="rId1"/>
          <a:stretch/>
        </p:blipFill>
        <p:spPr>
          <a:xfrm>
            <a:off x="4332240" y="414972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2" descr=""/>
          <p:cNvPicPr/>
          <p:nvPr/>
        </p:nvPicPr>
        <p:blipFill>
          <a:blip r:embed="rId2"/>
          <a:stretch/>
        </p:blipFill>
        <p:spPr>
          <a:xfrm>
            <a:off x="4332240" y="5278320"/>
            <a:ext cx="239760" cy="2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dcterms:modified xsi:type="dcterms:W3CDTF">2017-10-02T13:45:18Z</dcterms:modified>
  <cp:revision>195</cp:revision>
  <dc:subject/>
  <dc:title>Diapositive 1</dc:title>
</cp:coreProperties>
</file>