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5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BC60-710B-4471-9D4D-0C8773FDD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 Ada type is a unique entity throughout a programs source code and has attributes such as range specified at its declarat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ubtypes play a very central role in the Ada typing model and are a special designation of an Ada type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When a subtype is declared it may be associated with additional constraints but is certainly not a new type and in fact operations are permitted between a type and its subtypes, possibly with additional check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With that in mind we see in this example a Natural subtype of Integer from 0 up to and including the last value in the range of Integer.  We also have a second subtype of Integer called Positive that has the range 1 up to and including the last value in the range of Intege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V1 is of type Integer and initialised with the value Zero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It is legal to then assign V1 to the object V2 that is an instance of the Natural subtype because an Integer Zero is in the range of the subtype Natural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However the last line of code is incorrect because the assignment of V1 to V3 is invalid due to Zero being outside the range of Positiv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453A-D6B0-43B6-B105-15E0E29748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EF64-CE1C-4D5E-999F-AF12A3AD7E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DF2F-5C0D-40D8-BD69-1844FB7ABF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DA2C-B2B8-43E5-91F3-34C41CA939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B648-48D0-4264-A179-0230448E61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4926-E896-465E-8EB7-DB9827F72C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F5E9-C67E-4C7C-9B60-CBE1044C18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D3C3-9A38-4757-80A2-6D8F56C053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EFAF-38D1-486A-BCEF-8B163400CC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7929-185D-4462-BEE4-99AECA950F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627A-DA62-4DC2-861D-DD1159E9FA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09A5-FF0C-4CF7-B8C2-7C7D002536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B091-7B9C-452F-8FE2-438DCFEC73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0490-5B0A-479F-B63C-95DF15DD12D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72BB-1E44-4202-9646-C666485939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DF4C-7DBF-4983-BCDF-F6D7B52866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C958-CCD0-41B9-8EAA-73B99ECEA0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99E1-863D-443C-8ED2-E9839CDC31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8889-0F2C-43A2-9E2E-7AE2189FEF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4C31-69F6-41D8-9B54-8323448198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8166-1814-4116-BB37-3F22C8EED0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fourth question declares type T as derived from Integer with a constraint on the inherited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wo stack objects are created, V1 of type Integer that is explicitly initialised, and V2 of the derived type T and it is explicitly initialised to the value of V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tick icon if you believe the code is correct or the location within the code you suspect is w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64FB-7CED-4B55-BD46-E62575CE1D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code is in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ype T1 and Integer are two different types so a straight assignment is inva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member that derived types inherit nothing from the parent type other than the data structure and any primitive ope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E407-E681-4306-8F0F-E0DE8B202E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next question makes a slight modification to the code from the previous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not going to tell you what the change is and leave you to identify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tick icon if you believe the code is correct or the location within the code you suspect is w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C293-08EE-4601-AF7F-532DF97780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code is 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hope you spotted that the key change was type T was no longer derived from Integer but it is now a subtype of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essentially means T and Integer are of the same type so direct assignments between them are perfectly leg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BEFB-C765-4E0B-9614-811F5A1924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stion 6 now focuses on the use of subtypes using a more complex exa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re we present two subtypes, Positive and Natur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itive is a subtype of Integer with the range constrained from 1 upto the last permitted value of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tural is a subtype of Positive with the range constrained from 0 upto the last permitted value of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tick icon if you believe the code is correct or the location within the code you suspect is w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F1A1-8622-4011-A4ED-751C97453E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code is in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t will pass compilation but a CONSTRAINT_ERROR exception will be raised at run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roblem is with the range of the subtype Natural.  It includes 0 but the range of the parent type starts at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ubtypes are permitted to extend the range of the parent type but not to reduce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54E4-02B7-452E-B58D-956D122DEB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C6A32B5-15D7-42A0-AFDB-E8538419F74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7D493C9-99DA-4BFF-87A4-06A8DF51A75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055CF8A-9E52-4756-954E-04C807ABE27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28E050A-C2D8-437E-8117-D3B77E1BC37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daCoreU-isolated.png"/>
          <p:cNvPicPr/>
          <p:nvPr/>
        </p:nvPicPr>
        <p:blipFill>
          <a:blip r:embed="rId3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98A9F74-7F79-4CA0-8EC6-9BBC27BC403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F599162-03A0-457D-8B69-40B79C2EABA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1619280" y="4221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university.adaco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AdaCoreU-isolated.png"/>
          <p:cNvPicPr/>
          <p:nvPr/>
        </p:nvPicPr>
        <p:blipFill>
          <a:blip r:embed="rId3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3BC0433-6D30-4B92-8AE2-A3756D70E6B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0" name="TextBox 7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C:\Users\ochem\AppData\Local\Temp\Rar$DR28.624\AdaCoreU Package\icons\quiz.png"/>
            <p:cNvPicPr/>
            <p:nvPr/>
          </p:nvPicPr>
          <p:blipFill>
            <a:blip r:embed="rId3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9EB803C-5718-439E-99A6-86257EF2122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103544F-B1E3-437D-B54C-58B5F770485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9F110B4-E4B5-477C-96E4-B3B2C889570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correct.png"/>
          <p:cNvPicPr/>
          <p:nvPr/>
        </p:nvPicPr>
        <p:blipFill>
          <a:blip r:embed="rId4"/>
          <a:stretch/>
        </p:blipFill>
        <p:spPr>
          <a:xfrm>
            <a:off x="6443640" y="353880"/>
            <a:ext cx="482760" cy="4827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0554015-27F8-446D-9867-2C44D55F0D8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wrong.png"/>
          <p:cNvPicPr/>
          <p:nvPr/>
        </p:nvPicPr>
        <p:blipFill>
          <a:blip r:embed="rId4"/>
          <a:stretch/>
        </p:blipFill>
        <p:spPr>
          <a:xfrm>
            <a:off x="6443640" y="35892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342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579240" y="3933360"/>
            <a:ext cx="820548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0a6"/>
                </a:solidFill>
                <a:latin typeface="Calibri"/>
                <a:ea typeface="ヒラギノ角ゴ ProN W3"/>
              </a:rPr>
              <a:t>Basic Types</a:t>
            </a:r>
            <a:endParaRPr b="1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79240" y="4581360"/>
            <a:ext cx="82054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a1a1a"/>
              </a:solidFill>
              <a:latin typeface="Calibri"/>
              <a:ea typeface="ヒラギノ角ゴ ProN W3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0920" y="4941720"/>
            <a:ext cx="82040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Calibri"/>
                <a:ea typeface="ヒラギノ角ゴ ProN W3"/>
              </a:rPr>
              <a:t>university.adacore.com</a:t>
            </a:r>
            <a:endParaRPr b="1" lang="en-US" sz="1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da Type Model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8" name="Content Placeholder 3" descr=""/>
          <p:cNvPicPr/>
          <p:nvPr/>
        </p:nvPicPr>
        <p:blipFill>
          <a:blip r:embed="rId1"/>
          <a:stretch/>
        </p:blipFill>
        <p:spPr>
          <a:xfrm>
            <a:off x="-49320" y="115920"/>
            <a:ext cx="90280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da Type Model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0" name="Content Placeholder 3" descr=""/>
          <p:cNvPicPr/>
          <p:nvPr/>
        </p:nvPicPr>
        <p:blipFill>
          <a:blip r:embed="rId1"/>
          <a:stretch/>
        </p:blipFill>
        <p:spPr>
          <a:xfrm>
            <a:off x="-49320" y="115920"/>
            <a:ext cx="90280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calar, Discrete and Real Typ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scalar type is a “single” valu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er, floating point, enumerations are al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al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calar types are divided between “discrete” types (that have a finite number of values) and “continuous” typ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ome scalar types are associated with numerical opera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03" name="Content Placeholder 3" descr=""/>
          <p:cNvPicPr/>
          <p:nvPr/>
        </p:nvPicPr>
        <p:blipFill>
          <a:blip r:embed="rId1"/>
          <a:stretch/>
        </p:blipFill>
        <p:spPr>
          <a:xfrm>
            <a:off x="6572160" y="115920"/>
            <a:ext cx="25844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tandard Typ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igned Integer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_Integer, Integer, Long_Integer, Long_Long_Inte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Enumera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, Bool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Floating Poin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_Float, Float, Long_Float, Long_Long_Flo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ustom Types Declar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Integer types are defined by a range of values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Enumeration types are defined by a list of values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Float types are defined by  a minimal number of significant (decimal) digits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A range will decrease performances of floating point types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403280" y="1700280"/>
          <a:ext cx="6096240" cy="6490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64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co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2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ercentag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100 .. 10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876240" y="4940280"/>
          <a:ext cx="7656480" cy="720720"/>
        </p:xfrm>
        <a:graphic>
          <a:graphicData uri="http://schemas.openxmlformats.org/drawingml/2006/table">
            <a:tbl>
              <a:tblPr/>
              <a:tblGrid>
                <a:gridCol w="76564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istanc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git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emperatu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git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5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273.15 .. 1_000_000.0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1403280" y="2997360"/>
          <a:ext cx="6096240" cy="647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6476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lo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Red, Green, Blue, Yellow, Black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ernar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True, False, Unknown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11" name="Picture 23" descr="C:\Users\ochem3\Desktop\AdaCoreU Package\AdaCoreU Package\icons\hazard.png"/>
          <p:cNvPicPr/>
          <p:nvPr/>
        </p:nvPicPr>
        <p:blipFill>
          <a:blip r:embed="rId1"/>
          <a:stretch/>
        </p:blipFill>
        <p:spPr>
          <a:xfrm>
            <a:off x="709560" y="587700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reating a Type from an Existing Typ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 is possible to create a new type based on an existing typ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new type can restrict the range of valu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403280" y="2417760"/>
          <a:ext cx="6096240" cy="434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3488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th_Sco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core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1042920" y="4075200"/>
          <a:ext cx="6553440" cy="722160"/>
        </p:xfrm>
        <a:graphic>
          <a:graphicData uri="http://schemas.openxmlformats.org/drawingml/2006/table">
            <a:tbl>
              <a:tblPr/>
              <a:tblGrid>
                <a:gridCol w="6553440"/>
              </a:tblGrid>
              <a:tr h="7221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th_Sco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co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imary_Colo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lo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d .. Blu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Type Convers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In certain cases, types can be converted from one to the other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y’re of the same structur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ne is the derivation of the oth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Conversion needs to be explicit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Conversion may introduce a verification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2987640" y="3763800"/>
          <a:ext cx="3168720" cy="45720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Float := 0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Integer := Integer (V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2627280" y="5229360"/>
          <a:ext cx="3960720" cy="100620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1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2 := T2 (V1); -- Run-time error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ubtyp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4000" y="817200"/>
            <a:ext cx="7848360" cy="56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404040"/>
                </a:solidFill>
                <a:latin typeface="Calibri"/>
              </a:rPr>
              <a:t>A type is a consistent semantic entity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404040"/>
                </a:solidFill>
                <a:latin typeface="Calibri"/>
              </a:rPr>
              <a:t>A subtype may be associated with additional constraints but is not a new typ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404040"/>
                </a:solidFill>
                <a:latin typeface="Calibri"/>
              </a:rPr>
              <a:t>Operations between a type and its subtypes are allowed, possibly with additional check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859040" y="4894200"/>
          <a:ext cx="5976720" cy="1371600"/>
        </p:xfrm>
        <a:graphic>
          <a:graphicData uri="http://schemas.openxmlformats.org/drawingml/2006/table">
            <a:tbl>
              <a:tblPr/>
              <a:tblGrid>
                <a:gridCol w="597672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Integer'La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ve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Integer'La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Integer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Natural := V1; -- 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V3 : Positive := V1; -- BAD, exce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23" name="Picture 8" descr="wrong.png"/>
          <p:cNvPicPr/>
          <p:nvPr/>
        </p:nvPicPr>
        <p:blipFill>
          <a:blip r:embed="rId1"/>
          <a:stretch/>
        </p:blipFill>
        <p:spPr>
          <a:xfrm>
            <a:off x="1476360" y="601020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da Operator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mmon to Signed and Floating Point Typ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1042920" y="3346560"/>
          <a:ext cx="6985080" cy="369720"/>
        </p:xfrm>
        <a:graphic>
          <a:graphicData uri="http://schemas.openxmlformats.org/drawingml/2006/table">
            <a:tbl>
              <a:tblPr/>
              <a:tblGrid>
                <a:gridCol w="582840"/>
                <a:gridCol w="581040"/>
                <a:gridCol w="582480"/>
                <a:gridCol w="582480"/>
                <a:gridCol w="581040"/>
                <a:gridCol w="582840"/>
                <a:gridCol w="582480"/>
                <a:gridCol w="581040"/>
                <a:gridCol w="582480"/>
                <a:gridCol w="582840"/>
                <a:gridCol w="581040"/>
                <a:gridCol w="58248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ttribut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n attribute is a standard property of an Ada entity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ccessed through '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Different set of attributes are available depending of the category of the typ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Exampl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547640" y="3370320"/>
          <a:ext cx="6096240" cy="274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: String := Integer'Image (4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80880" y="2940120"/>
            <a:ext cx="8382240" cy="97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A Few Syntactical Notes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ample of Attributes Specific to all Scalar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1" name="Content Placeholder 3" descr=""/>
          <p:cNvPicPr/>
          <p:nvPr/>
        </p:nvPicPr>
        <p:blipFill>
          <a:blip r:embed="rId1"/>
          <a:stretch/>
        </p:blipFill>
        <p:spPr>
          <a:xfrm>
            <a:off x="6572160" y="115920"/>
            <a:ext cx="2584440" cy="25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2" name=""/>
          <p:cNvGraphicFramePr/>
          <p:nvPr/>
        </p:nvGraphicFramePr>
        <p:xfrm>
          <a:off x="1258920" y="2276640"/>
          <a:ext cx="6095880" cy="3047760"/>
        </p:xfrm>
        <a:graphic>
          <a:graphicData uri="http://schemas.openxmlformats.org/drawingml/2006/table">
            <a:tbl>
              <a:tblPr/>
              <a:tblGrid>
                <a:gridCol w="1871640"/>
                <a:gridCol w="4224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ttribut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cu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urns the first value of the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urns the last value of the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a value to its corresponding St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a String to its corresponding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 (X, 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urns the maximum of two val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 (X, 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urns the minimum of two val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urns the previous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c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urns the next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valent of T’First ..T’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ample of Attributes Specific to Discrete Typ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4" name="Content Placeholder 3" descr=""/>
          <p:cNvPicPr/>
          <p:nvPr/>
        </p:nvPicPr>
        <p:blipFill>
          <a:blip r:embed="rId1"/>
          <a:stretch/>
        </p:blipFill>
        <p:spPr>
          <a:xfrm>
            <a:off x="6572160" y="115920"/>
            <a:ext cx="2584440" cy="25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5" name=""/>
          <p:cNvGraphicFramePr/>
          <p:nvPr/>
        </p:nvGraphicFramePr>
        <p:xfrm>
          <a:off x="1258920" y="2276640"/>
          <a:ext cx="6095880" cy="914400"/>
        </p:xfrm>
        <a:graphic>
          <a:graphicData uri="http://schemas.openxmlformats.org/drawingml/2006/table">
            <a:tbl>
              <a:tblPr/>
              <a:tblGrid>
                <a:gridCol w="1871640"/>
                <a:gridCol w="4224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ttribut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cu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urns the position of the value in the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urns a value according to its po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1403280" y="5059440"/>
          <a:ext cx="6096240" cy="4572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Character := Character’Val (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 : Next_Character := Character’Val (Character’Pos (V) +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ample of Attributes Specific to Floating Poi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nversion Float to Integer is using Rounding, not Truncation!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39" name="Content Placeholder 3" descr=""/>
          <p:cNvPicPr/>
          <p:nvPr/>
        </p:nvPicPr>
        <p:blipFill>
          <a:blip r:embed="rId1"/>
          <a:stretch/>
        </p:blipFill>
        <p:spPr>
          <a:xfrm>
            <a:off x="6572160" y="115920"/>
            <a:ext cx="2584440" cy="25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0" name=""/>
          <p:cNvGraphicFramePr/>
          <p:nvPr/>
        </p:nvGraphicFramePr>
        <p:xfrm>
          <a:off x="1258920" y="2924280"/>
          <a:ext cx="6095880" cy="1828800"/>
        </p:xfrm>
        <a:graphic>
          <a:graphicData uri="http://schemas.openxmlformats.org/drawingml/2006/table">
            <a:tbl>
              <a:tblPr/>
              <a:tblGrid>
                <a:gridCol w="1871640"/>
                <a:gridCol w="4224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ttribut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cu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598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iling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urns the smallest integral value after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or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urns the largest integral value before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ncation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ncates towards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unding 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unds to the closest inte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e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inder (X, 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urns the remainder of the Euclidian div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b"/>
                    </a:solidFill>
                  </a:tcPr>
                </a:tc>
              </a:tr>
            </a:tbl>
          </a:graphicData>
        </a:graphic>
      </p:graphicFrame>
      <p:pic>
        <p:nvPicPr>
          <p:cNvPr id="541" name="Picture 23" descr="C:\Users\ochem3\Desktop\AdaCoreU Package\AdaCoreU Package\icons\hazard.png"/>
          <p:cNvPicPr/>
          <p:nvPr/>
        </p:nvPicPr>
        <p:blipFill>
          <a:blip r:embed="rId2"/>
          <a:stretch/>
        </p:blipFill>
        <p:spPr>
          <a:xfrm>
            <a:off x="684360" y="5398920"/>
            <a:ext cx="333360" cy="3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2484360" y="3213000"/>
          <a:ext cx="3591000" cy="457200"/>
        </p:xfrm>
        <a:graphic>
          <a:graphicData uri="http://schemas.openxmlformats.org/drawingml/2006/table">
            <a:tbl>
              <a:tblPr/>
              <a:tblGrid>
                <a:gridCol w="359100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7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V +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2484360" y="3213000"/>
          <a:ext cx="3591000" cy="457200"/>
        </p:xfrm>
        <a:graphic>
          <a:graphicData uri="http://schemas.openxmlformats.org/drawingml/2006/table">
            <a:tbl>
              <a:tblPr/>
              <a:tblGrid>
                <a:gridCol w="359100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7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V +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6" name="Oval 2"/>
          <p:cNvSpPr/>
          <p:nvPr/>
        </p:nvSpPr>
        <p:spPr>
          <a:xfrm>
            <a:off x="2502000" y="3357720"/>
            <a:ext cx="315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3"/>
          <p:cNvSpPr/>
          <p:nvPr/>
        </p:nvSpPr>
        <p:spPr>
          <a:xfrm>
            <a:off x="2658960" y="3645000"/>
            <a:ext cx="311400" cy="79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4"/>
          <p:cNvSpPr/>
          <p:nvPr/>
        </p:nvSpPr>
        <p:spPr>
          <a:xfrm>
            <a:off x="1765800" y="4489560"/>
            <a:ext cx="35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, V is already decl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8" descr="wrong.png"/>
          <p:cNvPicPr/>
          <p:nvPr/>
        </p:nvPicPr>
        <p:blipFill>
          <a:blip r:embed="rId1"/>
          <a:stretch/>
        </p:blipFill>
        <p:spPr>
          <a:xfrm>
            <a:off x="2197080" y="340668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2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700360" y="3213000"/>
          <a:ext cx="3814920" cy="274680"/>
        </p:xfrm>
        <a:graphic>
          <a:graphicData uri="http://schemas.openxmlformats.org/drawingml/2006/table">
            <a:tbl>
              <a:tblPr/>
              <a:tblGrid>
                <a:gridCol w="381492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2 ** 256 .. 2 ** 256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2700360" y="3213000"/>
          <a:ext cx="3814920" cy="274680"/>
        </p:xfrm>
        <a:graphic>
          <a:graphicData uri="http://schemas.openxmlformats.org/drawingml/2006/table">
            <a:tbl>
              <a:tblPr/>
              <a:tblGrid>
                <a:gridCol w="381492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2 ** 256 .. 2 ** 256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2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Oval 2"/>
          <p:cNvSpPr/>
          <p:nvPr/>
        </p:nvSpPr>
        <p:spPr>
          <a:xfrm>
            <a:off x="4284720" y="3213000"/>
            <a:ext cx="224460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3"/>
          <p:cNvSpPr/>
          <p:nvPr/>
        </p:nvSpPr>
        <p:spPr>
          <a:xfrm flipH="1">
            <a:off x="4643280" y="3500280"/>
            <a:ext cx="763920" cy="792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"/>
          <p:cNvSpPr/>
          <p:nvPr/>
        </p:nvSpPr>
        <p:spPr>
          <a:xfrm>
            <a:off x="2315520" y="4344840"/>
            <a:ext cx="449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is is likely to be to big on most systems today, 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so the compiler won’t be able to represent this and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will issue an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8" descr="wrong.png"/>
          <p:cNvPicPr/>
          <p:nvPr/>
        </p:nvPicPr>
        <p:blipFill>
          <a:blip r:embed="rId1"/>
          <a:stretch/>
        </p:blipFill>
        <p:spPr>
          <a:xfrm>
            <a:off x="2387520" y="321300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3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2484360" y="3213000"/>
          <a:ext cx="3591000" cy="274680"/>
        </p:xfrm>
        <a:graphic>
          <a:graphicData uri="http://schemas.openxmlformats.org/drawingml/2006/table">
            <a:tbl>
              <a:tblPr/>
              <a:tblGrid>
                <a:gridCol w="359100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Float := 5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3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2484360" y="3213000"/>
          <a:ext cx="3591000" cy="274680"/>
        </p:xfrm>
        <a:graphic>
          <a:graphicData uri="http://schemas.openxmlformats.org/drawingml/2006/table">
            <a:tbl>
              <a:tblPr/>
              <a:tblGrid>
                <a:gridCol w="359100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Float := 5.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2" name="TextBox 4"/>
          <p:cNvSpPr/>
          <p:nvPr/>
        </p:nvSpPr>
        <p:spPr>
          <a:xfrm>
            <a:off x="5440320" y="364500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Identifier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Ada identifiers are case insensitive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ELLO = hello = Hell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Start with a letter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Ends with a letter or a number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May contain non-consecutive underscores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Which of the following are legal?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ometh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y__I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_Hell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_67_9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_CONS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09_A_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YOP_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74" name="Picture 5" descr="quiz.png"/>
          <p:cNvPicPr/>
          <p:nvPr/>
        </p:nvPicPr>
        <p:blipFill>
          <a:blip r:embed="rId1"/>
          <a:stretch/>
        </p:blipFill>
        <p:spPr>
          <a:xfrm>
            <a:off x="468360" y="35020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4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2484360" y="3213000"/>
          <a:ext cx="4175280" cy="457200"/>
        </p:xfrm>
        <a:graphic>
          <a:graphicData uri="http://schemas.openxmlformats.org/drawingml/2006/table">
            <a:tbl>
              <a:tblPr/>
              <a:tblGrid>
                <a:gridCol w="4175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Room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tural :=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_ClassRoom : Natural := classroom +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4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484360" y="3213000"/>
          <a:ext cx="4175280" cy="457200"/>
        </p:xfrm>
        <a:graphic>
          <a:graphicData uri="http://schemas.openxmlformats.org/drawingml/2006/table">
            <a:tbl>
              <a:tblPr/>
              <a:tblGrid>
                <a:gridCol w="4175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assRoom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atural :=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_ClassRoom : Natural := classroom +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7" name="TextBox 4"/>
          <p:cNvSpPr/>
          <p:nvPr/>
        </p:nvSpPr>
        <p:spPr>
          <a:xfrm>
            <a:off x="3847680" y="3860640"/>
            <a:ext cx="29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No Error, Ada is case in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5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484360" y="3213000"/>
          <a:ext cx="4175280" cy="639720"/>
        </p:xfrm>
        <a:graphic>
          <a:graphicData uri="http://schemas.openxmlformats.org/drawingml/2006/table">
            <a:tbl>
              <a:tblPr/>
              <a:tblGrid>
                <a:gridCol w="417528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10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100 .. 1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"/>
          <p:cNvGraphicFramePr/>
          <p:nvPr/>
        </p:nvGraphicFramePr>
        <p:xfrm>
          <a:off x="2484360" y="3213000"/>
          <a:ext cx="4175280" cy="639720"/>
        </p:xfrm>
        <a:graphic>
          <a:graphicData uri="http://schemas.openxmlformats.org/drawingml/2006/table">
            <a:tbl>
              <a:tblPr/>
              <a:tblGrid>
                <a:gridCol w="417528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10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100 .. 1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5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Oval 2"/>
          <p:cNvSpPr/>
          <p:nvPr/>
        </p:nvSpPr>
        <p:spPr>
          <a:xfrm>
            <a:off x="4716360" y="3527280"/>
            <a:ext cx="122400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3"/>
          <p:cNvSpPr/>
          <p:nvPr/>
        </p:nvSpPr>
        <p:spPr>
          <a:xfrm flipH="1">
            <a:off x="3843000" y="3895560"/>
            <a:ext cx="1484280" cy="397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1976760" y="4344840"/>
            <a:ext cx="37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A range cannot be extended, only redu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8" descr="wrong.png"/>
          <p:cNvPicPr/>
          <p:nvPr/>
        </p:nvPicPr>
        <p:blipFill>
          <a:blip r:embed="rId1"/>
          <a:stretch/>
        </p:blipFill>
        <p:spPr>
          <a:xfrm>
            <a:off x="2235240" y="359244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6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2852640" y="3429000"/>
          <a:ext cx="3448080" cy="274680"/>
        </p:xfrm>
        <a:graphic>
          <a:graphicData uri="http://schemas.openxmlformats.org/drawingml/2006/table">
            <a:tbl>
              <a:tblPr/>
              <a:tblGrid>
                <a:gridCol w="344808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Float := Float'Succ (0.9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6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TextBox 4"/>
          <p:cNvSpPr/>
          <p:nvPr/>
        </p:nvSpPr>
        <p:spPr>
          <a:xfrm>
            <a:off x="2888640" y="4363920"/>
            <a:ext cx="475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rrect. Succ is available for floating point number,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and will provide the closest floating point value above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 representation of 0.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2852640" y="3429000"/>
          <a:ext cx="3448080" cy="274680"/>
        </p:xfrm>
        <a:graphic>
          <a:graphicData uri="http://schemas.openxmlformats.org/drawingml/2006/table">
            <a:tbl>
              <a:tblPr/>
              <a:tblGrid>
                <a:gridCol w="344808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Float := Float'Succ (0.9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What’s the output of this code? (7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2786040" y="3214800"/>
          <a:ext cx="3500640" cy="1006200"/>
        </p:xfrm>
        <a:graphic>
          <a:graphicData uri="http://schemas.openxmlformats.org/drawingml/2006/table">
            <a:tbl>
              <a:tblPr/>
              <a:tblGrid>
                <a:gridCol w="350064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  : Float   := 7.6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v : Integer :=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:= Float (Integer (F) / Di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Float’Image (F)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What’s the output of this code? (7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2786040" y="3214800"/>
          <a:ext cx="3500640" cy="1006200"/>
        </p:xfrm>
        <a:graphic>
          <a:graphicData uri="http://schemas.openxmlformats.org/drawingml/2006/table">
            <a:tbl>
              <a:tblPr/>
              <a:tblGrid>
                <a:gridCol w="350064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  : Float   := 7.6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v : Integer :=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:= Float (Integer (F) / Di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Float’Image (F)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5" name="TextBox 5"/>
          <p:cNvSpPr/>
          <p:nvPr/>
        </p:nvSpPr>
        <p:spPr>
          <a:xfrm>
            <a:off x="6119640" y="467820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8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2786040" y="3214800"/>
          <a:ext cx="3214800" cy="82224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A, B, C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 := T'Val ("A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:= T'Value (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8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2786040" y="3214800"/>
          <a:ext cx="3214800" cy="82224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A, B, C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 := T'Val ("A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:= T'Value (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90" name="Straight Connector 3"/>
          <p:cNvSpPr/>
          <p:nvPr/>
        </p:nvSpPr>
        <p:spPr>
          <a:xfrm>
            <a:off x="4214880" y="4005360"/>
            <a:ext cx="1744560" cy="699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"/>
          <p:cNvSpPr/>
          <p:nvPr/>
        </p:nvSpPr>
        <p:spPr>
          <a:xfrm>
            <a:off x="4286880" y="4705200"/>
            <a:ext cx="33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s. 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’Val returns a value from a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’Value returns a value from  a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2"/>
          <p:cNvSpPr/>
          <p:nvPr/>
        </p:nvSpPr>
        <p:spPr>
          <a:xfrm>
            <a:off x="3930480" y="3573360"/>
            <a:ext cx="5702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8" descr="wrong.png"/>
          <p:cNvPicPr/>
          <p:nvPr/>
        </p:nvPicPr>
        <p:blipFill>
          <a:blip r:embed="rId1"/>
          <a:stretch/>
        </p:blipFill>
        <p:spPr>
          <a:xfrm>
            <a:off x="2525760" y="3551400"/>
            <a:ext cx="239760" cy="2379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wrong.png"/>
          <p:cNvPicPr/>
          <p:nvPr/>
        </p:nvPicPr>
        <p:blipFill>
          <a:blip r:embed="rId2"/>
          <a:stretch/>
        </p:blipFill>
        <p:spPr>
          <a:xfrm>
            <a:off x="2527200" y="383868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Identifier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Ada identifiers are case insensitive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ELLO = hello = Hell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Start with a letter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Ends with a letter or a number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May contain non-consecutive underscores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Which of the following are legal?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ometh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My__I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_Hell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_67_9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_CONST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09_A_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YOP_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77" name="Picture 8" descr="wrong.png"/>
          <p:cNvPicPr/>
          <p:nvPr/>
        </p:nvPicPr>
        <p:blipFill>
          <a:blip r:embed="rId1"/>
          <a:stretch/>
        </p:blipFill>
        <p:spPr>
          <a:xfrm>
            <a:off x="1116000" y="4292640"/>
            <a:ext cx="333360" cy="3348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0" descr="wrong.png"/>
          <p:cNvPicPr/>
          <p:nvPr/>
        </p:nvPicPr>
        <p:blipFill>
          <a:blip r:embed="rId2"/>
          <a:stretch/>
        </p:blipFill>
        <p:spPr>
          <a:xfrm>
            <a:off x="1116000" y="46530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wrong.png"/>
          <p:cNvPicPr/>
          <p:nvPr/>
        </p:nvPicPr>
        <p:blipFill>
          <a:blip r:embed="rId3"/>
          <a:stretch/>
        </p:blipFill>
        <p:spPr>
          <a:xfrm>
            <a:off x="1116000" y="5300640"/>
            <a:ext cx="333360" cy="335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2" descr="wrong.png"/>
          <p:cNvPicPr/>
          <p:nvPr/>
        </p:nvPicPr>
        <p:blipFill>
          <a:blip r:embed="rId4"/>
          <a:stretch/>
        </p:blipFill>
        <p:spPr>
          <a:xfrm>
            <a:off x="1116000" y="566100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3" descr="wrong.png"/>
          <p:cNvPicPr/>
          <p:nvPr/>
        </p:nvPicPr>
        <p:blipFill>
          <a:blip r:embed="rId5"/>
          <a:stretch/>
        </p:blipFill>
        <p:spPr>
          <a:xfrm>
            <a:off x="1116000" y="602136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9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2786040" y="3214800"/>
          <a:ext cx="3214800" cy="100620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A, B, C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 := T'Value ("A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:= T'Value ("a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 : T :=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'Value (" a 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9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2786040" y="3214800"/>
          <a:ext cx="3214800" cy="100620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A, B, C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 := T'Value ("A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:= T'Value ("a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3 : T :=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'Value (" a 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99" name="TextBox 3"/>
          <p:cNvSpPr/>
          <p:nvPr/>
        </p:nvSpPr>
        <p:spPr>
          <a:xfrm>
            <a:off x="4524840" y="4365720"/>
            <a:ext cx="3065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No Error.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nversions are case-insentitive, 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automatically trim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0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3571920" y="3214800"/>
          <a:ext cx="2357280" cy="500040"/>
        </p:xfrm>
        <a:graphic>
          <a:graphicData uri="http://schemas.openxmlformats.org/drawingml/2006/table">
            <a:tbl>
              <a:tblPr/>
              <a:tblGrid>
                <a:gridCol w="2357280"/>
              </a:tblGrid>
              <a:tr h="500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0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3571920" y="3214800"/>
          <a:ext cx="2357280" cy="500040"/>
        </p:xfrm>
        <a:graphic>
          <a:graphicData uri="http://schemas.openxmlformats.org/drawingml/2006/table">
            <a:tbl>
              <a:tblPr/>
              <a:tblGrid>
                <a:gridCol w="2357280"/>
              </a:tblGrid>
              <a:tr h="500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04" name="TextBox 3"/>
          <p:cNvSpPr/>
          <p:nvPr/>
        </p:nvSpPr>
        <p:spPr>
          <a:xfrm>
            <a:off x="4866120" y="3933720"/>
            <a:ext cx="336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No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 has an empty range, useful in some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ircumst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11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2448000" y="3048120"/>
          <a:ext cx="4248000" cy="76176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Integer'Las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Integer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:= V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11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2448000" y="3048120"/>
          <a:ext cx="4248000" cy="76176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Integer'Las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Integer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:= V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09" name="Straight Connector 3"/>
          <p:cNvSpPr/>
          <p:nvPr/>
        </p:nvSpPr>
        <p:spPr>
          <a:xfrm>
            <a:off x="3355920" y="3813120"/>
            <a:ext cx="1373400" cy="892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4"/>
          <p:cNvSpPr/>
          <p:nvPr/>
        </p:nvSpPr>
        <p:spPr>
          <a:xfrm>
            <a:off x="2071800" y="4705200"/>
            <a:ext cx="531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ype consistency error. Integer and T are two different ty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2"/>
          <p:cNvSpPr/>
          <p:nvPr/>
        </p:nvSpPr>
        <p:spPr>
          <a:xfrm>
            <a:off x="2787480" y="3554280"/>
            <a:ext cx="1136880" cy="258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8" descr="wrong.png"/>
          <p:cNvPicPr/>
          <p:nvPr/>
        </p:nvPicPr>
        <p:blipFill>
          <a:blip r:embed="rId1"/>
          <a:stretch/>
        </p:blipFill>
        <p:spPr>
          <a:xfrm>
            <a:off x="2100240" y="354960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12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448000" y="3048120"/>
          <a:ext cx="4427640" cy="76176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Integer'Las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Integer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:= V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12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2448000" y="3048120"/>
          <a:ext cx="4427640" cy="761760"/>
        </p:xfrm>
        <a:graphic>
          <a:graphicData uri="http://schemas.openxmlformats.org/drawingml/2006/table">
            <a:tbl>
              <a:tblPr/>
              <a:tblGrid>
                <a:gridCol w="442764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Integer'Las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Integer := 0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:= V1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17" name="TextBox 3"/>
          <p:cNvSpPr/>
          <p:nvPr/>
        </p:nvSpPr>
        <p:spPr>
          <a:xfrm>
            <a:off x="2053800" y="4705200"/>
            <a:ext cx="59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 is a subtype of Integer. Therefore, V1 and V2 are of the same ty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13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2158920" y="3201840"/>
          <a:ext cx="4826160" cy="454320"/>
        </p:xfrm>
        <a:graphic>
          <a:graphicData uri="http://schemas.openxmlformats.org/drawingml/2006/table">
            <a:tbl>
              <a:tblPr/>
              <a:tblGrid>
                <a:gridCol w="4826160"/>
              </a:tblGrid>
              <a:tr h="45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v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Integer'Las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v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Positive'Las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13/13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158920" y="3201840"/>
          <a:ext cx="4826160" cy="490680"/>
        </p:xfrm>
        <a:graphic>
          <a:graphicData uri="http://schemas.openxmlformats.org/drawingml/2006/table">
            <a:tbl>
              <a:tblPr/>
              <a:tblGrid>
                <a:gridCol w="4826160"/>
              </a:tblGrid>
              <a:tr h="49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v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Integer'Las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ve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 .. Positive'Las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22" name="Straight Connector 3"/>
          <p:cNvSpPr/>
          <p:nvPr/>
        </p:nvSpPr>
        <p:spPr>
          <a:xfrm flipH="1">
            <a:off x="4519440" y="3692520"/>
            <a:ext cx="968400" cy="1012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4"/>
          <p:cNvSpPr/>
          <p:nvPr/>
        </p:nvSpPr>
        <p:spPr>
          <a:xfrm>
            <a:off x="2080080" y="4705200"/>
            <a:ext cx="487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A subtype can't extend the parent range, only reduce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2"/>
          <p:cNvSpPr/>
          <p:nvPr/>
        </p:nvSpPr>
        <p:spPr>
          <a:xfrm>
            <a:off x="4011480" y="3362400"/>
            <a:ext cx="2952720" cy="330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8" descr="wrong.png"/>
          <p:cNvPicPr/>
          <p:nvPr/>
        </p:nvPicPr>
        <p:blipFill>
          <a:blip r:embed="rId1"/>
          <a:stretch/>
        </p:blipFill>
        <p:spPr>
          <a:xfrm>
            <a:off x="1914480" y="340848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Commen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da provides end of line comments with --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re is no block comment (/* */)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1071720" y="2708280"/>
          <a:ext cx="7167240" cy="371520"/>
        </p:xfrm>
        <a:graphic>
          <a:graphicData uri="http://schemas.openxmlformats.org/drawingml/2006/table">
            <a:tbl>
              <a:tblPr/>
              <a:tblGrid>
                <a:gridCol w="3584520"/>
                <a:gridCol w="3582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This is an Ada 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// This is a C++ 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Number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underscore is allowed for number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_000_000 = 1000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Numbers can be expressed with a base (from 2 to 16)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#255# = 2#1111_1111# = 8#377# = 16#FF#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Float literals must have a do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a digit before and after the do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0 /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Variable Declar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Calibri"/>
              </a:rPr>
              <a:t>Defined by one (or several) names, followed by :, followed by type reference and possibly an initial value</a:t>
            </a:r>
            <a:endParaRPr b="1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Calibri"/>
              </a:rPr>
              <a:t>Elaboration is done sequentially</a:t>
            </a:r>
            <a:endParaRPr b="1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Calibri"/>
              </a:rPr>
              <a:t>Initialization is called for each variable individually</a:t>
            </a:r>
            <a:endParaRPr b="1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US" sz="1900" spc="-1" strike="noStrike">
                <a:solidFill>
                  <a:srgbClr val="404040"/>
                </a:solidFill>
                <a:latin typeface="Calibri"/>
              </a:rPr>
              <a:t>:=“ on a declaration is an initialization, not an assignment (special properties, mentioned later)</a:t>
            </a:r>
            <a:endParaRPr b="1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976320" y="1916280"/>
          <a:ext cx="7167600" cy="822240"/>
        </p:xfrm>
        <a:graphic>
          <a:graphicData uri="http://schemas.openxmlformats.org/drawingml/2006/table">
            <a:tbl>
              <a:tblPr/>
              <a:tblGrid>
                <a:gridCol w="3584520"/>
                <a:gridCol w="358308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 Integer := 5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a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:= 78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, E : Integer := F (5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 = 5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 = 78;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 = F (5), e = F(5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357200" y="3284640"/>
          <a:ext cx="6096240" cy="822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 Integer := A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C : Integer := D;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COMPILATION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 :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1332000" y="4653000"/>
          <a:ext cx="6095880" cy="822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 : Float := Compute_New_Random;</a:t>
                      </a:r>
                      <a:br>
                        <a:rPr sz="1200"/>
                      </a:b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This is equivalent to: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Float := Compute_New_Random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 Float := Compute_New_Random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92" name="Picture 8" descr="wrong.png"/>
          <p:cNvPicPr/>
          <p:nvPr/>
        </p:nvPicPr>
        <p:blipFill>
          <a:blip r:embed="rId1"/>
          <a:stretch/>
        </p:blipFill>
        <p:spPr>
          <a:xfrm>
            <a:off x="1116000" y="364500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2940120"/>
            <a:ext cx="8382240" cy="97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Simple Scalar Types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da Strong Typing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ypes are at the base of the Ada model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emantic ≠ Represent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da types are nam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ssociated with properties (ranges, attributes…) and operator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compiler will warn in case of inconsistenci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971640" y="3789360"/>
          <a:ext cx="7167600" cy="639720"/>
        </p:xfrm>
        <a:graphic>
          <a:graphicData uri="http://schemas.openxmlformats.org/drawingml/2006/table">
            <a:tbl>
              <a:tblPr/>
              <a:tblGrid>
                <a:gridCol w="3584520"/>
                <a:gridCol w="358308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10 * Integer (0.9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 := Integ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Float (10) * 0.9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= 10 * 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Wallenburg Angela</cp:lastModifiedBy>
  <dcterms:modified xsi:type="dcterms:W3CDTF">2016-04-18T08:07:11Z</dcterms:modified>
  <cp:revision>138</cp:revision>
  <dc:subject/>
  <dc:title>Diapositive 1</dc:title>
</cp:coreProperties>
</file>