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55F9-90C7-4ED9-A0EE-E68AAB9DC0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3791-CEB7-4C67-BC7B-1E3365EB30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B82E-CA0C-4CDB-80D5-8AECB9E147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valid preconditions, what do they have in common? That is the weakest precond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C7EF-1DDC-4D3D-8F94-D904AE11A0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est precondition for first example is X =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 preconditions for second example: X = 3, X = 4, …, X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X = 10 a valid precondition?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second example: 2 &lt; X and X &lt;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E36F-13DB-44F0-B830-606824302D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3145-AE0F-40DA-803D-49FFB276AE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15D8-AB45-4DD4-A6E2-BB73795A82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BAE6-B66D-42AC-B792-2F29CE3907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7056-187A-434F-85B4-A87DB61123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312B-97BD-4327-BE12-41291AB6C4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2535-70D3-4839-AA7A-C4EA052DB5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8771-FB22-4D38-871A-5D44B6D344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E929-2110-4370-9400-2B494FFD8E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92F8-C2EF-4BE0-BCE1-DB84E96C12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46E6-C66E-4988-BDA3-5AD3029362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B853-E037-48FA-8005-BB14D2EAB5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33F3-DDCB-479F-9720-5B39BF0C7B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05C3-608F-4CB8-8B69-3FC354A2CD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168E-22AF-4965-96D0-2E023BCEFF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 - assumptions as per Johannes' test and proof paper, tools probably not ready to teach about this yet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96A-89AC-49B7-81BF-3EE37E7ACE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0981-E5D7-4FD4-A76D-C3ACD900CE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5C3E-5B9B-42D1-90BA-1EB1D903DE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DE98-0C6F-421C-A575-C27F52AA48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001A-E116-49C5-9A44-E9B807FFCC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est postcondition for this precondition and program is X =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6CBE-BDAE-4CA3-A3A2-6E5BA8DA2F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8328F0A-35E8-4EC9-9106-1F88FA3CB31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91DE840-079F-4304-A5B4-7077F2AEBD6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3523C25-F331-4BAF-B808-26DFB9C0073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1ACAD50-45D3-4209-893C-BBC9D2FE8D4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BF82E5D-A55C-49D8-9AE3-89EDF09B5C8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468360" y="1484280"/>
            <a:ext cx="8342280" cy="27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4CEE0AD-4A6F-466C-9F45-1FE7DD1811E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665084D-AAA6-4711-8011-CD49A45D18C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826920" y="2060640"/>
            <a:ext cx="7507440" cy="250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4AF654B-B510-4120-A074-0DE5203800F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c1fe8a76-f479-4240-b975-cf131fd69cdc" descr="6CE50D91-52A1-418C-81F5-BA85E68CC41F@hsd1"/>
          <p:cNvPicPr/>
          <p:nvPr/>
        </p:nvPicPr>
        <p:blipFill>
          <a:blip r:embed="rId4"/>
          <a:stretch/>
        </p:blipFill>
        <p:spPr>
          <a:xfrm>
            <a:off x="6948360" y="260280"/>
            <a:ext cx="1835280" cy="61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B71EDE4-F527-47EE-A909-C17F76B21BA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BD59FCE-D096-4278-BC99-C4400365A93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1F92F8F-7560-4949-9C79-0DED7687CF5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6896880" y="108000"/>
            <a:ext cx="181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(click on the check ic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902640" y="627120"/>
            <a:ext cx="22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 (click on the error location(s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correct.png"/>
          <p:cNvPicPr/>
          <p:nvPr/>
        </p:nvPicPr>
        <p:blipFill>
          <a:blip r:embed="rId5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E1A6A2B-5B45-451F-AFFD-6A4721D2424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orrect.png"/>
          <p:cNvPicPr/>
          <p:nvPr/>
        </p:nvPicPr>
        <p:blipFill>
          <a:blip r:embed="rId4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Proving Programs Correct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Strongest Postcondi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trongest postcondition (generally):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f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P}S{Q</a:t>
            </a:r>
            <a:r>
              <a:rPr b="1" lang="en-GB" sz="2400" spc="-1" strike="noStrike" baseline="-25000">
                <a:solidFill>
                  <a:srgbClr val="404040"/>
                </a:solidFill>
                <a:latin typeface="Courier New"/>
                <a:ea typeface="Courier New"/>
              </a:rPr>
              <a:t>strong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}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nd for all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Q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such that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P}S{Q}, Q</a:t>
            </a:r>
            <a:r>
              <a:rPr b="1" lang="en-GB" sz="2400" spc="-1" strike="noStrike" baseline="-25000">
                <a:solidFill>
                  <a:srgbClr val="404040"/>
                </a:solidFill>
                <a:latin typeface="Courier New"/>
                <a:ea typeface="Courier New"/>
              </a:rPr>
              <a:t>strong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 ⇒ Q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, then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 Q</a:t>
            </a:r>
            <a:r>
              <a:rPr b="1" lang="en-GB" sz="2400" spc="-1" strike="noStrike" baseline="-25000">
                <a:solidFill>
                  <a:srgbClr val="404040"/>
                </a:solidFill>
                <a:latin typeface="Courier New"/>
                <a:ea typeface="Courier New"/>
              </a:rPr>
              <a:t>strong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is the </a:t>
            </a:r>
            <a:r>
              <a:rPr b="1" i="1" lang="en-GB" sz="2400" spc="-1" strike="noStrike">
                <a:solidFill>
                  <a:srgbClr val="404040"/>
                </a:solidFill>
                <a:latin typeface="Calibri"/>
              </a:rPr>
              <a:t>strongest postcondition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f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S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with respect to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P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Weakest Precondi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nversely: what is the weakest precondition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enerally: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f for all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P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such that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P}S{Q}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,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P ⇒ WP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, then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WP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is the </a:t>
            </a:r>
            <a:r>
              <a:rPr b="1" i="1" lang="en-GB" sz="2400" spc="-1" strike="noStrike">
                <a:solidFill>
                  <a:srgbClr val="404040"/>
                </a:solidFill>
                <a:latin typeface="Calibri"/>
              </a:rPr>
              <a:t>weakest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i="1" lang="en-GB" sz="2400" spc="-1" strike="noStrike">
                <a:solidFill>
                  <a:srgbClr val="404040"/>
                </a:solidFill>
                <a:latin typeface="Calibri"/>
              </a:rPr>
              <a:t>precondition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S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with respect to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7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Example Triplets – Weakest Precondi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ame example, consider the postcondition is fixed, what is the weakest precondition (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WP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)?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WP} X := X ∗ 2; {X = 10}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Modified example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WP} X := X ∗ 2; {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5 &lt; X and X &lt; 20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}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ome valid preconditions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hat is the weakest precondition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Weakest Precondition Calculu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 calculus for “backward reasoning”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edicate transformer to WP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unction “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WP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” that takes a program statement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S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and a postcondition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Q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and returns a precondi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ad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 WP(S,Q)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as “the weakest precondition of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S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with respect to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Q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Weakest Precondition Calculu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How is WP calculus used for program verification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bservation: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P} S {Q}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iff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(P ⇒ WP (S, Q)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or a sequence of statements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S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, for example a subprogram, want to prove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P} S {Q}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e may prove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P ⇒ WP (S, Q)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nstead.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Verification is reduced to the calculation of weakest preconditions!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Modular verific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2" name="Content Placeholder 1" descr=""/>
          <p:cNvPicPr/>
          <p:nvPr/>
        </p:nvPicPr>
        <p:blipFill>
          <a:blip r:embed="rId1"/>
          <a:stretch/>
        </p:blipFill>
        <p:spPr>
          <a:xfrm>
            <a:off x="762120" y="981000"/>
            <a:ext cx="76197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Modular Verific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Oval 1"/>
          <p:cNvSpPr/>
          <p:nvPr/>
        </p:nvSpPr>
        <p:spPr>
          <a:xfrm>
            <a:off x="1260360" y="3213000"/>
            <a:ext cx="2159280" cy="647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cedure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9"/>
          <p:cNvSpPr/>
          <p:nvPr/>
        </p:nvSpPr>
        <p:spPr>
          <a:xfrm>
            <a:off x="4211640" y="3213000"/>
            <a:ext cx="2160720" cy="647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cedure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Curved Connector 25"/>
          <p:cNvCxnSpPr>
            <a:stCxn id="545" idx="5"/>
            <a:endCxn id="546" idx="3"/>
          </p:cNvCxnSpPr>
          <p:nvPr/>
        </p:nvCxnSpPr>
        <p:spPr>
          <a:xfrm flipH="1" rot="16200000">
            <a:off x="3816360" y="3052440"/>
            <a:ext cx="13680" cy="1426320"/>
          </a:xfrm>
          <a:prstGeom prst="curvedConnector5">
            <a:avLst>
              <a:gd name="adj1" fmla="val 2545945"/>
              <a:gd name="adj2" fmla="val 49987"/>
              <a:gd name="adj3" fmla="val 2545945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8" name="Curved Connector 14338"/>
          <p:cNvCxnSpPr>
            <a:stCxn id="545" idx="7"/>
            <a:endCxn id="546" idx="1"/>
          </p:cNvCxnSpPr>
          <p:nvPr/>
        </p:nvCxnSpPr>
        <p:spPr>
          <a:xfrm flipH="1" flipV="1" rot="5400000">
            <a:off x="3816000" y="2595240"/>
            <a:ext cx="13680" cy="1426320"/>
          </a:xfrm>
          <a:prstGeom prst="curvedConnector5">
            <a:avLst>
              <a:gd name="adj1" fmla="val 2545945"/>
              <a:gd name="adj2" fmla="val 49987"/>
              <a:gd name="adj3" fmla="val 25459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TextBox 14341"/>
          <p:cNvSpPr/>
          <p:nvPr/>
        </p:nvSpPr>
        <p:spPr>
          <a:xfrm>
            <a:off x="3559680" y="26370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7598f"/>
                </a:solidFill>
                <a:latin typeface="Arial"/>
              </a:rPr>
              <a:t>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39"/>
          <p:cNvSpPr/>
          <p:nvPr/>
        </p:nvSpPr>
        <p:spPr>
          <a:xfrm>
            <a:off x="3557520" y="407664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7598f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ular Callout 1"/>
          <p:cNvSpPr/>
          <p:nvPr/>
        </p:nvSpPr>
        <p:spPr>
          <a:xfrm>
            <a:off x="5364000" y="1628640"/>
            <a:ext cx="1800360" cy="1008360"/>
          </a:xfrm>
          <a:prstGeom prst="wedgeRoundRectCallout">
            <a:avLst>
              <a:gd name="adj1" fmla="val -105268"/>
              <a:gd name="adj2" fmla="val 910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ondition (Q) needs to be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ounded Rectangular Callout 1"/>
          <p:cNvSpPr/>
          <p:nvPr/>
        </p:nvSpPr>
        <p:spPr>
          <a:xfrm>
            <a:off x="5364000" y="4437000"/>
            <a:ext cx="1800360" cy="1008000"/>
          </a:xfrm>
          <a:prstGeom prst="wedgeRoundRectCallout">
            <a:avLst>
              <a:gd name="adj1" fmla="val -102958"/>
              <a:gd name="adj2" fmla="val -9238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ondition (Q) needs to be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Comparison Test and Proof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s and C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esence/Absence of Bu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te-of-the-art, State-of-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oth techniques flaw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oth techniques can be expensiv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ndustry standard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-178B, DO-178C, DO-3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nother problem – program not all SPARK, not even all Ada – some COTS, Libraries, C, ???  What can you do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How to combine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Combining Proof and Test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4005360"/>
            <a:ext cx="784872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ame contract for test and pro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Modular verific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Combination should be </a:t>
            </a:r>
            <a:r>
              <a:rPr b="1" i="1" lang="en-GB" sz="2400" spc="-1" strike="noStrike">
                <a:solidFill>
                  <a:srgbClr val="404040"/>
                </a:solidFill>
                <a:latin typeface="Calibri"/>
              </a:rPr>
              <a:t>at least as strong as testing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57" name="Picture 1" descr=""/>
          <p:cNvPicPr/>
          <p:nvPr/>
        </p:nvPicPr>
        <p:blipFill>
          <a:blip r:embed="rId1"/>
          <a:stretch/>
        </p:blipFill>
        <p:spPr>
          <a:xfrm>
            <a:off x="2592360" y="695160"/>
            <a:ext cx="39592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Combining Proof and Tes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member: Modular Verific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hat happens when some subprograms are tested and some are proved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Oval 1"/>
          <p:cNvSpPr/>
          <p:nvPr/>
        </p:nvSpPr>
        <p:spPr>
          <a:xfrm>
            <a:off x="1908000" y="2781360"/>
            <a:ext cx="2159280" cy="647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cedure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9"/>
          <p:cNvSpPr/>
          <p:nvPr/>
        </p:nvSpPr>
        <p:spPr>
          <a:xfrm>
            <a:off x="4859280" y="2781360"/>
            <a:ext cx="2160720" cy="647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cedure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Curved Connector 25"/>
          <p:cNvCxnSpPr>
            <a:stCxn id="560" idx="5"/>
            <a:endCxn id="561" idx="3"/>
          </p:cNvCxnSpPr>
          <p:nvPr/>
        </p:nvCxnSpPr>
        <p:spPr>
          <a:xfrm flipH="1" rot="16200000">
            <a:off x="4464000" y="2620440"/>
            <a:ext cx="13320" cy="1426320"/>
          </a:xfrm>
          <a:prstGeom prst="curvedConnector5">
            <a:avLst>
              <a:gd name="adj1" fmla="val 2547222"/>
              <a:gd name="adj2" fmla="val 49987"/>
              <a:gd name="adj3" fmla="val 2547222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63" name="Curved Connector 14338"/>
          <p:cNvCxnSpPr>
            <a:stCxn id="560" idx="7"/>
            <a:endCxn id="561" idx="1"/>
          </p:cNvCxnSpPr>
          <p:nvPr/>
        </p:nvCxnSpPr>
        <p:spPr>
          <a:xfrm flipH="1" flipV="1" rot="5400000">
            <a:off x="4464000" y="2163240"/>
            <a:ext cx="13320" cy="1426320"/>
          </a:xfrm>
          <a:prstGeom prst="curvedConnector5">
            <a:avLst>
              <a:gd name="adj1" fmla="val 2547222"/>
              <a:gd name="adj2" fmla="val 49987"/>
              <a:gd name="adj3" fmla="val 25472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4" name="TextBox 14341"/>
          <p:cNvSpPr/>
          <p:nvPr/>
        </p:nvSpPr>
        <p:spPr>
          <a:xfrm>
            <a:off x="4207320" y="22050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7598f"/>
                </a:solidFill>
                <a:latin typeface="Arial"/>
              </a:rPr>
              <a:t>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9"/>
          <p:cNvSpPr/>
          <p:nvPr/>
        </p:nvSpPr>
        <p:spPr>
          <a:xfrm>
            <a:off x="4205520" y="364500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7598f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ounded Rectangular Callout 1"/>
          <p:cNvSpPr/>
          <p:nvPr/>
        </p:nvSpPr>
        <p:spPr>
          <a:xfrm>
            <a:off x="6012000" y="1197000"/>
            <a:ext cx="1800000" cy="1008000"/>
          </a:xfrm>
          <a:prstGeom prst="wedgeRoundRectCallout">
            <a:avLst>
              <a:gd name="adj1" fmla="val -105268"/>
              <a:gd name="adj2" fmla="val 9109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ondition (Q) needs to be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ounded Rectangular Callout 1"/>
          <p:cNvSpPr/>
          <p:nvPr/>
        </p:nvSpPr>
        <p:spPr>
          <a:xfrm>
            <a:off x="6012000" y="4005360"/>
            <a:ext cx="1800000" cy="1008000"/>
          </a:xfrm>
          <a:prstGeom prst="wedgeRoundRectCallout">
            <a:avLst>
              <a:gd name="adj1" fmla="val -102958"/>
              <a:gd name="adj2" fmla="val -9238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ondition (Q) needs to be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ntroduction to pro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mal program verification over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are triplet/weakest precondition calculation by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of tools (GNATprove, SMT solv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Modular verific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it works in general (for proo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Combined test and pro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pecial case of modular ver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mbining Proof and Test – Hybrid Verific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cenario: tested procedure calls proved procedur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till modular verific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sponsibilities!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1"/>
          <p:cNvSpPr/>
          <p:nvPr/>
        </p:nvSpPr>
        <p:spPr>
          <a:xfrm>
            <a:off x="1116000" y="3429000"/>
            <a:ext cx="2160720" cy="647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ested_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9"/>
          <p:cNvSpPr/>
          <p:nvPr/>
        </p:nvSpPr>
        <p:spPr>
          <a:xfrm>
            <a:off x="4067280" y="3429000"/>
            <a:ext cx="2160360" cy="647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ved_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2" name="Curved Connector 25"/>
          <p:cNvCxnSpPr>
            <a:stCxn id="570" idx="5"/>
            <a:endCxn id="571" idx="3"/>
          </p:cNvCxnSpPr>
          <p:nvPr/>
        </p:nvCxnSpPr>
        <p:spPr>
          <a:xfrm flipH="1" rot="16200000">
            <a:off x="3671640" y="3268080"/>
            <a:ext cx="13320" cy="1426320"/>
          </a:xfrm>
          <a:prstGeom prst="curvedConnector5">
            <a:avLst>
              <a:gd name="adj1" fmla="val 2547222"/>
              <a:gd name="adj2" fmla="val 49987"/>
              <a:gd name="adj3" fmla="val 2547222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3" name="Curved Connector 14338"/>
          <p:cNvCxnSpPr>
            <a:stCxn id="570" idx="7"/>
            <a:endCxn id="571" idx="1"/>
          </p:cNvCxnSpPr>
          <p:nvPr/>
        </p:nvCxnSpPr>
        <p:spPr>
          <a:xfrm flipH="1" flipV="1" rot="5400000">
            <a:off x="3671640" y="2810880"/>
            <a:ext cx="13320" cy="1426320"/>
          </a:xfrm>
          <a:prstGeom prst="curvedConnector5">
            <a:avLst>
              <a:gd name="adj1" fmla="val 2547222"/>
              <a:gd name="adj2" fmla="val 49987"/>
              <a:gd name="adj3" fmla="val 25472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4" name="TextBox 14341"/>
          <p:cNvSpPr/>
          <p:nvPr/>
        </p:nvSpPr>
        <p:spPr>
          <a:xfrm>
            <a:off x="3414960" y="2852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7598f"/>
                </a:solidFill>
                <a:latin typeface="Arial"/>
              </a:rPr>
              <a:t>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9"/>
          <p:cNvSpPr/>
          <p:nvPr/>
        </p:nvSpPr>
        <p:spPr>
          <a:xfrm>
            <a:off x="3413160" y="429264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7598f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ounded Rectangular Callout 1"/>
          <p:cNvSpPr/>
          <p:nvPr/>
        </p:nvSpPr>
        <p:spPr>
          <a:xfrm>
            <a:off x="5110200" y="2001960"/>
            <a:ext cx="3422520" cy="792000"/>
          </a:xfrm>
          <a:prstGeom prst="wedgeRoundRectCallout">
            <a:avLst>
              <a:gd name="adj1" fmla="val -80680"/>
              <a:gd name="adj2" fmla="val 103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ondition 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ved_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) needs to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ounded Rectangular Callout 1"/>
          <p:cNvSpPr/>
          <p:nvPr/>
        </p:nvSpPr>
        <p:spPr>
          <a:xfrm>
            <a:off x="5219640" y="4581360"/>
            <a:ext cx="2449440" cy="1008360"/>
          </a:xfrm>
          <a:prstGeom prst="wedgeRoundRectCallout">
            <a:avLst>
              <a:gd name="adj1" fmla="val -92226"/>
              <a:gd name="adj2" fmla="val -841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ondition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ved_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) needs to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mbining Proof and Test – Hybrid Verific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cenario: proved procedure calls tested procedur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till modular verific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sponsibilities!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Oval 11"/>
          <p:cNvSpPr/>
          <p:nvPr/>
        </p:nvSpPr>
        <p:spPr>
          <a:xfrm>
            <a:off x="1042920" y="3409920"/>
            <a:ext cx="2160720" cy="647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ved_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2"/>
          <p:cNvSpPr/>
          <p:nvPr/>
        </p:nvSpPr>
        <p:spPr>
          <a:xfrm>
            <a:off x="3995640" y="3409920"/>
            <a:ext cx="2160720" cy="647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ested_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Curved Connector 13"/>
          <p:cNvCxnSpPr>
            <a:stCxn id="580" idx="5"/>
            <a:endCxn id="581" idx="3"/>
          </p:cNvCxnSpPr>
          <p:nvPr/>
        </p:nvCxnSpPr>
        <p:spPr>
          <a:xfrm flipH="1" rot="16200000">
            <a:off x="3598560" y="3250080"/>
            <a:ext cx="13320" cy="1424520"/>
          </a:xfrm>
          <a:prstGeom prst="curvedConnector5">
            <a:avLst>
              <a:gd name="adj1" fmla="val 2547222"/>
              <a:gd name="adj2" fmla="val 50000"/>
              <a:gd name="adj3" fmla="val 2547222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83" name="Curved Connector 14"/>
          <p:cNvCxnSpPr>
            <a:stCxn id="580" idx="7"/>
            <a:endCxn id="581" idx="1"/>
          </p:cNvCxnSpPr>
          <p:nvPr/>
        </p:nvCxnSpPr>
        <p:spPr>
          <a:xfrm flipH="1" flipV="1" rot="5400000">
            <a:off x="3598560" y="2791080"/>
            <a:ext cx="13320" cy="1424520"/>
          </a:xfrm>
          <a:prstGeom prst="curvedConnector5">
            <a:avLst>
              <a:gd name="adj1" fmla="val 2547222"/>
              <a:gd name="adj2" fmla="val 50000"/>
              <a:gd name="adj3" fmla="val 25472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TextBox 15"/>
          <p:cNvSpPr/>
          <p:nvPr/>
        </p:nvSpPr>
        <p:spPr>
          <a:xfrm>
            <a:off x="3343680" y="283356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7598f"/>
                </a:solidFill>
                <a:latin typeface="Arial"/>
              </a:rPr>
              <a:t>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6"/>
          <p:cNvSpPr/>
          <p:nvPr/>
        </p:nvSpPr>
        <p:spPr>
          <a:xfrm>
            <a:off x="3341880" y="4273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7598f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ounded Rectangular Callout 1"/>
          <p:cNvSpPr/>
          <p:nvPr/>
        </p:nvSpPr>
        <p:spPr>
          <a:xfrm>
            <a:off x="5435640" y="4726080"/>
            <a:ext cx="2449440" cy="1006560"/>
          </a:xfrm>
          <a:prstGeom prst="wedgeRoundRectCallout">
            <a:avLst>
              <a:gd name="adj1" fmla="val -109203"/>
              <a:gd name="adj2" fmla="val -9547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ondition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ed_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) needs to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ounded Rectangular Callout 1"/>
          <p:cNvSpPr/>
          <p:nvPr/>
        </p:nvSpPr>
        <p:spPr>
          <a:xfrm>
            <a:off x="5148360" y="1989000"/>
            <a:ext cx="3456000" cy="638280"/>
          </a:xfrm>
          <a:prstGeom prst="wedgeRoundRectCallout">
            <a:avLst>
              <a:gd name="adj1" fmla="val -85685"/>
              <a:gd name="adj2" fmla="val 1369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ondition 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ed_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) needs to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mbining Proof and Test – Cost Benefit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80/20 rule holds for both test and proof activiti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ame area of code is usually not simultaneously difficult to prove and difficult to tes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105000" y="2997360"/>
            <a:ext cx="293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Combining Proof and Tes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n Ada 2012 the proof contracts are executable - they can be checked at run time and an error is raised when a check fail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Compilation Options to Support Integration of Test and Pro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rtion checks enabled via -gnata compiler swit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ias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an be checked at run time with the –gnateA swit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itialization and Validity of Dat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can be checked at run time with the –gnateV and –gnatVa swit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e the SPARK 2014 Toolset User’s Guide for more detai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NATprove Tool Architectur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414360" y="1125360"/>
            <a:ext cx="8315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Exercis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040"/>
                </a:solidFill>
                <a:latin typeface="Calibri"/>
              </a:rPr>
              <a:t>Exercis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of of a Simple Subprogram,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riting More Contra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TE (Run-Time Exception Freedom) pro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we can use formal verification to show RTE freed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mantics for overflows in 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ctical session to illustrate the abo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nalysis of failed proof attemp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vestigating failed proof attempts: tests, path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of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nding proof: assume, external axi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dvanced Proof – Loop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op in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'Loop_E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rmination, loop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alysis of failed proof attempts section appl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ype Invarian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loating point verific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How Does Proof Work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2" name="Picture 1" descr=""/>
          <p:cNvPicPr/>
          <p:nvPr/>
        </p:nvPicPr>
        <p:blipFill>
          <a:blip r:embed="rId1"/>
          <a:stretch/>
        </p:blipFill>
        <p:spPr>
          <a:xfrm>
            <a:off x="2428920" y="907920"/>
            <a:ext cx="428616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Verification Condition Gener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Verification Condition/Proof Obligation/Chec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ical form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s the verification condition (VC) valid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be checked by an automatic pr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hat does it mean if a VC is not valid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How are verification conditions generated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akest precondition calcul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Hoare Trip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Calibri"/>
                <a:ea typeface="ヒラギノ角ゴ ProN W3"/>
              </a:rPr>
              <a:t>Hoare triples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  <a:ea typeface="ヒラギノ角ゴ ProN W3"/>
              </a:rPr>
              <a:t>used to reason about program correctness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ith pre- and post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yntax: </a:t>
            </a:r>
            <a:r>
              <a:rPr b="1" i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P}S{Q}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s a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re predic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the precond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the postcond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Meaning of </a:t>
            </a:r>
            <a:r>
              <a:rPr b="1" i="1" lang="en-GB" sz="2400" spc="-1" strike="noStrike">
                <a:solidFill>
                  <a:srgbClr val="404040"/>
                </a:solidFill>
                <a:latin typeface="Courier New"/>
                <a:ea typeface="ヒラギノ角ゴ ProN W3"/>
              </a:rPr>
              <a:t>{P}S{Q}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triple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If we start in a state where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is true and execute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will terminate in a state where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is tr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Example Hoare Trip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541440" y="1142640"/>
            <a:ext cx="8061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re these valid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true} x := 5 {x = 5}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x = y} x := x + 3 {x = y + 3}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x &gt; 0} x := x * 2 {x &gt; -2}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x = a} if (x &lt; 0) then x := -x {x = |a|}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false} x := 3 {x = 8}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Example Triplets – Stronger Postcondi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{X = 5} X := X ∗ 2 {X &gt; 0}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s this triplet valid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How can we make a </a:t>
            </a:r>
            <a:r>
              <a:rPr b="1" i="1" lang="en-US" sz="2400" spc="-1" strike="noStrike">
                <a:solidFill>
                  <a:srgbClr val="404040"/>
                </a:solidFill>
                <a:latin typeface="Calibri"/>
              </a:rPr>
              <a:t>stronger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postcondition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hat about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5 &lt; X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</a:rPr>
              <a:t>and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X &lt; 20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?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hat is the strongest possible postcondition for this precondition and program statement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99960" indent="-3427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Wallenburg Angela</cp:lastModifiedBy>
  <cp:lastPrinted>2014-03-31T13:09:07Z</cp:lastPrinted>
  <dcterms:modified xsi:type="dcterms:W3CDTF">2017-10-03T19:44:11Z</dcterms:modified>
  <cp:revision>2291</cp:revision>
  <dc:subject/>
  <dc:title>Diapositive 1</dc:title>
</cp:coreProperties>
</file>