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 type="sldNum" idx="3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5A067-B731-45B3-B308-BC32867B47F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2BFB0-0ECB-45EE-968E-E0B40EF9526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6BCC7-CD3C-453E-A732-B6B297E735D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A93D8-6454-4F22-897F-EA77B5C37C3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0859E-2BE4-422F-B03B-EBC08961FC9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at is this diagram trying to sh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re are different clients with different require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me will want only to develop new code from scratch, some want to analyse existing code, some want to do a mix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668C-E3E0-487C-AC56-BF53A4AC950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5F570-5996-44E5-8BDA-3247CCB18C6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92DD2-0EBF-4BD0-93A3-B4FC869DB9D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9F395-2461-4287-AF85-A93B662F19D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BA422-FC21-4367-9A6D-48CCBA82D76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97A4D-4CE7-42F1-886B-0EBD6F73F7E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CE999-D2A8-497D-9017-99DAC162967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EA55B-66CE-4978-B91E-83B62E34421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A633D-8153-4E73-A3C7-3DB7ED79004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0CC96-789D-4228-9102-A68F02E2E43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28CF1-ECB9-455D-90B5-2D9308ABE51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ED460-02FF-4BED-9614-95132CF3456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DA2DB-D38F-4214-86B1-157A8B92997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CE491-1F65-4C18-977E-7B00BE56BB0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8FB92844-E732-42A7-A89C-F4D1967266FE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6"/>
          <p:cNvSpPr/>
          <p:nvPr/>
        </p:nvSpPr>
        <p:spPr>
          <a:xfrm>
            <a:off x="-7200" y="6634080"/>
            <a:ext cx="144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D79F3AEC-D40E-4C11-92A1-3B65C4F91408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-7200" y="6634080"/>
            <a:ext cx="144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5" descr="quiz.png"/>
          <p:cNvPicPr/>
          <p:nvPr/>
        </p:nvPicPr>
        <p:blipFill>
          <a:blip r:embed="rId3"/>
          <a:stretch/>
        </p:blipFill>
        <p:spPr>
          <a:xfrm>
            <a:off x="468360" y="40464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387" name="TextBox 6"/>
          <p:cNvSpPr/>
          <p:nvPr/>
        </p:nvSpPr>
        <p:spPr>
          <a:xfrm>
            <a:off x="6929640" y="69228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80a6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7" descr="wrong.png"/>
          <p:cNvPicPr/>
          <p:nvPr/>
        </p:nvPicPr>
        <p:blipFill>
          <a:blip r:embed="rId4"/>
          <a:stretch/>
        </p:blipFill>
        <p:spPr>
          <a:xfrm>
            <a:off x="6443640" y="620640"/>
            <a:ext cx="477720" cy="478080"/>
          </a:xfrm>
          <a:prstGeom prst="rect">
            <a:avLst/>
          </a:prstGeom>
          <a:ln w="0">
            <a:noFill/>
          </a:ln>
        </p:spPr>
      </p:pic>
      <p:sp>
        <p:nvSpPr>
          <p:cNvPr id="389" name="TextBox 8"/>
          <p:cNvSpPr/>
          <p:nvPr/>
        </p:nvSpPr>
        <p:spPr>
          <a:xfrm>
            <a:off x="1042920" y="3286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Calibri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94E276E4-1125-4288-9053-339A59BCE9B3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6"/>
          <p:cNvSpPr/>
          <p:nvPr/>
        </p:nvSpPr>
        <p:spPr>
          <a:xfrm>
            <a:off x="-7200" y="6634080"/>
            <a:ext cx="144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0BE2E5E1-0052-4C67-8647-12CA4192A00B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-7200" y="6634080"/>
            <a:ext cx="144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6125064C-2759-45A4-9E30-66640D1F5D54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-7200" y="6634080"/>
            <a:ext cx="144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c1fe8a76-f479-4240-b975-cf131fd69cdc" descr="6CE50D91-52A1-418C-81F5-BA85E68CC41F@hsd1"/>
          <p:cNvPicPr/>
          <p:nvPr/>
        </p:nvPicPr>
        <p:blipFill>
          <a:blip r:embed="rId3"/>
          <a:stretch/>
        </p:blipFill>
        <p:spPr>
          <a:xfrm>
            <a:off x="468360" y="1484280"/>
            <a:ext cx="8342280" cy="2781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73E4CB65-00CB-4DA0-A677-3EA2BB2CAFCD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-7200" y="6634080"/>
            <a:ext cx="144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c1fe8a76-f479-4240-b975-cf131fd69cdc" descr="6CE50D91-52A1-418C-81F5-BA85E68CC41F@hsd1"/>
          <p:cNvPicPr/>
          <p:nvPr/>
        </p:nvPicPr>
        <p:blipFill>
          <a:blip r:embed="rId3"/>
          <a:stretch/>
        </p:blipFill>
        <p:spPr>
          <a:xfrm>
            <a:off x="7020000" y="260280"/>
            <a:ext cx="1836720" cy="6127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2B541F96-0A9D-485B-8D59-C9491F3DAB79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-7200" y="6634080"/>
            <a:ext cx="144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5819760" y="153504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c1fe8a76-f479-4240-b975-cf131fd69cdc" descr="6CE50D91-52A1-418C-81F5-BA85E68CC41F@hsd1"/>
          <p:cNvPicPr/>
          <p:nvPr/>
        </p:nvPicPr>
        <p:blipFill>
          <a:blip r:embed="rId3"/>
          <a:stretch/>
        </p:blipFill>
        <p:spPr>
          <a:xfrm>
            <a:off x="826920" y="2060640"/>
            <a:ext cx="7507440" cy="2502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92442167-3DB5-4471-9831-7A25E333D703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-7200" y="6634080"/>
            <a:ext cx="144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5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7"/>
          <p:cNvGrpSpPr/>
          <p:nvPr/>
        </p:nvGrpSpPr>
        <p:grpSpPr>
          <a:xfrm>
            <a:off x="2879640" y="2641680"/>
            <a:ext cx="3373560" cy="1574640"/>
            <a:chOff x="2879640" y="2641680"/>
            <a:chExt cx="3373560" cy="1574640"/>
          </a:xfrm>
        </p:grpSpPr>
        <p:sp>
          <p:nvSpPr>
            <p:cNvPr id="170" name="TextBox 7"/>
            <p:cNvSpPr/>
            <p:nvPr/>
          </p:nvSpPr>
          <p:spPr>
            <a:xfrm>
              <a:off x="4405320" y="2828880"/>
              <a:ext cx="1847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alibri"/>
                </a:rPr>
                <a:t>Quiz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1" name="Picture 2" descr="C:\Users\ochem\AppData\Local\Temp\Rar$DR28.624\AdaCoreU Package\icons\quiz.png"/>
            <p:cNvPicPr/>
            <p:nvPr/>
          </p:nvPicPr>
          <p:blipFill>
            <a:blip r:embed="rId3"/>
            <a:stretch/>
          </p:blipFill>
          <p:spPr>
            <a:xfrm>
              <a:off x="2879640" y="2641680"/>
              <a:ext cx="1575000" cy="1574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2" name="c1fe8a76-f479-4240-b975-cf131fd69cdc" descr="6CE50D91-52A1-418C-81F5-BA85E68CC41F@hsd1"/>
          <p:cNvPicPr/>
          <p:nvPr/>
        </p:nvPicPr>
        <p:blipFill>
          <a:blip r:embed="rId4"/>
          <a:stretch/>
        </p:blipFill>
        <p:spPr>
          <a:xfrm>
            <a:off x="6948360" y="260280"/>
            <a:ext cx="1835280" cy="6127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AA50687F-BD54-4B0A-A4E0-A714E02DF50C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-7200" y="6634080"/>
            <a:ext cx="144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c1fe8a76-f479-4240-b975-cf131fd69cdc" descr="6CE50D91-52A1-418C-81F5-BA85E68CC41F@hsd1"/>
          <p:cNvPicPr/>
          <p:nvPr/>
        </p:nvPicPr>
        <p:blipFill>
          <a:blip r:embed="rId3"/>
          <a:stretch/>
        </p:blipFill>
        <p:spPr>
          <a:xfrm>
            <a:off x="7020000" y="260280"/>
            <a:ext cx="1836720" cy="6127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95BBAAB6-EB57-478D-8F01-FB96B0BFEE21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-7200" y="6634080"/>
            <a:ext cx="144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5" descr="quiz.png"/>
          <p:cNvPicPr/>
          <p:nvPr/>
        </p:nvPicPr>
        <p:blipFill>
          <a:blip r:embed="rId3"/>
          <a:stretch/>
        </p:blipFill>
        <p:spPr>
          <a:xfrm>
            <a:off x="468360" y="40464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BBD987CF-0881-4487-94A2-BB965E308382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-7200" y="6634080"/>
            <a:ext cx="144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5"/>
          <p:cNvSpPr/>
          <p:nvPr/>
        </p:nvSpPr>
        <p:spPr>
          <a:xfrm>
            <a:off x="6896880" y="108000"/>
            <a:ext cx="181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80a6"/>
                </a:solidFill>
                <a:latin typeface="Arial"/>
              </a:rPr>
              <a:t>YES</a:t>
            </a:r>
            <a:br>
              <a:rPr sz="1400"/>
            </a:br>
            <a:r>
              <a:rPr b="1" lang="en-US" sz="1100" spc="-1" strike="noStrike">
                <a:solidFill>
                  <a:srgbClr val="1780a6"/>
                </a:solidFill>
                <a:latin typeface="Arial"/>
              </a:rPr>
              <a:t>(click on the check ic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6"/>
          <p:cNvSpPr/>
          <p:nvPr/>
        </p:nvSpPr>
        <p:spPr>
          <a:xfrm>
            <a:off x="6902640" y="627120"/>
            <a:ext cx="2204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80a6"/>
                </a:solidFill>
                <a:latin typeface="Arial"/>
              </a:rPr>
              <a:t>NO</a:t>
            </a:r>
            <a:br>
              <a:rPr sz="1400"/>
            </a:br>
            <a:r>
              <a:rPr b="1" lang="en-US" sz="1100" spc="-1" strike="noStrike">
                <a:solidFill>
                  <a:srgbClr val="1780a6"/>
                </a:solidFill>
                <a:latin typeface="Arial"/>
              </a:rPr>
              <a:t> (click on the error location(s)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quiz.png"/>
          <p:cNvPicPr/>
          <p:nvPr/>
        </p:nvPicPr>
        <p:blipFill>
          <a:blip r:embed="rId3"/>
          <a:stretch/>
        </p:blipFill>
        <p:spPr>
          <a:xfrm>
            <a:off x="468360" y="404640"/>
            <a:ext cx="431640" cy="4320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8" descr="wrong.png"/>
          <p:cNvPicPr/>
          <p:nvPr/>
        </p:nvPicPr>
        <p:blipFill>
          <a:blip r:embed="rId4"/>
          <a:stretch/>
        </p:blipFill>
        <p:spPr>
          <a:xfrm>
            <a:off x="6443640" y="620640"/>
            <a:ext cx="477720" cy="4780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9" descr="correct.png"/>
          <p:cNvPicPr/>
          <p:nvPr/>
        </p:nvPicPr>
        <p:blipFill>
          <a:blip r:embed="rId5"/>
          <a:stretch/>
        </p:blipFill>
        <p:spPr>
          <a:xfrm>
            <a:off x="6443640" y="115920"/>
            <a:ext cx="482760" cy="482400"/>
          </a:xfrm>
          <a:prstGeom prst="rect">
            <a:avLst/>
          </a:prstGeom>
          <a:ln w="0">
            <a:noFill/>
          </a:ln>
        </p:spPr>
      </p:pic>
      <p:sp>
        <p:nvSpPr>
          <p:cNvPr id="301" name="TextBox 10"/>
          <p:cNvSpPr/>
          <p:nvPr/>
        </p:nvSpPr>
        <p:spPr>
          <a:xfrm>
            <a:off x="1042920" y="3286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Calibri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EBE733A4-E63F-4BC3-A8D9-83FB17374C41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6"/>
          <p:cNvSpPr/>
          <p:nvPr/>
        </p:nvSpPr>
        <p:spPr>
          <a:xfrm>
            <a:off x="-7200" y="6634080"/>
            <a:ext cx="144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5" descr="quiz.png"/>
          <p:cNvPicPr/>
          <p:nvPr/>
        </p:nvPicPr>
        <p:blipFill>
          <a:blip r:embed="rId3"/>
          <a:stretch/>
        </p:blipFill>
        <p:spPr>
          <a:xfrm>
            <a:off x="468360" y="40464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343" name="TextBox 6"/>
          <p:cNvSpPr/>
          <p:nvPr/>
        </p:nvSpPr>
        <p:spPr>
          <a:xfrm>
            <a:off x="6894720" y="18900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80a6"/>
                </a:solidFill>
                <a:latin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7" descr="correct.png"/>
          <p:cNvPicPr/>
          <p:nvPr/>
        </p:nvPicPr>
        <p:blipFill>
          <a:blip r:embed="rId4"/>
          <a:stretch/>
        </p:blipFill>
        <p:spPr>
          <a:xfrm>
            <a:off x="6443640" y="115920"/>
            <a:ext cx="482760" cy="482400"/>
          </a:xfrm>
          <a:prstGeom prst="rect">
            <a:avLst/>
          </a:prstGeom>
          <a:ln w="0">
            <a:noFill/>
          </a:ln>
        </p:spPr>
      </p:pic>
      <p:sp>
        <p:nvSpPr>
          <p:cNvPr id="345" name="TextBox 8"/>
          <p:cNvSpPr/>
          <p:nvPr/>
        </p:nvSpPr>
        <p:spPr>
          <a:xfrm>
            <a:off x="1042920" y="3286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Calibri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380880" y="2666880"/>
            <a:ext cx="8382240" cy="18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Arial"/>
              </a:rPr>
              <a:t>Proving Absence of Run Time Errors</a:t>
            </a:r>
            <a:endParaRPr b="1" lang="en-US" sz="4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  <a:ea typeface="Arial Bold"/>
              </a:rPr>
              <a:t>Run-time Exception Freedom – A  Simple Example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So let’s add a precondition to </a:t>
            </a:r>
            <a:r>
              <a:rPr b="1" lang="en-GB" sz="2400" spc="-1" strike="noStrike">
                <a:solidFill>
                  <a:srgbClr val="404040"/>
                </a:solidFill>
                <a:latin typeface="Courier New"/>
                <a:ea typeface="Courier New"/>
              </a:rPr>
              <a:t>Add2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... 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This eliminates the problem for the first call to </a:t>
            </a:r>
            <a:r>
              <a:rPr b="1" lang="en-GB" sz="2400" spc="-1" strike="noStrike">
                <a:solidFill>
                  <a:srgbClr val="404040"/>
                </a:solidFill>
                <a:latin typeface="Courier New"/>
                <a:ea typeface="Courier New"/>
              </a:rPr>
              <a:t>Increment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, but the tools still can’t prove the check for the second call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Why not?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38" name=""/>
          <p:cNvGraphicFramePr/>
          <p:nvPr/>
        </p:nvGraphicFramePr>
        <p:xfrm>
          <a:off x="1116000" y="1916280"/>
          <a:ext cx="6408720" cy="1584000"/>
        </p:xfrm>
        <a:graphic>
          <a:graphicData uri="http://schemas.openxmlformats.org/drawingml/2006/table">
            <a:tbl>
              <a:tblPr/>
              <a:tblGrid>
                <a:gridCol w="6408720"/>
              </a:tblGrid>
              <a:tr h="1584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dd2 (X :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 out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ege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e =&gt; (X &lt;= Integer’Last - 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crement (X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crement (X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dd2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  <a:ea typeface="Arial Bold"/>
              </a:rPr>
              <a:t>Run-time Exception Freedom – A  Simple Example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Recall: The tools perform </a:t>
            </a:r>
            <a:r>
              <a:rPr b="1" i="1" lang="en-GB" sz="2400" spc="-1" strike="noStrike">
                <a:solidFill>
                  <a:srgbClr val="404040"/>
                </a:solidFill>
                <a:latin typeface="Calibri"/>
              </a:rPr>
              <a:t>modular verification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When proving </a:t>
            </a:r>
            <a:r>
              <a:rPr b="1" lang="en-GB" sz="2400" spc="-1" strike="noStrike">
                <a:solidFill>
                  <a:srgbClr val="404040"/>
                </a:solidFill>
                <a:latin typeface="Courier New"/>
                <a:ea typeface="Courier New"/>
              </a:rPr>
              <a:t>Add2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, all we know about Increment must come from its contract, not its body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So after the first call to Increment, we know nothing about the new value of </a:t>
            </a:r>
            <a:r>
              <a:rPr b="1" lang="en-GB" sz="2400" spc="-1" strike="noStrike">
                <a:solidFill>
                  <a:srgbClr val="404040"/>
                </a:solidFill>
                <a:latin typeface="Courier New"/>
                <a:ea typeface="Courier New"/>
              </a:rPr>
              <a:t>X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 (except that it is in type)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41" name=""/>
          <p:cNvGraphicFramePr/>
          <p:nvPr/>
        </p:nvGraphicFramePr>
        <p:xfrm>
          <a:off x="1116000" y="1916280"/>
          <a:ext cx="6408720" cy="1584000"/>
        </p:xfrm>
        <a:graphic>
          <a:graphicData uri="http://schemas.openxmlformats.org/drawingml/2006/table">
            <a:tbl>
              <a:tblPr/>
              <a:tblGrid>
                <a:gridCol w="6408720"/>
              </a:tblGrid>
              <a:tr h="1584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dd2 (X :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 out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ege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e =&gt; (X &lt;= Integer’Last - 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crement (X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crement (X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dd2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  <a:ea typeface="Arial Bold"/>
              </a:rPr>
              <a:t>Run-time Exception Freedom – A  Simple Example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We can add a postcondition to tell the tools what </a:t>
            </a:r>
            <a:r>
              <a:rPr b="1" lang="en-GB" sz="2400" spc="-1" strike="noStrike">
                <a:solidFill>
                  <a:srgbClr val="404040"/>
                </a:solidFill>
                <a:latin typeface="Courier New"/>
                <a:ea typeface="Courier New"/>
              </a:rPr>
              <a:t>Increment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 does...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The tools prove that the body of </a:t>
            </a:r>
            <a:r>
              <a:rPr b="1" lang="en-GB" sz="2400" spc="-1" strike="noStrike">
                <a:solidFill>
                  <a:srgbClr val="404040"/>
                </a:solidFill>
                <a:latin typeface="Courier New"/>
                <a:ea typeface="Courier New"/>
              </a:rPr>
              <a:t>Increment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 satisfies the postcondition - easy!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And now all checks are proved for </a:t>
            </a:r>
            <a:r>
              <a:rPr b="1" lang="en-GB" sz="2400" spc="-1" strike="noStrike">
                <a:solidFill>
                  <a:srgbClr val="404040"/>
                </a:solidFill>
                <a:latin typeface="Courier New"/>
                <a:ea typeface="Courier New"/>
              </a:rPr>
              <a:t>Add2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  <a:ea typeface="Courier New"/>
              </a:rPr>
              <a:t> so we can be sure it will not raise any run-time exception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44" name=""/>
          <p:cNvGraphicFramePr/>
          <p:nvPr/>
        </p:nvGraphicFramePr>
        <p:xfrm>
          <a:off x="1116000" y="2133720"/>
          <a:ext cx="6408720" cy="1584360"/>
        </p:xfrm>
        <a:graphic>
          <a:graphicData uri="http://schemas.openxmlformats.org/drawingml/2006/table">
            <a:tbl>
              <a:tblPr/>
              <a:tblGrid>
                <a:gridCol w="6408720"/>
              </a:tblGrid>
              <a:tr h="1584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crement (X: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 out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ege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e  =&gt; (X &lt; Integer’Last)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ost =&gt; (X = X’Old + 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= X + 1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cremen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</a:rPr>
              <a:t>Recall: Usage Scenario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grpSp>
        <p:nvGrpSpPr>
          <p:cNvPr id="547" name="Group 13"/>
          <p:cNvGrpSpPr/>
          <p:nvPr/>
        </p:nvGrpSpPr>
        <p:grpSpPr>
          <a:xfrm>
            <a:off x="1042920" y="4292640"/>
            <a:ext cx="792360" cy="1338120"/>
            <a:chOff x="1042920" y="4292640"/>
            <a:chExt cx="792360" cy="1338120"/>
          </a:xfrm>
        </p:grpSpPr>
        <p:sp>
          <p:nvSpPr>
            <p:cNvPr id="548" name="Oval 3"/>
            <p:cNvSpPr/>
            <p:nvPr/>
          </p:nvSpPr>
          <p:spPr>
            <a:xfrm>
              <a:off x="1258920" y="4292640"/>
              <a:ext cx="360000" cy="359640"/>
            </a:xfrm>
            <a:prstGeom prst="ellipse">
              <a:avLst/>
            </a:prstGeom>
            <a:solidFill>
              <a:srgbClr val="17598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Straight Connector 5"/>
            <p:cNvSpPr/>
            <p:nvPr/>
          </p:nvSpPr>
          <p:spPr>
            <a:xfrm flipH="1">
              <a:off x="1438200" y="4652280"/>
              <a:ext cx="360" cy="63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Straight Connector 7"/>
            <p:cNvSpPr/>
            <p:nvPr/>
          </p:nvSpPr>
          <p:spPr>
            <a:xfrm>
              <a:off x="1042920" y="4796280"/>
              <a:ext cx="79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Straight Connector 9"/>
            <p:cNvSpPr/>
            <p:nvPr/>
          </p:nvSpPr>
          <p:spPr>
            <a:xfrm flipH="1">
              <a:off x="1224360" y="5271120"/>
              <a:ext cx="216000" cy="35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Straight Connector 10"/>
            <p:cNvSpPr/>
            <p:nvPr/>
          </p:nvSpPr>
          <p:spPr>
            <a:xfrm>
              <a:off x="1434600" y="5269680"/>
              <a:ext cx="216000" cy="35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Group 14"/>
          <p:cNvGrpSpPr/>
          <p:nvPr/>
        </p:nvGrpSpPr>
        <p:grpSpPr>
          <a:xfrm>
            <a:off x="6948360" y="2924280"/>
            <a:ext cx="792360" cy="1339920"/>
            <a:chOff x="6948360" y="2924280"/>
            <a:chExt cx="792360" cy="1339920"/>
          </a:xfrm>
        </p:grpSpPr>
        <p:sp>
          <p:nvSpPr>
            <p:cNvPr id="554" name="Oval 15"/>
            <p:cNvSpPr/>
            <p:nvPr/>
          </p:nvSpPr>
          <p:spPr>
            <a:xfrm>
              <a:off x="7164360" y="2924280"/>
              <a:ext cx="360000" cy="360360"/>
            </a:xfrm>
            <a:prstGeom prst="ellipse">
              <a:avLst/>
            </a:prstGeom>
            <a:solidFill>
              <a:srgbClr val="17598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Straight Connector 16"/>
            <p:cNvSpPr/>
            <p:nvPr/>
          </p:nvSpPr>
          <p:spPr>
            <a:xfrm flipH="1">
              <a:off x="7343640" y="3284640"/>
              <a:ext cx="360" cy="63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Straight Connector 17"/>
            <p:cNvSpPr/>
            <p:nvPr/>
          </p:nvSpPr>
          <p:spPr>
            <a:xfrm>
              <a:off x="6948360" y="3428640"/>
              <a:ext cx="79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Straight Connector 18"/>
            <p:cNvSpPr/>
            <p:nvPr/>
          </p:nvSpPr>
          <p:spPr>
            <a:xfrm flipH="1">
              <a:off x="7129800" y="3903840"/>
              <a:ext cx="21600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Straight Connector 19"/>
            <p:cNvSpPr/>
            <p:nvPr/>
          </p:nvSpPr>
          <p:spPr>
            <a:xfrm>
              <a:off x="7340040" y="3902760"/>
              <a:ext cx="21600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Rectangle 20"/>
          <p:cNvSpPr/>
          <p:nvPr/>
        </p:nvSpPr>
        <p:spPr>
          <a:xfrm>
            <a:off x="2268360" y="1197000"/>
            <a:ext cx="4391280" cy="49687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val 21"/>
          <p:cNvSpPr/>
          <p:nvPr/>
        </p:nvSpPr>
        <p:spPr>
          <a:xfrm>
            <a:off x="3132000" y="1628640"/>
            <a:ext cx="2664000" cy="10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Develop new code from scr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Oval 22"/>
          <p:cNvSpPr/>
          <p:nvPr/>
        </p:nvSpPr>
        <p:spPr>
          <a:xfrm>
            <a:off x="3059280" y="3141720"/>
            <a:ext cx="2665080" cy="100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nalyse existing Ada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23"/>
          <p:cNvSpPr/>
          <p:nvPr/>
        </p:nvSpPr>
        <p:spPr>
          <a:xfrm>
            <a:off x="3203640" y="4653000"/>
            <a:ext cx="2663640" cy="1152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xtend existing Ada code with SPARK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traight Connector 25"/>
          <p:cNvSpPr/>
          <p:nvPr/>
        </p:nvSpPr>
        <p:spPr>
          <a:xfrm>
            <a:off x="1763640" y="2060640"/>
            <a:ext cx="1368360" cy="1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traight Connector 26"/>
          <p:cNvSpPr/>
          <p:nvPr/>
        </p:nvSpPr>
        <p:spPr>
          <a:xfrm flipV="1">
            <a:off x="1908000" y="3646440"/>
            <a:ext cx="1151280" cy="79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traight Connector 32"/>
          <p:cNvSpPr/>
          <p:nvPr/>
        </p:nvSpPr>
        <p:spPr>
          <a:xfrm flipH="1" flipV="1">
            <a:off x="5795640" y="2168280"/>
            <a:ext cx="1152360" cy="15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traight Connector 35"/>
          <p:cNvSpPr/>
          <p:nvPr/>
        </p:nvSpPr>
        <p:spPr>
          <a:xfrm>
            <a:off x="5724360" y="3645000"/>
            <a:ext cx="122400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Straight Connector 38"/>
          <p:cNvSpPr/>
          <p:nvPr/>
        </p:nvSpPr>
        <p:spPr>
          <a:xfrm flipV="1">
            <a:off x="5796000" y="3715920"/>
            <a:ext cx="115236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41"/>
          <p:cNvSpPr/>
          <p:nvPr/>
        </p:nvSpPr>
        <p:spPr>
          <a:xfrm>
            <a:off x="900000" y="573264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7598f"/>
                </a:solidFill>
                <a:latin typeface="Arial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42"/>
          <p:cNvSpPr/>
          <p:nvPr/>
        </p:nvSpPr>
        <p:spPr>
          <a:xfrm>
            <a:off x="6875640" y="4437000"/>
            <a:ext cx="100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7598f"/>
                </a:solidFill>
                <a:latin typeface="Arial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Group 13"/>
          <p:cNvGrpSpPr/>
          <p:nvPr/>
        </p:nvGrpSpPr>
        <p:grpSpPr>
          <a:xfrm>
            <a:off x="971640" y="1341360"/>
            <a:ext cx="792000" cy="1338480"/>
            <a:chOff x="971640" y="1341360"/>
            <a:chExt cx="792000" cy="1338480"/>
          </a:xfrm>
        </p:grpSpPr>
        <p:sp>
          <p:nvSpPr>
            <p:cNvPr id="571" name="Oval 3"/>
            <p:cNvSpPr/>
            <p:nvPr/>
          </p:nvSpPr>
          <p:spPr>
            <a:xfrm>
              <a:off x="1187640" y="1341360"/>
              <a:ext cx="360000" cy="360000"/>
            </a:xfrm>
            <a:prstGeom prst="ellipse">
              <a:avLst/>
            </a:prstGeom>
            <a:solidFill>
              <a:srgbClr val="17598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Straight Connector 5"/>
            <p:cNvSpPr/>
            <p:nvPr/>
          </p:nvSpPr>
          <p:spPr>
            <a:xfrm flipH="1">
              <a:off x="1366920" y="1701360"/>
              <a:ext cx="360" cy="63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Straight Connector 7"/>
            <p:cNvSpPr/>
            <p:nvPr/>
          </p:nvSpPr>
          <p:spPr>
            <a:xfrm>
              <a:off x="971640" y="1845360"/>
              <a:ext cx="79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Straight Connector 9"/>
            <p:cNvSpPr/>
            <p:nvPr/>
          </p:nvSpPr>
          <p:spPr>
            <a:xfrm flipH="1">
              <a:off x="1152720" y="2319840"/>
              <a:ext cx="21600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Straight Connector 10"/>
            <p:cNvSpPr/>
            <p:nvPr/>
          </p:nvSpPr>
          <p:spPr>
            <a:xfrm>
              <a:off x="1362960" y="2318760"/>
              <a:ext cx="21600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TextBox 41"/>
          <p:cNvSpPr/>
          <p:nvPr/>
        </p:nvSpPr>
        <p:spPr>
          <a:xfrm>
            <a:off x="900000" y="278136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7598f"/>
                </a:solidFill>
                <a:latin typeface="Arial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  <a:ea typeface="Arial Bold"/>
              </a:rPr>
              <a:t>A  Note about Local Subprograms Without Contract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In fact…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… 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a local subprogram without a contract, will be inlined for proof . GNATprove will then prove it!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35480" indent="-2829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fault behavi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Options for strict modular verification: 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35480" indent="-28296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--no-inlining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--no-global-gene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1116000" y="1916280"/>
          <a:ext cx="6408720" cy="1584000"/>
        </p:xfrm>
        <a:graphic>
          <a:graphicData uri="http://schemas.openxmlformats.org/drawingml/2006/table">
            <a:tbl>
              <a:tblPr/>
              <a:tblGrid>
                <a:gridCol w="6408720"/>
              </a:tblGrid>
              <a:tr h="1584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dd2 (X :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 out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ege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e =&gt; (X &lt;= Integer’Last - 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crement (X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crement (X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dd2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  <a:ea typeface="Arial Bold"/>
              </a:rPr>
              <a:t>Semantics of Contracts – Overflow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Remember, contracts have the same semantics as  Ada: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                                          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ourier New"/>
                <a:ea typeface="Courier New"/>
              </a:rPr>
              <a:t> 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04040"/>
                </a:solidFill>
                <a:latin typeface="Courier New"/>
                <a:ea typeface="Courier New"/>
              </a:rPr>
              <a:t>              “</a:t>
            </a:r>
            <a:r>
              <a:rPr b="1" lang="en-GB" sz="2000" spc="-1" strike="noStrike">
                <a:solidFill>
                  <a:srgbClr val="404040"/>
                </a:solidFill>
                <a:latin typeface="Courier New"/>
                <a:ea typeface="Courier New"/>
              </a:rPr>
              <a:t>warning: overflow check might fail”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Is this a false alarm in your context?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82" name=""/>
          <p:cNvGraphicFramePr/>
          <p:nvPr/>
        </p:nvGraphicFramePr>
        <p:xfrm>
          <a:off x="863640" y="2060640"/>
          <a:ext cx="7416720" cy="730080"/>
        </p:xfrm>
        <a:graphic>
          <a:graphicData uri="http://schemas.openxmlformats.org/drawingml/2006/table">
            <a:tbl>
              <a:tblPr/>
              <a:tblGrid>
                <a:gridCol w="7416720"/>
              </a:tblGrid>
              <a:tr h="730080">
                <a:tc>
                  <a:txBody>
                    <a:bodyPr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X, Y :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ositive; Z :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ositiv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GB" sz="14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Post =&gt; (</a:t>
                      </a: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if</a:t>
                      </a:r>
                      <a:r>
                        <a:rPr b="0" lang="en-GB" sz="14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X + Y &lt;= Positive'Last </a:t>
                      </a: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then </a:t>
                      </a:r>
                      <a:r>
                        <a:rPr b="0" lang="en-GB" sz="14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Z = X + Y) </a:t>
                      </a: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               </a:t>
                      </a:r>
                      <a:r>
                        <a:rPr b="0" lang="en-GB" sz="14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(</a:t>
                      </a: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if</a:t>
                      </a:r>
                      <a:r>
                        <a:rPr b="0" lang="en-GB" sz="14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X + Y &gt; Positive'Last </a:t>
                      </a: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then</a:t>
                      </a:r>
                      <a:r>
                        <a:rPr b="0" lang="en-GB" sz="14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Z = Positive'Last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83" name="Rounded Rectangular Callout 1"/>
          <p:cNvSpPr/>
          <p:nvPr/>
        </p:nvSpPr>
        <p:spPr>
          <a:xfrm>
            <a:off x="250920" y="3367080"/>
            <a:ext cx="2520720" cy="1366920"/>
          </a:xfrm>
          <a:prstGeom prst="wedgeRoundRectCallout">
            <a:avLst>
              <a:gd name="adj1" fmla="val 71467"/>
              <a:gd name="adj2" fmla="val -94124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+ Y could overflow and raise a run-time exception when the contract is exec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</a:rPr>
              <a:t>Overflow Checking Modes 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Different user need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un-time assertion checking for contracts on/off in delive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mount of proof activity, requirements on false alarm r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Customisable overflow checking mode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Option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rict Ada semantics for overflow check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inimized overflow check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liminated - no possibility of overflow (mathematical semantic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Specified semantics is used both at run time and for proof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</a:rPr>
              <a:t>Overflow Checking Mode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GNAT Pro compiler switch controls semantics of overflow checks in assertions (contracts) and code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-gnato1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 = strict Ada semantics for overflow check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 = minimized overflow check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 = eliminated - no possibility of overflow (mathematical semantic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8" name="Rounded Rectangular Callout 1"/>
          <p:cNvSpPr/>
          <p:nvPr/>
        </p:nvSpPr>
        <p:spPr>
          <a:xfrm>
            <a:off x="3780000" y="2205000"/>
            <a:ext cx="2087280" cy="1008000"/>
          </a:xfrm>
          <a:prstGeom prst="wedgeRoundRectCallout">
            <a:avLst>
              <a:gd name="adj1" fmla="val -32365"/>
              <a:gd name="adj2" fmla="val 8490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digit specifies overflow mode for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ounded Rectangular Callout 1"/>
          <p:cNvSpPr/>
          <p:nvPr/>
        </p:nvSpPr>
        <p:spPr>
          <a:xfrm>
            <a:off x="6012000" y="3284640"/>
            <a:ext cx="2232000" cy="1008000"/>
          </a:xfrm>
          <a:prstGeom prst="wedgeRoundRectCallout">
            <a:avLst>
              <a:gd name="adj1" fmla="val -101226"/>
              <a:gd name="adj2" fmla="val 2925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digit specifies overflow mode for contr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</a:rPr>
              <a:t>Exercise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04040"/>
                </a:solidFill>
                <a:latin typeface="Calibri"/>
              </a:rPr>
              <a:t>Exercise</a:t>
            </a:r>
            <a:endParaRPr b="1" lang="en-US" sz="3200" spc="-1" strike="noStrike">
              <a:solidFill>
                <a:srgbClr val="404040"/>
              </a:solidFill>
              <a:latin typeface="Calibri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Run-Time Exception Freedom Proof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  <a:ea typeface="Arial Bold"/>
              </a:rPr>
              <a:t>Run-Time Error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16" name="Content Placeholder 1" descr=""/>
          <p:cNvPicPr/>
          <p:nvPr/>
        </p:nvPicPr>
        <p:blipFill>
          <a:blip r:embed="rId1"/>
          <a:stretch/>
        </p:blipFill>
        <p:spPr>
          <a:xfrm>
            <a:off x="1357200" y="981000"/>
            <a:ext cx="64296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  <a:ea typeface="Arial Bold"/>
              </a:rPr>
              <a:t>Run-Time Errors - Example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A simple assignment statement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Which are the possible run-time errors for this example?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2556000" y="1773360"/>
          <a:ext cx="2592360" cy="304560"/>
        </p:xfrm>
        <a:graphic>
          <a:graphicData uri="http://schemas.openxmlformats.org/drawingml/2006/table">
            <a:tbl>
              <a:tblPr/>
              <a:tblGrid>
                <a:gridCol w="2592360"/>
              </a:tblGrid>
              <a:tr h="304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(I + J) := P / Q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  <a:ea typeface="Arial Bold"/>
              </a:rPr>
              <a:t>Run-Time Errors - Example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A simple assignment statement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The following errors could occur: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I+J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might overflow the base-type of the index range’s subty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I+J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might be outside the index range’s subty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P/Q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might overflow the base-type of the element ty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P/Q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might be outside the element subty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Q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might be ze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22" name=""/>
          <p:cNvGraphicFramePr/>
          <p:nvPr/>
        </p:nvGraphicFramePr>
        <p:xfrm>
          <a:off x="2556000" y="1773360"/>
          <a:ext cx="2592360" cy="304560"/>
        </p:xfrm>
        <a:graphic>
          <a:graphicData uri="http://schemas.openxmlformats.org/drawingml/2006/table">
            <a:tbl>
              <a:tblPr/>
              <a:tblGrid>
                <a:gridCol w="2592360"/>
              </a:tblGrid>
              <a:tr h="304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(I + J) := P / Q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  <a:ea typeface="Arial Bold"/>
              </a:rPr>
              <a:t>Run-time Exception Freedom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By default, the compiler will generate an executable that contains checks 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o that an exception is raised if a run-time error occu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Having proved that there are no run-time errors, the Ada checks can be justifiably removed: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ster executable, with closer correspondence between source code and object co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However, you might not want to do this: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erification assumes a stable enviro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f the environment is hostile (e.g. if memory could be externally modified), you may want defence-in-depth by retaining the Ada chec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  <a:ea typeface="Arial Bold"/>
              </a:rPr>
              <a:t>Run-time Exception Freedom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GNATprove can automatically produce verification conditions to prove the absence of run-time error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A verification condition is generated for: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very potential run-time error, 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very execution path leading to a potential run-time err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depending on the VC generation strateg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Proving every verification condition proves that the potential run-time errors cannot arise in practice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Special case of regular proof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  <a:ea typeface="Arial Bold"/>
              </a:rPr>
              <a:t>Run-time Exception Freedom – A  Simple Example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GNATprove generates verification conditions to show that no exceptions will be raised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But it cannot prove this for the assignment statement so it reports: 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overflow check not proved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How can we ensure that </a:t>
            </a:r>
            <a:r>
              <a:rPr b="1" lang="en-GB" sz="2400" spc="-1" strike="noStrike">
                <a:solidFill>
                  <a:srgbClr val="404040"/>
                </a:solidFill>
                <a:latin typeface="Courier New"/>
                <a:ea typeface="Courier New"/>
              </a:rPr>
              <a:t>X + 1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 doesn’t overflow?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29" name=""/>
          <p:cNvGraphicFramePr/>
          <p:nvPr/>
        </p:nvGraphicFramePr>
        <p:xfrm>
          <a:off x="1116000" y="2276640"/>
          <a:ext cx="6408720" cy="1158840"/>
        </p:xfrm>
        <a:graphic>
          <a:graphicData uri="http://schemas.openxmlformats.org/drawingml/2006/table">
            <a:tbl>
              <a:tblPr/>
              <a:tblGrid>
                <a:gridCol w="6408720"/>
              </a:tblGrid>
              <a:tr h="1158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crement (X: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 out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ege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= X + 1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cremen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  <a:ea typeface="Arial Bold"/>
              </a:rPr>
              <a:t>Run-time Exception Freedom – A  Simple Example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How can we ensure that </a:t>
            </a:r>
            <a:r>
              <a:rPr b="1" lang="en-GB" sz="2400" spc="-1" strike="noStrike">
                <a:solidFill>
                  <a:srgbClr val="404040"/>
                </a:solidFill>
                <a:latin typeface="Courier New"/>
                <a:ea typeface="Courier New"/>
              </a:rPr>
              <a:t>X + 1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 doesn’t overflow?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We can add a precondition to the subprogram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This avoids the potential overflow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ut only if we can guarantee that the precondition is m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tools automatically (attempt to) prove that the precondition holds for all callers of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Incr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1116000" y="2276640"/>
          <a:ext cx="6408720" cy="1371600"/>
        </p:xfrm>
        <a:graphic>
          <a:graphicData uri="http://schemas.openxmlformats.org/drawingml/2006/table">
            <a:tbl>
              <a:tblPr/>
              <a:tblGrid>
                <a:gridCol w="6408720"/>
              </a:tblGrid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crement (X: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 out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ege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e =&gt; (X &lt; Integer’Las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= X + 1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cremen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  <a:ea typeface="Arial Bold"/>
              </a:rPr>
              <a:t>Run-time Exception Freedom – A  Simple Example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A procedure that adds two to X via multiple calls to </a:t>
            </a:r>
            <a:r>
              <a:rPr b="1" lang="en-GB" sz="2400" spc="-1" strike="noStrike">
                <a:solidFill>
                  <a:srgbClr val="404040"/>
                </a:solidFill>
                <a:latin typeface="Courier New"/>
                <a:ea typeface="Courier New"/>
              </a:rPr>
              <a:t>Increment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The tools report “precondition not proved” for each call to </a:t>
            </a:r>
            <a:r>
              <a:rPr b="1" lang="en-GB" sz="2400" spc="-1" strike="noStrike">
                <a:solidFill>
                  <a:srgbClr val="404040"/>
                </a:solidFill>
                <a:latin typeface="Courier New"/>
                <a:ea typeface="Courier New"/>
              </a:rPr>
              <a:t>Increment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So let’s add a precondition to </a:t>
            </a:r>
            <a:r>
              <a:rPr b="1" lang="en-GB" sz="2400" spc="-1" strike="noStrike">
                <a:solidFill>
                  <a:srgbClr val="404040"/>
                </a:solidFill>
                <a:latin typeface="Courier New"/>
                <a:ea typeface="Courier New"/>
              </a:rPr>
              <a:t>Add2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... 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1116000" y="2276640"/>
          <a:ext cx="6408720" cy="1371600"/>
        </p:xfrm>
        <a:graphic>
          <a:graphicData uri="http://schemas.openxmlformats.org/drawingml/2006/table">
            <a:tbl>
              <a:tblPr/>
              <a:tblGrid>
                <a:gridCol w="6408720"/>
              </a:tblGrid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dd2 (X :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 out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ege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crement (X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crement (X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dd2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5:00:23Z</dcterms:created>
  <dc:creator>ochem</dc:creator>
  <dc:description/>
  <dc:language>en-US</dc:language>
  <cp:lastModifiedBy>Wallenburg Angela</cp:lastModifiedBy>
  <cp:lastPrinted>2014-03-31T13:09:07Z</cp:lastPrinted>
  <dcterms:modified xsi:type="dcterms:W3CDTF">2017-10-03T20:33:18Z</dcterms:modified>
  <cp:revision>2254</cp:revision>
  <dc:subject/>
  <dc:title>Diapositive 1</dc:title>
</cp:coreProperties>
</file>