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2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 type="sldNum" idx="4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6DD9-8023-4D76-A958-D20E76671BE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68EA-4A0B-4BE7-9B4F-3AD48DBDCF2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DBDD7-40CB-438E-99A4-DBA1E21FBBA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262F9-76BB-4FD7-9764-3C55EDF1394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577B1-549B-4A06-8AA5-E63033D74C1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E27D7-BE5D-4A83-827F-B8979AF7F9C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7B3EF-2669-4759-A2D8-725D596A0E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4C556-E3ED-48F9-835B-01339283C28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20B88-4E4C-43BC-9976-54A384C010C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55E6F-95D7-4B4B-9123-195BD7F06E4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0FA8B-C350-4B4E-ABF4-DD3D1934F4C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73754-4C58-4553-9DA6-E396C928205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54744-F6F2-4CE0-82D0-A0042808298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C659D-2018-434A-A102-8E96F0B907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342DB8FD-396B-4F19-BEB3-66F6D3C71EB9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-7200" y="6634080"/>
            <a:ext cx="1469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AB397815-1542-4BE5-96DD-518450595200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-7200" y="6634080"/>
            <a:ext cx="1469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87" name="TextBox 6"/>
          <p:cNvSpPr/>
          <p:nvPr/>
        </p:nvSpPr>
        <p:spPr>
          <a:xfrm>
            <a:off x="6929640" y="69228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7" descr="wrong.png"/>
          <p:cNvPicPr/>
          <p:nvPr/>
        </p:nvPicPr>
        <p:blipFill>
          <a:blip r:embed="rId4"/>
          <a:stretch/>
        </p:blipFill>
        <p:spPr>
          <a:xfrm>
            <a:off x="6443640" y="620640"/>
            <a:ext cx="477720" cy="478080"/>
          </a:xfrm>
          <a:prstGeom prst="rect">
            <a:avLst/>
          </a:prstGeom>
          <a:ln w="0">
            <a:noFill/>
          </a:ln>
        </p:spPr>
      </p:pic>
      <p:sp>
        <p:nvSpPr>
          <p:cNvPr id="389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E97F2768-9524-4D57-90F0-3930911B0E79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-7200" y="6634080"/>
            <a:ext cx="1469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CECDFD68-F618-441E-A152-E0E8427D85E3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-7200" y="6634080"/>
            <a:ext cx="1469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2515B294-522D-453F-80FD-9444E738D4E1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6"/>
          <p:cNvSpPr/>
          <p:nvPr/>
        </p:nvSpPr>
        <p:spPr>
          <a:xfrm>
            <a:off x="-7200" y="6634080"/>
            <a:ext cx="1469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ldNum" idx="1"/>
          </p:nvPr>
        </p:nvSpPr>
        <p:spPr>
          <a:xfrm>
            <a:off x="4320" y="6434280"/>
            <a:ext cx="82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fffff"/>
                </a:solidFill>
                <a:latin typeface="Lucida Sans"/>
                <a:ea typeface="Lucid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ECC3-D4B2-4409-9C47-4D418FCCE253}" type="slidenum">
              <a:rPr b="0" lang="en-GB" sz="1100" spc="-1" strike="noStrike">
                <a:solidFill>
                  <a:srgbClr val="ffffff"/>
                </a:solidFill>
                <a:latin typeface="Lucida Sans"/>
                <a:ea typeface="Lucida San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CC1710AD-8917-4619-B85A-AF912861A54B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-7200" y="6634080"/>
            <a:ext cx="1469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468360" y="1484280"/>
            <a:ext cx="8342280" cy="2781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D888BC1C-83CD-4BF2-AF6C-1CD082AD0AF9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-7200" y="6634080"/>
            <a:ext cx="1469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7020000" y="260280"/>
            <a:ext cx="1836720" cy="612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B46EDBA2-B8CF-4B68-BB41-754D9AB734E4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-7200" y="6634080"/>
            <a:ext cx="1469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819760" y="153504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826920" y="2060640"/>
            <a:ext cx="7507440" cy="2502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8C8C426D-4344-47EE-A276-F54CF12CC48C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-7200" y="6634080"/>
            <a:ext cx="1469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7"/>
          <p:cNvGrpSpPr/>
          <p:nvPr/>
        </p:nvGrpSpPr>
        <p:grpSpPr>
          <a:xfrm>
            <a:off x="2879640" y="2641680"/>
            <a:ext cx="3373560" cy="1574640"/>
            <a:chOff x="2879640" y="2641680"/>
            <a:chExt cx="3373560" cy="1574640"/>
          </a:xfrm>
        </p:grpSpPr>
        <p:sp>
          <p:nvSpPr>
            <p:cNvPr id="170" name="TextBox 7"/>
            <p:cNvSpPr/>
            <p:nvPr/>
          </p:nvSpPr>
          <p:spPr>
            <a:xfrm>
              <a:off x="4405320" y="2828880"/>
              <a:ext cx="1847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Quiz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2" descr="C:\Users\ochem\AppData\Local\Temp\Rar$DR28.624\AdaCoreU Package\icons\quiz.png"/>
            <p:cNvPicPr/>
            <p:nvPr/>
          </p:nvPicPr>
          <p:blipFill>
            <a:blip r:embed="rId3"/>
            <a:stretch/>
          </p:blipFill>
          <p:spPr>
            <a:xfrm>
              <a:off x="2879640" y="2641680"/>
              <a:ext cx="1575000" cy="157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" name="c1fe8a76-f479-4240-b975-cf131fd69cdc" descr="6CE50D91-52A1-418C-81F5-BA85E68CC41F@hsd1"/>
          <p:cNvPicPr/>
          <p:nvPr/>
        </p:nvPicPr>
        <p:blipFill>
          <a:blip r:embed="rId4"/>
          <a:stretch/>
        </p:blipFill>
        <p:spPr>
          <a:xfrm>
            <a:off x="6948360" y="260280"/>
            <a:ext cx="1835280" cy="6127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EDB658E5-213D-4057-B0DE-175624E8DFD9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-7200" y="6634080"/>
            <a:ext cx="1469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7020000" y="260280"/>
            <a:ext cx="1836720" cy="612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60E3F200-9F09-4244-93A9-027F591F5E6A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-7200" y="6634080"/>
            <a:ext cx="1469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F2E61B10-FF45-461D-BC74-BD80862D7577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-7200" y="6634080"/>
            <a:ext cx="1469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5"/>
          <p:cNvSpPr/>
          <p:nvPr/>
        </p:nvSpPr>
        <p:spPr>
          <a:xfrm>
            <a:off x="6896880" y="108000"/>
            <a:ext cx="181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YES</a:t>
            </a:r>
            <a:br>
              <a:rPr sz="1400"/>
            </a:br>
            <a:r>
              <a:rPr b="1" lang="en-US" sz="1100" spc="-1" strike="noStrike">
                <a:solidFill>
                  <a:srgbClr val="1780a6"/>
                </a:solidFill>
                <a:latin typeface="Arial"/>
              </a:rPr>
              <a:t>(click on the check ic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6"/>
          <p:cNvSpPr/>
          <p:nvPr/>
        </p:nvSpPr>
        <p:spPr>
          <a:xfrm>
            <a:off x="6902640" y="627120"/>
            <a:ext cx="2204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NO</a:t>
            </a:r>
            <a:br>
              <a:rPr sz="1400"/>
            </a:br>
            <a:r>
              <a:rPr b="1" lang="en-US" sz="1100" spc="-1" strike="noStrike">
                <a:solidFill>
                  <a:srgbClr val="1780a6"/>
                </a:solidFill>
                <a:latin typeface="Arial"/>
              </a:rPr>
              <a:t> (click on the error location(s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wrong.png"/>
          <p:cNvPicPr/>
          <p:nvPr/>
        </p:nvPicPr>
        <p:blipFill>
          <a:blip r:embed="rId4"/>
          <a:stretch/>
        </p:blipFill>
        <p:spPr>
          <a:xfrm>
            <a:off x="6443640" y="620640"/>
            <a:ext cx="477720" cy="4780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correct.png"/>
          <p:cNvPicPr/>
          <p:nvPr/>
        </p:nvPicPr>
        <p:blipFill>
          <a:blip r:embed="rId5"/>
          <a:stretch/>
        </p:blipFill>
        <p:spPr>
          <a:xfrm>
            <a:off x="6443640" y="115920"/>
            <a:ext cx="482760" cy="482400"/>
          </a:xfrm>
          <a:prstGeom prst="rect">
            <a:avLst/>
          </a:prstGeom>
          <a:ln w="0">
            <a:noFill/>
          </a:ln>
        </p:spPr>
      </p:pic>
      <p:sp>
        <p:nvSpPr>
          <p:cNvPr id="301" name="TextBox 10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9DF68D09-43C5-4997-B685-619B3FF1D654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-7200" y="6634080"/>
            <a:ext cx="1469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43" name="TextBox 6"/>
          <p:cNvSpPr/>
          <p:nvPr/>
        </p:nvSpPr>
        <p:spPr>
          <a:xfrm>
            <a:off x="6894720" y="1890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7" descr="correct.png"/>
          <p:cNvPicPr/>
          <p:nvPr/>
        </p:nvPicPr>
        <p:blipFill>
          <a:blip r:embed="rId4"/>
          <a:stretch/>
        </p:blipFill>
        <p:spPr>
          <a:xfrm>
            <a:off x="6443640" y="115920"/>
            <a:ext cx="482760" cy="482400"/>
          </a:xfrm>
          <a:prstGeom prst="rect">
            <a:avLst/>
          </a:prstGeom>
          <a:ln w="0">
            <a:noFill/>
          </a:ln>
        </p:spPr>
      </p:pic>
      <p:sp>
        <p:nvSpPr>
          <p:cNvPr id="345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80880" y="2349360"/>
            <a:ext cx="8382240" cy="18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  <a:ea typeface="Arial"/>
              </a:rPr>
              <a:t>Software Engineering With SPARK 2014: Course Overview</a:t>
            </a:r>
            <a:endParaRPr b="1" lang="en-US" sz="4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Timing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Daily Schedule: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09.00 - 10.00 Learning Block 1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10.00 - 10.15 </a:t>
            </a:r>
            <a:r>
              <a:rPr b="0" i="1" lang="en-GB" sz="2400" spc="-1" strike="noStrike">
                <a:solidFill>
                  <a:srgbClr val="404040"/>
                </a:solidFill>
                <a:latin typeface="Calibri"/>
              </a:rPr>
              <a:t>Coffe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10.15 - 12.30 Learning Block 2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12.30 - 13.15 </a:t>
            </a:r>
            <a:r>
              <a:rPr b="0" i="1" lang="en-GB" sz="2400" spc="-1" strike="noStrike">
                <a:solidFill>
                  <a:srgbClr val="404040"/>
                </a:solidFill>
                <a:latin typeface="Calibri"/>
              </a:rPr>
              <a:t>Lunch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13.15 - 15.00 Learning Block 3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15.00 - 15.15 </a:t>
            </a:r>
            <a:r>
              <a:rPr b="0" i="1" lang="en-GB" sz="2400" spc="-1" strike="noStrike">
                <a:solidFill>
                  <a:srgbClr val="404040"/>
                </a:solidFill>
                <a:latin typeface="Calibri"/>
              </a:rPr>
              <a:t>Tea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15.15 - 17.00 Learning Block 4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Relationship between SPARK &amp; Ada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0" name="Group 10"/>
          <p:cNvGrpSpPr/>
          <p:nvPr/>
        </p:nvGrpSpPr>
        <p:grpSpPr>
          <a:xfrm>
            <a:off x="1763640" y="2054160"/>
            <a:ext cx="5329440" cy="2669760"/>
            <a:chOff x="1763640" y="2054160"/>
            <a:chExt cx="5329440" cy="2669760"/>
          </a:xfrm>
        </p:grpSpPr>
        <p:grpSp>
          <p:nvGrpSpPr>
            <p:cNvPr id="561" name="Group 3"/>
            <p:cNvGrpSpPr/>
            <p:nvPr/>
          </p:nvGrpSpPr>
          <p:grpSpPr>
            <a:xfrm>
              <a:off x="1763640" y="2054160"/>
              <a:ext cx="5329440" cy="1882440"/>
              <a:chOff x="1763640" y="2054160"/>
              <a:chExt cx="5329440" cy="1882440"/>
            </a:xfrm>
          </p:grpSpPr>
          <p:sp>
            <p:nvSpPr>
              <p:cNvPr id="562" name="Oval 4"/>
              <p:cNvSpPr/>
              <p:nvPr/>
            </p:nvSpPr>
            <p:spPr>
              <a:xfrm>
                <a:off x="3132000" y="2064240"/>
                <a:ext cx="3673080" cy="1872360"/>
              </a:xfrm>
              <a:prstGeom prst="ellipse">
                <a:avLst/>
              </a:prstGeom>
              <a:solidFill>
                <a:srgbClr val="7030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Oval 2"/>
              <p:cNvSpPr/>
              <p:nvPr/>
            </p:nvSpPr>
            <p:spPr>
              <a:xfrm>
                <a:off x="1979640" y="2054160"/>
                <a:ext cx="3673080" cy="1872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Box 3"/>
              <p:cNvSpPr/>
              <p:nvPr/>
            </p:nvSpPr>
            <p:spPr>
              <a:xfrm>
                <a:off x="1763640" y="2405520"/>
                <a:ext cx="140436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17598f"/>
                    </a:solidFill>
                    <a:latin typeface="Arial"/>
                  </a:rPr>
                  <a:t>Ad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17598f"/>
                    </a:solidFill>
                    <a:latin typeface="Arial"/>
                  </a:rPr>
                  <a:t>features outside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17598f"/>
                    </a:solidFill>
                    <a:latin typeface="Arial"/>
                  </a:rPr>
                  <a:t>the SPARK subs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Box 6"/>
              <p:cNvSpPr/>
              <p:nvPr/>
            </p:nvSpPr>
            <p:spPr>
              <a:xfrm>
                <a:off x="3780000" y="2297520"/>
                <a:ext cx="140436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Core language constructs common to Ada and SPARK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Box 7"/>
              <p:cNvSpPr/>
              <p:nvPr/>
            </p:nvSpPr>
            <p:spPr>
              <a:xfrm>
                <a:off x="5688720" y="2621160"/>
                <a:ext cx="14043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Additional SPARK contrac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567" name="Straight Arrow Connector 2"/>
            <p:cNvCxnSpPr/>
            <p:nvPr/>
          </p:nvCxnSpPr>
          <p:spPr>
            <a:xfrm>
              <a:off x="2051280" y="4224600"/>
              <a:ext cx="3385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568" name="TextBox 9"/>
            <p:cNvSpPr/>
            <p:nvPr/>
          </p:nvSpPr>
          <p:spPr>
            <a:xfrm>
              <a:off x="3384000" y="3936600"/>
              <a:ext cx="54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17598f"/>
                  </a:solidFill>
                  <a:latin typeface="Arial"/>
                </a:rPr>
                <a:t>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9" name="Straight Arrow Connector 12"/>
            <p:cNvCxnSpPr/>
            <p:nvPr/>
          </p:nvCxnSpPr>
          <p:spPr>
            <a:xfrm>
              <a:off x="3383640" y="4396680"/>
              <a:ext cx="3385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570" name="TextBox 13"/>
            <p:cNvSpPr/>
            <p:nvPr/>
          </p:nvSpPr>
          <p:spPr>
            <a:xfrm>
              <a:off x="4716360" y="4416840"/>
              <a:ext cx="86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50356a"/>
                  </a:solidFill>
                  <a:latin typeface="Arial"/>
                </a:rPr>
                <a:t>SPA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Course Outline 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Course Introductio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SPARK Rationale &amp; Overview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Introduction to SPARK and Ada - Language Basic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ecla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asic Ty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at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rr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co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bpro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ack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…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Course Outlin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Introduction to Verification with SPARK 2014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27920" indent="-280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ype Saf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ationale , Part 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ata Flow Analy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tra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tro to Proo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Advanced Verificatio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27920" indent="-280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TE Proo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Proof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dvanced Proo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epends Contract and Information Flow Analy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…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Course Outlin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Programming in the Larg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caling 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capsu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bstraction &amp; Refin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terfac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esigning for SPA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Course Goal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What will </a:t>
            </a:r>
            <a:r>
              <a:rPr b="1" i="1" lang="en-GB" sz="2400" spc="-1" strike="noStrike">
                <a:solidFill>
                  <a:srgbClr val="404040"/>
                </a:solidFill>
                <a:latin typeface="Calibri"/>
              </a:rPr>
              <a:t>you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 do after the course?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Be comfortable with the fundamentals of SPARK. 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Know where to find our more.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Let SPARK  work for you on your next project?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… 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?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5:00:23Z</dcterms:created>
  <dc:creator>ochem</dc:creator>
  <dc:description/>
  <dc:language>en-US</dc:language>
  <cp:lastModifiedBy>Angela Wallenburg</cp:lastModifiedBy>
  <cp:lastPrinted>2014-03-31T13:09:07Z</cp:lastPrinted>
  <dcterms:modified xsi:type="dcterms:W3CDTF">2015-10-02T16:34:51Z</dcterms:modified>
  <cp:revision>2355</cp:revision>
  <dc:subject/>
  <dc:title>Diapositive 1</dc:title>
</cp:coreProperties>
</file>