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72F2-F004-42CE-A5AD-12DD92ED63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llo my name is Martyn Pike and welcome to this lecture from the Ada University course on Programming in the lar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bject of this lecture is Encapsulation as a pattern for Ada program design and together we shall complete a series of slides and then you will be assessed on your learning using some quiz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495F-555A-4A1C-AD5A-3D88F3C162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rivate section of a package specification is not restricted to only providing implementations for private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 a reminder the package user has no access to any part of the private section of a package specifi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 summary we see the package specification can be split into a public and private section where the public view is visible to the package user and the private section is only visible to the package body and any child pack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3E3A-BC18-42DA-9426-5B73F74BE7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’ve now reached the end of the slide section of this lectur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should now have enough knowledge of Encapsulation in Ada to complete a small quiz with questions designed to test your understan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od luck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1E7E-E57A-48D6-A7BD-4BE7992BE6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We’ll start off slowly.  Here we introduce a simple example package P with a public section that includes a declaration of a private type named T and an implementation of T with a range from 1 to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tick icon if you believe the code is correct or the location of the code you suspect is w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41C8-8BB8-4184-A568-3123C0CC1C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is code is incorrect.  The implementation of the private type T must appear in a private section of the package specifi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 this case there was no private section because the private keyword was mis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3E80-03E7-4652-A448-95F3BF8551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ur next question corrects the package specification of P so that T is correctly implemented in a private sec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e procedure Main is now introduced that allocates a stack object named V using the private type T and within the procedure body assigns V the value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tick icon if you believe the code is correct or the location of the code you suspect is w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1734-6F9A-4D99-B97A-6C6549CDA5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gain this example code is incorrect as the procedure Main has assumed it knows that the implementation of the private type T is an Integ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t cannot do this because as a client of P it has no visibility of the implementation of P’s private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7C0A-DF88-4DFB-9FC8-FADEEEE337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estion 3 uses a slight variation on the code used in the previous question now with the procedure Main being declared as a child unit of the package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tick icon if you believe the code is correct or the location of the code you suspect is w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E46B-749F-456A-A559-5B02B12D1E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is is correct code because the procedure Main is a child unit of P and therefore has full visibility of the private section of package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member that package bodies and children of the private type declaring package have full visibility of the private type impleme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11FA-D034-42FD-8CD1-3CD681D6E8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e next question presents package P that declares a private type T and a private constant of type T named Zero that is initialised to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e private section provides the implementation of T and the package specification of package P2 uses T within a record type declaration for a type named T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rocedure Main has access to both package P and P2 and instantiates T2 from package P2 as a stack object V and attempts to use the private constant Zero from package P in an assignment sta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tick icon if you believe the code is correct or the location of the code you suspect is w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EDBE-3602-4170-B474-8382EAF0EF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is code will actually fail to compile because the private constant Zero within package P has its value set before the implementation within the private section of the package specifi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What should be done instead is the constant Zero should be a deferred constant with a public declaration and a private implementation appearing in the private s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7914-B4CD-4C15-9E5A-553B5324E5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typical problem in programming is how much information to provide to a user of an existing package or module.  The package developer needs to present a consistent API to their users and minimize the amount of variable information.  Type declarations are such area where caution is requi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ving the full implementation of the types accessible is error prone and in the following example we see two complete type declarations that expose their representation to the package us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 example user of said package can access the component parts of the types as show in the example Main proced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introduces maintenance issues and can lead to unintended uses of the pack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ever the compiler need to have access to the representation so to know how much memory is to be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 the representation somehow needs to stay in the specification but be priv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C29D-4676-41F5-8D04-8973CFBBA6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We expand the example further now into a child unit of package P called procedure P.Main and a standalone procedure also called Mai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ey both have identical implementations and assign the private constant Zero from package P to a local instantiated object of the private type P.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tick icon if you believe the code is correct or the location of the code you suspect is w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BCBE-B236-410B-BDEF-CC288CFA97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e code is incorr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e procedure Main has no visibility of the private section of package P and therefore cannot use the private entities in this case the constant Ze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FABD-26F7-43E5-905C-5EDFE72D2C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uestion 6 presents a package P declaring a private type T and within the private section the implementation uses an unconstrained array of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e procedure Main is a child unit of P and declares a stack object of V that is of type T with an index constrained from 1 to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e procedure body goes onto assign the value 0 to the first element of V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tick icon if you believe the code is correct or the location of the code you suspect is w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1E4F-789E-4FD1-B26D-EBBB38A52B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is example will cause a compilation error as T has been declared as a simple private type yet implemented using an indefinite 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is is inconsistent as clients are not aware of the fact that they should constrain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e correct package specification is shown at the bottom of the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F0F6-E00E-414D-8358-349195DB12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question presents package P and the declaration of a private indefinite type along with an implementation that uses a subtype of Integer with the range 1 to 10 for the index of an array of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edure Main goes onto instantiate a stack object of private type T along and a null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tick icon if you believe the code is correct or the location of the code you suspect is w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68B3-E0FC-40A1-91EE-843BA8087E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ckage specification of P including the private type declaration and implementation is f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ssue comes from the use of the private type by the procedure Main when declaring the object V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 of an indefinite private type means any client, in this case the procedure Main, must constrain it upon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5418-6AE9-4828-AA1E-29FE792B12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8 uses a package specification for P that publically declares a simple private type and a private constant.  The implementation of T is a number from 0 to 10 and the constant One of type T is initialized to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edure Main instantiates a stack object Val of private type T and then within the body assigns the result of adding One and One to V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tick icon if you believe the code is correct or the location of the code you suspect is w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B8F0-27B0-4C9B-A6D2-43BB9095DF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ode is incorrect and will actually produce a compilation error as there is no “+” operator declared for the private type T defined within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E728-A3B3-4FE5-91C5-05D881C9EC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e pinultimate question uses a package specification for P that defines a simple private type T and an implementation within the private section that represents T as a number from 0 to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hild package of P called Constants declares two publically available constants of private type T from the parent package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e procedure Main instantiates a stack object V of private type T and initialises V with one of the constants from the Constants child pack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lick on the check icon if you think this is correct or alternatively click on the location of the e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C381-37EC-40A1-9865-87A844EC08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ere is a compilation error here within the child package P.Constants as it cannot publically reveal facts about private sections of its parent pack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e solution is shown in the snippet at the bottom of the slide.  It uses two deferred constants that are implemented and initialised in the private s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004A-A4FA-43A6-901C-F07469A8F3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address this the package specification can have a private section that is visible to the compiler, the implementation and any children, it is however no visible to the user of the pack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may be familiar with C++ and its concept of the private keyword in a class definition.  A private section in Ada differs from C++ in that the private applies to the type as a whole and cannot be specified on an attribute by attribute ba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condly, privacy in managed at the entire package level and not class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can see an example of a private section in the following example along with how C++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C67B-4192-4F1B-86B9-9A5FEAF56E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e final question in this quiz presents a package P with a simple private type T1 that is subsequently used for a field within a public record type definition T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e private section goes on to provide the implementaiton of the simple private type T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or the final ti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tick icon if you believe the code is correct or the location of the code you suspect is w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B964-B4AA-4E7A-BDCB-954403A5F2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 end on a positive note this code is indeed correct and provides a reusable pattern for hiding parts of a publically available record 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9DC7-9F3A-4257-9FC4-682F7ABAF1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 for attending this lecture on Encapsulation in Ada as part of the course of Programming in the Large using A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hope you have found it a valuable step in learning the Ada Programming Language and that you continue onto the other lectures in the course from the Ada Univer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3DE4-5EF1-4F9C-B598-AD4B27E887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w we expand the question of who has access to the private section of a package specification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answer is the package body and any child packag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 this example code we see a package Stacks that defines a Stack_Type private type and a procedure Push that accepts a parameter of type Stack_Type and an Integer.  In the private section of the package specification we see the implementation of Stack_Typ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Stacks package body can access the implementation of Stack_Type and indeed directly accesses the record field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e next provide a package specification of the Utils child package of Stacks which specifies a procedure Empty that accepts a parameter typed by the private type Stack_Type as declared in the parent Stacks packag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implementation of the child package can access the implementation of Stack_Type and indeed directly accesses the record field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wever we can see that any attempt by the Main procedure to directly access the record fields would be an err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C51C-691A-4961-80D8-8805B57447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though the implementation of a private type is unavailable to the package user they are able to use the type in the same way they would a null rec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ackage user is free to use it to type objects, specify parameter types and component decla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y can also be copied and used in comparis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following example shows the package Stacks declaring a private type called Stack_Type and using it to type a parameter of the procedure Pu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ain procedure is the user of the package Stacks and is able to declare stack objects using the private Stack_Type, use them in calls to Push, make assignments and comparis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86C1-C1D6-4C7A-8EE5-E24DE298F9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private types; Simple private types and indefinite private types.  Here we cover simple private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mple private type can be implemented by any type giving at least the same level of capabil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be a definite type and allow copy and comparisons so this rules out unconstrained arrays and limited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given the simple private type declaration of Stack_Type we see 3 legal implementations using a discrete numerical range, a record and a constrained arr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illegal implementations are also given for completeness, the example shows a failed attempt to a discriminated record and an unconstrained arr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21DA-3579-4A2F-B478-3487DFB58E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definite private type can be implemented by a superset of the permitted implementation of simple private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indefinite private types can be implemented using numerical ranges, records, constrained arrays, discriminated records and unconstrained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package user comes to allocate objects either from storage pool or the stack they must provide initializ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can see the previously seen illegal simple type implementations are legal implementations for indefinite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BFFC-E3CF-46DF-BAF8-9AC2AE2EF8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possible to have a compromise between “simple” and “indefinite” private types by specifying a discriminant.  Here we show an example where Stack_Type is using an Integer typed discriminant called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vate section of the package goes onto complete the declaration of Stack_Type using a discriminated record impleme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390B-7F3D-4A0E-9030-6ECE9789B0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very powerful feature of private types is the ability to declare deferred private constants of any private 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tants declared as deferred have a public view and a private view.  The public view allows assignment and comparison implicit primitive operations to be used which are particularly useful for providing default values of any private 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re we see a classic example of using a deferred constant to signify an Empty_Stack, available to the package user for comparison or initialis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implementation of the deferred constant is completely hidden from the package user yet its implementation uses here an aggregate assignment naming fields within the private types impleme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are very likely to experience this pattern of code when writing A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ACA8-5D02-49F1-964C-418A1204DC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026F94C-19E3-49E3-A9BD-33917DFD465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E24313C-8630-47D2-AC9B-C24093B4071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6"/>
          <p:cNvSpPr/>
          <p:nvPr/>
        </p:nvSpPr>
        <p:spPr>
          <a:xfrm>
            <a:off x="6929640" y="69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7" descr="wrong.png"/>
          <p:cNvPicPr/>
          <p:nvPr/>
        </p:nvPicPr>
        <p:blipFill>
          <a:blip r:embed="rId4"/>
          <a:stretch/>
        </p:blipFill>
        <p:spPr>
          <a:xfrm>
            <a:off x="6443640" y="35892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3079E12-E37C-40F8-834B-53BDAAFB924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4A16BD8-9F2F-4DF9-96EC-1C7F6FA0627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80b"/>
            </a:gs>
            <a:gs pos="100000">
              <a:srgbClr val="0d25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23DE63C-9FE5-4CE9-9E88-FD4CE56B6FB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-5760" y="6634080"/>
            <a:ext cx="14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2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5C78500-FD53-4A4F-A254-3DDE52E1FCDD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daCoreU-isolated.png"/>
          <p:cNvPicPr/>
          <p:nvPr/>
        </p:nvPicPr>
        <p:blipFill>
          <a:blip r:embed="rId3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E9E8BEC-135B-4A57-A8FC-FFA772F46F4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aCoreU-isolated.png"/>
          <p:cNvPicPr/>
          <p:nvPr/>
        </p:nvPicPr>
        <p:blipFill>
          <a:blip r:embed="rId3"/>
          <a:stretch/>
        </p:blipFill>
        <p:spPr>
          <a:xfrm>
            <a:off x="539640" y="404640"/>
            <a:ext cx="662040" cy="1079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85BFF5C-B78E-4A63-8E46-761860ABB24D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1619280" y="4221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university.adacor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AdaCoreU-isolated.png"/>
          <p:cNvPicPr/>
          <p:nvPr/>
        </p:nvPicPr>
        <p:blipFill>
          <a:blip r:embed="rId3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8B8946E-DE75-4A44-889D-FE12C51A78B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AdaCoreU-isolated.png"/>
          <p:cNvPicPr/>
          <p:nvPr/>
        </p:nvPicPr>
        <p:blipFill>
          <a:blip r:embed="rId3"/>
          <a:stretch/>
        </p:blipFill>
        <p:spPr>
          <a:xfrm>
            <a:off x="539640" y="404640"/>
            <a:ext cx="662040" cy="107964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213" name="TextBox 8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Picture 2" descr="C:\Users\ochem\AppData\Local\Temp\Rar$DR28.624\AdaCoreU Package\icons\quiz.png"/>
            <p:cNvPicPr/>
            <p:nvPr/>
          </p:nvPicPr>
          <p:blipFill>
            <a:blip r:embed="rId4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7444935-318E-4CF4-9B01-844D37CCCC1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B751C277-BDBF-46F7-9F32-10F84668DC0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6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3627715-1EFB-419F-9C9B-4FDCB69FF47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6"/>
          <p:cNvSpPr/>
          <p:nvPr/>
        </p:nvSpPr>
        <p:spPr>
          <a:xfrm>
            <a:off x="6894720" y="18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7" descr="correct.png"/>
          <p:cNvPicPr/>
          <p:nvPr/>
        </p:nvPicPr>
        <p:blipFill>
          <a:blip r:embed="rId4"/>
          <a:stretch/>
        </p:blipFill>
        <p:spPr>
          <a:xfrm>
            <a:off x="6443640" y="353880"/>
            <a:ext cx="482760" cy="482760"/>
          </a:xfrm>
          <a:prstGeom prst="rect">
            <a:avLst/>
          </a:prstGeom>
          <a:ln w="0">
            <a:noFill/>
          </a:ln>
        </p:spPr>
      </p:pic>
      <p:sp>
        <p:nvSpPr>
          <p:cNvPr id="341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579240" y="3933360"/>
            <a:ext cx="820548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0a6"/>
                </a:solidFill>
                <a:latin typeface="Calibri"/>
                <a:ea typeface="Arial"/>
              </a:rPr>
              <a:t>Encapsulation</a:t>
            </a:r>
            <a:endParaRPr b="1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0920" y="4941720"/>
            <a:ext cx="82040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Calibri"/>
                <a:ea typeface="ヒラギノ角ゴ ProN W3"/>
              </a:rPr>
              <a:t>university.adacore.com</a:t>
            </a:r>
            <a:endParaRPr b="1" lang="en-US" sz="1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79240" y="4581360"/>
            <a:ext cx="82054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600" spc="-1" strike="noStrike">
              <a:solidFill>
                <a:srgbClr val="1a1a1a"/>
              </a:solidFill>
              <a:latin typeface="Calibri"/>
              <a:ea typeface="ヒラギノ角ゴ ProN W3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Private part is not only for private typ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84000" y="90756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ny kind of declaration can be provided in the private part of the packag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Entities declared only in the private part are not reachable at all for the clie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1322280" y="2924280"/>
          <a:ext cx="6572520" cy="3566880"/>
        </p:xfrm>
        <a:graphic>
          <a:graphicData uri="http://schemas.openxmlformats.org/drawingml/2006/table">
            <a:tbl>
              <a:tblPr/>
              <a:tblGrid>
                <a:gridCol w="6572520"/>
              </a:tblGrid>
              <a:tr h="356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96d7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4c96d7"/>
                          </a:solidFill>
                          <a:latin typeface="Courier New"/>
                        </a:rPr>
                        <a:t>--  public part of the spec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declaration of subprograms, variables exceptions, tasks…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visible to the external 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used by the compiler for all dependencies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4c96d7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4c96d7"/>
                          </a:solidFill>
                          <a:latin typeface="Courier New"/>
                        </a:rPr>
                        <a:t>--  private part of the spec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declaration of subprograms, variables exceptions, tasks…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visible to the children and the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used by the compiler for all dependen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4c96d7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4c96d7"/>
                          </a:solidFill>
                          <a:latin typeface="Courier New"/>
                        </a:rPr>
                        <a:t>--  bo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declaration of subprograms, variables exceptions, tasks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</a:t>
                      </a:r>
                      <a:r>
                        <a:rPr b="0" i="1" lang="en-US" sz="1200" spc="-1" strike="noStrike">
                          <a:solidFill>
                            <a:srgbClr val="4c96d7"/>
                          </a:solidFill>
                          <a:latin typeface="Courier New"/>
                        </a:rPr>
                        <a:t>implementation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 subprogr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used for the compiler from 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in certain cases, visible from the compiler for dependen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(1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3286080" y="2963880"/>
          <a:ext cx="2571840" cy="9302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(1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3286080" y="2963880"/>
          <a:ext cx="2571840" cy="9302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98" name="Straight Connector 3"/>
          <p:cNvSpPr/>
          <p:nvPr/>
        </p:nvSpPr>
        <p:spPr>
          <a:xfrm>
            <a:off x="3916440" y="3556080"/>
            <a:ext cx="199800" cy="880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801520" y="4437000"/>
            <a:ext cx="26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"private" keyword is mi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2"/>
          <p:cNvSpPr/>
          <p:nvPr/>
        </p:nvSpPr>
        <p:spPr>
          <a:xfrm>
            <a:off x="3348000" y="3297240"/>
            <a:ext cx="1136520" cy="258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8" descr="wrong.png"/>
          <p:cNvPicPr/>
          <p:nvPr/>
        </p:nvPicPr>
        <p:blipFill>
          <a:blip r:embed="rId1"/>
          <a:stretch/>
        </p:blipFill>
        <p:spPr>
          <a:xfrm>
            <a:off x="2963880" y="330516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(2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1208160" y="2629080"/>
          <a:ext cx="2571840" cy="16002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60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5219640" y="2781360"/>
          <a:ext cx="2571840" cy="12650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(2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1208160" y="2629080"/>
          <a:ext cx="2571840" cy="16002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60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5219640" y="2781360"/>
          <a:ext cx="2571840" cy="12650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08" name="Straight Connector 4"/>
          <p:cNvSpPr/>
          <p:nvPr/>
        </p:nvSpPr>
        <p:spPr>
          <a:xfrm>
            <a:off x="5873760" y="3884760"/>
            <a:ext cx="268200" cy="893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5"/>
          <p:cNvSpPr/>
          <p:nvPr/>
        </p:nvSpPr>
        <p:spPr>
          <a:xfrm>
            <a:off x="4597560" y="4778280"/>
            <a:ext cx="30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Main has no visibility over the fact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at V is 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2"/>
          <p:cNvSpPr/>
          <p:nvPr/>
        </p:nvSpPr>
        <p:spPr>
          <a:xfrm>
            <a:off x="5305320" y="3624120"/>
            <a:ext cx="1136880" cy="258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8" descr="wrong.png"/>
          <p:cNvPicPr/>
          <p:nvPr/>
        </p:nvPicPr>
        <p:blipFill>
          <a:blip r:embed="rId1"/>
          <a:stretch/>
        </p:blipFill>
        <p:spPr>
          <a:xfrm>
            <a:off x="4932360" y="364644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3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900000" y="3141720"/>
          <a:ext cx="2571840" cy="9302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5724360" y="2852640"/>
          <a:ext cx="2571840" cy="12654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3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900000" y="3141720"/>
          <a:ext cx="2571840" cy="9302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5724360" y="2852640"/>
          <a:ext cx="2571840" cy="12654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18" name="TextBox 4"/>
          <p:cNvSpPr/>
          <p:nvPr/>
        </p:nvSpPr>
        <p:spPr>
          <a:xfrm>
            <a:off x="4573440" y="4776840"/>
            <a:ext cx="339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P.Main is child of P, so it has visibility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over the private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4/</a:t>
            </a:r>
            <a:r>
              <a:rPr b="0" lang="fr-FR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10</a:t>
            </a: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1357200" y="2071800"/>
          <a:ext cx="2571840" cy="109692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Zero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5429160" y="2071800"/>
          <a:ext cx="2571840" cy="12650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3214800" y="4211640"/>
          <a:ext cx="2571480" cy="1432080"/>
        </p:xfrm>
        <a:graphic>
          <a:graphicData uri="http://schemas.openxmlformats.org/drawingml/2006/table">
            <a:tbl>
              <a:tblPr/>
              <a:tblGrid>
                <a:gridCol w="2571480"/>
              </a:tblGrid>
              <a:tr h="143208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.F := Zero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4/</a:t>
            </a:r>
            <a:r>
              <a:rPr b="0" lang="fr-FR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10</a:t>
            </a: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1332000" y="1268280"/>
          <a:ext cx="2571840" cy="109692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Zero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5403960" y="1268280"/>
          <a:ext cx="2571480" cy="1265400"/>
        </p:xfrm>
        <a:graphic>
          <a:graphicData uri="http://schemas.openxmlformats.org/drawingml/2006/table">
            <a:tbl>
              <a:tblPr/>
              <a:tblGrid>
                <a:gridCol w="257148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5364000" y="2781360"/>
          <a:ext cx="2571840" cy="143172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43172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2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.F := Zero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27" name="Straight Connector 6"/>
          <p:cNvSpPr/>
          <p:nvPr/>
        </p:nvSpPr>
        <p:spPr>
          <a:xfrm flipH="1">
            <a:off x="2781000" y="1870200"/>
            <a:ext cx="461880" cy="1127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8"/>
          <p:cNvSpPr/>
          <p:nvPr/>
        </p:nvSpPr>
        <p:spPr>
          <a:xfrm>
            <a:off x="1333800" y="2997360"/>
            <a:ext cx="2895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e declaration of the constant 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Zero has no visibility over the 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representation of T, it can’t be 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initialized. What should be done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instead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2"/>
          <p:cNvSpPr/>
          <p:nvPr/>
        </p:nvSpPr>
        <p:spPr>
          <a:xfrm>
            <a:off x="2674800" y="1611360"/>
            <a:ext cx="1136880" cy="258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8" descr="wrong.png"/>
          <p:cNvPicPr/>
          <p:nvPr/>
        </p:nvPicPr>
        <p:blipFill>
          <a:blip r:embed="rId1"/>
          <a:stretch/>
        </p:blipFill>
        <p:spPr>
          <a:xfrm>
            <a:off x="1092240" y="1622520"/>
            <a:ext cx="239760" cy="23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1" name=""/>
          <p:cNvGraphicFramePr/>
          <p:nvPr/>
        </p:nvGraphicFramePr>
        <p:xfrm>
          <a:off x="1363680" y="4724280"/>
          <a:ext cx="2984400" cy="1513080"/>
        </p:xfrm>
        <a:graphic>
          <a:graphicData uri="http://schemas.openxmlformats.org/drawingml/2006/table">
            <a:tbl>
              <a:tblPr/>
              <a:tblGrid>
                <a:gridCol w="2984400"/>
              </a:tblGrid>
              <a:tr h="151308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ero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range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 ..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ero :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Typical problem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Having the full implementation of the types accessible is error-prone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But the compiler needs to have access to the representation (needs to know how much memory is to be used)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So the representation has to stay in the specification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6084720" y="2744640"/>
          <a:ext cx="2571840" cy="14940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4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S : Stacks.Stack_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sh (S, 15)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S.Max := 10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Pop (S, 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395280" y="2095560"/>
          <a:ext cx="5214960" cy="2773440"/>
        </p:xfrm>
        <a:graphic>
          <a:graphicData uri="http://schemas.openxmlformats.org/drawingml/2006/table">
            <a:tbl>
              <a:tblPr/>
              <a:tblGrid>
                <a:gridCol w="5214960"/>
              </a:tblGrid>
              <a:tr h="277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Data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1 .. 100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x  : Integer := 0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Data : Stack_Data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; Val : 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; Val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5/</a:t>
            </a:r>
            <a:r>
              <a:rPr b="0" lang="fr-FR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10</a:t>
            </a: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785960" y="2143080"/>
          <a:ext cx="2571840" cy="109692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private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Zero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1785960" y="4143240"/>
          <a:ext cx="2571840" cy="12654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= Zero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5" name=""/>
          <p:cNvGraphicFramePr/>
          <p:nvPr/>
        </p:nvGraphicFramePr>
        <p:xfrm>
          <a:off x="5429160" y="4143240"/>
          <a:ext cx="2571840" cy="12654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= Zero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5/</a:t>
            </a:r>
            <a:r>
              <a:rPr b="0" lang="fr-FR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10</a:t>
            </a: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803240" y="1573200"/>
          <a:ext cx="2571840" cy="109692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private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Zero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1803240" y="3573360"/>
          <a:ext cx="2571840" cy="12654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= Zero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9" name=""/>
          <p:cNvGraphicFramePr/>
          <p:nvPr/>
        </p:nvGraphicFramePr>
        <p:xfrm>
          <a:off x="5446800" y="3573360"/>
          <a:ext cx="2571840" cy="12654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= Zero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40" name="Straight Connector 5"/>
          <p:cNvSpPr/>
          <p:nvPr/>
        </p:nvSpPr>
        <p:spPr>
          <a:xfrm flipH="1">
            <a:off x="6013080" y="4675320"/>
            <a:ext cx="214200" cy="841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2"/>
          <p:cNvSpPr/>
          <p:nvPr/>
        </p:nvSpPr>
        <p:spPr>
          <a:xfrm>
            <a:off x="5580000" y="4400640"/>
            <a:ext cx="1295640" cy="274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8" descr="wrong.png"/>
          <p:cNvPicPr/>
          <p:nvPr/>
        </p:nvPicPr>
        <p:blipFill>
          <a:blip r:embed="rId1"/>
          <a:stretch/>
        </p:blipFill>
        <p:spPr>
          <a:xfrm>
            <a:off x="5137200" y="4437000"/>
            <a:ext cx="239760" cy="238320"/>
          </a:xfrm>
          <a:prstGeom prst="rect">
            <a:avLst/>
          </a:prstGeom>
          <a:ln w="0">
            <a:noFill/>
          </a:ln>
        </p:spPr>
      </p:pic>
      <p:sp>
        <p:nvSpPr>
          <p:cNvPr id="643" name="TextBox 11"/>
          <p:cNvSpPr/>
          <p:nvPr/>
        </p:nvSpPr>
        <p:spPr>
          <a:xfrm>
            <a:off x="3123360" y="5516640"/>
            <a:ext cx="578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Everything is fine in P.Main, it has visibility over P. 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e with and use clauses are redundant. However, Main doesn’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have visibility over the private part of P, so it can’t use its entit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6/</a:t>
            </a:r>
            <a:r>
              <a:rPr b="0" lang="fr-FR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10</a:t>
            </a: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2143080" y="2143080"/>
          <a:ext cx="4714920" cy="930240"/>
        </p:xfrm>
        <a:graphic>
          <a:graphicData uri="http://schemas.openxmlformats.org/drawingml/2006/table">
            <a:tbl>
              <a:tblPr/>
              <a:tblGrid>
                <a:gridCol w="471492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private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3071880" y="4071960"/>
          <a:ext cx="2571840" cy="9302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(1 .. 1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(1)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6/</a:t>
            </a:r>
            <a:r>
              <a:rPr b="0" lang="fr-FR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10</a:t>
            </a: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2124000" y="1125360"/>
          <a:ext cx="4714920" cy="930600"/>
        </p:xfrm>
        <a:graphic>
          <a:graphicData uri="http://schemas.openxmlformats.org/drawingml/2006/table">
            <a:tbl>
              <a:tblPr/>
              <a:tblGrid>
                <a:gridCol w="4714920"/>
              </a:tblGrid>
              <a:tr h="93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private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5940360" y="2924280"/>
          <a:ext cx="2571840" cy="9302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(1 .. 1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(1)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50" name="Straight Connector 6"/>
          <p:cNvSpPr/>
          <p:nvPr/>
        </p:nvSpPr>
        <p:spPr>
          <a:xfrm flipH="1">
            <a:off x="2916000" y="1893960"/>
            <a:ext cx="1455480" cy="73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2"/>
          <p:cNvSpPr/>
          <p:nvPr/>
        </p:nvSpPr>
        <p:spPr>
          <a:xfrm>
            <a:off x="2320920" y="1635120"/>
            <a:ext cx="4103640" cy="258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8" descr="wrong.png"/>
          <p:cNvPicPr/>
          <p:nvPr/>
        </p:nvPicPr>
        <p:blipFill>
          <a:blip r:embed="rId1"/>
          <a:stretch/>
        </p:blipFill>
        <p:spPr>
          <a:xfrm>
            <a:off x="1838160" y="1619280"/>
            <a:ext cx="239760" cy="237960"/>
          </a:xfrm>
          <a:prstGeom prst="rect">
            <a:avLst/>
          </a:prstGeom>
          <a:ln w="0">
            <a:noFill/>
          </a:ln>
        </p:spPr>
      </p:pic>
      <p:sp>
        <p:nvSpPr>
          <p:cNvPr id="653" name="TextBox 9"/>
          <p:cNvSpPr/>
          <p:nvPr/>
        </p:nvSpPr>
        <p:spPr>
          <a:xfrm>
            <a:off x="250920" y="2624040"/>
            <a:ext cx="5329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 has an indefinite full view, but a definite partial view. This is inconsistent, as clients are not aware of the fact that they should constrain the ob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e public view of T should b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324000" y="4491000"/>
          <a:ext cx="4714560" cy="930240"/>
        </p:xfrm>
        <a:graphic>
          <a:graphicData uri="http://schemas.openxmlformats.org/drawingml/2006/table">
            <a:tbl>
              <a:tblPr/>
              <a:tblGrid>
                <a:gridCol w="471456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&lt;&gt;) is private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7/</a:t>
            </a:r>
            <a:r>
              <a:rPr b="0" lang="fr-FR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10</a:t>
            </a: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2143080" y="2143080"/>
          <a:ext cx="4950000" cy="930240"/>
        </p:xfrm>
        <a:graphic>
          <a:graphicData uri="http://schemas.openxmlformats.org/drawingml/2006/table">
            <a:tbl>
              <a:tblPr/>
              <a:tblGrid>
                <a:gridCol w="495000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(&lt;&gt;)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private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71880" y="4071960"/>
          <a:ext cx="2571840" cy="12650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7/</a:t>
            </a:r>
            <a:r>
              <a:rPr b="0" lang="fr-FR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10</a:t>
            </a: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2143080" y="2143080"/>
          <a:ext cx="4950000" cy="930240"/>
        </p:xfrm>
        <a:graphic>
          <a:graphicData uri="http://schemas.openxmlformats.org/drawingml/2006/table">
            <a:tbl>
              <a:tblPr/>
              <a:tblGrid>
                <a:gridCol w="495000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(&lt;&gt;)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private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3071880" y="4071960"/>
          <a:ext cx="2571840" cy="12650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61" name="Straight Connector 6"/>
          <p:cNvSpPr/>
          <p:nvPr/>
        </p:nvSpPr>
        <p:spPr>
          <a:xfrm>
            <a:off x="3708360" y="4797360"/>
            <a:ext cx="244440" cy="91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2"/>
          <p:cNvSpPr/>
          <p:nvPr/>
        </p:nvSpPr>
        <p:spPr>
          <a:xfrm>
            <a:off x="3203640" y="4538520"/>
            <a:ext cx="1008000" cy="258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8" descr="wrong.png"/>
          <p:cNvPicPr/>
          <p:nvPr/>
        </p:nvPicPr>
        <p:blipFill>
          <a:blip r:embed="rId1"/>
          <a:stretch/>
        </p:blipFill>
        <p:spPr>
          <a:xfrm>
            <a:off x="2771640" y="4548240"/>
            <a:ext cx="239760" cy="237960"/>
          </a:xfrm>
          <a:prstGeom prst="rect">
            <a:avLst/>
          </a:prstGeom>
          <a:ln w="0">
            <a:noFill/>
          </a:ln>
        </p:spPr>
      </p:pic>
      <p:sp>
        <p:nvSpPr>
          <p:cNvPr id="664" name="TextBox 9"/>
          <p:cNvSpPr/>
          <p:nvPr/>
        </p:nvSpPr>
        <p:spPr>
          <a:xfrm>
            <a:off x="962280" y="5715000"/>
            <a:ext cx="597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e private definition is fine, but not the declaration – 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 is not constrained in Main (even if the real type doesn’t have to be,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 the private view is unconstrain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8/</a:t>
            </a:r>
            <a:r>
              <a:rPr b="0" lang="fr-FR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10</a:t>
            </a: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3286080" y="2235240"/>
          <a:ext cx="2571840" cy="143172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43172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One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  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ne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3286080" y="4307040"/>
          <a:ext cx="2571840" cy="126504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: T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al := One + On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8/</a:t>
            </a:r>
            <a:r>
              <a:rPr b="0" lang="fr-FR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10</a:t>
            </a: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3203640" y="1413000"/>
          <a:ext cx="2571840" cy="143172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43172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One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  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ne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3203640" y="3484440"/>
          <a:ext cx="2571840" cy="126540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: T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al := One + On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71" name="Straight Connector 4"/>
          <p:cNvSpPr/>
          <p:nvPr/>
        </p:nvSpPr>
        <p:spPr>
          <a:xfrm flipH="1">
            <a:off x="4047840" y="4583160"/>
            <a:ext cx="452520" cy="596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2"/>
          <p:cNvSpPr/>
          <p:nvPr/>
        </p:nvSpPr>
        <p:spPr>
          <a:xfrm>
            <a:off x="4356000" y="4324320"/>
            <a:ext cx="289080" cy="258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6" descr="wrong.png"/>
          <p:cNvPicPr/>
          <p:nvPr/>
        </p:nvPicPr>
        <p:blipFill>
          <a:blip r:embed="rId1"/>
          <a:stretch/>
        </p:blipFill>
        <p:spPr>
          <a:xfrm>
            <a:off x="2960640" y="4344840"/>
            <a:ext cx="239760" cy="238320"/>
          </a:xfrm>
          <a:prstGeom prst="rect">
            <a:avLst/>
          </a:prstGeom>
          <a:ln w="0">
            <a:noFill/>
          </a:ln>
        </p:spPr>
      </p:pic>
      <p:sp>
        <p:nvSpPr>
          <p:cNvPr id="674" name="TextBox 7"/>
          <p:cNvSpPr/>
          <p:nvPr/>
        </p:nvSpPr>
        <p:spPr>
          <a:xfrm>
            <a:off x="858600" y="5180040"/>
            <a:ext cx="637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ere is no applicable operator "+" for private type "T" defined at p.ads: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9/</a:t>
            </a:r>
            <a:r>
              <a:rPr b="0" lang="fr-FR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10</a:t>
            </a: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571760" y="1857240"/>
          <a:ext cx="2571480" cy="930240"/>
        </p:xfrm>
        <a:graphic>
          <a:graphicData uri="http://schemas.openxmlformats.org/drawingml/2006/table">
            <a:tbl>
              <a:tblPr/>
              <a:tblGrid>
                <a:gridCol w="257148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private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3049560" y="3357720"/>
          <a:ext cx="3214800" cy="143172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143172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.Constants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onstant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 T := One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4357800" y="1857240"/>
          <a:ext cx="3643200" cy="76212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763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.Constant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ero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ne 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1;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onstant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9/</a:t>
            </a:r>
            <a:r>
              <a:rPr b="0" lang="fr-FR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10</a:t>
            </a: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611280" y="1173240"/>
          <a:ext cx="2571480" cy="930240"/>
        </p:xfrm>
        <a:graphic>
          <a:graphicData uri="http://schemas.openxmlformats.org/drawingml/2006/table">
            <a:tbl>
              <a:tblPr/>
              <a:tblGrid>
                <a:gridCol w="2571480"/>
              </a:tblGrid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private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11280" y="2232000"/>
          <a:ext cx="3214440" cy="1432080"/>
        </p:xfrm>
        <a:graphic>
          <a:graphicData uri="http://schemas.openxmlformats.org/drawingml/2006/table">
            <a:tbl>
              <a:tblPr/>
              <a:tblGrid>
                <a:gridCol w="3214440"/>
              </a:tblGrid>
              <a:tr h="143208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.Constants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onstant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V : T := One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3924360" y="1192320"/>
          <a:ext cx="3643200" cy="76176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763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.Constant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ero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ne 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1;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onstant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83" name="Straight Connector 7"/>
          <p:cNvSpPr/>
          <p:nvPr/>
        </p:nvSpPr>
        <p:spPr>
          <a:xfrm>
            <a:off x="6058080" y="1870200"/>
            <a:ext cx="98280" cy="539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2"/>
          <p:cNvSpPr/>
          <p:nvPr/>
        </p:nvSpPr>
        <p:spPr>
          <a:xfrm>
            <a:off x="5724360" y="1355760"/>
            <a:ext cx="667080" cy="514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9" descr="wrong.png"/>
          <p:cNvPicPr/>
          <p:nvPr/>
        </p:nvPicPr>
        <p:blipFill>
          <a:blip r:embed="rId1"/>
          <a:stretch/>
        </p:blipFill>
        <p:spPr>
          <a:xfrm>
            <a:off x="3635280" y="1494000"/>
            <a:ext cx="239760" cy="237960"/>
          </a:xfrm>
          <a:prstGeom prst="rect">
            <a:avLst/>
          </a:prstGeom>
          <a:ln w="0">
            <a:noFill/>
          </a:ln>
        </p:spPr>
      </p:pic>
      <p:sp>
        <p:nvSpPr>
          <p:cNvPr id="686" name="TextBox 10"/>
          <p:cNvSpPr/>
          <p:nvPr/>
        </p:nvSpPr>
        <p:spPr>
          <a:xfrm>
            <a:off x="3995640" y="2409840"/>
            <a:ext cx="4321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e public view of P.Constants has only visibility of the public view of 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It cannot reveal things that are hidden. So the constant cannot be given a literal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What would work is to declare them in the private p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4498920" y="4869000"/>
          <a:ext cx="3214800" cy="126504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12650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.Constant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ero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ne 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ero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ne 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:= 1;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onstant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Private typ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Introducing a new section in the package specification : the private section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isible by the compil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isible by the implementation and the childr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n visible to the user of the pack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In Ada, private applies to a type as a whole, not on a field by field basis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In Ada, privacy is managed at package level, not at class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826920" y="3129120"/>
          <a:ext cx="7058160" cy="3348000"/>
        </p:xfrm>
        <a:graphic>
          <a:graphicData uri="http://schemas.openxmlformats.org/drawingml/2006/table">
            <a:tbl>
              <a:tblPr/>
              <a:tblGrid>
                <a:gridCol w="3529080"/>
                <a:gridCol w="3529080"/>
              </a:tblGrid>
              <a:tr h="334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4c96d7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  : 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4c96d7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Data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1 .. 100)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record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x  : Integer := 0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Data : Stack_Data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mespac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 {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{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(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al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] Data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x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(10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963880" y="2041560"/>
          <a:ext cx="3216240" cy="2774880"/>
        </p:xfrm>
        <a:graphic>
          <a:graphicData uri="http://schemas.openxmlformats.org/drawingml/2006/table">
            <a:tbl>
              <a:tblPr/>
              <a:tblGrid>
                <a:gridCol w="3216240"/>
              </a:tblGrid>
              <a:tr h="277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_Part : T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1, F2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1, F2  : Floa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(10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2963880" y="2041560"/>
          <a:ext cx="3216240" cy="2774880"/>
        </p:xfrm>
        <a:graphic>
          <a:graphicData uri="http://schemas.openxmlformats.org/drawingml/2006/table">
            <a:tbl>
              <a:tblPr/>
              <a:tblGrid>
                <a:gridCol w="3216240"/>
              </a:tblGrid>
              <a:tr h="277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_Part : T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1, F2 :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1, F2  : Floa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92" name="TextBox 5"/>
          <p:cNvSpPr/>
          <p:nvPr/>
        </p:nvSpPr>
        <p:spPr>
          <a:xfrm>
            <a:off x="905400" y="5300640"/>
            <a:ext cx="31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OK, pattern to hide part of a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Who has access to the private information?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Body, and child unit have access to the implementa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495360" y="2075040"/>
          <a:ext cx="3571920" cy="444960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444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4c96d7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  : Integer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Data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1 .. 100)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record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x  : Integer := 0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Data : Stack_Data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  : Integ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.Data (Stack.Max + 1) := Val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Stack.Max := Stack.Max + 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4857840" y="2117880"/>
          <a:ext cx="3429000" cy="21031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210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.Util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mp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.Util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.Util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mp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.Max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.Util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.Util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1" name=""/>
          <p:cNvGraphicFramePr/>
          <p:nvPr/>
        </p:nvGraphicFramePr>
        <p:xfrm>
          <a:off x="4857840" y="4660920"/>
          <a:ext cx="3429000" cy="17683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768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;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.Utils;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.Util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: Stack_Typ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Push (S, 1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mpty (S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S.Max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62" name="Picture 8" descr="wrong.png"/>
          <p:cNvPicPr/>
          <p:nvPr/>
        </p:nvPicPr>
        <p:blipFill>
          <a:blip r:embed="rId1"/>
          <a:stretch/>
        </p:blipFill>
        <p:spPr>
          <a:xfrm>
            <a:off x="4908600" y="599904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What can you do with a private type?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From the user perspective, a private type is equivalent to a null recor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 can be used for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ables, parameters and components decla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p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ris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5286240" y="3860640"/>
          <a:ext cx="3429000" cy="24228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242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S1, S2 : Stacks.Stack_Typ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sh (S1, 15)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S2 := S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sh (S2,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sh (S1,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1 = S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sh (S1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28760" y="4005360"/>
          <a:ext cx="3571920" cy="210348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  : Integer);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…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How can a private type be implemented?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800" y="105264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A “simple” private type can be implemented by any type giving at least the same level of capabilities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ype must allow variable declarations without the need for constraints, it has to be definite (e.g. no unconstrained array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ype must allow copy and comparison (e.g. no limited ty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714760" y="3214800"/>
          <a:ext cx="3571920" cy="7142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714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108000" y="4005360"/>
          <a:ext cx="3240000" cy="122400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12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ran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3419640" y="4000680"/>
          <a:ext cx="2652480" cy="1265040"/>
        </p:xfrm>
        <a:graphic>
          <a:graphicData uri="http://schemas.openxmlformats.org/drawingml/2006/table">
            <a:tbl>
              <a:tblPr/>
              <a:tblGrid>
                <a:gridCol w="265248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recor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V : Integer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6143760" y="4000680"/>
          <a:ext cx="2928960" cy="126504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array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5005440" y="5373720"/>
          <a:ext cx="4103640" cy="109692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1c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395280" y="5357880"/>
          <a:ext cx="4248000" cy="1096920"/>
        </p:xfrm>
        <a:graphic>
          <a:graphicData uri="http://schemas.openxmlformats.org/drawingml/2006/table">
            <a:tbl>
              <a:tblPr/>
              <a:tblGrid>
                <a:gridCol w="424800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(Size :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V : Integer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1c1"/>
                    </a:solidFill>
                  </a:tcPr>
                </a:tc>
              </a:tr>
            </a:tbl>
          </a:graphicData>
        </a:graphic>
      </p:graphicFrame>
      <p:pic>
        <p:nvPicPr>
          <p:cNvPr id="575" name="Picture 8" descr="wrong.png"/>
          <p:cNvPicPr/>
          <p:nvPr/>
        </p:nvPicPr>
        <p:blipFill>
          <a:blip r:embed="rId1"/>
          <a:stretch/>
        </p:blipFill>
        <p:spPr>
          <a:xfrm>
            <a:off x="108000" y="5373720"/>
            <a:ext cx="239760" cy="2379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8" descr="wrong.png"/>
          <p:cNvPicPr/>
          <p:nvPr/>
        </p:nvPicPr>
        <p:blipFill>
          <a:blip r:embed="rId2"/>
          <a:stretch/>
        </p:blipFill>
        <p:spPr>
          <a:xfrm>
            <a:off x="4692600" y="537372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How can a private type be implemented?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5800" y="105264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An “indefinite” private type can be implemented by any type that can be implemented by “simple” private type as well as indefinites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the user needs to consider it as indefinite (no declaration without initializ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2714760" y="3214800"/>
          <a:ext cx="3571920" cy="7142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714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</a:t>
                      </a:r>
                      <a:r>
                        <a:rPr b="0" lang="en-US" sz="11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(&lt;&gt;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108000" y="4005360"/>
          <a:ext cx="3240000" cy="122400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12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rang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.. 1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3419640" y="4000680"/>
          <a:ext cx="2665080" cy="1265040"/>
        </p:xfrm>
        <a:graphic>
          <a:graphicData uri="http://schemas.openxmlformats.org/drawingml/2006/table">
            <a:tbl>
              <a:tblPr/>
              <a:tblGrid>
                <a:gridCol w="266508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recor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V : Integer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6143760" y="4000680"/>
          <a:ext cx="2928960" cy="126504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12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array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4643280" y="5373720"/>
          <a:ext cx="4321440" cy="1096920"/>
        </p:xfrm>
        <a:graphic>
          <a:graphicData uri="http://schemas.openxmlformats.org/drawingml/2006/table">
            <a:tbl>
              <a:tblPr/>
              <a:tblGrid>
                <a:gridCol w="432144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2200" y="5357880"/>
          <a:ext cx="4178520" cy="1096920"/>
        </p:xfrm>
        <a:graphic>
          <a:graphicData uri="http://schemas.openxmlformats.org/drawingml/2006/table">
            <a:tbl>
              <a:tblPr/>
              <a:tblGrid>
                <a:gridCol w="4178520"/>
              </a:tblGrid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(Size :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V : Integer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Public Discriminants on Private Typ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9640" y="112500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’s possible to specify the discriminants of a private typ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2050920" y="2637000"/>
          <a:ext cx="5300640" cy="2225520"/>
        </p:xfrm>
        <a:graphic>
          <a:graphicData uri="http://schemas.openxmlformats.org/drawingml/2006/table">
            <a:tbl>
              <a:tblPr/>
              <a:tblGrid>
                <a:gridCol w="5300640"/>
              </a:tblGrid>
              <a:tr h="222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(Size :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(Size :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V : Integer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Deferred private constan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84000" y="90756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’s useful to declare constants visible in the public view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Values can’t be given before the representation is accessible – so constants of private types have a public and a private view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2822400" y="3138480"/>
          <a:ext cx="3571920" cy="31082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10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Empty_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;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vate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Data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1 .. 100)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 record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x  : Integer := 0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Data : Stack_Data;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100"/>
                      </a:b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Empty_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Type :=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(0, (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0)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s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Wallenburg Angela</cp:lastModifiedBy>
  <dcterms:modified xsi:type="dcterms:W3CDTF">2017-10-04T21:13:16Z</dcterms:modified>
  <cp:revision>588</cp:revision>
  <dc:subject/>
  <dc:title>Diapositive 1</dc:title>
</cp:coreProperties>
</file>