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 type="sldNum" idx="3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95DF-5A05-499C-A6A9-8A106EEED33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6884-F7BC-47A0-86DE-BA20C14954E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main criticism (still usually minor) towards design by contract is that it burdens the user by requiring to write more (contracts/annotations). Good news: with Ada you are better off (than anywhere else)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DDA5-B691-4639-AE80-D55D12CEAE1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main criticism (still usually minor) towards design by contract is that it burdens the user by requiring to write more (contracts/annotations). Good news: with Ada you are better off (than anywhere else)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36C4-564D-4BB8-AD8A-37758EF70EE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r intermediate operations, such as "+" of "Integer", parameters and result of the op are of Integer'Base. There are no range checks on these operations (just overflow checks). There will be a range check on the result to be assigned before assignment thoug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A0D2-F9FC-4EC6-A109-A0BEC8F609F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me of these we’ll talk about now, some postponed to later during the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st new for Ada 2012, some are revamped SPARK fe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98BA-7A4C-4333-8365-FCA57FFD6DC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90D7-E117-43AE-8296-082FDC053AE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ay seem innocent at first, but often cause unexpected effects as programs gr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Not saying that you should not have them, or that they are evil.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2FF9-AD4F-4D3A-B36F-DDBF1AF4BA1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161B-6081-4656-B027-9D9D973E27B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of expressions are known as Assertion Express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2A1C-6FE0-49F6-8277-8F32C717C76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ptional (for both flow analysis and proof), haven’t explained these y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of expressions are known as Assertion Express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9928-D9BF-4226-A45D-74F4EBD6566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A611-63BA-4211-82A1-758DB2330C1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call aliasing is detected for overlapping parame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396B-AAF6-4BB5-B98C-F42505F74E0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F536-2C53-4295-9A33-A24FE176086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79BA-51A2-4CAE-90B4-014EF5DDDDF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could you do to make sure the contract is well-form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6778-CD5A-491D-B571-B98D41FBD32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rengths, weaknesses of these contracts? Which ones will prove? Which one will give more work for the call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E813-359E-4FCF-892D-215C279A543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rengths, weaknesses of these contracts? Which ones will prove? Which one will give more work for the call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AD00-AC46-44A8-90F9-3317E4C7239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028F-3D63-432E-92E2-0BB8BC3C3F2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324D-2E8D-454C-8F30-BB5B17EEDAE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2FA7-CA4B-426D-8662-D2D9AB063E9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578D-FD21-4601-8392-70229D60F12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78FD-871D-43C3-BE33-599EAFAF668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E273-4C82-4848-AF74-95E5C868E9D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number of issues with last 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. Potentially unevaluated prefix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 Efficiency: ‘Old will create a copy so consider efficiency. First conjunct: the entire record V will be copied. This can be inefficient compared to approach in second conjunct, where only one component is copi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 What happens when F has global input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2538-993B-4215-B4DB-429E78F3073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lso, conditional evaluation is not allow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38DC-F6D0-4D5D-B928-50D25DE260D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EE00-D510-48FF-9B14-80B2681853B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4795-86B3-458A-8350-6E4000BA11B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5694-D844-4AED-9619-EAE285BCCB0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AE7B-3EDC-4391-913D-E9B6FB7D050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BD2E-8FF3-442B-B9D1-BEA2027D793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a 2012 allows arbitrary Boolean expressions to specify behavior contracts on subprograms and ty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note on terminolog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rm ‘contracts’ is preferred to ‘annotations’ (but not all annotations are contrac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rm ‘annotations’ is preferred to ‘aspects’ or ‘pragmas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ll annotations may be expressed as pragmas, but the aspect form is preferred if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y favourite example for introducing pre/postcondition contracts (Eiffel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CTIONARY [ELEMENT]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t (x: ELEMENT; key: STRING)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- Insert x so that it will be retrievable through k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qu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unt &lt;= capa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ot key.emp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... Some insertion algorithm 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n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as (x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tem (key) =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unt = old count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3FF2-9DBA-4648-AEA0-2D06756F1EA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C0FA-F42D-43B8-A3A6-404F20276FE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67A4-92F0-4C08-AF7E-16C8A50B566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7135-0130-4C76-82EF-0FF7D013CE6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a 2012 allows arbitrary Boolean expressions to specify behavior contracts on subprograms and ty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note on terminolog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rm ‘contracts’ is preferred to ‘annotations’ (but not all annotations are contrac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rm ‘annotations’ is preferred to ‘aspects’ or ‘pragmas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ll annotations may be expressed as pragmas, but the aspect form is preferred if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y favourite example for introducing pre/postcondition contracts (Eiffel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CTIONARY [ELEMENT]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t (x: ELEMENT; key: STRING)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- Insert x so that it will be retrievable through k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qu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unt &lt;= capa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ot key.emp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... Some insertion algorithm 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n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as (x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tem (key) =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unt = old count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BCFB-F7C6-4F89-8974-F584325061C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4E3F-3906-40DF-BED6-21DDE90F38E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4FF8-851C-4651-96F3-48AD0E36214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00FE-3545-49DD-8582-2A14706DA1D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main criticism (still usually minor) towards design by contract is that it burdens the user by requiring to write more (contracts/annotations). Good news: with Ada you are better off (than anywhere else)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DD96-E0AD-4B4E-9001-C7B433E9E41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85800" y="392868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8580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707720" y="392868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8580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33972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93640" y="392868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1881280D-72C1-4EE4-914F-DE038B2625C3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216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37E57693-B31C-487D-9178-358596AA88F2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216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387" name="TextBox 6"/>
          <p:cNvSpPr/>
          <p:nvPr/>
        </p:nvSpPr>
        <p:spPr>
          <a:xfrm>
            <a:off x="6929640" y="69228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7" descr="wrong.png"/>
          <p:cNvPicPr/>
          <p:nvPr/>
        </p:nvPicPr>
        <p:blipFill>
          <a:blip r:embed="rId4"/>
          <a:stretch/>
        </p:blipFill>
        <p:spPr>
          <a:xfrm>
            <a:off x="6443640" y="620640"/>
            <a:ext cx="477720" cy="478080"/>
          </a:xfrm>
          <a:prstGeom prst="rect">
            <a:avLst/>
          </a:prstGeom>
          <a:ln w="0">
            <a:noFill/>
          </a:ln>
        </p:spPr>
      </p:pic>
      <p:sp>
        <p:nvSpPr>
          <p:cNvPr id="389" name="TextBox 8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AD4A3A38-90DB-40CA-9D3E-B46F9535B96D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6"/>
          <p:cNvSpPr/>
          <p:nvPr/>
        </p:nvSpPr>
        <p:spPr>
          <a:xfrm>
            <a:off x="216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0A37E915-BAF3-4CEB-AA8C-556BB3B78577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216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2866693F-EF3A-4505-9FC6-A0C2960E78D7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216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c1fe8a76-f479-4240-b975-cf131fd69cdc" descr="6CE50D91-52A1-418C-81F5-BA85E68CC41F@hsd1"/>
          <p:cNvPicPr/>
          <p:nvPr/>
        </p:nvPicPr>
        <p:blipFill>
          <a:blip r:embed="rId3"/>
          <a:stretch/>
        </p:blipFill>
        <p:spPr>
          <a:xfrm>
            <a:off x="468360" y="1484280"/>
            <a:ext cx="8342280" cy="2781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1ED96327-D10C-412D-80C3-336018B57427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16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c1fe8a76-f479-4240-b975-cf131fd69cdc" descr="6CE50D91-52A1-418C-81F5-BA85E68CC41F@hsd1"/>
          <p:cNvPicPr/>
          <p:nvPr/>
        </p:nvPicPr>
        <p:blipFill>
          <a:blip r:embed="rId3"/>
          <a:stretch/>
        </p:blipFill>
        <p:spPr>
          <a:xfrm>
            <a:off x="7020000" y="260280"/>
            <a:ext cx="1836720" cy="6127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FA8A6726-ABFC-4D6E-8EBF-86BF085ECF7F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16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5819760" y="153504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c1fe8a76-f479-4240-b975-cf131fd69cdc" descr="6CE50D91-52A1-418C-81F5-BA85E68CC41F@hsd1"/>
          <p:cNvPicPr/>
          <p:nvPr/>
        </p:nvPicPr>
        <p:blipFill>
          <a:blip r:embed="rId3"/>
          <a:stretch/>
        </p:blipFill>
        <p:spPr>
          <a:xfrm>
            <a:off x="826920" y="2060640"/>
            <a:ext cx="7507440" cy="2502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7E596EB6-B5EE-42E3-86E2-0810D0706727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216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5819760" y="268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7"/>
          <p:cNvGrpSpPr/>
          <p:nvPr/>
        </p:nvGrpSpPr>
        <p:grpSpPr>
          <a:xfrm>
            <a:off x="2879640" y="2641680"/>
            <a:ext cx="3373560" cy="1574640"/>
            <a:chOff x="2879640" y="2641680"/>
            <a:chExt cx="3373560" cy="1574640"/>
          </a:xfrm>
        </p:grpSpPr>
        <p:sp>
          <p:nvSpPr>
            <p:cNvPr id="170" name="TextBox 7"/>
            <p:cNvSpPr/>
            <p:nvPr/>
          </p:nvSpPr>
          <p:spPr>
            <a:xfrm>
              <a:off x="4405320" y="2828880"/>
              <a:ext cx="1847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alibri"/>
                </a:rPr>
                <a:t>Quiz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Picture 2" descr="C:\Users\ochem\AppData\Local\Temp\Rar$DR28.624\AdaCoreU Package\icons\quiz.png"/>
            <p:cNvPicPr/>
            <p:nvPr/>
          </p:nvPicPr>
          <p:blipFill>
            <a:blip r:embed="rId3"/>
            <a:stretch/>
          </p:blipFill>
          <p:spPr>
            <a:xfrm>
              <a:off x="2879640" y="2641680"/>
              <a:ext cx="1575000" cy="157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2" name="c1fe8a76-f479-4240-b975-cf131fd69cdc" descr="6CE50D91-52A1-418C-81F5-BA85E68CC41F@hsd1"/>
          <p:cNvPicPr/>
          <p:nvPr/>
        </p:nvPicPr>
        <p:blipFill>
          <a:blip r:embed="rId4"/>
          <a:stretch/>
        </p:blipFill>
        <p:spPr>
          <a:xfrm>
            <a:off x="6948360" y="260280"/>
            <a:ext cx="1835280" cy="6127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5E358012-C825-420F-92F4-20A3AF1D7958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216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c1fe8a76-f479-4240-b975-cf131fd69cdc" descr="6CE50D91-52A1-418C-81F5-BA85E68CC41F@hsd1"/>
          <p:cNvPicPr/>
          <p:nvPr/>
        </p:nvPicPr>
        <p:blipFill>
          <a:blip r:embed="rId3"/>
          <a:stretch/>
        </p:blipFill>
        <p:spPr>
          <a:xfrm>
            <a:off x="7020000" y="260280"/>
            <a:ext cx="1836720" cy="6127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7F3D01EC-7644-41F3-819E-30EF8B21D049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216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BC8DB348-356F-4DE5-97EF-B3714B47AAAC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216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5"/>
          <p:cNvSpPr/>
          <p:nvPr/>
        </p:nvSpPr>
        <p:spPr>
          <a:xfrm>
            <a:off x="6896880" y="108000"/>
            <a:ext cx="181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YES</a:t>
            </a:r>
            <a:br>
              <a:rPr sz="1400"/>
            </a:br>
            <a:r>
              <a:rPr b="1" lang="en-US" sz="1100" spc="-1" strike="noStrike">
                <a:solidFill>
                  <a:srgbClr val="1780a6"/>
                </a:solidFill>
                <a:latin typeface="Arial"/>
              </a:rPr>
              <a:t>(click on the check ic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6"/>
          <p:cNvSpPr/>
          <p:nvPr/>
        </p:nvSpPr>
        <p:spPr>
          <a:xfrm>
            <a:off x="6902640" y="627120"/>
            <a:ext cx="2204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NO</a:t>
            </a:r>
            <a:br>
              <a:rPr sz="1400"/>
            </a:br>
            <a:r>
              <a:rPr b="1" lang="en-US" sz="1100" spc="-1" strike="noStrike">
                <a:solidFill>
                  <a:srgbClr val="1780a6"/>
                </a:solidFill>
                <a:latin typeface="Arial"/>
              </a:rPr>
              <a:t> (click on the error location(s)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wrong.png"/>
          <p:cNvPicPr/>
          <p:nvPr/>
        </p:nvPicPr>
        <p:blipFill>
          <a:blip r:embed="rId4"/>
          <a:stretch/>
        </p:blipFill>
        <p:spPr>
          <a:xfrm>
            <a:off x="6443640" y="620640"/>
            <a:ext cx="477720" cy="4780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correct.png"/>
          <p:cNvPicPr/>
          <p:nvPr/>
        </p:nvPicPr>
        <p:blipFill>
          <a:blip r:embed="rId5"/>
          <a:stretch/>
        </p:blipFill>
        <p:spPr>
          <a:xfrm>
            <a:off x="6443640" y="115920"/>
            <a:ext cx="482760" cy="482400"/>
          </a:xfrm>
          <a:prstGeom prst="rect">
            <a:avLst/>
          </a:prstGeom>
          <a:ln w="0">
            <a:noFill/>
          </a:ln>
        </p:spPr>
      </p:pic>
      <p:sp>
        <p:nvSpPr>
          <p:cNvPr id="301" name="TextBox 10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5"/>
          <p:cNvSpPr/>
          <p:nvPr/>
        </p:nvSpPr>
        <p:spPr>
          <a:xfrm>
            <a:off x="7848720" y="66135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8305920" y="664200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Slide: </a:t>
            </a:r>
            <a:fld id="{B74656C6-4A2A-4A11-9770-F8DCCC1BDEE8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21600" y="663408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Copyright © 2014 Altran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5" descr="quiz.png"/>
          <p:cNvPicPr/>
          <p:nvPr/>
        </p:nvPicPr>
        <p:blipFill>
          <a:blip r:embed="rId3"/>
          <a:stretch/>
        </p:blipFill>
        <p:spPr>
          <a:xfrm>
            <a:off x="468360" y="404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343" name="TextBox 6"/>
          <p:cNvSpPr/>
          <p:nvPr/>
        </p:nvSpPr>
        <p:spPr>
          <a:xfrm>
            <a:off x="6894720" y="1890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80a6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7" descr="correct.png"/>
          <p:cNvPicPr/>
          <p:nvPr/>
        </p:nvPicPr>
        <p:blipFill>
          <a:blip r:embed="rId4"/>
          <a:stretch/>
        </p:blipFill>
        <p:spPr>
          <a:xfrm>
            <a:off x="6443640" y="115920"/>
            <a:ext cx="482760" cy="482400"/>
          </a:xfrm>
          <a:prstGeom prst="rect">
            <a:avLst/>
          </a:prstGeom>
          <a:ln w="0">
            <a:noFill/>
          </a:ln>
        </p:spPr>
      </p:pic>
      <p:sp>
        <p:nvSpPr>
          <p:cNvPr id="345" name="TextBox 8"/>
          <p:cNvSpPr/>
          <p:nvPr/>
        </p:nvSpPr>
        <p:spPr>
          <a:xfrm>
            <a:off x="1042920" y="3286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0a6"/>
                </a:solidFill>
                <a:latin typeface="Calibri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380880" y="2666880"/>
            <a:ext cx="8382240" cy="9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Contracts</a:t>
            </a:r>
            <a:endParaRPr b="1" lang="en-US" sz="4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Observation: Good Fit!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211280" y="1125000"/>
            <a:ext cx="425124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From 83 to 2005, Ada already offers a wide range of contract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ype Ran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cessibil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ameter Mo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ric Paramet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fa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va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 Null Access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541" name="Picture 1" descr=""/>
          <p:cNvPicPr/>
          <p:nvPr/>
        </p:nvPicPr>
        <p:blipFill>
          <a:blip r:embed="rId1"/>
          <a:stretch/>
        </p:blipFill>
        <p:spPr>
          <a:xfrm>
            <a:off x="604800" y="1046160"/>
            <a:ext cx="331956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Contracts are Not Only Pre/Pos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971640" y="2143080"/>
          <a:ext cx="7200720" cy="2438280"/>
        </p:xfrm>
        <a:graphic>
          <a:graphicData uri="http://schemas.openxmlformats.org/drawingml/2006/table">
            <a:tbl>
              <a:tblPr/>
              <a:tblGrid>
                <a:gridCol w="7200720"/>
              </a:tblGrid>
              <a:tr h="243828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pe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Customer :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Identity.Nam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d       :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Identity.Id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r      :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Money.CU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ccount  :  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ccount_Nu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e  =&gt;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ax_Account_Reached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ost =&gt; Existing (Account)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 th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longs_To (Account, Customer, I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 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 th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oney.Is_Empty (Balance (Account)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45" name="Rounded Rectangular Callout 1"/>
          <p:cNvSpPr/>
          <p:nvPr/>
        </p:nvSpPr>
        <p:spPr>
          <a:xfrm>
            <a:off x="6229440" y="2637000"/>
            <a:ext cx="1582560" cy="792000"/>
          </a:xfrm>
          <a:prstGeom prst="wedgeRoundRectCallout">
            <a:avLst>
              <a:gd name="adj1" fmla="val -155921"/>
              <a:gd name="adj2" fmla="val 1669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 initi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ounded Rectangular Callout 1"/>
          <p:cNvSpPr/>
          <p:nvPr/>
        </p:nvSpPr>
        <p:spPr>
          <a:xfrm>
            <a:off x="5508720" y="1197000"/>
            <a:ext cx="1584360" cy="792000"/>
          </a:xfrm>
          <a:prstGeom prst="wedgeRoundRectCallout">
            <a:avLst>
              <a:gd name="adj1" fmla="val -145166"/>
              <a:gd name="adj2" fmla="val 9933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 not ali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ounded Rectangular Callout 1"/>
          <p:cNvSpPr/>
          <p:nvPr/>
        </p:nvSpPr>
        <p:spPr>
          <a:xfrm>
            <a:off x="2268360" y="1376280"/>
            <a:ext cx="1656000" cy="397080"/>
          </a:xfrm>
          <a:prstGeom prst="wedgeRoundRectCallout">
            <a:avLst>
              <a:gd name="adj1" fmla="val -44212"/>
              <a:gd name="adj2" fmla="val 15049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 ty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80a6"/>
                </a:solidFill>
                <a:latin typeface="Calibri"/>
                <a:ea typeface="Arial Bold"/>
              </a:rPr>
              <a:t>Where are Type Constraints Checked?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On an assignment / explicit initialization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On a conversion / qualification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On a parameter passing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ntermediate expressions are computed using the base type, with no range check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900000" y="1735200"/>
          <a:ext cx="7344000" cy="398520"/>
        </p:xfrm>
        <a:graphic>
          <a:graphicData uri="http://schemas.openxmlformats.org/drawingml/2006/table">
            <a:tbl>
              <a:tblPr/>
              <a:tblGrid>
                <a:gridCol w="7344000"/>
              </a:tblGrid>
              <a:tr h="39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Integer := 2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1" name=""/>
          <p:cNvGraphicFramePr/>
          <p:nvPr/>
        </p:nvGraphicFramePr>
        <p:xfrm>
          <a:off x="900000" y="2743200"/>
          <a:ext cx="7344000" cy="398520"/>
        </p:xfrm>
        <a:graphic>
          <a:graphicData uri="http://schemas.openxmlformats.org/drawingml/2006/table">
            <a:tbl>
              <a:tblPr/>
              <a:tblGrid>
                <a:gridCol w="7344000"/>
              </a:tblGrid>
              <a:tr h="39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Integer := Integer (1 + Natural’(2)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52" name="Oval 5"/>
          <p:cNvSpPr/>
          <p:nvPr/>
        </p:nvSpPr>
        <p:spPr>
          <a:xfrm>
            <a:off x="2411280" y="1735200"/>
            <a:ext cx="36036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6"/>
          <p:cNvSpPr/>
          <p:nvPr/>
        </p:nvSpPr>
        <p:spPr>
          <a:xfrm>
            <a:off x="4356000" y="2708280"/>
            <a:ext cx="144000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900000" y="3753000"/>
          <a:ext cx="7344000" cy="396720"/>
        </p:xfrm>
        <a:graphic>
          <a:graphicData uri="http://schemas.openxmlformats.org/drawingml/2006/table">
            <a:tbl>
              <a:tblPr/>
              <a:tblGrid>
                <a:gridCol w="734400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N : 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atural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55" name="Oval 8"/>
          <p:cNvSpPr/>
          <p:nvPr/>
        </p:nvSpPr>
        <p:spPr>
          <a:xfrm>
            <a:off x="2987640" y="3753000"/>
            <a:ext cx="39708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9"/>
          <p:cNvSpPr/>
          <p:nvPr/>
        </p:nvSpPr>
        <p:spPr>
          <a:xfrm>
            <a:off x="3384720" y="3753000"/>
            <a:ext cx="39528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900000" y="5300640"/>
          <a:ext cx="7344000" cy="579600"/>
        </p:xfrm>
        <a:graphic>
          <a:graphicData uri="http://schemas.openxmlformats.org/drawingml/2006/table">
            <a:tbl>
              <a:tblPr/>
              <a:tblGrid>
                <a:gridCol w="734400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 Natural := 4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 : Natural := 1 + X + 1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58" name="Oval 11"/>
          <p:cNvSpPr/>
          <p:nvPr/>
        </p:nvSpPr>
        <p:spPr>
          <a:xfrm>
            <a:off x="2411280" y="5516640"/>
            <a:ext cx="39528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12"/>
          <p:cNvSpPr/>
          <p:nvPr/>
        </p:nvSpPr>
        <p:spPr>
          <a:xfrm>
            <a:off x="2411280" y="5300640"/>
            <a:ext cx="39528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3"/>
          <p:cNvSpPr/>
          <p:nvPr/>
        </p:nvSpPr>
        <p:spPr>
          <a:xfrm>
            <a:off x="2771640" y="2708280"/>
            <a:ext cx="93672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More Facilities for Writing Contract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Pre and Post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Assert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Contract_Cases 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Global 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Expression Function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Expressions 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f express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se express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quantified express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Contract </a:t>
            </a: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Case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New way of expressing postcondition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Each case has a </a:t>
            </a:r>
            <a:r>
              <a:rPr b="1" lang="en-US" sz="2400" spc="-1" strike="noStrike">
                <a:solidFill>
                  <a:srgbClr val="1780a6"/>
                </a:solidFill>
                <a:latin typeface="Calibri"/>
              </a:rPr>
              <a:t>condition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 and a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onsequenc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Conditions are checked for: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nes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n-overl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ourier New"/>
              </a:rPr>
              <a:t>others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 may be used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684360" y="2205000"/>
          <a:ext cx="7775280" cy="1279440"/>
        </p:xfrm>
        <a:graphic>
          <a:graphicData uri="http://schemas.openxmlformats.org/drawingml/2006/table">
            <a:tbl>
              <a:tblPr/>
              <a:tblGrid>
                <a:gridCol w="7775280"/>
              </a:tblGrid>
              <a:tr h="12794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ounded_Add (X, Y : </a:t>
                      </a: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 Z : </a:t>
                      </a: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ntract_Cases =&gt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1780a6"/>
                          </a:solidFill>
                          <a:latin typeface="Courier New"/>
                        </a:rPr>
                        <a:t>           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0" lang="en-GB" sz="1300" spc="-1" strike="noStrike">
                          <a:solidFill>
                            <a:srgbClr val="1780a6"/>
                          </a:solidFill>
                          <a:latin typeface="Courier New"/>
                        </a:rPr>
                        <a:t>X + Y </a:t>
                      </a:r>
                      <a:r>
                        <a:rPr b="1" lang="en-GB" sz="1300" spc="-1" strike="noStrike">
                          <a:solidFill>
                            <a:srgbClr val="1780a6"/>
                          </a:solidFill>
                          <a:latin typeface="Courier New"/>
                        </a:rPr>
                        <a:t>in </a:t>
                      </a:r>
                      <a:r>
                        <a:rPr b="0" lang="en-GB" sz="1300" spc="-1" strike="noStrike">
                          <a:solidFill>
                            <a:srgbClr val="1780a6"/>
                          </a:solidFill>
                          <a:latin typeface="Courier New"/>
                        </a:rPr>
                        <a:t>Integer     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&gt; </a:t>
                      </a:r>
                      <a:r>
                        <a:rPr b="0" lang="en-GB" sz="13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Z = X + Y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1780a6"/>
                          </a:solidFill>
                          <a:latin typeface="Courier New"/>
                        </a:rPr>
                        <a:t>             </a:t>
                      </a:r>
                      <a:r>
                        <a:rPr b="0" lang="en-GB" sz="1300" spc="-1" strike="noStrike">
                          <a:solidFill>
                            <a:srgbClr val="1780a6"/>
                          </a:solidFill>
                          <a:latin typeface="Courier New"/>
                        </a:rPr>
                        <a:t>X + Y &lt; Integer’First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&gt; </a:t>
                      </a:r>
                      <a:r>
                        <a:rPr b="0" lang="en-GB" sz="13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Z = Integer’First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 </a:t>
                      </a:r>
                      <a:r>
                        <a:rPr b="0" lang="en-GB" sz="1300" spc="-1" strike="noStrike">
                          <a:solidFill>
                            <a:srgbClr val="1780a6"/>
                          </a:solidFill>
                          <a:latin typeface="Courier New"/>
                        </a:rPr>
                        <a:t>X + Y &gt; Integer’Last</a:t>
                      </a:r>
                      <a:r>
                        <a:rPr b="0" lang="en-GB" sz="1300" spc="-1" strike="noStrike">
                          <a:solidFill>
                            <a:srgbClr val="4d9fe2"/>
                          </a:solidFill>
                          <a:latin typeface="Courier New"/>
                        </a:rPr>
                        <a:t> 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&gt; </a:t>
                      </a:r>
                      <a:r>
                        <a:rPr b="0" lang="en-GB" sz="13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Z = Integer’Last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Global Variable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685800" y="4917960"/>
            <a:ext cx="784872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Global variables: 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act code organis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re part of the signature (from the verification perspectiv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Picture 1" descr=""/>
          <p:cNvPicPr/>
          <p:nvPr/>
        </p:nvPicPr>
        <p:blipFill>
          <a:blip r:embed="rId1"/>
          <a:stretch/>
        </p:blipFill>
        <p:spPr>
          <a:xfrm>
            <a:off x="1981080" y="1052640"/>
            <a:ext cx="518184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What Is a Global Variable?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ny variable that is an input or output of a subprogram (that is not a parameter) is a global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Examples: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1116000" y="3056040"/>
          <a:ext cx="7345440" cy="1309680"/>
        </p:xfrm>
        <a:graphic>
          <a:graphicData uri="http://schemas.openxmlformats.org/drawingml/2006/table">
            <a:tbl>
              <a:tblPr/>
              <a:tblGrid>
                <a:gridCol w="7345440"/>
              </a:tblGrid>
              <a:tr h="130968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ad_X (Value :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alue := X;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X is a global in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ad_X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2" name=""/>
          <p:cNvGraphicFramePr/>
          <p:nvPr/>
        </p:nvGraphicFramePr>
        <p:xfrm>
          <a:off x="1116000" y="4653000"/>
          <a:ext cx="7345440" cy="1309680"/>
        </p:xfrm>
        <a:graphic>
          <a:graphicData uri="http://schemas.openxmlformats.org/drawingml/2006/table">
            <a:tbl>
              <a:tblPr/>
              <a:tblGrid>
                <a:gridCol w="7345440"/>
              </a:tblGrid>
              <a:tr h="130968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_Above_Zero (Value :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oolea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alue := (X &gt; 0);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X is a global in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_Above_Zero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Global Contrac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announces use of global variable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optional mode can be 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</a:rPr>
              <a:t>Input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 (default), 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</a:rPr>
              <a:t>Output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</a:rPr>
              <a:t>In_Out 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or 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</a:rPr>
              <a:t>Proof_In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ourier New"/>
              </a:rPr>
              <a:t>Proof_In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 specifies globals that are only referenced within proof expressions within the subprogram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871640" y="2997360"/>
          <a:ext cx="5400720" cy="1366560"/>
        </p:xfrm>
        <a:graphic>
          <a:graphicData uri="http://schemas.openxmlformats.org/drawingml/2006/table">
            <a:tbl>
              <a:tblPr/>
              <a:tblGrid>
                <a:gridCol w="5400720"/>
              </a:tblGrid>
              <a:tr h="136656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lobal =&gt; (Input    =&gt; (A, B, C)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put   =&gt; (L, M, N)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_Out   =&gt; (X, Y, Z)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of_In =&gt; (I, J, K)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Global Contrac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optional 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so existing code can be analysed without adding global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tools will  then per default compute th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but if present, global contract must be complete and correct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can be omitted if there are no global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‘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null’ gives a positive indication that there are no global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The option 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--no-global-generation 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prohibits global generation, instead assume ‘null’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te that omitted global declaration means global ‘null’ with this op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Globals, functions , and side-effect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Recall: An expression is </a:t>
            </a:r>
            <a:r>
              <a:rPr b="1" i="1" lang="en-US" sz="2000" spc="-1" strike="noStrike">
                <a:solidFill>
                  <a:srgbClr val="404040"/>
                </a:solidFill>
                <a:latin typeface="Calibri"/>
              </a:rPr>
              <a:t>side-effect free</a:t>
            </a: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 if its evaluation does not update any object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The objects updated by a subprogram call are any parameters of mode out (or in out) and </a:t>
            </a:r>
            <a:r>
              <a:rPr b="1" i="1" lang="en-US" sz="2000" spc="-1" strike="noStrike">
                <a:solidFill>
                  <a:srgbClr val="404040"/>
                </a:solidFill>
                <a:latin typeface="Calibri"/>
              </a:rPr>
              <a:t>any globals of mode out (or in out)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o a function is side-effect free if all its parameters and globals (if any) are of mode in only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1116000" y="3213000"/>
          <a:ext cx="7416720" cy="326088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326088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qrt (X :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)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  -- OK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qrt (X :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)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lobal =&gt;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                         -- 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 (X :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 out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ger)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 -- Il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 (X :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)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lobal =&gt; (Input =&gt; V);                 -- 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H (X :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)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lobal =&gt; (Output =&gt; V);                -- Il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Contract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685800" y="3644640"/>
            <a:ext cx="7848720" cy="28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Formal agreement between the implementer and the user of a program unit (package or subprogram)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Assigns responsibilitie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A way to organise your cod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Not a new idea  (Floyd, Hoare, Dijkstra, Meyer)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517" name="Picture 1" descr=""/>
          <p:cNvPicPr/>
          <p:nvPr/>
        </p:nvPicPr>
        <p:blipFill>
          <a:blip r:embed="rId1"/>
          <a:stretch/>
        </p:blipFill>
        <p:spPr>
          <a:xfrm>
            <a:off x="2340000" y="71604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Globals, functions , and side-effect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Example revisited: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What is the correct global contract here?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1116000" y="2708280"/>
          <a:ext cx="7416720" cy="230328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230328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qrt (X :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)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sult : Integer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g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ll_Count := Call_Count + 1; -- Il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 code to calculate Sq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sul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qr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1042920" y="1770120"/>
          <a:ext cx="7416720" cy="57924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5792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qrt (X :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)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  -- OK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Aliasing Revisited – Global and Parameter Overlap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The declaration above is OK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Aliasing may be detected at the point where a call is made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755640" y="1197000"/>
          <a:ext cx="7416720" cy="82224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8222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pdate_Y (X :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ome_Typ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lobal =&gt; (Output =&gt; Y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8" name=""/>
          <p:cNvGraphicFramePr/>
          <p:nvPr/>
        </p:nvGraphicFramePr>
        <p:xfrm>
          <a:off x="755640" y="3500280"/>
          <a:ext cx="7416720" cy="165600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165600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, Z : Some_Type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pdate_Y (Z); -- 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pdate_Y (Y); -- Illeg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Aliasing Revisited – Global and Parameter Overlap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As previous example except this time the formal parameter is the export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The declaration above is OK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Aliasing may be detected at the point where a call is made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755640" y="1197000"/>
          <a:ext cx="7416720" cy="82224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8222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pdate_X (X :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ome_Typ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Global =&gt; (Input =&gt; Y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2" name=""/>
          <p:cNvGraphicFramePr/>
          <p:nvPr/>
        </p:nvGraphicFramePr>
        <p:xfrm>
          <a:off x="826920" y="4508640"/>
          <a:ext cx="7417080" cy="1655640"/>
        </p:xfrm>
        <a:graphic>
          <a:graphicData uri="http://schemas.openxmlformats.org/drawingml/2006/table">
            <a:tbl>
              <a:tblPr/>
              <a:tblGrid>
                <a:gridCol w="7417080"/>
              </a:tblGrid>
              <a:tr h="16556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, Z : Some_Type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pdate_X (Z); -- 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pdate_X (Y); -- Illeg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Contracts – Test Them! 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85800" y="4149720"/>
            <a:ext cx="784872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Dynamic Semantics – contracts can be: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pil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hecked at run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ought of as “pre-assert” and “post-assert” at the beginning and end of the subprogram bod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595" name="Picture 5" descr=""/>
          <p:cNvPicPr/>
          <p:nvPr/>
        </p:nvPicPr>
        <p:blipFill>
          <a:blip r:embed="rId1"/>
          <a:srcRect l="0" t="16652" r="0" b="3782"/>
          <a:stretch/>
        </p:blipFill>
        <p:spPr>
          <a:xfrm>
            <a:off x="2392200" y="909720"/>
            <a:ext cx="43596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1" descr=""/>
          <p:cNvPicPr/>
          <p:nvPr/>
        </p:nvPicPr>
        <p:blipFill>
          <a:blip r:embed="rId1"/>
          <a:stretch/>
        </p:blipFill>
        <p:spPr>
          <a:xfrm>
            <a:off x="1878120" y="549360"/>
            <a:ext cx="5387760" cy="366372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Contracts </a:t>
            </a: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Prove Them!</a:t>
            </a: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685800" y="4149720"/>
            <a:ext cx="784872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Static Semantics – contracts can be: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terpreted in logic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ormal pre- and post- assertions of a Hoare triplet {P} C {Q}, the latter often called 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proof obligatio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, or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verification cond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hecked exhaustively for all possible inputs by a theorem pr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Semantics of Contracts – Contract Valida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Recall: contracts themselves may be executed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Generally, contracts have the same semantics as  Ada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                                          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 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04040"/>
                </a:solidFill>
                <a:latin typeface="Courier New"/>
                <a:ea typeface="Courier New"/>
              </a:rPr>
              <a:t>              “</a:t>
            </a:r>
            <a:r>
              <a:rPr b="1" lang="en-GB" sz="2000" spc="-1" strike="noStrike">
                <a:solidFill>
                  <a:srgbClr val="404040"/>
                </a:solidFill>
                <a:latin typeface="Courier New"/>
                <a:ea typeface="Courier New"/>
              </a:rPr>
              <a:t>warning: divide by zero might fail”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Observation: Ada semantics of contracts contribute to validation of contracts!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863640" y="2484360"/>
          <a:ext cx="7416720" cy="73044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730440">
                <a:tc>
                  <a:txBody>
                    <a:bodyPr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X, Y, M :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atural; Z :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atur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GB" sz="14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Post =&gt; (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GB" sz="14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X / Y &lt;= M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then </a:t>
                      </a:r>
                      <a:r>
                        <a:rPr b="0" lang="en-GB" sz="14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Z = F_1 (X, Y))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               </a:t>
                      </a:r>
                      <a:r>
                        <a:rPr b="0" lang="en-GB" sz="14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(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GB" sz="14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X / Y &gt;  M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then</a:t>
                      </a:r>
                      <a:r>
                        <a:rPr b="0" lang="en-GB" sz="14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Z = F_2 (X, Y)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02" name="Rounded Rectangular Callout 1"/>
          <p:cNvSpPr/>
          <p:nvPr/>
        </p:nvSpPr>
        <p:spPr>
          <a:xfrm>
            <a:off x="322200" y="3575160"/>
            <a:ext cx="2521080" cy="1366560"/>
          </a:xfrm>
          <a:prstGeom prst="wedgeRoundRectCallout">
            <a:avLst>
              <a:gd name="adj1" fmla="val 66935"/>
              <a:gd name="adj2" fmla="val -8119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division by zero run-time exception when the contract is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Semantics of Contracts – Contract Valida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Some </a:t>
            </a:r>
            <a:r>
              <a:rPr b="1" i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candidate(?)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 fixes: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...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863640" y="1765440"/>
          <a:ext cx="7416720" cy="94284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942840">
                <a:tc>
                  <a:txBody>
                    <a:bodyPr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X, Y, M :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atural; Z :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atur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st =&gt; </a:t>
                      </a:r>
                      <a:r>
                        <a:rPr b="0" lang="en-GB" sz="1400" spc="-1" strike="noStrike">
                          <a:solidFill>
                            <a:srgbClr val="1780a6"/>
                          </a:solidFill>
                          <a:latin typeface="Courier New"/>
                        </a:rPr>
                        <a:t>(</a:t>
                      </a:r>
                      <a:r>
                        <a:rPr b="1" lang="en-GB" sz="1400" spc="-1" strike="noStrike">
                          <a:solidFill>
                            <a:srgbClr val="1780a6"/>
                          </a:solidFill>
                          <a:latin typeface="Courier New"/>
                        </a:rPr>
                        <a:t>if</a:t>
                      </a:r>
                      <a:r>
                        <a:rPr b="0" lang="en-GB" sz="1400" spc="-1" strike="noStrike">
                          <a:solidFill>
                            <a:srgbClr val="1780a6"/>
                          </a:solidFill>
                          <a:latin typeface="Courier New"/>
                        </a:rPr>
                        <a:t> Y /= 0 </a:t>
                      </a:r>
                      <a:r>
                        <a:rPr b="1" lang="en-GB" sz="1400" spc="-1" strike="noStrike">
                          <a:solidFill>
                            <a:srgbClr val="1780a6"/>
                          </a:solidFill>
                          <a:latin typeface="Courier New"/>
                        </a:rPr>
                        <a:t>th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      </a:t>
                      </a:r>
                      <a:r>
                        <a:rPr b="0" lang="en-GB" sz="1400" spc="-1" strike="noStrike">
                          <a:solidFill>
                            <a:srgbClr val="1780a6"/>
                          </a:solidFill>
                          <a:latin typeface="Courier New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 / Y &lt;= M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 = F_1 (X, Y))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    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 / Y &gt;  M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Z = F_2 (X, Y))</a:t>
                      </a:r>
                      <a:r>
                        <a:rPr b="0" lang="en-GB" sz="1400" spc="-1" strike="noStrike">
                          <a:solidFill>
                            <a:srgbClr val="1780a6"/>
                          </a:solidFill>
                          <a:latin typeface="Courier New"/>
                        </a:rPr>
                        <a:t>)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6" name=""/>
          <p:cNvGraphicFramePr/>
          <p:nvPr/>
        </p:nvGraphicFramePr>
        <p:xfrm>
          <a:off x="863640" y="2916360"/>
          <a:ext cx="7416720" cy="94428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944280">
                <a:tc>
                  <a:txBody>
                    <a:bodyPr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X, Y, M :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atural; Z :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atur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st =&gt; </a:t>
                      </a:r>
                      <a:r>
                        <a:rPr b="0" lang="en-GB" sz="1400" spc="-1" strike="noStrike">
                          <a:solidFill>
                            <a:srgbClr val="1780a6"/>
                          </a:solidFill>
                          <a:latin typeface="Courier New"/>
                        </a:rPr>
                        <a:t>Y /= 0 </a:t>
                      </a:r>
                      <a:r>
                        <a:rPr b="1" lang="en-GB" sz="1400" spc="-1" strike="noStrike">
                          <a:solidFill>
                            <a:srgbClr val="1780a6"/>
                          </a:solidFill>
                          <a:latin typeface="Courier New"/>
                        </a:rPr>
                        <a:t>and</a:t>
                      </a:r>
                      <a:r>
                        <a:rPr b="0" lang="en-GB" sz="1400" spc="-1" strike="noStrike">
                          <a:solidFill>
                            <a:srgbClr val="1780a6"/>
                          </a:solidFill>
                          <a:latin typeface="Courier New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1780a6"/>
                          </a:solidFill>
                          <a:latin typeface="Courier New"/>
                        </a:rPr>
                        <a:t>th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       </a:t>
                      </a:r>
                      <a:r>
                        <a:rPr b="0" lang="en-GB" sz="1400" spc="-1" strike="noStrike">
                          <a:solidFill>
                            <a:srgbClr val="1780a6"/>
                          </a:solidFill>
                          <a:latin typeface="Courier New"/>
                        </a:rPr>
                        <a:t>(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 / Y &lt;= M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 = F_1 (X, Y))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     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 / Y &gt;  M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Z = F_2 (X, Y))</a:t>
                      </a:r>
                      <a:r>
                        <a:rPr b="0" lang="en-GB" sz="1400" spc="-1" strike="noStrike">
                          <a:solidFill>
                            <a:srgbClr val="1780a6"/>
                          </a:solidFill>
                          <a:latin typeface="Courier New"/>
                        </a:rPr>
                        <a:t>)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7" name=""/>
          <p:cNvGraphicFramePr/>
          <p:nvPr/>
        </p:nvGraphicFramePr>
        <p:xfrm>
          <a:off x="863640" y="4067280"/>
          <a:ext cx="7416720" cy="94428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944280">
                <a:tc>
                  <a:txBody>
                    <a:bodyPr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X, Y, M :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atural; Z :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atur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1780a6"/>
                          </a:solidFill>
                          <a:latin typeface="Courier New"/>
                        </a:rPr>
                        <a:t>Pre  =&gt; Y /= 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ost =&gt; 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 / Y &lt;= M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 = F_1 (X, Y))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 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 / Y &gt;  M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Z = F_2 (X, Y)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863640" y="5219640"/>
          <a:ext cx="7416720" cy="73044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730440">
                <a:tc>
                  <a:txBody>
                    <a:bodyPr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X, M :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atural; </a:t>
                      </a:r>
                      <a:r>
                        <a:rPr b="0" lang="en-GB" sz="1400" spc="-1" strike="noStrike">
                          <a:solidFill>
                            <a:srgbClr val="1780a6"/>
                          </a:solidFill>
                          <a:latin typeface="Courier New"/>
                        </a:rPr>
                        <a:t>Y : </a:t>
                      </a:r>
                      <a:r>
                        <a:rPr b="1" lang="en-GB" sz="1400" spc="-1" strike="noStrike">
                          <a:solidFill>
                            <a:srgbClr val="1780a6"/>
                          </a:solidFill>
                          <a:latin typeface="Courier New"/>
                        </a:rPr>
                        <a:t>in</a:t>
                      </a:r>
                      <a:r>
                        <a:rPr b="0" lang="en-GB" sz="1400" spc="-1" strike="noStrike">
                          <a:solidFill>
                            <a:srgbClr val="1780a6"/>
                          </a:solidFill>
                          <a:latin typeface="Courier New"/>
                        </a:rPr>
                        <a:t> Positive;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 :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atur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st =&gt; 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 / Y &lt;= M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 = F_1 (X, Y))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 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 / Y &gt;  M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Z = F_2 (X, Y)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Semantics of Contracts – Contract Valida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… 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more </a:t>
            </a:r>
            <a:r>
              <a:rPr b="1" i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candidate(?)</a:t>
            </a: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 fixes: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                                          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ourier New"/>
                <a:ea typeface="Courier New"/>
              </a:rPr>
              <a:t> 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40404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863640" y="1700280"/>
          <a:ext cx="7416720" cy="94464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944640">
                <a:tc>
                  <a:txBody>
                    <a:bodyPr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X, Y, M :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atural; Z :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atur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ntract_Cases =&gt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X / Y &lt;= M =&gt; Z = F_1 (X, Y)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/ Y &gt;  M =&gt; Z = F_2 (X, Y)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863640" y="3105000"/>
          <a:ext cx="7416720" cy="158436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1584360">
                <a:tc>
                  <a:txBody>
                    <a:bodyPr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type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at_Err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range -1 .. Natural’Las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X, Y, M :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atural; Z :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at_Er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ntract_Cases =&gt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Y /= 0 and then X / Y &lt;= M =&gt; Z = F_1 (X, Y)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 /= 0 and then X / Y &gt;  M =&gt; Z = F_2 (X, Y)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 =  0                     =&gt; Z = -1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3" name=""/>
          <p:cNvGraphicFramePr/>
          <p:nvPr/>
        </p:nvGraphicFramePr>
        <p:xfrm>
          <a:off x="863640" y="5149800"/>
          <a:ext cx="7416720" cy="94320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943200">
                <a:tc>
                  <a:txBody>
                    <a:bodyPr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X, M :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atural; Y :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sitive; Z :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atur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ontract_Cases =&gt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X / Y &lt;= M =&gt; Z = F_1 (X, Y)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/ Y &gt;  M =&gt; Z = F_2 (X, Y)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Writing Contracts – Expressive  Power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5" name="Content Placeholder 2" descr=""/>
          <p:cNvPicPr/>
          <p:nvPr/>
        </p:nvPicPr>
        <p:blipFill>
          <a:blip r:embed="rId1"/>
          <a:stretch/>
        </p:blipFill>
        <p:spPr>
          <a:xfrm>
            <a:off x="2332080" y="1143000"/>
            <a:ext cx="44798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New expressions in Ada 2012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Ada 2012 includes if expressions, case expressions and quantified expression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Quantified expressions (for all, for some) are particularly useful when writing contracts involving arrays or container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1547640" y="2637000"/>
          <a:ext cx="6769440" cy="2224080"/>
        </p:xfrm>
        <a:graphic>
          <a:graphicData uri="http://schemas.openxmlformats.org/drawingml/2006/table">
            <a:tbl>
              <a:tblPr/>
              <a:tblGrid>
                <a:gridCol w="6769440"/>
              </a:tblGrid>
              <a:tr h="222408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= 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X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2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se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3); -- if exp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 := 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se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Y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-- case exp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E1     =&gt; V1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E2     =&gt; V2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s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=&gt; V3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et_Array (A: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rray_Typ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st =&gt; 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ll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M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'Range =&gt; A(M) = M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Contract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Core idea of contract-based programming: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Contract between a subprogram and its caller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aller must meet the </a:t>
            </a:r>
            <a:r>
              <a:rPr b="0" lang="en-US" sz="2000" spc="-1" strike="noStrike">
                <a:solidFill>
                  <a:srgbClr val="1780a6"/>
                </a:solidFill>
                <a:latin typeface="Calibri"/>
              </a:rPr>
              <a:t>precondi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pecified by the subprogra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urn, the subprogram must respect the </a:t>
            </a:r>
            <a:r>
              <a:rPr b="0" lang="en-US" sz="2000" spc="-1" strike="noStrike">
                <a:solidFill>
                  <a:srgbClr val="1780a6"/>
                </a:solidFill>
                <a:latin typeface="Calibri"/>
              </a:rPr>
              <a:t>postcondi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t has specifi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New Ada 2012 features support the contract-based programming pattern.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Expression Function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simple functions can be written as </a:t>
            </a:r>
            <a:r>
              <a:rPr b="1" i="1" lang="en-GB" sz="2400" spc="-1" strike="noStrike">
                <a:solidFill>
                  <a:srgbClr val="404040"/>
                </a:solidFill>
                <a:latin typeface="Calibri"/>
              </a:rPr>
              <a:t>expression function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there is no separate body for such function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for proof, the expression forms the postcondition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allow you to write functions in a package specification which can then be used in contract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1116000" y="2133720"/>
          <a:ext cx="7272360" cy="1796760"/>
        </p:xfrm>
        <a:graphic>
          <a:graphicData uri="http://schemas.openxmlformats.org/drawingml/2006/table">
            <a:tbl>
              <a:tblPr/>
              <a:tblGrid>
                <a:gridCol w="7272360"/>
              </a:tblGrid>
              <a:tr h="1796760">
                <a:tc>
                  <a:txBody>
                    <a:bodyPr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s_Full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oolean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Stack_Pointer = Stack_Size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alue_Found_In_Range (A       : Ar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                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al     : Eleme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                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w, Up : Inde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                 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ool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r some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J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Low .. Up =&gt; A(J) = Val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Expression Function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Note that the expression does not have to be Boolean: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the aspect comes after the parenthesized expression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1116000" y="2205000"/>
          <a:ext cx="7272360" cy="1079640"/>
        </p:xfrm>
        <a:graphic>
          <a:graphicData uri="http://schemas.openxmlformats.org/drawingml/2006/table">
            <a:tbl>
              <a:tblPr/>
              <a:tblGrid>
                <a:gridCol w="7272360"/>
              </a:tblGrid>
              <a:tr h="10796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dd_One (X : in Integer)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X +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e =&gt; (X &lt; Integer’Last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‘</a:t>
            </a: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Old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denotes the value of a parameter or a name (variable, function) before the call to the subprogram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s only available in the expression of a postcondition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  <a:ea typeface="ヒラギノ角ゴ ProN W3"/>
              </a:rPr>
              <a:t>forbidden for limited type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t implementation level: performs a copy of the value, to be used for the check afterward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king copies of objects may impact 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‘</a:t>
            </a: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Old Example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1547640" y="1052640"/>
          <a:ext cx="6096240" cy="54561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5456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crement (X :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st =&gt; X = X'Old + 1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ome_Global : Integer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all_Not_Modify_Glob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st =&gt; Some_Global = Some_Global'Old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Integer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 : Inte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 (V : T)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bal =&gt; Some_Global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V :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st =&gt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'Old.A   /= V.A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.B'Old   /= V.B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 (V'Old) /= F (V)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 (V)'Old /= F (V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‘</a:t>
            </a: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Old Example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1547640" y="1025640"/>
          <a:ext cx="6096240" cy="54561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5456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crement (X :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st =&gt; X = X'Old + 1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ome_Global : Integer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all_Not_Modify_Glob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st =&gt; Some_Global = Some_Global'Old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: Integer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 : Inte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cord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 (V : T)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 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bal =&gt; Some_Global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V :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st =&gt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'Old.A   /= V.A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.B'Old   /= V.B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 (V'Old) /= F (V)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 (V)'Old /= F (V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33" name="Rounded Rectangular Callout 1"/>
          <p:cNvSpPr/>
          <p:nvPr/>
        </p:nvSpPr>
        <p:spPr>
          <a:xfrm>
            <a:off x="6012000" y="4724280"/>
            <a:ext cx="2952720" cy="1368720"/>
          </a:xfrm>
          <a:prstGeom prst="wedgeRoundRectCallout">
            <a:avLst>
              <a:gd name="adj1" fmla="val -60847"/>
              <a:gd name="adj2" fmla="val 1412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refix of attribute "Old" that is potentially unevaluated must denote an 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‘</a:t>
            </a: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Update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Convenient for expressing in contracts how composite objects have been updated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Keeps things simple – for  ‘Update of arrays: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 contracts: avoids writing quantifi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 code: avoids writing loo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Can have overlapping and dynamic choice range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oks similar to aggregates, but isn’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6" name=""/>
          <p:cNvGraphicFramePr/>
          <p:nvPr/>
        </p:nvGraphicFramePr>
        <p:xfrm>
          <a:off x="936720" y="2205000"/>
          <a:ext cx="7272360" cy="719280"/>
        </p:xfrm>
        <a:graphic>
          <a:graphicData uri="http://schemas.openxmlformats.org/drawingml/2006/table">
            <a:tbl>
              <a:tblPr/>
              <a:tblGrid>
                <a:gridCol w="7272360"/>
              </a:tblGrid>
              <a:tr h="719280">
                <a:tc>
                  <a:txBody>
                    <a:bodyPr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 (R : in out Re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st =&gt; R = R'Old'Update (X =&gt; 1, Z =&gt; 5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7" name=""/>
          <p:cNvGraphicFramePr/>
          <p:nvPr/>
        </p:nvGraphicFramePr>
        <p:xfrm>
          <a:off x="936720" y="3213000"/>
          <a:ext cx="7272360" cy="863640"/>
        </p:xfrm>
        <a:graphic>
          <a:graphicData uri="http://schemas.openxmlformats.org/drawingml/2006/table">
            <a:tbl>
              <a:tblPr/>
              <a:tblGrid>
                <a:gridCol w="7272360"/>
              </a:tblGrid>
              <a:tr h="8636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ome_Array'Update (1 .. 10 =&gt; True, 5 =&gt; Fal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ome_Array'Update (Param_1'Range =&gt; True, Param_2'Range =&gt; Fal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38" name="Rounded Rectangular Callout 1"/>
          <p:cNvSpPr/>
          <p:nvPr/>
        </p:nvSpPr>
        <p:spPr>
          <a:xfrm>
            <a:off x="6732720" y="2637000"/>
            <a:ext cx="2160360" cy="792000"/>
          </a:xfrm>
          <a:prstGeom prst="wedgeRoundRectCallout">
            <a:avLst>
              <a:gd name="adj1" fmla="val -71310"/>
              <a:gd name="adj2" fmla="val 4895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 even if choice ranges overl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‘</a:t>
            </a: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Resul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‘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Result allows you to use the function result in your contracts.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1116000" y="2205000"/>
          <a:ext cx="7272360" cy="2664000"/>
        </p:xfrm>
        <a:graphic>
          <a:graphicData uri="http://schemas.openxmlformats.org/drawingml/2006/table">
            <a:tbl>
              <a:tblPr/>
              <a:tblGrid>
                <a:gridCol w="7272360"/>
              </a:tblGrid>
              <a:tr h="266400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ckage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ind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1..10)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f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unctio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ind (T : A; R : Integer)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tur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Inte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ost =&gt; Find'Result &gt;= 0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 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ind'Result /= 0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 (Find'Result) = R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Find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Set Nota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04040"/>
                </a:solidFill>
                <a:latin typeface="Calibri"/>
              </a:rPr>
              <a:t>another Ada 2012 feature useful for specification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04040"/>
                </a:solidFill>
                <a:latin typeface="Calibri"/>
              </a:rPr>
              <a:t>set notation can be used in membership test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1195560" y="2598840"/>
          <a:ext cx="6957720" cy="1477800"/>
        </p:xfrm>
        <a:graphic>
          <a:graphicData uri="http://schemas.openxmlformats.org/drawingml/2006/table">
            <a:tbl>
              <a:tblPr/>
              <a:tblGrid>
                <a:gridCol w="3479760"/>
                <a:gridCol w="3477960"/>
              </a:tblGrid>
              <a:tr h="147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C = ‘A’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r else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 = ‘B’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r else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 = ‘C’)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s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if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C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ot in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‘A’ | ‘B’ | ‘C’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h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s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d if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More Subprogram Contract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We have seen: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Global, Pre, and Post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Now…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Assert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Assum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Later…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Depend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Loop_Invariant, Loop_Variant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Asser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it may be executed or proved or both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a verification condition is generated for the check, but there is no ‘cutpoint’ in the proof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1944720" y="4076640"/>
          <a:ext cx="5254560" cy="1440000"/>
        </p:xfrm>
        <a:graphic>
          <a:graphicData uri="http://schemas.openxmlformats.org/drawingml/2006/table">
            <a:tbl>
              <a:tblPr/>
              <a:tblGrid>
                <a:gridCol w="5254560"/>
              </a:tblGrid>
              <a:tr h="144000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agma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ssert (I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mall_Range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Contract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85800" y="2637000"/>
            <a:ext cx="78487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Contract between a subprogram and its caller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aller must meet the </a:t>
            </a:r>
            <a:r>
              <a:rPr b="0" lang="en-US" sz="2000" spc="-1" strike="noStrike">
                <a:solidFill>
                  <a:srgbClr val="1780a6"/>
                </a:solidFill>
                <a:latin typeface="Calibri"/>
              </a:rPr>
              <a:t>precondi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pecified by the subprogra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urn, the subprogram must respect the </a:t>
            </a:r>
            <a:r>
              <a:rPr b="0" lang="en-US" sz="2000" spc="-1" strike="noStrike">
                <a:solidFill>
                  <a:srgbClr val="1780a6"/>
                </a:solidFill>
                <a:latin typeface="Calibri"/>
              </a:rPr>
              <a:t>postcondi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t has specifi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2232000" y="1844640"/>
          <a:ext cx="4680000" cy="73044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730440">
                <a:tc>
                  <a:txBody>
                    <a:bodyPr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crement (X :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 out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g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e  =&gt; X &lt; Integer’Last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ost =&gt; X = X’Old + 1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Assume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no verification condition is generated to prove that the Boolean expression is tru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but it is carried forward as though it had been proved true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will be checked at run time if assertion checks are on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soundness alert - use with great care!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652" name=""/>
          <p:cNvGraphicFramePr/>
          <p:nvPr/>
        </p:nvGraphicFramePr>
        <p:xfrm>
          <a:off x="1547640" y="3789360"/>
          <a:ext cx="5256360" cy="1440000"/>
        </p:xfrm>
        <a:graphic>
          <a:graphicData uri="http://schemas.openxmlformats.org/drawingml/2006/table">
            <a:tbl>
              <a:tblPr/>
              <a:tblGrid>
                <a:gridCol w="5256360"/>
              </a:tblGrid>
              <a:tr h="144000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agma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ssume (Ticks &lt; Time_Type’Last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Summary: What to do with contracts?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mprove documentation / readability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cation contains formally expressed properties on the c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mprove testing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traints on subprograms and code can lead to dynamic checks enabled during tes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mprove static analysi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ompiler checks the consistency of the proper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ic analysis tools (CodePeer) use these properties as part of their analy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Perform formal proof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mal proof technologies can prove formally certain properties of the c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Exercise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04040"/>
                </a:solidFill>
                <a:latin typeface="Calibri"/>
              </a:rPr>
              <a:t>Exercise</a:t>
            </a:r>
            <a:endParaRPr b="1" lang="en-US" sz="32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Tetris 7, SPARK Analysis of Tetris: Run and Prove your Contracts!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Contract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685800" y="3068280"/>
            <a:ext cx="7848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04040"/>
                </a:solidFill>
                <a:latin typeface="Calibri"/>
              </a:rPr>
              <a:t>Contracts are written in new </a:t>
            </a:r>
            <a:r>
              <a:rPr b="1" lang="fr-FR" sz="2400" spc="-1" strike="noStrike">
                <a:solidFill>
                  <a:srgbClr val="1780a6"/>
                </a:solidFill>
                <a:latin typeface="Calibri"/>
              </a:rPr>
              <a:t>aspect</a:t>
            </a:r>
            <a:r>
              <a:rPr b="1" lang="fr-FR" sz="2400" spc="-1" strike="noStrike">
                <a:solidFill>
                  <a:srgbClr val="404040"/>
                </a:solidFill>
                <a:latin typeface="Calibri"/>
              </a:rPr>
              <a:t> notation in Ada 2012 :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32000" y="1844640"/>
          <a:ext cx="4680000" cy="73044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730440">
                <a:tc>
                  <a:txBody>
                    <a:bodyPr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crement (X :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 out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g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Pre  =&gt; X &lt; Integer’Last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ost =&gt; X = X’Old + 1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1301760" y="4149720"/>
          <a:ext cx="6540480" cy="792000"/>
        </p:xfrm>
        <a:graphic>
          <a:graphicData uri="http://schemas.openxmlformats.org/drawingml/2006/table">
            <a:tbl>
              <a:tblPr/>
              <a:tblGrid>
                <a:gridCol w="654048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spect_specification ::=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 aspect_mark [=&gt; aspect_definition]{,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            aspect_mark [=&gt; aspect_definition] 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527" name="Espace réservé du texte 2"/>
          <p:cNvSpPr/>
          <p:nvPr/>
        </p:nvSpPr>
        <p:spPr>
          <a:xfrm>
            <a:off x="838080" y="5445000"/>
            <a:ext cx="784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04040"/>
                </a:solidFill>
                <a:latin typeface="Calibri"/>
              </a:rPr>
              <a:t>An aspect adds information to ent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Precondition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 Boolean expression 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o be checked before the call to a subprogram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constraint to the caller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defining expectations under which a subprogram can be called in addition to parameter type constraint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relates to the subprogram input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can be composed of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visible name in the visible scope of the subprogram (even if defined afterwar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parameter of the sub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s part of the specification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</a:rPr>
              <a:t>Postcondition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 Boolean expression 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to be checked after the call to a subprogram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 constraint to the implementer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relates to the subprogram outputs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can be composed of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visible name in the visible scope of the subprogram (even if defined afterwar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parameter of the sub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values of any of the above before the call to the sub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esult of a sub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s part of the specification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Contract Example – An Observa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647640" y="2852640"/>
            <a:ext cx="7848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What difference do types make?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971640" y="1197000"/>
          <a:ext cx="7200720" cy="1224000"/>
        </p:xfrm>
        <a:graphic>
          <a:graphicData uri="http://schemas.openxmlformats.org/drawingml/2006/table">
            <a:tbl>
              <a:tblPr/>
              <a:tblGrid>
                <a:gridCol w="7200720"/>
              </a:tblGrid>
              <a:tr h="122400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qrt (Input : Integer; Res: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atur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e  =&gt; Input &gt;= 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ost =&gt; (Res * Res) &lt;= Input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Res + 1) * (Res + 1) &gt; Inpu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15720" y="23148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80a6"/>
                </a:solidFill>
                <a:latin typeface="Calibri"/>
                <a:ea typeface="Arial Bold"/>
              </a:rPr>
              <a:t>Types and Contracts – An Observation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8580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With the help of types… 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… 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less to write!</a:t>
            </a:r>
            <a:endParaRPr b="1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971640" y="1197000"/>
          <a:ext cx="7200720" cy="1224000"/>
        </p:xfrm>
        <a:graphic>
          <a:graphicData uri="http://schemas.openxmlformats.org/drawingml/2006/table">
            <a:tbl>
              <a:tblPr/>
              <a:tblGrid>
                <a:gridCol w="7200720"/>
              </a:tblGrid>
              <a:tr h="122400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qrt (Input : Integer; Res: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atur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e  =&gt; Input &gt;= 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ost =&gt; (Res * Res) &lt;= Input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Res + 1) * (Res + 1) &gt; Inpu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8" name=""/>
          <p:cNvGraphicFramePr/>
          <p:nvPr/>
        </p:nvGraphicFramePr>
        <p:xfrm>
          <a:off x="1123920" y="3573360"/>
          <a:ext cx="7201080" cy="1224000"/>
        </p:xfrm>
        <a:graphic>
          <a:graphicData uri="http://schemas.openxmlformats.org/drawingml/2006/table">
            <a:tbl>
              <a:tblPr/>
              <a:tblGrid>
                <a:gridCol w="7201080"/>
              </a:tblGrid>
              <a:tr h="122400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cedure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qrt (Input : Natural; Res: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Natur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ith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ost =&gt; (Res * Res) &lt;= Input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     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Res + 1) * (Res + 1) &gt; Inpu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5:00:23Z</dcterms:created>
  <dc:creator>ochem</dc:creator>
  <dc:description/>
  <dc:language>en-US</dc:language>
  <cp:lastModifiedBy>Wallenburg Angela</cp:lastModifiedBy>
  <cp:lastPrinted>2014-03-31T13:09:07Z</cp:lastPrinted>
  <dcterms:modified xsi:type="dcterms:W3CDTF">2017-10-02T22:47:02Z</dcterms:modified>
  <cp:revision>2198</cp:revision>
  <dc:subject/>
  <dc:title>Diapositive 1</dc:title>
</cp:coreProperties>
</file>