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79E0-7A40-4457-A7C4-BD968D9FB2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13C-8454-4E90-B563-571BA74C00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3889-BDAB-4B7D-960E-46228CFF95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role of Abstract_Stat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24C6-DD6B-4015-B0CD-57A609BA25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906C-21A9-476F-86D9-8A033F16C5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2D44-B463-4AA6-BDC6-D070D64818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D9D7-3A38-4E2C-8BC8-A95DEE732D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E805D78-22D6-4415-9460-8BB2449F006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ECC6A74-64AB-4FA9-939E-01B90E67E59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807AB34-C601-4E9B-9D63-AAE1234C429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8946459-AFB8-466B-8381-BDA562BC042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4AA984B-5E33-4C92-A146-8555E6219C5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AD2EE41-11E7-42B4-ABBE-EC804FED7BD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EF1A31D-A8DA-4652-9393-C36AED4677F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66B2A33-5C78-4328-A8FE-7A48921F382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E6A8867-2190-483C-A25C-204D37550E8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E7A4318-B47A-4CC8-AC08-368BD2C4255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BCDA29E-B25E-4C3F-B72A-C6623CA54A5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D2A37C9-EDB5-40EF-8BC6-5FA5F56AABB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250560" y="5516640"/>
            <a:ext cx="838188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Designing for SPARK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06436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ion and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record can be used to group related data into a single objec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ing what could be a number of variables into a single one with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ing the number of parameters of subprograms that operate on the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record can be abstracted by declaring it as a private data typ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ing subprograms operating on the data type to maintain an invariance on objects of the type and preventing users from directly meddling with its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maintainability; the details (refinement) of the type can be changed without directly affecting all users of the typ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abstraction and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907920"/>
            <a:ext cx="784872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tate abstraction behaves similarly to a private typ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hidden data declared in a package or private child pack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tate abstra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represent many variables by a single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s the size of Global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maintainability; the refinement of the state abstraction may be changed without directly affecting users of the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684360" y="1844640"/>
          <a:ext cx="3743280" cy="179856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With_Hidden_Stat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N :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Stat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With_Hidden_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788000" y="1844640"/>
          <a:ext cx="3744720" cy="286560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 bod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_Hidden_Stat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State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tate =&gt; (A, B, C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, C :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N :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Input  =&gt; 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put =&gt; B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With_Hidden_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3" name="Right Arrow 6"/>
          <p:cNvSpPr/>
          <p:nvPr/>
        </p:nvSpPr>
        <p:spPr>
          <a:xfrm>
            <a:off x="3635280" y="2205000"/>
            <a:ext cx="1338480" cy="936720"/>
          </a:xfrm>
          <a:prstGeom prst="rightArrow">
            <a:avLst>
              <a:gd name="adj1" fmla="val 50000"/>
              <a:gd name="adj2" fmla="val 48894"/>
            </a:avLst>
          </a:prstGeom>
          <a:solidFill>
            <a:srgbClr val="f2f2f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ular Callout 1"/>
          <p:cNvSpPr/>
          <p:nvPr/>
        </p:nvSpPr>
        <p:spPr>
          <a:xfrm>
            <a:off x="684360" y="3716280"/>
            <a:ext cx="3743280" cy="649440"/>
          </a:xfrm>
          <a:prstGeom prst="wedgeRoundRectCallout">
            <a:avLst>
              <a:gd name="adj1" fmla="val 32740"/>
              <a:gd name="adj2" fmla="val -9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tate abstraction can represent many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ion and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rivate types can have components which are themselves a private typ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imilarly, state abstractions of a package can have constituents which are state abstra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a constituent must be private to the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bstraction and its refinement should only be used to group conceptually related data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recommended for private data types and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: An input interface packag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Rounded Rectangle 3"/>
          <p:cNvSpPr/>
          <p:nvPr/>
        </p:nvSpPr>
        <p:spPr>
          <a:xfrm>
            <a:off x="3492360" y="1484280"/>
            <a:ext cx="2374920" cy="1081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4"/>
          <p:cNvSpPr/>
          <p:nvPr/>
        </p:nvSpPr>
        <p:spPr>
          <a:xfrm>
            <a:off x="684360" y="3645000"/>
            <a:ext cx="2447640" cy="1944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ol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_State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al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_Writer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s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5"/>
          <p:cNvSpPr/>
          <p:nvPr/>
        </p:nvSpPr>
        <p:spPr>
          <a:xfrm>
            <a:off x="3419640" y="3645000"/>
            <a:ext cx="2520720" cy="1944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_State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al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_Writer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s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6"/>
          <p:cNvSpPr/>
          <p:nvPr/>
        </p:nvSpPr>
        <p:spPr>
          <a:xfrm>
            <a:off x="6227640" y="3645000"/>
            <a:ext cx="2521080" cy="1944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_State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al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_Writer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s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Straight Arrow Connector 8"/>
          <p:cNvCxnSpPr>
            <a:endCxn id="549" idx="0"/>
          </p:cNvCxnSpPr>
          <p:nvPr/>
        </p:nvCxnSpPr>
        <p:spPr>
          <a:xfrm flipH="1">
            <a:off x="1907640" y="2565000"/>
            <a:ext cx="205200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17"/>
          <p:cNvCxnSpPr>
            <a:stCxn id="548" idx="2"/>
            <a:endCxn id="550" idx="0"/>
          </p:cNvCxnSpPr>
          <p:nvPr/>
        </p:nvCxnSpPr>
        <p:spPr>
          <a:xfrm>
            <a:off x="4679640" y="2565000"/>
            <a:ext cx="108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22"/>
          <p:cNvCxnSpPr>
            <a:endCxn id="551" idx="0"/>
          </p:cNvCxnSpPr>
          <p:nvPr/>
        </p:nvCxnSpPr>
        <p:spPr>
          <a:xfrm>
            <a:off x="5363640" y="2565000"/>
            <a:ext cx="212508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 better solu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ounded Rectangle 3"/>
          <p:cNvSpPr/>
          <p:nvPr/>
        </p:nvSpPr>
        <p:spPr>
          <a:xfrm>
            <a:off x="1403280" y="765000"/>
            <a:ext cx="6553440" cy="719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_State =&gt; (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ternal =&gt; Async_Writer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s =&gt;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le 4"/>
          <p:cNvSpPr/>
          <p:nvPr/>
        </p:nvSpPr>
        <p:spPr>
          <a:xfrm>
            <a:off x="755640" y="4365720"/>
            <a:ext cx="2448000" cy="208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pack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Inputs.Voltag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_State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al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_Writer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s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le 5"/>
          <p:cNvSpPr/>
          <p:nvPr/>
        </p:nvSpPr>
        <p:spPr>
          <a:xfrm>
            <a:off x="3419640" y="4365720"/>
            <a:ext cx="2520720" cy="208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.Frequenci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_State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al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_Writer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s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ounded Rectangle 6"/>
          <p:cNvSpPr/>
          <p:nvPr/>
        </p:nvSpPr>
        <p:spPr>
          <a:xfrm>
            <a:off x="6227640" y="4365720"/>
            <a:ext cx="2521080" cy="208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.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bstract_State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al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_Writer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s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Straight Arrow Connector 8"/>
          <p:cNvCxnSpPr>
            <a:endCxn id="557" idx="0"/>
          </p:cNvCxnSpPr>
          <p:nvPr/>
        </p:nvCxnSpPr>
        <p:spPr>
          <a:xfrm flipH="1">
            <a:off x="1979280" y="4076280"/>
            <a:ext cx="1008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1" name="Straight Arrow Connector 17"/>
          <p:cNvCxnSpPr>
            <a:stCxn id="562" idx="2"/>
            <a:endCxn id="558" idx="0"/>
          </p:cNvCxnSpPr>
          <p:nvPr/>
        </p:nvCxnSpPr>
        <p:spPr>
          <a:xfrm>
            <a:off x="4679640" y="407628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3" name="Straight Arrow Connector 22"/>
          <p:cNvCxnSpPr>
            <a:endCxn id="559" idx="0"/>
          </p:cNvCxnSpPr>
          <p:nvPr/>
        </p:nvCxnSpPr>
        <p:spPr>
          <a:xfrm>
            <a:off x="6372360" y="4076280"/>
            <a:ext cx="1116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2" name="Rounded Rectangle 16"/>
          <p:cNvSpPr/>
          <p:nvPr/>
        </p:nvSpPr>
        <p:spPr>
          <a:xfrm>
            <a:off x="2627280" y="1700280"/>
            <a:ext cx="4105440" cy="23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.Voltag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.Frequenci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.Speed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bod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fined_State =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ate =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puts.Voltages.Sta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.Frequencies.Sta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s.Speeds.St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Straight Arrow Connector 41"/>
          <p:cNvCxnSpPr>
            <a:stCxn id="562" idx="0"/>
            <a:endCxn id="556" idx="2"/>
          </p:cNvCxnSpPr>
          <p:nvPr/>
        </p:nvCxnSpPr>
        <p:spPr>
          <a:xfrm flipV="1">
            <a:off x="4679640" y="14839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ffective use of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previous examples showed the importance of state abstraction in achieving concise, maintainable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Franklin Gothic Demi"/>
              </a:rPr>
              <a:t>The choice of refinement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also affects contract clarit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ive broad classes of data have been identified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ernal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ith sub-classes: Inputs and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sential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te introduced by optim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gically unnecessary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cal copies of other packages’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tate can have an </a:t>
            </a:r>
            <a:r>
              <a:rPr b="1" i="1" lang="en-GB" sz="2400" spc="-1" strike="noStrike">
                <a:solidFill>
                  <a:srgbClr val="404040"/>
                </a:solidFill>
                <a:latin typeface="Franklin Gothic Demi"/>
              </a:rPr>
              <a:t>integrity level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such as 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op Secret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ecret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afety-Critical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Non-Safety-Critical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etc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ffective use of state abstraction: initaliz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initialization of state is crucia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Every object and state abstraction must be initialized entirely before it is rea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NATprove checks this using flow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state of a package can be initialized in two way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ring package elaboration by initialization at the point of declaration (including default initialization) or in the sequence of statements of a package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ring execution by an explicit call to an “initialize” procedure declared by the pack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ffective use of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incipl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 abstraction should only be refined into constituents of the same class, integrity level and with the same sort of initia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mix different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mix independent input and output str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mix differing integrity levels (also avoid this in private ty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mix objects initialized at elaboration time with those initialized by an explicit procedure c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ggregation of different classes of data into a single state abstraction may cause misleading coupling between items, hence add complexity and reduce clarity of contra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effective use of abstraction and refinement is therefore not the same as the maximum us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: external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55640" y="1196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ndependent inputs and outputs should not be combin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example a bad choice has been made: combining an input stream reading temperatures with an output stream controlling pres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755640" y="2924280"/>
          <a:ext cx="7920000" cy="243828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243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ad_Classe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(Stat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ternal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Async_Readers, Async_Writers)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itializes =&gt;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Write_Pressure (P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Output =&gt; Stat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ad_Temperature (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ad_Classe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: external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55640" y="1196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Using the poorly chosen state abstra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have added a Depends contract to demonstrate the unintended interaction betwe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ssu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get the following warning with or without a Depends con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a Depends contract we also 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755640" y="2492280"/>
          <a:ext cx="7920000" cy="265284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265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PARK_Mode (O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ad_Classe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Pressur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 Temperatur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Bad_Classes.State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epends =&gt; (Temperature =&gt; Bad_Classes.Stat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ad_Classes.State =&gt; Pressu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ad_Classes.Write_Pressure (Pressur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ad_Classes.Read_Temperature (Temperatur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oces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684360" y="5516640"/>
          <a:ext cx="7920000" cy="37152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arning: unused initial value of "Bad_Classes.State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755640" y="6308640"/>
          <a:ext cx="7920000" cy="37152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arning: missing dependency "Temperature =&gt; Pressure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125360"/>
            <a:ext cx="784872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design of a SPARK program can have a major impact on the size, clarity, and stability of the SPARK contracts, and hence the cost of their maintenanc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Keys factors  of good SPARK programs ar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entification and classification of st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abstraction and localization of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ood SPARK design leads to contracts which add value to the softwar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ヒラギノ角ゴ ProN W3"/>
              </a:rPr>
              <a:t>The principles of good SPARK design are as important for adapting pre-existing software as for new developme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: external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755640" y="1196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better choice of state abstra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parate state abstractions are used for the independent input and output stre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is package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re are no warn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55640" y="2565360"/>
          <a:ext cx="7920000" cy="28656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ood_Classe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(Pressur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ternal =&gt; Async_Readers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Temperatur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ternal =&gt; Async_Writers)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itializes =&gt;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Write_Pressure (P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Output =&gt; Pressur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ad_Temperature (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Temperatur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ood_Classe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andidates for a single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essential state of a package is a strong candidate for a single state abstra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f this is not the case then perhaps the package should be divid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tate introduced in a package for optimization and efficiency reas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Logically unnecessary state of  a packa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Logically unnecessary stat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Logically unnecessary state is usually read-only or write-onl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ad-only variables should be considered to be constants and as such should not appear in Global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rite-only variables normally appear as variables or state abstractions in Global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racts are often clearer if these are not combined by abstraction with essential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ternatively write only state may be moved outside the SPARK bound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example test points and logging during development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Moving write-only state outside the SPARK boundar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e want to send the value of local variable X to a test poi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feature is only required during development and 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to be removed in delivered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do not want its removal to have any affect on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684360" y="3357720"/>
          <a:ext cx="7632720" cy="307800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07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st_Point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alc (A, B : Natural; C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X : Long_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X := Long_Integer (A) + Long_Integer (B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st_Points.Copy (X); -- Call inside boundary but acts as nul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X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 .. Long_Integer (Natural'Las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:= Natural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:= Natural'La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 if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al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Moving write-only state outside the SPARK boundar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85800" y="111888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e declare a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Test_Points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package which is in SPAR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declares an external state abstrac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_Po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 the property Async_Readers; it is a volatile outpu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_Po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never be read so it requires no initia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lobal contract stating that it has no globals and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pends contract stating it has no effect on any state known to the SPARK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4149720"/>
          <a:ext cx="7632720" cy="17985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st_Point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(The_Poi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ternal =&gt; Async_Read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py (Val : Long_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</a:t>
                      </a: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epends =&gt; (</a:t>
                      </a: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=&gt; Val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st_Point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Moving write-only state outside the SPARK boundar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Test_Points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body is also in SPAR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as a Refined_State contract and declares the volatile variable Test_Point at the address of the test point por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4360" y="2924280"/>
          <a:ext cx="7632720" cy="2233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22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ystem.Storage_Element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st_Point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State =&gt;  (The_Point =&gt; Test_Poi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st_Point : Long_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olatil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sync_Reader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ddress =&gt; System.Storage_Elements.To_Address (16#FFFF_FFF0#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Moving write-only state outside the SPARK boundar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980640"/>
            <a:ext cx="7848720" cy="54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body of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Copy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s not in SPARK (SPARK_Mode =&gt; Off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a helper subprogram is implemented in SPARK which write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_Po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the refinem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_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clarat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lobal contract which is assumed since its body is not in SPARK: the write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_Po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ia the call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_Test_Po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igno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684360" y="3500280"/>
          <a:ext cx="7632720" cy="307980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07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o_Test_Point (Val : Long_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Output =&gt; Test_Poi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st_Point := Va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o_Test_Poi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py (Val : Long_Integer)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 =&gt; 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o_Test_Point (Val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p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st_Point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Moving write-only state outside the SPARK boundar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fter development and testing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mplementat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 be replaced by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without affecting the rest of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684360" y="2924280"/>
          <a:ext cx="7632720" cy="172872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72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py (Val : Long_Integer)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 =&gt; 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p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st_Point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ad-Only stat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How do you deal with a memory-mapped constant that is read-only (e.g. in ROM)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You really don</a:t>
            </a:r>
            <a:r>
              <a:rPr b="1" lang="ja-JP" sz="2400" spc="-1" strike="noStrike">
                <a:solidFill>
                  <a:srgbClr val="404040"/>
                </a:solidFill>
                <a:latin typeface="Arial"/>
              </a:rPr>
              <a:t>’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 want to declare this as a variable, since if you do, it will appear in Global contracts everywher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da allows a deferred constant to be imported and to have an address clause, so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684360" y="3933720"/>
          <a:ext cx="7848360" cy="24386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243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ystem.Storage_Element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ad_Only_Stat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rra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1 .. 100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ata_1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v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agm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mport (Assembler, Data_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ata_1'Addres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ystem.Storage_Elements.To_Address (16#FFFF_0000#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ad_Only_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Design guidelin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Use abstraction and refinement to hide </a:t>
            </a:r>
            <a:r>
              <a:rPr b="1" lang="en-GB" sz="2400" spc="-1" strike="noStrike">
                <a:solidFill>
                  <a:srgbClr val="404040"/>
                </a:solidFill>
                <a:latin typeface="Franklin Gothic Demi"/>
              </a:rPr>
              <a:t>detail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but avoid combining unlike classes of state or logically distinct data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Use private child packages where the state of a package is wholly a constituent of some higher visibility packa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void making local copies of state which is available by accessor functions from elsewhere in the syste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trictly separate state initialized by elaboration from that initialized by explicit procedure cal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Importance of architectur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4000" y="1196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choice of architecture is vitally important in determining the following properties of a program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2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l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plicity of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plicity of correctness pro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ase of testing/vali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Design guidelines (2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Make read-only variables consta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eparate write_only state (e.g. logging or test points) from essential stat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move it outside the SPARK bound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gard unexpected Global contract growth and contract obscurity as a warning that program structure and state location could be improv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ize/Clarity/Stabilit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21" name="Object 4"/>
          <p:cNvGraphicFramePr/>
          <p:nvPr/>
        </p:nvGraphicFramePr>
        <p:xfrm>
          <a:off x="611280" y="1197000"/>
          <a:ext cx="74898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74898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Importance of architectur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f particular importance are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ggregation of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ocation of state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SPARK contracts are a measure of the good use of abstraction and the degree of interaction between state compone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ood architectural choices are reflected in compact, easily comprehensible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oor choices lead to large Global contracts with many variables and complex Pre and Postcondi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PARK contracts provide an architectural quality measur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Designing for concise 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4000" y="112500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PARK provides a hierarchical package strutur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is mechanism appropriately is the key to concise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e will consider how the following features of program design affect SPARK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necessary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ization of state and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ization of state and package hierarc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ropriate use of abstraction and refin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Good SPARK design leads to contracts which are concise, maintainable and easier to prov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Unnecessary stat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4000" y="105264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Unnecessary state complicates SPARK contrac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_Daf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quires a Global contract and what is th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utput that is not in the postcond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be a global variable of every subprogram that cal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_D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Unnecessary state causes flow analysis warning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used assignment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n successive call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_D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84360" y="981000"/>
          <a:ext cx="3840120" cy="2664000"/>
        </p:xfrm>
        <a:graphic>
          <a:graphicData uri="http://schemas.openxmlformats.org/drawingml/2006/table">
            <a:tbl>
              <a:tblPr/>
              <a:tblGrid>
                <a:gridCol w="3840120"/>
              </a:tblGrid>
              <a:tr h="266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O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Y, Z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ost =&gt; Y = Z'O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Z = Y'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X : Natura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X := Z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Z := 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Y := X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O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4643280" y="981000"/>
          <a:ext cx="3840480" cy="2651040"/>
        </p:xfrm>
        <a:graphic>
          <a:graphicData uri="http://schemas.openxmlformats.org/drawingml/2006/table">
            <a:tbl>
              <a:tblPr/>
              <a:tblGrid>
                <a:gridCol w="3840480"/>
              </a:tblGrid>
              <a:tr h="265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X : Natura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Daf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Y, Z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Output =&gt; X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ost =&gt; Y = Z'O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Z = Y'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X := Z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Z := 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Y := X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Daf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Unnecessary state with state abstrac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4000" y="1052640"/>
            <a:ext cx="7848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state of a local package is like a local variabl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ember that packages can be nested inside sub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state of a library-level package behaves like a global variabl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ariables and state abstractions of such packages therefore appear in Global contra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4360" y="981000"/>
          <a:ext cx="3840120" cy="2664000"/>
        </p:xfrm>
        <a:graphic>
          <a:graphicData uri="http://schemas.openxmlformats.org/drawingml/2006/table">
            <a:tbl>
              <a:tblPr/>
              <a:tblGrid>
                <a:gridCol w="3840120"/>
              </a:tblGrid>
              <a:tr h="266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or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ut (X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Output =&gt; Stat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put =&gt; Stat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or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643280" y="981000"/>
          <a:ext cx="3840480" cy="2651040"/>
        </p:xfrm>
        <a:graphic>
          <a:graphicData uri="http://schemas.openxmlformats.org/drawingml/2006/table">
            <a:tbl>
              <a:tblPr/>
              <a:tblGrid>
                <a:gridCol w="3840480"/>
              </a:tblGrid>
              <a:tr h="265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or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Daft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Y, Z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Output =&gt; Store.State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ost =&gt; Y = Z'O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Z = Y'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ore.Put (Z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Z := 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Y := Store.Ge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_Daft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rogram hierarch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 Ada and SPARK there is a hierarchy of packages in a 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here modification of one package requires access to the state of another package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hierarchy should be chosen to facilitate such access without the need to maintain local copies of other pack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intaining local copies of another pac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 state is error prone and may lead to complex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Wallenburg Angela</cp:lastModifiedBy>
  <cp:lastPrinted>2014-03-31T13:09:07Z</cp:lastPrinted>
  <dcterms:modified xsi:type="dcterms:W3CDTF">2017-10-06T10:09:00Z</dcterms:modified>
  <cp:revision>2508</cp:revision>
  <dc:subject/>
  <dc:title>Diapositive 1</dc:title>
</cp:coreProperties>
</file>