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F3F-E628-4B22-985F-BCD539C23A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BC28-FC77-4AC8-A32E-04D0E414D9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 that we have been developing tools for converting SPARK 2005 to SPARK 20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lain that we have developed SPARK 2014 to support these use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501-AB45-4467-8EF0-1E73DAB316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stablished paradigm is detecting defects and errors ear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rror is more costly the later it is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ost expensive (or impossible) to fix in operational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F0A-DDA0-4314-90ED-D1045F768A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emoving every possible defect it is meant remove as many defects as possible – static analysis provides a means to find many more defects before 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922-D938-4147-8226-AC0A58F3A4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9E00B1A-6BEA-4545-962C-EDF99E8E560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AB2D655-C1B7-4A2C-89E8-DEF3766B6F6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AE7A13E-B257-4058-9EEB-4E5AE2B1257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38B9DCE-64ED-40A0-8EE5-0EC7F2FD8CE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4227B58-88A3-41BB-A721-5D20A044666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A994EB5-4D0E-4893-ABC5-971AA1634BC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F73D0B2-0A50-41BB-BB5B-92A90FBFE81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4587CF1-51B3-40AF-B5EA-232E5AC5AE7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4D36AA1B-C997-44EF-9E7A-359372C8A1E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654E9C8-EC82-4BB3-9CAB-A0D1BF0B9EB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531B853-2025-4BE9-9E2F-570E00A7AF0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49EACDC-1BFC-4EFC-BC61-EC3200E99F0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1" descr=""/>
          <p:cNvPicPr/>
          <p:nvPr/>
        </p:nvPicPr>
        <p:blipFill>
          <a:blip r:embed="rId1"/>
          <a:stretch/>
        </p:blipFill>
        <p:spPr>
          <a:xfrm>
            <a:off x="684360" y="755640"/>
            <a:ext cx="7867440" cy="46893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50560" y="5516280"/>
            <a:ext cx="838188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caling Up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pplicability of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e of the goals of SPARK 2014 is to cater for a wide range of different usage scenarios/use cases: some typical ones are shown he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4572000" y="2492280"/>
            <a:ext cx="1655640" cy="86544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form flow analysis for sec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"/>
          <p:cNvSpPr/>
          <p:nvPr/>
        </p:nvSpPr>
        <p:spPr>
          <a:xfrm>
            <a:off x="179280" y="3645000"/>
            <a:ext cx="1584360" cy="86364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rmine dependency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"/>
          <p:cNvSpPr/>
          <p:nvPr/>
        </p:nvSpPr>
        <p:spPr>
          <a:xfrm>
            <a:off x="7093080" y="3716280"/>
            <a:ext cx="1655640" cy="79236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existing  Ad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56000" y="4724280"/>
            <a:ext cx="1728720" cy="86544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new  code from scr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2124000" y="3716280"/>
            <a:ext cx="2016360" cy="86508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 existing Ada code with SPARK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9"/>
          <p:cNvSpPr/>
          <p:nvPr/>
        </p:nvSpPr>
        <p:spPr>
          <a:xfrm>
            <a:off x="395280" y="2565360"/>
            <a:ext cx="1728720" cy="79236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proof of safety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0"/>
          <p:cNvSpPr/>
          <p:nvPr/>
        </p:nvSpPr>
        <p:spPr>
          <a:xfrm>
            <a:off x="2411280" y="2565360"/>
            <a:ext cx="1873440" cy="93492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y with DO-178C and other regulated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1"/>
          <p:cNvSpPr/>
          <p:nvPr/>
        </p:nvSpPr>
        <p:spPr>
          <a:xfrm>
            <a:off x="4284720" y="5084640"/>
            <a:ext cx="1871640" cy="86544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 evidence from proof and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"/>
          <p:cNvSpPr/>
          <p:nvPr/>
        </p:nvSpPr>
        <p:spPr>
          <a:xfrm>
            <a:off x="5651640" y="4221000"/>
            <a:ext cx="1657080" cy="86364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-time embedded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427640" y="3573360"/>
            <a:ext cx="1584360" cy="71928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er class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4"/>
          <p:cNvSpPr/>
          <p:nvPr/>
        </p:nvSpPr>
        <p:spPr>
          <a:xfrm>
            <a:off x="6732720" y="5084640"/>
            <a:ext cx="2014560" cy="86544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x SPARK 2014 with existing 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5"/>
          <p:cNvSpPr/>
          <p:nvPr/>
        </p:nvSpPr>
        <p:spPr>
          <a:xfrm>
            <a:off x="6732720" y="2492280"/>
            <a:ext cx="2016000" cy="93672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 existing SPARK 2005 code with SPARK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6"/>
          <p:cNvSpPr/>
          <p:nvPr/>
        </p:nvSpPr>
        <p:spPr>
          <a:xfrm>
            <a:off x="324000" y="4797360"/>
            <a:ext cx="1800000" cy="1008000"/>
          </a:xfrm>
          <a:prstGeom prst="ellipse">
            <a:avLst/>
          </a:prstGeom>
          <a:solidFill>
            <a:srgbClr val="a5ca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vert SPARK 2005 to SPARK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gramming in the Larg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bstraction &amp; Refin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fa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signing for SP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Large Proje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 of SPARK reduces the likelihood of project overruns and improve the reliability of the produ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use of SPARK to meet certification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o far we have seen small examples of SPAR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o we scale up SPARK for larger program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lecture gives an overview of the issues involved and the topics that will be covered in later le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PARK in Large Proje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4000" y="1196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ow can we reduce the risk of project overruns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219400" y="1989000"/>
            <a:ext cx="47052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wo independent views …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52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404040"/>
                </a:solidFill>
                <a:latin typeface="Calibri"/>
              </a:rPr>
              <a:t>Those who want really reliable software will find that they must find means of </a:t>
            </a:r>
            <a:r>
              <a:rPr b="0" i="1" lang="en-GB" sz="2400" spc="-1" strike="noStrike">
                <a:solidFill>
                  <a:srgbClr val="8d8d8d"/>
                </a:solidFill>
                <a:latin typeface="Calibri"/>
              </a:rPr>
              <a:t>avoiding the majority of bugs to start with</a:t>
            </a:r>
            <a:r>
              <a:rPr b="0" i="1" lang="en-GB" sz="2400" spc="-1" strike="noStrike">
                <a:solidFill>
                  <a:srgbClr val="404040"/>
                </a:solidFill>
                <a:latin typeface="Calibri"/>
              </a:rPr>
              <a:t>, and as a result the programming process will become cheaper</a:t>
            </a:r>
            <a:r>
              <a:rPr b="0" i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52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52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. Dijkstra, 1972 Turing Award Lectur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5256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wo independent views …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4000" y="1196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ome people argue that the easy defects are found by inspections and the difficult ones are left for testing, but I have seen no data to support this. The PSP data show that, for every defect type and for every language measured, </a:t>
            </a:r>
            <a:r>
              <a:rPr b="0" i="1" lang="en-GB" sz="2400" spc="-1" strike="noStrike">
                <a:solidFill>
                  <a:srgbClr val="8d8d8d"/>
                </a:solidFill>
                <a:latin typeface="Calibri"/>
              </a:rPr>
              <a:t>defect-repair costs are highest in testing and during customer use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. Anyone who seeks to reduce development cost or time must focus on </a:t>
            </a:r>
            <a:r>
              <a:rPr b="0" i="1" lang="en-GB" sz="2400" spc="-1" strike="noStrike">
                <a:solidFill>
                  <a:srgbClr val="8d8d8d"/>
                </a:solidFill>
                <a:latin typeface="Calibri"/>
              </a:rPr>
              <a:t>preventing or removing every possible defect before they start testing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9996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tts Humphrey, i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SP – A Self-Improvement Process for Software Engineer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Addison Wesley, March 2005, page 14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b … the principle has not changed since 19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Finding defects earl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4000" y="112500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ow can defects be found before testing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using static analysis techniques as supported by SP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w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ing consistency of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of of absence of run-time ex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al proo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dularization of SPARK code and the rules of SPARK en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atic analysis can be performed on partial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is before the implementation is complete and can be tes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Early use of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ding SPARK contracts to specifica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es early analysis using just specifications before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s the use of SPARK as a design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EI have found a strong correlation between </a:t>
            </a: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pre-tes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defect discovery rate and reduced project overru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ssive incentive to reduce defects early regardless of assuranc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K analysis can be used early prior to testing reducing the pre-test defect discovery 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Later use of SPARK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ut, SPARK is used throughout the develop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emonstrate the absence of run-time exceptions of implem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prove that an implementation meets its 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PARK tools can be used on completed cod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PARK contracts are not specified some of them can be synthesized from the completed c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ertification of Developed Softwar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oftware written in SPARK and verified using GNATprov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compliant with the highest integrity levels of all known standards and guidance (e.g., Def-Stan00-56, IEC-65108, CENELEC 50128, Common Common Criteria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-178C guidance on verification evi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NATprove is classed as a verification tool for DO-178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qualifiable to TQL level 4 (The highest rating for a verification too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RK supports the combination of proof and test evid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cp:lastPrinted>2014-03-31T13:09:07Z</cp:lastPrinted>
  <dcterms:modified xsi:type="dcterms:W3CDTF">2017-10-05T08:25:53Z</dcterms:modified>
  <cp:revision>2478</cp:revision>
  <dc:subject/>
  <dc:title>Diapositive 1</dc:title>
</cp:coreProperties>
</file>