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7269E10-0CF2-4315-8297-90E4A7B9FC2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1898119-4D21-4924-9434-F50799DC9C6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25E15E2-C150-44A0-BF04-C6447773D66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83A5FD4-980D-4937-ABC4-2BD4EB9DE6A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F50E0AE-4B7A-477A-8D58-B87D8CE0C41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4D8C58D-252B-4F37-AAFE-DAB66C6AD39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E221D1-D9ED-4BA2-B9C7-74E34DEFF90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1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Ada 83 to Ada 9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6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we begin…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95 has been designed with the goal of limiting incompatibilit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existing features very conser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% of the source code will be unaffected by version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ost of incompatibilities ar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consist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legal Ada 83 code becomes illegal in Ada 95, causing compil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is usually 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are some that ar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inconsist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code is legal both for Ada 83 and 95, but has differ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ed unlikely in real code or unlikely to cause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7885080" y="508464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Reserved Word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x more reserved words in Ada 9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 aliased protected requeue tagged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n cause illegalit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484360" y="3429000"/>
          <a:ext cx="4537080" cy="3603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3603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: Boolean := Fal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finite Generic Formal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Ada 83, there was no indication if the generic parameter has to be defini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the contract, leading to unexpected compil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of indefinite parameters must be explicitly marked in Ada 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1280" y="3510000"/>
          <a:ext cx="4500720" cy="121428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21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Stack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(Element_Type =&gt; String);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NOK in Ada 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572000" y="3510000"/>
          <a:ext cx="4500720" cy="121428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21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</a:t>
                      </a: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Courier New"/>
                        </a:rPr>
                        <a:t>(&lt;&gt;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Stack is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St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String_Sta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Stack (Element_Type =&gt;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Pragmas, Representation Clauses, et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terfacing with 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ress representation claus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1280" y="1844640"/>
          <a:ext cx="4500720" cy="936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93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da 83,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endor specif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ystem_Call (Foo: Ba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rface (C, A_System_Call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rface_Name (A_System_Call, "system_call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lsys Ada implementation specific prag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1844640"/>
          <a:ext cx="4500720" cy="936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93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da 95, </a:t>
                      </a:r>
                      <a:r>
                        <a:rPr b="0" i="1" lang="en-US" sz="1000" spc="-1" strike="noStrike">
                          <a:solidFill>
                            <a:srgbClr val="00b050"/>
                          </a:solidFill>
                          <a:latin typeface="Courier New"/>
                        </a:rPr>
                        <a:t>vendor in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ystem_Call (Foo: Ba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mport (C, A_System_Call, "system_call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08000" y="3789360"/>
          <a:ext cx="4500360" cy="93672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93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da 83,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on-por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 a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6#FF#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umes System.Address is an 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08360" y="3789360"/>
          <a:ext cx="4500720" cy="936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93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da 95, </a:t>
                      </a:r>
                      <a:r>
                        <a:rPr b="0" i="1" lang="en-US" sz="1000" spc="-1" strike="noStrike">
                          <a:solidFill>
                            <a:srgbClr val="00b050"/>
                          </a:solidFill>
                          <a:latin typeface="Courier New"/>
                        </a:rPr>
                        <a:t>por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'Addres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ystem.Storage_Elements.To_Address (16#FF#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 Numeric_Erro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Ada 95, this is a renaming of Constraint_Erro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illeg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484360" y="2205000"/>
          <a:ext cx="4500720" cy="792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792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raint_Error =&gt; Action_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ic_Erro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&gt; Action_2;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--  NOK in Ada 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7812000" y="4005360"/>
            <a:ext cx="43200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1332000" y="3789360"/>
          <a:ext cx="6337080" cy="85392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855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raint_Error =&gt; Action_1;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umeric_Error handled here in Ada 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other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Action_2;     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umeric_Error handled here in Ada 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ze of Type Characte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128 values in Ada 83, but 256 in Ada 9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illeg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84360" y="2205000"/>
          <a:ext cx="4500720" cy="792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7923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acter'Val (0) .. Character'Val (63) =&gt;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acter'Val (64) .. Character'Val (127) =&gt; ..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nd ca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1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7812000" y="3645000"/>
            <a:ext cx="43200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2484360" y="3716280"/>
          <a:ext cx="4537080" cy="3603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3603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: Integer := Character'Pos (Character'Las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OP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by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w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types and sub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hanced Acces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sub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acces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hanced program structur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child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724280" y="11426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hanced tasking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types (data-oriented synchron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cheduling and ti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hanced generic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Greatly enlarged predefined librar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and Character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ing with other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pecialized Needs Annex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 95 Highligh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remarks …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ere to find all changes and additions?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 95 Rationa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new features, changes, provides reasoning behind the languag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endix X. Upwards compat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discusses impact on existing Ada 83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teresting report of user experience converting Ada 83 project to Ada 9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oquiers et al. (EUROCONTROL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Migrating Large Applications from Ada83 to Ada95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-Europe 2001 conference procee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2-11-18T10:11:52Z</dcterms:modified>
  <cp:revision>117</cp:revision>
  <dc:subject/>
  <dc:title>Diapositive 1</dc:title>
</cp:coreProperties>
</file>