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  <p:custShowLst>
    <p:custShow name="LLNL" id="0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93CF-B703-4D66-BC52-58A67F7C7C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392E-CB59-4C8A-9391-89FC848CF3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1A45-888A-4E1E-A426-B44321C043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28CB-C699-450F-AF2B-76F0221ADC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5F6E-E700-4672-B728-682BECC9C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6537-1EE7-401C-A8D8-06A9A604314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B4E9-7FD7-4018-96E4-B34849110B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0E36-F7C1-4599-B61D-E43E65F2CF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0462-B3A7-4904-9B66-4FE15D31CC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8C63-5EE7-456E-BA0A-33D6F96FBF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F60E-EE72-4E8B-ABFE-72F199546D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02A2-3ADF-47D7-B443-AFDCF5A39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C2D90C7-978B-4FE9-8A61-D81EB8BD0C7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C331CA1-C0B5-49DF-B819-C7B27650821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5A67083-903D-44B9-A8C2-CA20B7FC6CC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A52202D-E5B6-4633-B68C-3BB085B589D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1C22EE4-1CAD-4CDB-8327-F36EFFEFC2E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9448CDC-ED38-42F2-945D-86396435733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A13B8F4-AEE9-4159-8886-735CBD03183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35AF28E-EFD4-487E-9891-3ADE8525539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ftr" idx="1"/>
          </p:nvPr>
        </p:nvSpPr>
        <p:spPr>
          <a:xfrm>
            <a:off x="761760" y="65545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"/>
          </p:nvPr>
        </p:nvSpPr>
        <p:spPr>
          <a:xfrm>
            <a:off x="6553080" y="65545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 </a:t>
            </a:r>
            <a:fld id="{FEE7B7DE-B23A-4B09-9872-CD4C6D3A4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s – Use Cas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8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ane 5 Accid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iane 5 mission 501 ended in failu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den flight 4 June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sec after lift-off laun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ered off flight path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Control information shown this was due to unexpected shut-down of both copies of Inertial Reference System (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IRS unit first shut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RS unit shut down immediately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RS =&gt; no altitu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S units could be retrieved from the debris and analy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ane 5 Accide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iane 5 mission 501 ended in failur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den flight 4 June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sec after lift-off laun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ered off flight path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Control information shown this was due to unexpected shut-down of both copies of Inertial Reference System (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IRS unit first shut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RS unit shut down immediately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RS =&gt; no altitu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S units could be retrieved from the debris and analy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Ariane-5-Flight-501.jpg"/>
          <p:cNvPicPr/>
          <p:nvPr/>
        </p:nvPicPr>
        <p:blipFill>
          <a:blip r:embed="rId1"/>
          <a:stretch/>
        </p:blipFill>
        <p:spPr>
          <a:xfrm>
            <a:off x="4724280" y="1752480"/>
            <a:ext cx="3841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ssion finding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RS code was written in Ad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d from Aria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launch properties from Arian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ch larger initial velo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 out of bounds caused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wasn’t protected against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berate - was assumed (back in Ariane 4 times) that the range is so large the bounds could never be exc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guidelines required that unhandled exception results in unit shu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assumed (back in Ariane 4 times) that exceptions can only occur because of hardwar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unit is available so can “safely” shutdown the faulty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ut what if it’s a systemic software error and not a random faul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7617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Accident often used by Ada disparager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Lesson learned (rather, reinforced)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ission-critical system silly exception is worse than no exception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roblem not in the language but in faulty design technique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crupulous code re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able 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reasonabl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724280" y="114264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math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9" name="Picture 4" descr="pe01481_"/>
          <p:cNvPicPr/>
          <p:nvPr/>
        </p:nvPicPr>
        <p:blipFill>
          <a:blip r:embed="rId1"/>
          <a:stretch/>
        </p:blipFill>
        <p:spPr>
          <a:xfrm>
            <a:off x="4886280" y="1676520"/>
            <a:ext cx="3724200" cy="346860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7"/>
          <p:cNvGrpSpPr/>
          <p:nvPr/>
        </p:nvGrpSpPr>
        <p:grpSpPr>
          <a:xfrm>
            <a:off x="4571640" y="5144760"/>
            <a:ext cx="3505320" cy="609480"/>
            <a:chOff x="4571640" y="5144760"/>
            <a:chExt cx="3505320" cy="609480"/>
          </a:xfrm>
        </p:grpSpPr>
        <p:sp>
          <p:nvSpPr>
            <p:cNvPr id="351" name="AutoShape 6"/>
            <p:cNvSpPr/>
            <p:nvPr/>
          </p:nvSpPr>
          <p:spPr>
            <a:xfrm rot="10800000">
              <a:off x="4571640" y="5144760"/>
              <a:ext cx="3505320" cy="609480"/>
            </a:xfrm>
            <a:prstGeom prst="wedgeEllipseCallout">
              <a:avLst>
                <a:gd name="adj1" fmla="val -35236"/>
                <a:gd name="adj2" fmla="val 112759"/>
              </a:avLst>
            </a:prstGeom>
            <a:solidFill>
              <a:srgbClr val="ff9f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7"/>
            <p:cNvSpPr/>
            <p:nvPr/>
          </p:nvSpPr>
          <p:spPr>
            <a:xfrm>
              <a:off x="4572000" y="5261040"/>
              <a:ext cx="34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dale Mono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ndale Mono"/>
                </a:rPr>
                <a:t>raised NUMERIC_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23:15:24Z</dcterms:created>
  <dc:creator>Pat, Kathy and Joe Rogers</dc:creator>
  <dc:description/>
  <cp:keywords/>
  <dc:language>en-US</dc:language>
  <cp:lastModifiedBy>Vasiliy Fofanov</cp:lastModifiedBy>
  <cp:lastPrinted>1996-03-05T13:38:12Z</cp:lastPrinted>
  <dcterms:modified xsi:type="dcterms:W3CDTF">2012-11-15T16:24:05Z</dcterms:modified>
  <cp:revision>109</cp:revision>
  <dc:subject/>
  <dc:title>limited types for Ada95</dc:title>
</cp:coreProperties>
</file>