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3744A17D-3834-488E-8A6A-FA4415E64A24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80AC253B-EB44-4A64-9A2C-CA31D825EFA1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80b"/>
            </a:gs>
            <a:gs pos="100000">
              <a:srgbClr val="0d253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F03AC418-A156-40CA-85F1-541740FAA090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traight Connector 7"/>
          <p:cNvSpPr/>
          <p:nvPr/>
        </p:nvSpPr>
        <p:spPr>
          <a:xfrm>
            <a:off x="698400" y="3535200"/>
            <a:ext cx="7759800" cy="0"/>
          </a:xfrm>
          <a:prstGeom prst="line">
            <a:avLst/>
          </a:prstGeom>
          <a:ln w="9360">
            <a:solidFill>
              <a:srgbClr val="1759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0" y="0"/>
            <a:ext cx="9144000" cy="22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logo_textured_large.psd"/>
          <p:cNvPicPr/>
          <p:nvPr/>
        </p:nvPicPr>
        <p:blipFill>
          <a:blip r:embed="rId2"/>
          <a:stretch/>
        </p:blipFill>
        <p:spPr>
          <a:xfrm>
            <a:off x="457200" y="1185840"/>
            <a:ext cx="1905120" cy="5335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80b"/>
            </a:gs>
            <a:gs pos="100000">
              <a:srgbClr val="0d253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81927A72-8E17-4795-85CC-03C43CFABA3A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26D9A890-81D9-4608-9C2F-8F6F59A6BDC7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-7920" y="0"/>
            <a:ext cx="9151920" cy="685800"/>
          </a:xfrm>
          <a:prstGeom prst="rect">
            <a:avLst/>
          </a:prstGeom>
          <a:gradFill rotWithShape="0">
            <a:gsLst>
              <a:gs pos="0">
                <a:srgbClr val="040b11"/>
              </a:gs>
              <a:gs pos="100000">
                <a:srgbClr val="0d253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E33379A4-BA0E-47BD-9418-CBE825CFC15A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-7920" y="0"/>
            <a:ext cx="9151920" cy="685800"/>
          </a:xfrm>
          <a:prstGeom prst="rect">
            <a:avLst/>
          </a:prstGeom>
          <a:gradFill rotWithShape="0">
            <a:gsLst>
              <a:gs pos="0">
                <a:srgbClr val="040b11"/>
              </a:gs>
              <a:gs pos="100000">
                <a:srgbClr val="0d253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80b"/>
            </a:gs>
            <a:gs pos="100000">
              <a:srgbClr val="0d253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722AA2A2-109B-48D6-A403-2CB148247A53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8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818D4F5E-908E-4F7A-BF65-C13906D59ACF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3333600" y="3657240"/>
            <a:ext cx="253368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333600" y="3904920"/>
            <a:ext cx="253368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09120" y="3657240"/>
            <a:ext cx="259092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9120" y="5715000"/>
            <a:ext cx="4103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91b9da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609120" y="3904920"/>
            <a:ext cx="259092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5943240" y="3657240"/>
            <a:ext cx="259092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943240" y="3904920"/>
            <a:ext cx="259092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8"/>
          <p:cNvSpPr>
            <a:spLocks noGrp="1"/>
          </p:cNvSpPr>
          <p:nvPr>
            <p:ph/>
          </p:nvPr>
        </p:nvSpPr>
        <p:spPr>
          <a:xfrm>
            <a:off x="685800" y="2514600"/>
            <a:ext cx="7696080" cy="98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w Level Programming 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36" name="PlaceHolder 9"/>
          <p:cNvSpPr>
            <a:spLocks noGrp="1"/>
          </p:cNvSpPr>
          <p:nvPr>
            <p:ph/>
          </p:nvPr>
        </p:nvSpPr>
        <p:spPr>
          <a:xfrm>
            <a:off x="5684760" y="1371240"/>
            <a:ext cx="284976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7598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rd representation clause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The developer can specify the exact mapping between a record and its binary representation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This mapping can be used for optimization purposes, or to match hardware requirements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iver mapped on the address space, communication protocol, binary file representation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8" name=""/>
          <p:cNvGraphicFramePr/>
          <p:nvPr/>
        </p:nvGraphicFramePr>
        <p:xfrm>
          <a:off x="3419640" y="3500280"/>
          <a:ext cx="3889080" cy="2941920"/>
        </p:xfrm>
        <a:graphic>
          <a:graphicData uri="http://schemas.openxmlformats.org/drawingml/2006/table">
            <a:tbl>
              <a:tblPr/>
              <a:tblGrid>
                <a:gridCol w="3889080"/>
              </a:tblGrid>
              <a:tr h="2941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Enum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(E1, E2, E3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Rec1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cor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 : Integer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an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0 .. 4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B : Boolean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 : Integer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D : Enum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cor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for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Rec1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us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cor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0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an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0 .. 2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B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0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an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3 .. 3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0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an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5 .. 37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D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5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an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0 .. 2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cor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59" name="Straight Connector 6"/>
          <p:cNvSpPr/>
          <p:nvPr/>
        </p:nvSpPr>
        <p:spPr>
          <a:xfrm flipH="1">
            <a:off x="2555640" y="5587920"/>
            <a:ext cx="2447640" cy="144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traight Connector 8"/>
          <p:cNvSpPr/>
          <p:nvPr/>
        </p:nvSpPr>
        <p:spPr>
          <a:xfrm flipH="1" flipV="1">
            <a:off x="2555640" y="5229000"/>
            <a:ext cx="1655640" cy="142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Box 12"/>
          <p:cNvSpPr/>
          <p:nvPr/>
        </p:nvSpPr>
        <p:spPr>
          <a:xfrm>
            <a:off x="1192680" y="5075280"/>
            <a:ext cx="126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Byte num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13"/>
          <p:cNvSpPr/>
          <p:nvPr/>
        </p:nvSpPr>
        <p:spPr>
          <a:xfrm>
            <a:off x="1410480" y="5568840"/>
            <a:ext cx="105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Bits r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ray representation clause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The size of an array component can be specified with the Component_Size aspect (or attribute)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565" name=""/>
          <p:cNvGraphicFramePr/>
          <p:nvPr/>
        </p:nvGraphicFramePr>
        <p:xfrm>
          <a:off x="2484360" y="2637000"/>
          <a:ext cx="3888000" cy="431640"/>
        </p:xfrm>
        <a:graphic>
          <a:graphicData uri="http://schemas.openxmlformats.org/drawingml/2006/table">
            <a:tbl>
              <a:tblPr/>
              <a:tblGrid>
                <a:gridCol w="3888000"/>
              </a:tblGrid>
              <a:tr h="43164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Ar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rray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(1 .. 1000)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of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Boole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ith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Component_Size =&gt; 2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dianness specification (GNAT Specific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GNAT allows to define the endianness through the Sclalar_Storage_Order aspect, on composite types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Need to be associated with a consistent Bit_Order (convention for the bit range numbering)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The compiler will perform bitwise transformations if needed when sending data to the processor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2124000" y="3365640"/>
          <a:ext cx="4751640" cy="1935000"/>
        </p:xfrm>
        <a:graphic>
          <a:graphicData uri="http://schemas.openxmlformats.org/drawingml/2006/table">
            <a:tbl>
              <a:tblPr/>
              <a:tblGrid>
                <a:gridCol w="4751640"/>
              </a:tblGrid>
              <a:tr h="1935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ype</a:t>
                      </a: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Rec </a:t>
                      </a:r>
                      <a:r>
                        <a:rPr b="1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cor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 : Integer </a:t>
                      </a:r>
                      <a:r>
                        <a:rPr b="1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ange</a:t>
                      </a: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0 .. 4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B : Boolean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 : Integer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D : Enum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nd</a:t>
                      </a: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cor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ith</a:t>
                      </a: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Bit_Order            =&gt; High_Order_First,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</a:t>
                      </a: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calar_Storage_Order =&gt; High_Order_First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ype</a:t>
                      </a: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Ar </a:t>
                      </a:r>
                      <a:r>
                        <a:rPr b="1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rray</a:t>
                      </a: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(1 .. 1000) </a:t>
                      </a:r>
                      <a:r>
                        <a:rPr b="1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of</a:t>
                      </a: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Boole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ith</a:t>
                      </a: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Scalar_Storage_Order =&gt; Low_Order_First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nge of Representation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Explicit conversion can be used to change representation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Very useful to unpack data from file/hardware to speed up references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571" name=""/>
          <p:cNvGraphicFramePr/>
          <p:nvPr/>
        </p:nvGraphicFramePr>
        <p:xfrm>
          <a:off x="1908000" y="1341360"/>
          <a:ext cx="4751640" cy="2438640"/>
        </p:xfrm>
        <a:graphic>
          <a:graphicData uri="http://schemas.openxmlformats.org/drawingml/2006/table">
            <a:tbl>
              <a:tblPr/>
              <a:tblGrid>
                <a:gridCol w="4751640"/>
              </a:tblGrid>
              <a:tr h="243864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Rec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cor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…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cord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yp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cked_Rec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 new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c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for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cked_Rec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us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…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nd record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 : Rec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 : Packed_Rec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 := Rec (P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 := Packed_Rec (R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/>
          </p:nvPr>
        </p:nvSpPr>
        <p:spPr>
          <a:xfrm>
            <a:off x="380880" y="2666520"/>
            <a:ext cx="8382240" cy="96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Address clauses</a:t>
            </a:r>
            <a:endParaRPr b="1" lang="en-US" sz="48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ress clause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Ada allows to specify the address of an entity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Very useful to declare I/O registers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at purpose, the object should be declared volati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Useful to read a value anywhere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particular the address doesn’t need to be con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must match alig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2050920" y="1700280"/>
          <a:ext cx="4897440" cy="504720"/>
        </p:xfrm>
        <a:graphic>
          <a:graphicData uri="http://schemas.openxmlformats.org/drawingml/2006/table">
            <a:tbl>
              <a:tblPr/>
              <a:tblGrid>
                <a:gridCol w="4897440"/>
              </a:tblGrid>
              <a:tr h="504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r : Unsigned_32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for </a:t>
                      </a: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r’Address </a:t>
                      </a: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use </a:t>
                      </a: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… 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76" name=""/>
          <p:cNvGraphicFramePr/>
          <p:nvPr/>
        </p:nvGraphicFramePr>
        <p:xfrm>
          <a:off x="1979640" y="3141720"/>
          <a:ext cx="4897440" cy="358560"/>
        </p:xfrm>
        <a:graphic>
          <a:graphicData uri="http://schemas.openxmlformats.org/drawingml/2006/table">
            <a:tbl>
              <a:tblPr/>
              <a:tblGrid>
                <a:gridCol w="4897440"/>
              </a:tblGrid>
              <a:tr h="35856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agma </a:t>
                      </a: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olatile (Var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77" name=""/>
          <p:cNvGraphicFramePr/>
          <p:nvPr/>
        </p:nvGraphicFramePr>
        <p:xfrm>
          <a:off x="1979640" y="4076640"/>
          <a:ext cx="4897440" cy="1265400"/>
        </p:xfrm>
        <a:graphic>
          <a:graphicData uri="http://schemas.openxmlformats.org/drawingml/2006/table">
            <a:tbl>
              <a:tblPr/>
              <a:tblGrid>
                <a:gridCol w="4897440"/>
              </a:tblGrid>
              <a:tr h="1265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function </a:t>
                      </a: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Get_Byte (Addr : Address) </a:t>
                      </a: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turn </a:t>
                      </a: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Unsigned_8 </a:t>
                      </a: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</a:t>
                      </a: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 : Unsigned_8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</a:t>
                      </a: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for </a:t>
                      </a: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’Address </a:t>
                      </a: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use </a:t>
                      </a: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ddr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</a:t>
                      </a: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agma </a:t>
                      </a: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mport (Ada, V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beg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</a:t>
                      </a: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turn </a:t>
                      </a: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nd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ress value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The type Address is declared in System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this is a private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not use a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Ada standard way to set constant addresses: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ystem.Storage_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allows arithmetic on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GNAT specific attribute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y but not porta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580" name=""/>
          <p:cNvGraphicFramePr/>
          <p:nvPr/>
        </p:nvGraphicFramePr>
        <p:xfrm>
          <a:off x="1979640" y="4437000"/>
          <a:ext cx="5688000" cy="432000"/>
        </p:xfrm>
        <a:graphic>
          <a:graphicData uri="http://schemas.openxmlformats.org/drawingml/2006/table">
            <a:tbl>
              <a:tblPr/>
              <a:tblGrid>
                <a:gridCol w="5688000"/>
              </a:tblGrid>
              <a:tr h="43200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for </a:t>
                      </a: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'Address </a:t>
                      </a:r>
                      <a:r>
                        <a:rPr b="1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use </a:t>
                      </a: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ystem.Storage_Elements.To_Address (16#120#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1" name=""/>
          <p:cNvGraphicFramePr/>
          <p:nvPr/>
        </p:nvGraphicFramePr>
        <p:xfrm>
          <a:off x="2124000" y="6165720"/>
          <a:ext cx="5688000" cy="432000"/>
        </p:xfrm>
        <a:graphic>
          <a:graphicData uri="http://schemas.openxmlformats.org/drawingml/2006/table">
            <a:tbl>
              <a:tblPr/>
              <a:tblGrid>
                <a:gridCol w="5688000"/>
              </a:tblGrid>
              <a:tr h="43200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for </a:t>
                      </a: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'Address </a:t>
                      </a:r>
                      <a:r>
                        <a:rPr b="1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use </a:t>
                      </a: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ystem'To_Address (16#120#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/>
          </p:nvPr>
        </p:nvSpPr>
        <p:spPr>
          <a:xfrm>
            <a:off x="380880" y="2666880"/>
            <a:ext cx="8382240" cy="96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Overlays and Conversions</a:t>
            </a:r>
            <a:endParaRPr b="1" lang="en-US" sz="48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res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Ada distinguishes the notions of 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reference to an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abstract notion of address (System.Addre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teger representation of an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Safety is preserved by letting the developer manipulate the right level of abstraction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Conversion between pointers, integers and addresses are possible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The address of an object can be specified through the Address aspect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a Address Example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586" name=""/>
          <p:cNvGraphicFramePr/>
          <p:nvPr/>
        </p:nvGraphicFramePr>
        <p:xfrm>
          <a:off x="3565440" y="1844640"/>
          <a:ext cx="4751640" cy="3611520"/>
        </p:xfrm>
        <a:graphic>
          <a:graphicData uri="http://schemas.openxmlformats.org/drawingml/2006/table">
            <a:tbl>
              <a:tblPr/>
              <a:tblGrid>
                <a:gridCol w="4751640"/>
              </a:tblGrid>
              <a:tr h="361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ype</a:t>
                      </a: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Bitfield </a:t>
                      </a:r>
                      <a:r>
                        <a:rPr b="1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rray</a:t>
                      </a: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(Integer </a:t>
                      </a:r>
                      <a:r>
                        <a:rPr b="1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ange</a:t>
                      </a: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&lt;&gt;) </a:t>
                      </a:r>
                      <a:r>
                        <a:rPr b="1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of</a:t>
                      </a: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Boole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ith</a:t>
                      </a: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Component_Size =&gt; 1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  : </a:t>
                      </a:r>
                      <a:r>
                        <a:rPr b="1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liased</a:t>
                      </a: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Integ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ith</a:t>
                      </a: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Volatile;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2 : </a:t>
                      </a:r>
                      <a:r>
                        <a:rPr b="1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liased</a:t>
                      </a: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Integ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ith</a:t>
                      </a: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Volatile;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_A : System.Address := V'Address;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_I : Integer_Address := To_Integer (V_A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3 : </a:t>
                      </a:r>
                      <a:r>
                        <a:rPr b="1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liased</a:t>
                      </a: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Bitfield (1 .. V'Siz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</a:t>
                      </a:r>
                      <a:r>
                        <a:rPr b="1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ith</a:t>
                      </a: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Address =&gt; V_A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--  This maps directly on to the bits of 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4 : </a:t>
                      </a:r>
                      <a:r>
                        <a:rPr b="1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liased</a:t>
                      </a: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Integ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</a:t>
                      </a:r>
                      <a:r>
                        <a:rPr b="1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ith</a:t>
                      </a: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Address =&gt; To_Address (V_I - 4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--  Trust me, I know what I'm doing, this is V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87" name="Straight Connector 8"/>
          <p:cNvSpPr/>
          <p:nvPr/>
        </p:nvSpPr>
        <p:spPr>
          <a:xfrm flipH="1" flipV="1">
            <a:off x="2700000" y="2339640"/>
            <a:ext cx="1655640" cy="142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12"/>
          <p:cNvSpPr/>
          <p:nvPr/>
        </p:nvSpPr>
        <p:spPr>
          <a:xfrm>
            <a:off x="600840" y="2185920"/>
            <a:ext cx="2004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This object can be </a:t>
            </a:r>
            <a:br>
              <a:rPr sz="1400"/>
            </a:b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referenced else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Straight Connector 8"/>
          <p:cNvSpPr/>
          <p:nvPr/>
        </p:nvSpPr>
        <p:spPr>
          <a:xfrm flipH="1">
            <a:off x="2771640" y="2916360"/>
            <a:ext cx="165600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Box 12"/>
          <p:cNvSpPr/>
          <p:nvPr/>
        </p:nvSpPr>
        <p:spPr>
          <a:xfrm>
            <a:off x="983160" y="3049560"/>
            <a:ext cx="169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Values may be </a:t>
            </a:r>
            <a:br>
              <a:rPr sz="1400"/>
            </a:b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updated any tim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Straight Connector 8"/>
          <p:cNvSpPr/>
          <p:nvPr/>
        </p:nvSpPr>
        <p:spPr>
          <a:xfrm flipH="1">
            <a:off x="2771280" y="4508640"/>
            <a:ext cx="1008360" cy="21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12"/>
          <p:cNvSpPr/>
          <p:nvPr/>
        </p:nvSpPr>
        <p:spPr>
          <a:xfrm>
            <a:off x="575280" y="4643280"/>
            <a:ext cx="21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Called “Overlay” in 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380880" y="2666880"/>
            <a:ext cx="8382240" cy="96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Data Representation</a:t>
            </a:r>
            <a:endParaRPr b="1" lang="en-US" sz="48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iasing Detection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Aliasing happens when one object has two names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pointers pointing to the same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references referencing the same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variables at the same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Var1’Has_Same_Storage (Var2) checks if two objects occupy exactly the same space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Var’Overlaps_Storage (Var2) checks if two object are partially or fully overlapping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checked Conversion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Unchecked_Conversion allows to make a bitwise copy between two data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Needs to be explicitly instantiated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Avoid conversion if the sizes don’t match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defined by the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7" name=""/>
          <p:cNvGraphicFramePr/>
          <p:nvPr/>
        </p:nvGraphicFramePr>
        <p:xfrm>
          <a:off x="2340000" y="3284640"/>
          <a:ext cx="4897440" cy="1655640"/>
        </p:xfrm>
        <a:graphic>
          <a:graphicData uri="http://schemas.openxmlformats.org/drawingml/2006/table">
            <a:tbl>
              <a:tblPr/>
              <a:tblGrid>
                <a:gridCol w="4897440"/>
              </a:tblGrid>
              <a:tr h="165564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ype</a:t>
                      </a: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Bitfield </a:t>
                      </a:r>
                      <a:r>
                        <a:rPr b="1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rray</a:t>
                      </a: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(1 .. Integer'Size) </a:t>
                      </a:r>
                      <a:r>
                        <a:rPr b="1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of</a:t>
                      </a: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Boole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ith Component_Size =&gt; 1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function</a:t>
                      </a: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o_Bitfield </a:t>
                      </a:r>
                      <a:r>
                        <a:rPr b="1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ew</a:t>
                      </a: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br>
                        <a:rPr sz="1100"/>
                      </a:b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Ada.Unchecked_Conversion (Integer, Bitfield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 : Integer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2 : Bitfield := To_Bitfield (V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/>
          </p:nvPr>
        </p:nvSpPr>
        <p:spPr>
          <a:xfrm>
            <a:off x="380880" y="2666880"/>
            <a:ext cx="8382240" cy="96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Inline Assembly</a:t>
            </a:r>
            <a:endParaRPr b="1" lang="en-US" sz="4800" spc="-1" strike="noStrike">
              <a:solidFill>
                <a:srgbClr val="404040"/>
              </a:solidFill>
              <a:latin typeface="Arial"/>
            </a:endParaRPr>
          </a:p>
        </p:txBody>
      </p:sp>
      <p:pic>
        <p:nvPicPr>
          <p:cNvPr id="599" name="Picture 14" descr="C:\Users\ochem\Desktop\fetchUID.INBOX.ochem57348"/>
          <p:cNvPicPr/>
          <p:nvPr/>
        </p:nvPicPr>
        <p:blipFill>
          <a:blip r:embed="rId1"/>
          <a:stretch/>
        </p:blipFill>
        <p:spPr>
          <a:xfrm>
            <a:off x="3863880" y="4365720"/>
            <a:ext cx="142884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lling assembly code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Calling assembly code is a vendor-specific extension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GNAT allows to pass assembly scripts directly to the linker through System.Machine_Code.ASM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The developer is responsible for mapping variables on temporaries or registers</a:t>
            </a:r>
            <a:br>
              <a:rPr sz="2200"/>
            </a:b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See documentation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GNAT RM 13.1 Machine Code Inser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GCC UG 6.39 Assembler Instructions with C Expression Operand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Content Placeholder 2"/>
          <p:cNvSpPr/>
          <p:nvPr/>
        </p:nvSpPr>
        <p:spPr>
          <a:xfrm>
            <a:off x="685800" y="1052640"/>
            <a:ext cx="784872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Instruction without inputs/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Specify Volatile to avoid compiler optim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GNAT is picky on that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You can group several instru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The compiler doesn’t check the assembly, only the assembler w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Error message might be difficul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mple statement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604" name=""/>
          <p:cNvGraphicFramePr/>
          <p:nvPr/>
        </p:nvGraphicFramePr>
        <p:xfrm>
          <a:off x="1332000" y="1628640"/>
          <a:ext cx="6121440" cy="360360"/>
        </p:xfrm>
        <a:graphic>
          <a:graphicData uri="http://schemas.openxmlformats.org/drawingml/2006/table">
            <a:tbl>
              <a:tblPr/>
              <a:tblGrid>
                <a:gridCol w="6121440"/>
              </a:tblGrid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sm (“halt”, Volatile =&gt; True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5" name=""/>
          <p:cNvGraphicFramePr/>
          <p:nvPr/>
        </p:nvGraphicFramePr>
        <p:xfrm>
          <a:off x="1332000" y="3429000"/>
          <a:ext cx="6121440" cy="579600"/>
        </p:xfrm>
        <a:graphic>
          <a:graphicData uri="http://schemas.openxmlformats.org/drawingml/2006/table">
            <a:tbl>
              <a:tblPr/>
              <a:tblGrid>
                <a:gridCol w="6121440"/>
              </a:tblGrid>
              <a:tr h="57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sm (”nop" &amp; ASCII.LF &amp; ASCII.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amp; ”nop", Volatile =&gt; True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6" name=""/>
          <p:cNvGraphicFramePr/>
          <p:nvPr/>
        </p:nvGraphicFramePr>
        <p:xfrm>
          <a:off x="1332000" y="4149720"/>
          <a:ext cx="6121440" cy="358920"/>
        </p:xfrm>
        <a:graphic>
          <a:graphicData uri="http://schemas.openxmlformats.org/drawingml/2006/table">
            <a:tbl>
              <a:tblPr/>
              <a:tblGrid>
                <a:gridCol w="6121440"/>
              </a:tblGrid>
              <a:tr h="35892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sm (”nop; nop”, Volatile =&gt; True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Content Placeholder 2"/>
          <p:cNvSpPr/>
          <p:nvPr/>
        </p:nvSpPr>
        <p:spPr>
          <a:xfrm>
            <a:off x="685800" y="1052640"/>
            <a:ext cx="784872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It is often useful to have inputs or output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Asm_Input and Asm_Output attributes on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erand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609" name=""/>
          <p:cNvGraphicFramePr/>
          <p:nvPr/>
        </p:nvGraphicFramePr>
        <p:xfrm>
          <a:off x="1332000" y="3573360"/>
          <a:ext cx="7127640" cy="1067040"/>
        </p:xfrm>
        <a:graphic>
          <a:graphicData uri="http://schemas.openxmlformats.org/drawingml/2006/table">
            <a:tbl>
              <a:tblPr/>
              <a:tblGrid>
                <a:gridCol w="7127640"/>
              </a:tblGrid>
              <a:tr h="1067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sm ("outb %0,%%dx"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nputs =&gt; (Unsigned_8'Asm_Input ("a", B)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ort_Id'Asm_Input ("d", P))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olatile =&gt; True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610" name="Rounded Rectangular Callout 2"/>
          <p:cNvSpPr/>
          <p:nvPr/>
        </p:nvSpPr>
        <p:spPr>
          <a:xfrm>
            <a:off x="971640" y="2924280"/>
            <a:ext cx="1224000" cy="433440"/>
          </a:xfrm>
          <a:prstGeom prst="wedgeRoundRectCallout">
            <a:avLst>
              <a:gd name="adj1" fmla="val 67800"/>
              <a:gd name="adj2" fmla="val 12242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ounded Rectangular Callout 7"/>
          <p:cNvSpPr/>
          <p:nvPr/>
        </p:nvSpPr>
        <p:spPr>
          <a:xfrm>
            <a:off x="1332000" y="2133720"/>
            <a:ext cx="2232000" cy="647640"/>
          </a:xfrm>
          <a:prstGeom prst="wedgeRoundRectCallout">
            <a:avLst>
              <a:gd name="adj1" fmla="val 26472"/>
              <a:gd name="adj2" fmla="val 184254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oper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Numbered from 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ounded Rectangular Callout 8"/>
          <p:cNvSpPr/>
          <p:nvPr/>
        </p:nvSpPr>
        <p:spPr>
          <a:xfrm>
            <a:off x="3276720" y="2924280"/>
            <a:ext cx="1655640" cy="433440"/>
          </a:xfrm>
          <a:prstGeom prst="wedgeRoundRectCallout">
            <a:avLst>
              <a:gd name="adj1" fmla="val -32699"/>
              <a:gd name="adj2" fmla="val 11386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%% for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ounded Rectangular Callout 9"/>
          <p:cNvSpPr/>
          <p:nvPr/>
        </p:nvSpPr>
        <p:spPr>
          <a:xfrm>
            <a:off x="4643280" y="2133720"/>
            <a:ext cx="3600720" cy="431640"/>
          </a:xfrm>
          <a:prstGeom prst="wedgeRoundRectCallout">
            <a:avLst>
              <a:gd name="adj1" fmla="val -39550"/>
              <a:gd name="adj2" fmla="val 35642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put operand for type Unsigned_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ounded Rectangular Callout 10"/>
          <p:cNvSpPr/>
          <p:nvPr/>
        </p:nvSpPr>
        <p:spPr>
          <a:xfrm>
            <a:off x="6156360" y="2637000"/>
            <a:ext cx="2303280" cy="431640"/>
          </a:xfrm>
          <a:prstGeom prst="wedgeRoundRectCallout">
            <a:avLst>
              <a:gd name="adj1" fmla="val -43939"/>
              <a:gd name="adj2" fmla="val 245134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traint, ‘a’ for e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ounded Rectangular Callout 11"/>
          <p:cNvSpPr/>
          <p:nvPr/>
        </p:nvSpPr>
        <p:spPr>
          <a:xfrm>
            <a:off x="7093080" y="3141720"/>
            <a:ext cx="792000" cy="431640"/>
          </a:xfrm>
          <a:prstGeom prst="wedgeRoundRectCallout">
            <a:avLst>
              <a:gd name="adj1" fmla="val -76287"/>
              <a:gd name="adj2" fmla="val 13098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ounded Rectangular Callout 12"/>
          <p:cNvSpPr/>
          <p:nvPr/>
        </p:nvSpPr>
        <p:spPr>
          <a:xfrm>
            <a:off x="5435640" y="5516640"/>
            <a:ext cx="2305080" cy="433440"/>
          </a:xfrm>
          <a:prstGeom prst="wedgeRoundRectCallout">
            <a:avLst>
              <a:gd name="adj1" fmla="val -25745"/>
              <a:gd name="adj2" fmla="val -319884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traint, ‘d’ for ed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ounded Rectangular Callout 13"/>
          <p:cNvSpPr/>
          <p:nvPr/>
        </p:nvSpPr>
        <p:spPr>
          <a:xfrm>
            <a:off x="6804000" y="4869000"/>
            <a:ext cx="863640" cy="431640"/>
          </a:xfrm>
          <a:prstGeom prst="wedgeRoundRectCallout">
            <a:avLst>
              <a:gd name="adj1" fmla="val -89259"/>
              <a:gd name="adj2" fmla="val -16864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Content Placeholder 2"/>
          <p:cNvSpPr/>
          <p:nvPr/>
        </p:nvSpPr>
        <p:spPr>
          <a:xfrm>
            <a:off x="685800" y="1052640"/>
            <a:ext cx="784872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&lt;assembly script&gt; containing assembly instructions + references to registers and tempo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&lt;constraint&gt; specifies how the variable can be mapped on memory (see documentation for more full detai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pping inputs / outputs on temporarie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620" name=""/>
          <p:cNvGraphicFramePr/>
          <p:nvPr/>
        </p:nvGraphicFramePr>
        <p:xfrm>
          <a:off x="1403280" y="711360"/>
          <a:ext cx="6121440" cy="846000"/>
        </p:xfrm>
        <a:graphic>
          <a:graphicData uri="http://schemas.openxmlformats.org/drawingml/2006/table">
            <a:tbl>
              <a:tblPr/>
              <a:tblGrid>
                <a:gridCol w="6121440"/>
              </a:tblGrid>
              <a:tr h="846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s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(&lt;assembly script referencing $&lt;input&gt; &gt;,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nputs =&gt;  ({&lt;type&gt;'Asm_Input (&lt;constraint&gt;, &lt;variable&gt;)}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Outputs =&gt; ({&lt;type&gt;'Asm_Output (&lt;constraint&gt;, &lt;variable&gt;)}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1" name=""/>
          <p:cNvGraphicFramePr/>
          <p:nvPr/>
        </p:nvGraphicFramePr>
        <p:xfrm>
          <a:off x="4284720" y="2708280"/>
          <a:ext cx="1800000" cy="270000"/>
        </p:xfrm>
        <a:graphic>
          <a:graphicData uri="http://schemas.openxmlformats.org/drawingml/2006/table">
            <a:tbl>
              <a:tblPr/>
              <a:tblGrid>
                <a:gridCol w="1800000"/>
              </a:tblGrid>
              <a:tr h="270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movl %%edx, %0"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622" name="Straight Connector 8"/>
          <p:cNvSpPr/>
          <p:nvPr/>
        </p:nvSpPr>
        <p:spPr>
          <a:xfrm flipV="1">
            <a:off x="3995640" y="3068280"/>
            <a:ext cx="1224000" cy="73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Straight Connector 8"/>
          <p:cNvSpPr/>
          <p:nvPr/>
        </p:nvSpPr>
        <p:spPr>
          <a:xfrm flipH="1">
            <a:off x="5580000" y="2503440"/>
            <a:ext cx="1152720" cy="204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Box 12"/>
          <p:cNvSpPr/>
          <p:nvPr/>
        </p:nvSpPr>
        <p:spPr>
          <a:xfrm>
            <a:off x="6735960" y="2349360"/>
            <a:ext cx="200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Index 0 in input t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Box 12"/>
          <p:cNvSpPr/>
          <p:nvPr/>
        </p:nvSpPr>
        <p:spPr>
          <a:xfrm>
            <a:off x="2785680" y="2852640"/>
            <a:ext cx="119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edx reg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6" name=""/>
          <p:cNvGraphicFramePr/>
          <p:nvPr/>
        </p:nvGraphicFramePr>
        <p:xfrm>
          <a:off x="1835280" y="4221000"/>
          <a:ext cx="5616360" cy="2332080"/>
        </p:xfrm>
        <a:graphic>
          <a:graphicData uri="http://schemas.openxmlformats.org/drawingml/2006/table">
            <a:tbl>
              <a:tblPr/>
              <a:tblGrid>
                <a:gridCol w="936360"/>
                <a:gridCol w="4680000"/>
              </a:tblGrid>
              <a:tr h="259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trai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7598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n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7598f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y register, memory or immediate integer operand allow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ite-only register, memory or immediate integer operan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l purpose regist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or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oating-point regist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consta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x (on x8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x (on x8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</a:tr>
            </a:tbl>
          </a:graphicData>
        </a:graphic>
      </p:graphicFrame>
      <p:sp>
        <p:nvSpPr>
          <p:cNvPr id="627" name="TextBox 12"/>
          <p:cNvSpPr/>
          <p:nvPr/>
        </p:nvSpPr>
        <p:spPr>
          <a:xfrm rot="16200000">
            <a:off x="979200" y="5573520"/>
            <a:ext cx="101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Examp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in rule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No control flow between assembler statements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da control flow 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use control flow within one 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Avoid to use fixed registers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s compiler’s life more diffic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the compiler choose 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should correctly describe register 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On x86, the assembler uses AT&amp;T convention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operand is source, second is dest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GNU assembler manual for det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olatile and Clobber ASM parameter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Volatile =&gt; True” deactivates optimizations with regards to suppressed instructions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Clobber =&gt; “reg1, reg2, …”” contains the list of registers considered to be “destroyed” by the use of the ASM call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‘memory’ if the memory is accessed in an unpredictable fashion.  The compiler will not keep memory values cached in registers across the instru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struction Counter Example (x86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633" name=""/>
          <p:cNvGraphicFramePr/>
          <p:nvPr/>
        </p:nvGraphicFramePr>
        <p:xfrm>
          <a:off x="1835280" y="1665360"/>
          <a:ext cx="6121440" cy="3779640"/>
        </p:xfrm>
        <a:graphic>
          <a:graphicData uri="http://schemas.openxmlformats.org/drawingml/2006/table">
            <a:tbl>
              <a:tblPr/>
              <a:tblGrid>
                <a:gridCol w="6121440"/>
              </a:tblGrid>
              <a:tr h="3779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ith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System.Machine_Code;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us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System.Machine_Code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ith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Ada.Text_IO; 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us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Ada.Text_IO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ith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Interfaces;  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us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Interfaces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Main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Low   : Unsigned_32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High  : Unsigned_32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 : Unsigned_64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us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ASCII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beg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s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(</a:t>
                      </a:r>
                      <a:r>
                        <a:rPr b="0" lang="en-US" sz="1100" spc="-1" strike="noStrike">
                          <a:solidFill>
                            <a:srgbClr val="00b050"/>
                          </a:solidFill>
                          <a:latin typeface="Courier New"/>
                          <a:ea typeface="Courier New"/>
                        </a:rPr>
                        <a:t>"rdtsc"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&amp; LF,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Outputs =&gt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(Unsigned_32'Asm_Output ("=d", Low),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Unsigned_32'Asm_Output ("=a", High)),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olatile =&gt; True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s := Unsigned_64 (Low) + Unsigned_64 (High) * 2 ** 32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ut_Line (Values'Img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Main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Developer usually defines requirements on a type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The compiler then generates a representation for this type that can accommodate requirements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GNAT, can be consulted using -gnatR2 sw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These values can be explicitly set, the compiler will check their consistency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They can be queried as attributes if needed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ecifying Data Representation vs Requirement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3013200" y="3213000"/>
          <a:ext cx="3214440" cy="863640"/>
        </p:xfrm>
        <a:graphic>
          <a:graphicData uri="http://schemas.openxmlformats.org/drawingml/2006/table">
            <a:tbl>
              <a:tblPr/>
              <a:tblGrid>
                <a:gridCol w="3214440"/>
              </a:tblGrid>
              <a:tr h="863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_In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 .. 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Object_Size =&gt; 8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alue_Size  =&gt; 4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lignment   =&gt; 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41" name=""/>
          <p:cNvGraphicFramePr/>
          <p:nvPr/>
        </p:nvGraphicFramePr>
        <p:xfrm>
          <a:off x="2987640" y="1628640"/>
          <a:ext cx="3240000" cy="287640"/>
        </p:xfrm>
        <a:graphic>
          <a:graphicData uri="http://schemas.openxmlformats.org/drawingml/2006/table">
            <a:tbl>
              <a:tblPr/>
              <a:tblGrid>
                <a:gridCol w="3240000"/>
              </a:tblGrid>
              <a:tr h="28764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_In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 .. 1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42" name=""/>
          <p:cNvGraphicFramePr/>
          <p:nvPr/>
        </p:nvGraphicFramePr>
        <p:xfrm>
          <a:off x="3132000" y="5877000"/>
          <a:ext cx="3214800" cy="288720"/>
        </p:xfrm>
        <a:graphic>
          <a:graphicData uri="http://schemas.openxmlformats.org/drawingml/2006/table">
            <a:tbl>
              <a:tblPr/>
              <a:tblGrid>
                <a:gridCol w="3214800"/>
              </a:tblGrid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 Integer := My_Int’Alignmen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ading a machine register (ppc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635" name=""/>
          <p:cNvGraphicFramePr/>
          <p:nvPr/>
        </p:nvGraphicFramePr>
        <p:xfrm>
          <a:off x="1835280" y="1665360"/>
          <a:ext cx="5905440" cy="1692360"/>
        </p:xfrm>
        <a:graphic>
          <a:graphicData uri="http://schemas.openxmlformats.org/drawingml/2006/table">
            <a:tbl>
              <a:tblPr/>
              <a:tblGrid>
                <a:gridCol w="5905440"/>
              </a:tblGrid>
              <a:tr h="169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function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Get_MSR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turn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MSR_Type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s : MSR_Type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sm ("mfmsr %0"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 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Outputs =&gt; MSR_Type'Asm_Output ("=r", Res)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 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olatile =&gt; True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turn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Res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nd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Get_MS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6" name=""/>
          <p:cNvGraphicFramePr/>
          <p:nvPr/>
        </p:nvGraphicFramePr>
        <p:xfrm>
          <a:off x="1835280" y="3573360"/>
          <a:ext cx="5905440" cy="3017880"/>
        </p:xfrm>
        <a:graphic>
          <a:graphicData uri="http://schemas.openxmlformats.org/drawingml/2006/table">
            <a:tbl>
              <a:tblPr/>
              <a:tblGrid>
                <a:gridCol w="5905440"/>
              </a:tblGrid>
              <a:tr h="3017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gener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pr : Natural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function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Get_Spr return Unsigned_32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function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Get_Spr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turn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Unsigned_32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s : Unsigned_32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sm ("mfspr %0,%1"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  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nputs =&gt; Natural'Asm_Input ("K", Spr)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  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Outputs =&gt; Unsigned_32'Asm_Output ("=r", Res)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  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olatile =&gt; True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turn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Res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nd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Get_Sp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function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Get_Pir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 new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Get_Spr (286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riting a machine register (ppc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638" name=""/>
          <p:cNvGraphicFramePr/>
          <p:nvPr/>
        </p:nvGraphicFramePr>
        <p:xfrm>
          <a:off x="1547640" y="2205000"/>
          <a:ext cx="5905800" cy="2103480"/>
        </p:xfrm>
        <a:graphic>
          <a:graphicData uri="http://schemas.openxmlformats.org/drawingml/2006/table">
            <a:tbl>
              <a:tblPr/>
              <a:tblGrid>
                <a:gridCol w="5905800"/>
              </a:tblGrid>
              <a:tr h="2103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gener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pr : Natural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Set_Spr (V : Unsigned_32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Set_Spr (V : Unsigned_32) 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sm ("mtspr %0,%1"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nputs =&gt; (Natural'Asm_Input ("K", Spr)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Unsigned_32'Asm_Input ("r", V))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Set_Sp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/>
          </p:nvPr>
        </p:nvSpPr>
        <p:spPr>
          <a:xfrm>
            <a:off x="380880" y="2666520"/>
            <a:ext cx="8382240" cy="96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Tricks</a:t>
            </a:r>
            <a:endParaRPr b="1" lang="en-US" sz="48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ckage Interface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Package Interfaces provide Integer and Unsigned types for many size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er_8, Integer_16, Integer_32, Integer_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signed_8, Unsigned_16, Unsigned_32, Unsigned_6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With shift/rotation functions for Unsigned types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t/Thin pointers for array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Unconstrained array access is a fat pointer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Use a size representation clause for a thin pointer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644" name=""/>
          <p:cNvGraphicFramePr/>
          <p:nvPr/>
        </p:nvGraphicFramePr>
        <p:xfrm>
          <a:off x="1547640" y="1700280"/>
          <a:ext cx="5905800" cy="823680"/>
        </p:xfrm>
        <a:graphic>
          <a:graphicData uri="http://schemas.openxmlformats.org/drawingml/2006/table">
            <a:tbl>
              <a:tblPr/>
              <a:tblGrid>
                <a:gridCol w="5905800"/>
              </a:tblGrid>
              <a:tr h="823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ype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String_Acc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 access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String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sg : String_Acc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645" name="Rectangle 2"/>
          <p:cNvSpPr/>
          <p:nvPr/>
        </p:nvSpPr>
        <p:spPr>
          <a:xfrm>
            <a:off x="1692360" y="2637000"/>
            <a:ext cx="1224000" cy="93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Straight Connector 6"/>
          <p:cNvSpPr/>
          <p:nvPr/>
        </p:nvSpPr>
        <p:spPr>
          <a:xfrm>
            <a:off x="1692360" y="3105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7"/>
          <p:cNvSpPr/>
          <p:nvPr/>
        </p:nvSpPr>
        <p:spPr>
          <a:xfrm>
            <a:off x="3851280" y="2637000"/>
            <a:ext cx="42498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Straight Connector 9"/>
          <p:cNvSpPr/>
          <p:nvPr/>
        </p:nvSpPr>
        <p:spPr>
          <a:xfrm>
            <a:off x="3995640" y="2637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Straight Connector 10"/>
          <p:cNvSpPr/>
          <p:nvPr/>
        </p:nvSpPr>
        <p:spPr>
          <a:xfrm>
            <a:off x="4140360" y="2637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Straight Connector 11"/>
          <p:cNvSpPr/>
          <p:nvPr/>
        </p:nvSpPr>
        <p:spPr>
          <a:xfrm>
            <a:off x="4284720" y="2637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Straight Connector 12"/>
          <p:cNvSpPr/>
          <p:nvPr/>
        </p:nvSpPr>
        <p:spPr>
          <a:xfrm>
            <a:off x="4427640" y="2637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Straight Connector 13"/>
          <p:cNvSpPr/>
          <p:nvPr/>
        </p:nvSpPr>
        <p:spPr>
          <a:xfrm>
            <a:off x="4572000" y="2637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Straight Connector 14"/>
          <p:cNvSpPr/>
          <p:nvPr/>
        </p:nvSpPr>
        <p:spPr>
          <a:xfrm>
            <a:off x="4724280" y="2637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Straight Connector 15"/>
          <p:cNvSpPr/>
          <p:nvPr/>
        </p:nvSpPr>
        <p:spPr>
          <a:xfrm>
            <a:off x="4876920" y="2637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Straight Connector 17"/>
          <p:cNvSpPr/>
          <p:nvPr/>
        </p:nvSpPr>
        <p:spPr>
          <a:xfrm>
            <a:off x="5029200" y="2637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Straight Connector 18"/>
          <p:cNvSpPr/>
          <p:nvPr/>
        </p:nvSpPr>
        <p:spPr>
          <a:xfrm>
            <a:off x="5181480" y="2637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Straight Connector 19"/>
          <p:cNvSpPr/>
          <p:nvPr/>
        </p:nvSpPr>
        <p:spPr>
          <a:xfrm>
            <a:off x="5334120" y="2637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Straight Connector 20"/>
          <p:cNvSpPr/>
          <p:nvPr/>
        </p:nvSpPr>
        <p:spPr>
          <a:xfrm>
            <a:off x="5486400" y="2637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Straight Connector 21"/>
          <p:cNvSpPr/>
          <p:nvPr/>
        </p:nvSpPr>
        <p:spPr>
          <a:xfrm>
            <a:off x="5638680" y="2637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Straight Connector 22"/>
          <p:cNvSpPr/>
          <p:nvPr/>
        </p:nvSpPr>
        <p:spPr>
          <a:xfrm>
            <a:off x="5791320" y="2637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Straight Connector 23"/>
          <p:cNvSpPr/>
          <p:nvPr/>
        </p:nvSpPr>
        <p:spPr>
          <a:xfrm>
            <a:off x="5943600" y="2637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Straight Connector 24"/>
          <p:cNvSpPr/>
          <p:nvPr/>
        </p:nvSpPr>
        <p:spPr>
          <a:xfrm>
            <a:off x="6095880" y="2637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Straight Connector 25"/>
          <p:cNvSpPr/>
          <p:nvPr/>
        </p:nvSpPr>
        <p:spPr>
          <a:xfrm>
            <a:off x="6248520" y="2637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Straight Connector 26"/>
          <p:cNvSpPr/>
          <p:nvPr/>
        </p:nvSpPr>
        <p:spPr>
          <a:xfrm>
            <a:off x="6400800" y="2637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Straight Connector 27"/>
          <p:cNvSpPr/>
          <p:nvPr/>
        </p:nvSpPr>
        <p:spPr>
          <a:xfrm>
            <a:off x="6553080" y="2637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Straight Connector 28"/>
          <p:cNvSpPr/>
          <p:nvPr/>
        </p:nvSpPr>
        <p:spPr>
          <a:xfrm>
            <a:off x="6705720" y="2637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Straight Connector 29"/>
          <p:cNvSpPr/>
          <p:nvPr/>
        </p:nvSpPr>
        <p:spPr>
          <a:xfrm>
            <a:off x="6858000" y="2637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Straight Connector 30"/>
          <p:cNvSpPr/>
          <p:nvPr/>
        </p:nvSpPr>
        <p:spPr>
          <a:xfrm>
            <a:off x="7010280" y="2637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Straight Connector 31"/>
          <p:cNvSpPr/>
          <p:nvPr/>
        </p:nvSpPr>
        <p:spPr>
          <a:xfrm>
            <a:off x="7162920" y="2637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Straight Connector 32"/>
          <p:cNvSpPr/>
          <p:nvPr/>
        </p:nvSpPr>
        <p:spPr>
          <a:xfrm>
            <a:off x="7315200" y="2637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Straight Connector 33"/>
          <p:cNvSpPr/>
          <p:nvPr/>
        </p:nvSpPr>
        <p:spPr>
          <a:xfrm>
            <a:off x="7467480" y="2637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Straight Connector 34"/>
          <p:cNvSpPr/>
          <p:nvPr/>
        </p:nvSpPr>
        <p:spPr>
          <a:xfrm>
            <a:off x="7620120" y="2637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Straight Connector 35"/>
          <p:cNvSpPr/>
          <p:nvPr/>
        </p:nvSpPr>
        <p:spPr>
          <a:xfrm>
            <a:off x="7772400" y="2637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Straight Connector 36"/>
          <p:cNvSpPr/>
          <p:nvPr/>
        </p:nvSpPr>
        <p:spPr>
          <a:xfrm>
            <a:off x="7924680" y="2637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5" name="Straight Arrow Connector 38"/>
          <p:cNvCxnSpPr>
            <a:endCxn id="647" idx="1"/>
          </p:cNvCxnSpPr>
          <p:nvPr/>
        </p:nvCxnSpPr>
        <p:spPr>
          <a:xfrm>
            <a:off x="2916000" y="2852280"/>
            <a:ext cx="93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6" name="Rectangle 39"/>
          <p:cNvSpPr/>
          <p:nvPr/>
        </p:nvSpPr>
        <p:spPr>
          <a:xfrm>
            <a:off x="3851280" y="3213000"/>
            <a:ext cx="12254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B0  UB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Straight Connector 41"/>
          <p:cNvSpPr/>
          <p:nvPr/>
        </p:nvSpPr>
        <p:spPr>
          <a:xfrm>
            <a:off x="4427640" y="3213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8" name="Straight Arrow Connector 52"/>
          <p:cNvCxnSpPr>
            <a:endCxn id="676" idx="1"/>
          </p:cNvCxnSpPr>
          <p:nvPr/>
        </p:nvCxnSpPr>
        <p:spPr>
          <a:xfrm>
            <a:off x="2916000" y="3357720"/>
            <a:ext cx="935640" cy="72000"/>
          </a:xfrm>
          <a:prstGeom prst="curvedConnector5">
            <a:avLst>
              <a:gd name="adj1" fmla="val 50000"/>
              <a:gd name="adj2" fmla="val 49748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graphicFrame>
        <p:nvGraphicFramePr>
          <p:cNvPr id="679" name=""/>
          <p:cNvGraphicFramePr/>
          <p:nvPr/>
        </p:nvGraphicFramePr>
        <p:xfrm>
          <a:off x="1692360" y="4292640"/>
          <a:ext cx="5905440" cy="639720"/>
        </p:xfrm>
        <a:graphic>
          <a:graphicData uri="http://schemas.openxmlformats.org/drawingml/2006/table">
            <a:tbl>
              <a:tblPr/>
              <a:tblGrid>
                <a:gridCol w="5905440"/>
              </a:tblGrid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ype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String_Acc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 access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String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for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tring_Acc’Size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use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32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680" name="Rectangle 56"/>
          <p:cNvSpPr/>
          <p:nvPr/>
        </p:nvSpPr>
        <p:spPr>
          <a:xfrm>
            <a:off x="2997360" y="5589720"/>
            <a:ext cx="42494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Straight Connector 57"/>
          <p:cNvSpPr/>
          <p:nvPr/>
        </p:nvSpPr>
        <p:spPr>
          <a:xfrm>
            <a:off x="3141720" y="558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Straight Connector 58"/>
          <p:cNvSpPr/>
          <p:nvPr/>
        </p:nvSpPr>
        <p:spPr>
          <a:xfrm>
            <a:off x="3286080" y="558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Straight Connector 59"/>
          <p:cNvSpPr/>
          <p:nvPr/>
        </p:nvSpPr>
        <p:spPr>
          <a:xfrm>
            <a:off x="3429000" y="558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Straight Connector 60"/>
          <p:cNvSpPr/>
          <p:nvPr/>
        </p:nvSpPr>
        <p:spPr>
          <a:xfrm>
            <a:off x="3573360" y="558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Straight Connector 61"/>
          <p:cNvSpPr/>
          <p:nvPr/>
        </p:nvSpPr>
        <p:spPr>
          <a:xfrm>
            <a:off x="3718080" y="558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Straight Connector 62"/>
          <p:cNvSpPr/>
          <p:nvPr/>
        </p:nvSpPr>
        <p:spPr>
          <a:xfrm>
            <a:off x="3870360" y="558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Straight Connector 63"/>
          <p:cNvSpPr/>
          <p:nvPr/>
        </p:nvSpPr>
        <p:spPr>
          <a:xfrm>
            <a:off x="4022640" y="558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Straight Connector 64"/>
          <p:cNvSpPr/>
          <p:nvPr/>
        </p:nvSpPr>
        <p:spPr>
          <a:xfrm>
            <a:off x="4175280" y="558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Straight Connector 65"/>
          <p:cNvSpPr/>
          <p:nvPr/>
        </p:nvSpPr>
        <p:spPr>
          <a:xfrm>
            <a:off x="4327560" y="558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Straight Connector 66"/>
          <p:cNvSpPr/>
          <p:nvPr/>
        </p:nvSpPr>
        <p:spPr>
          <a:xfrm>
            <a:off x="4479840" y="558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Straight Connector 67"/>
          <p:cNvSpPr/>
          <p:nvPr/>
        </p:nvSpPr>
        <p:spPr>
          <a:xfrm>
            <a:off x="4632480" y="558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Straight Connector 68"/>
          <p:cNvSpPr/>
          <p:nvPr/>
        </p:nvSpPr>
        <p:spPr>
          <a:xfrm>
            <a:off x="4784760" y="558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Straight Connector 69"/>
          <p:cNvSpPr/>
          <p:nvPr/>
        </p:nvSpPr>
        <p:spPr>
          <a:xfrm>
            <a:off x="4937040" y="558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Straight Connector 70"/>
          <p:cNvSpPr/>
          <p:nvPr/>
        </p:nvSpPr>
        <p:spPr>
          <a:xfrm>
            <a:off x="5089680" y="558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Straight Connector 71"/>
          <p:cNvSpPr/>
          <p:nvPr/>
        </p:nvSpPr>
        <p:spPr>
          <a:xfrm>
            <a:off x="5241960" y="558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Straight Connector 72"/>
          <p:cNvSpPr/>
          <p:nvPr/>
        </p:nvSpPr>
        <p:spPr>
          <a:xfrm>
            <a:off x="5394240" y="558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Straight Connector 73"/>
          <p:cNvSpPr/>
          <p:nvPr/>
        </p:nvSpPr>
        <p:spPr>
          <a:xfrm>
            <a:off x="5546880" y="558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Straight Connector 74"/>
          <p:cNvSpPr/>
          <p:nvPr/>
        </p:nvSpPr>
        <p:spPr>
          <a:xfrm>
            <a:off x="5699160" y="558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Straight Connector 75"/>
          <p:cNvSpPr/>
          <p:nvPr/>
        </p:nvSpPr>
        <p:spPr>
          <a:xfrm>
            <a:off x="5851440" y="558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Straight Connector 76"/>
          <p:cNvSpPr/>
          <p:nvPr/>
        </p:nvSpPr>
        <p:spPr>
          <a:xfrm>
            <a:off x="6004080" y="558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Straight Connector 77"/>
          <p:cNvSpPr/>
          <p:nvPr/>
        </p:nvSpPr>
        <p:spPr>
          <a:xfrm>
            <a:off x="6156360" y="558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Straight Connector 78"/>
          <p:cNvSpPr/>
          <p:nvPr/>
        </p:nvSpPr>
        <p:spPr>
          <a:xfrm>
            <a:off x="6308640" y="558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traight Connector 79"/>
          <p:cNvSpPr/>
          <p:nvPr/>
        </p:nvSpPr>
        <p:spPr>
          <a:xfrm>
            <a:off x="6461280" y="558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Straight Connector 80"/>
          <p:cNvSpPr/>
          <p:nvPr/>
        </p:nvSpPr>
        <p:spPr>
          <a:xfrm>
            <a:off x="6613560" y="558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Straight Connector 81"/>
          <p:cNvSpPr/>
          <p:nvPr/>
        </p:nvSpPr>
        <p:spPr>
          <a:xfrm>
            <a:off x="6765840" y="558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Straight Connector 82"/>
          <p:cNvSpPr/>
          <p:nvPr/>
        </p:nvSpPr>
        <p:spPr>
          <a:xfrm>
            <a:off x="6918480" y="558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Straight Connector 83"/>
          <p:cNvSpPr/>
          <p:nvPr/>
        </p:nvSpPr>
        <p:spPr>
          <a:xfrm>
            <a:off x="7070760" y="558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85"/>
          <p:cNvSpPr/>
          <p:nvPr/>
        </p:nvSpPr>
        <p:spPr>
          <a:xfrm>
            <a:off x="1781280" y="5589720"/>
            <a:ext cx="1224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B0  UB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traight Connector 86"/>
          <p:cNvSpPr/>
          <p:nvPr/>
        </p:nvSpPr>
        <p:spPr>
          <a:xfrm>
            <a:off x="2355840" y="558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0" name="Shape 70"/>
          <p:cNvCxnSpPr>
            <a:endCxn id="645" idx="1"/>
          </p:cNvCxnSpPr>
          <p:nvPr/>
        </p:nvCxnSpPr>
        <p:spPr>
          <a:xfrm rot="5400000">
            <a:off x="1349640" y="2691360"/>
            <a:ext cx="756360" cy="72000"/>
          </a:xfrm>
          <a:prstGeom prst="curvedConnector5">
            <a:avLst>
              <a:gd name="adj1" fmla="val 23952"/>
              <a:gd name="adj2" fmla="val 282914"/>
              <a:gd name="adj3" fmla="val 23952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11" name="Shape 79"/>
          <p:cNvCxnSpPr/>
          <p:nvPr/>
        </p:nvCxnSpPr>
        <p:spPr>
          <a:xfrm flipH="1" rot="16200000">
            <a:off x="2374560" y="4905720"/>
            <a:ext cx="793080" cy="5756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array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A constrained array access is a thin pointer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need to store bou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You can use big flat array to index memory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GNAT.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or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4" name=""/>
          <p:cNvGraphicFramePr/>
          <p:nvPr/>
        </p:nvGraphicFramePr>
        <p:xfrm>
          <a:off x="1547640" y="1700280"/>
          <a:ext cx="5905800" cy="457200"/>
        </p:xfrm>
        <a:graphic>
          <a:graphicData uri="http://schemas.openxmlformats.org/drawingml/2006/table">
            <a:tbl>
              <a:tblPr/>
              <a:tblGrid>
                <a:gridCol w="5905800"/>
              </a:tblGrid>
              <a:tr h="4572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ype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Line_Acc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 access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String (1 .. 8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715" name="Rectangle 2"/>
          <p:cNvSpPr/>
          <p:nvPr/>
        </p:nvSpPr>
        <p:spPr>
          <a:xfrm>
            <a:off x="1692360" y="2679840"/>
            <a:ext cx="1224000" cy="38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7"/>
          <p:cNvSpPr/>
          <p:nvPr/>
        </p:nvSpPr>
        <p:spPr>
          <a:xfrm>
            <a:off x="3851280" y="2637000"/>
            <a:ext cx="42498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Straight Connector 9"/>
          <p:cNvSpPr/>
          <p:nvPr/>
        </p:nvSpPr>
        <p:spPr>
          <a:xfrm>
            <a:off x="3995640" y="2637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Straight Connector 10"/>
          <p:cNvSpPr/>
          <p:nvPr/>
        </p:nvSpPr>
        <p:spPr>
          <a:xfrm>
            <a:off x="4140360" y="2637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Straight Connector 11"/>
          <p:cNvSpPr/>
          <p:nvPr/>
        </p:nvSpPr>
        <p:spPr>
          <a:xfrm>
            <a:off x="4284720" y="2637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Straight Connector 12"/>
          <p:cNvSpPr/>
          <p:nvPr/>
        </p:nvSpPr>
        <p:spPr>
          <a:xfrm>
            <a:off x="4427640" y="2637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Straight Connector 13"/>
          <p:cNvSpPr/>
          <p:nvPr/>
        </p:nvSpPr>
        <p:spPr>
          <a:xfrm>
            <a:off x="4572000" y="2637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Straight Connector 14"/>
          <p:cNvSpPr/>
          <p:nvPr/>
        </p:nvSpPr>
        <p:spPr>
          <a:xfrm>
            <a:off x="4724280" y="2637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Straight Connector 15"/>
          <p:cNvSpPr/>
          <p:nvPr/>
        </p:nvSpPr>
        <p:spPr>
          <a:xfrm>
            <a:off x="4876920" y="2637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traight Connector 17"/>
          <p:cNvSpPr/>
          <p:nvPr/>
        </p:nvSpPr>
        <p:spPr>
          <a:xfrm>
            <a:off x="5029200" y="2637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Straight Connector 18"/>
          <p:cNvSpPr/>
          <p:nvPr/>
        </p:nvSpPr>
        <p:spPr>
          <a:xfrm>
            <a:off x="5181480" y="2637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Straight Connector 19"/>
          <p:cNvSpPr/>
          <p:nvPr/>
        </p:nvSpPr>
        <p:spPr>
          <a:xfrm>
            <a:off x="5334120" y="2637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Straight Connector 20"/>
          <p:cNvSpPr/>
          <p:nvPr/>
        </p:nvSpPr>
        <p:spPr>
          <a:xfrm>
            <a:off x="5486400" y="2637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Straight Connector 21"/>
          <p:cNvSpPr/>
          <p:nvPr/>
        </p:nvSpPr>
        <p:spPr>
          <a:xfrm>
            <a:off x="5638680" y="2637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Straight Connector 22"/>
          <p:cNvSpPr/>
          <p:nvPr/>
        </p:nvSpPr>
        <p:spPr>
          <a:xfrm>
            <a:off x="5791320" y="2637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traight Connector 23"/>
          <p:cNvSpPr/>
          <p:nvPr/>
        </p:nvSpPr>
        <p:spPr>
          <a:xfrm>
            <a:off x="5943600" y="2637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Straight Connector 24"/>
          <p:cNvSpPr/>
          <p:nvPr/>
        </p:nvSpPr>
        <p:spPr>
          <a:xfrm>
            <a:off x="6095880" y="2637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Straight Connector 25"/>
          <p:cNvSpPr/>
          <p:nvPr/>
        </p:nvSpPr>
        <p:spPr>
          <a:xfrm>
            <a:off x="6248520" y="2637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traight Connector 26"/>
          <p:cNvSpPr/>
          <p:nvPr/>
        </p:nvSpPr>
        <p:spPr>
          <a:xfrm>
            <a:off x="6400800" y="2637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Straight Connector 27"/>
          <p:cNvSpPr/>
          <p:nvPr/>
        </p:nvSpPr>
        <p:spPr>
          <a:xfrm>
            <a:off x="6553080" y="2637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Straight Connector 28"/>
          <p:cNvSpPr/>
          <p:nvPr/>
        </p:nvSpPr>
        <p:spPr>
          <a:xfrm>
            <a:off x="6705720" y="2637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Straight Connector 29"/>
          <p:cNvSpPr/>
          <p:nvPr/>
        </p:nvSpPr>
        <p:spPr>
          <a:xfrm>
            <a:off x="6858000" y="2637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Straight Connector 30"/>
          <p:cNvSpPr/>
          <p:nvPr/>
        </p:nvSpPr>
        <p:spPr>
          <a:xfrm>
            <a:off x="7010280" y="2637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Straight Connector 31"/>
          <p:cNvSpPr/>
          <p:nvPr/>
        </p:nvSpPr>
        <p:spPr>
          <a:xfrm>
            <a:off x="7162920" y="2637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Straight Connector 32"/>
          <p:cNvSpPr/>
          <p:nvPr/>
        </p:nvSpPr>
        <p:spPr>
          <a:xfrm>
            <a:off x="7315200" y="2637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Straight Connector 33"/>
          <p:cNvSpPr/>
          <p:nvPr/>
        </p:nvSpPr>
        <p:spPr>
          <a:xfrm>
            <a:off x="7467480" y="2637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Straight Connector 34"/>
          <p:cNvSpPr/>
          <p:nvPr/>
        </p:nvSpPr>
        <p:spPr>
          <a:xfrm>
            <a:off x="7620120" y="2637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Straight Connector 35"/>
          <p:cNvSpPr/>
          <p:nvPr/>
        </p:nvSpPr>
        <p:spPr>
          <a:xfrm>
            <a:off x="7772400" y="2637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Straight Connector 36"/>
          <p:cNvSpPr/>
          <p:nvPr/>
        </p:nvSpPr>
        <p:spPr>
          <a:xfrm>
            <a:off x="7924680" y="2637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4" name="Straight Arrow Connector 38"/>
          <p:cNvCxnSpPr>
            <a:endCxn id="716" idx="1"/>
          </p:cNvCxnSpPr>
          <p:nvPr/>
        </p:nvCxnSpPr>
        <p:spPr>
          <a:xfrm>
            <a:off x="2916000" y="2852280"/>
            <a:ext cx="93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graphicFrame>
        <p:nvGraphicFramePr>
          <p:cNvPr id="745" name=""/>
          <p:cNvGraphicFramePr/>
          <p:nvPr/>
        </p:nvGraphicFramePr>
        <p:xfrm>
          <a:off x="1692360" y="5445000"/>
          <a:ext cx="5905440" cy="639720"/>
        </p:xfrm>
        <a:graphic>
          <a:graphicData uri="http://schemas.openxmlformats.org/drawingml/2006/table">
            <a:tbl>
              <a:tblPr/>
              <a:tblGrid>
                <a:gridCol w="5905440"/>
              </a:tblGrid>
              <a:tr h="639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ype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Char_array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 array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(natural)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of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Charact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ype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_String_Acc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 access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har_Array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e on Ada compatibility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Ada 83 to 2005 uses pragma / attributes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Ada 2012 uses aspects to define types requirements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4716360" y="3716280"/>
          <a:ext cx="3214800" cy="1008000"/>
        </p:xfrm>
        <a:graphic>
          <a:graphicData uri="http://schemas.openxmlformats.org/drawingml/2006/table">
            <a:tbl>
              <a:tblPr/>
              <a:tblGrid>
                <a:gridCol w="3214800"/>
              </a:tblGrid>
              <a:tr h="1008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_Int </a:t>
                      </a: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 .. 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Object_Size =&gt; 8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alue_Size  =&gt; 4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lignment   =&gt; 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46" name=""/>
          <p:cNvGraphicFramePr/>
          <p:nvPr/>
        </p:nvGraphicFramePr>
        <p:xfrm>
          <a:off x="971640" y="3716280"/>
          <a:ext cx="3214440" cy="1008000"/>
        </p:xfrm>
        <a:graphic>
          <a:graphicData uri="http://schemas.openxmlformats.org/drawingml/2006/table">
            <a:tbl>
              <a:tblPr/>
              <a:tblGrid>
                <a:gridCol w="3214440"/>
              </a:tblGrid>
              <a:tr h="1008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_Int </a:t>
                      </a: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 .. 1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r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y_Int’Object_Size </a:t>
                      </a: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se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8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r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y_Int’Value_Size  </a:t>
                      </a: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se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4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r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y_Int’Alignment   </a:t>
                      </a: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se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alue_Size / Size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Value_Size (or Size in the Ada Reference Manual) is the minimal amount of bits required to represent data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The compiler is allowed to use larger size to represent an actual object, but will check that the minimal size is enough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3013200" y="4941720"/>
          <a:ext cx="3214440" cy="574920"/>
        </p:xfrm>
        <a:graphic>
          <a:graphicData uri="http://schemas.openxmlformats.org/drawingml/2006/table">
            <a:tbl>
              <a:tblPr/>
              <a:tblGrid>
                <a:gridCol w="3214440"/>
              </a:tblGrid>
              <a:tr h="574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 ..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ize =&gt; 3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ject Size (GNAT-Specific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Object_Size represents the size of the object in memory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It must be a multiple of Alignment * Storage_Unit (8), and at least equal to Size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Object size is the “default” size of an object, can be changed if specific representations are given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3013200" y="3789360"/>
          <a:ext cx="3214440" cy="863640"/>
        </p:xfrm>
        <a:graphic>
          <a:graphicData uri="http://schemas.openxmlformats.org/drawingml/2006/table">
            <a:tbl>
              <a:tblPr/>
              <a:tblGrid>
                <a:gridCol w="3214440"/>
              </a:tblGrid>
              <a:tr h="8636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 ..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Value_Size  =&gt; 3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bject_Size =&gt; 8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ignment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Number of Bytes on which the type has to be aligned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Some alignment may be more efficient than others in terms of speed (e.g. boundaries of words (4, 8))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Some alignment may be more efficient than others in terms of memory usage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2987640" y="5229360"/>
          <a:ext cx="3214800" cy="720720"/>
        </p:xfrm>
        <a:graphic>
          <a:graphicData uri="http://schemas.openxmlformats.org/drawingml/2006/table">
            <a:tbl>
              <a:tblPr/>
              <a:tblGrid>
                <a:gridCol w="3214800"/>
              </a:tblGrid>
              <a:tr h="72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 ..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ize      =&gt; 4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lignment =&gt; 8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rd type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Ada doesn’t force any particular memory layout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Depending on optimization of constraints, layout can be optimized for speed, size, or not optimized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3228840" y="3160800"/>
          <a:ext cx="3214800" cy="1431720"/>
        </p:xfrm>
        <a:graphic>
          <a:graphicData uri="http://schemas.openxmlformats.org/drawingml/2006/table">
            <a:tbl>
              <a:tblPr/>
              <a:tblGrid>
                <a:gridCol w="3214800"/>
              </a:tblGrid>
              <a:tr h="143172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Enum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(E1, E2, E3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Rec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cord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A : Integer;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B : Boolean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 : Boolean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D : Enum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cor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pSp>
        <p:nvGrpSpPr>
          <p:cNvPr id="359" name="Group 196"/>
          <p:cNvGrpSpPr/>
          <p:nvPr/>
        </p:nvGrpSpPr>
        <p:grpSpPr>
          <a:xfrm>
            <a:off x="216000" y="4714920"/>
            <a:ext cx="8677080" cy="1738440"/>
            <a:chOff x="216000" y="4714920"/>
            <a:chExt cx="8677080" cy="1738440"/>
          </a:xfrm>
        </p:grpSpPr>
        <p:grpSp>
          <p:nvGrpSpPr>
            <p:cNvPr id="360" name="Groupe 72"/>
            <p:cNvGrpSpPr/>
            <p:nvPr/>
          </p:nvGrpSpPr>
          <p:grpSpPr>
            <a:xfrm>
              <a:off x="6723720" y="6104160"/>
              <a:ext cx="2169000" cy="349200"/>
              <a:chOff x="6723720" y="6104160"/>
              <a:chExt cx="2169000" cy="349200"/>
            </a:xfrm>
          </p:grpSpPr>
          <p:grpSp>
            <p:nvGrpSpPr>
              <p:cNvPr id="361" name="Groupe 38"/>
              <p:cNvGrpSpPr/>
              <p:nvPr/>
            </p:nvGrpSpPr>
            <p:grpSpPr>
              <a:xfrm>
                <a:off x="8349840" y="6104160"/>
                <a:ext cx="542880" cy="349200"/>
                <a:chOff x="8349840" y="6104160"/>
                <a:chExt cx="542880" cy="349200"/>
              </a:xfrm>
            </p:grpSpPr>
            <p:sp>
              <p:nvSpPr>
                <p:cNvPr id="362" name="Connecteur droit 7"/>
                <p:cNvSpPr/>
                <p:nvPr/>
              </p:nvSpPr>
              <p:spPr>
                <a:xfrm flipH="1" flipV="1">
                  <a:off x="8350560" y="6451920"/>
                  <a:ext cx="54216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Connecteur droit 10"/>
                <p:cNvSpPr/>
                <p:nvPr/>
              </p:nvSpPr>
              <p:spPr>
                <a:xfrm flipV="1">
                  <a:off x="8892000" y="6104160"/>
                  <a:ext cx="720" cy="348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Connecteur droit 12"/>
                <p:cNvSpPr/>
                <p:nvPr/>
              </p:nvSpPr>
              <p:spPr>
                <a:xfrm>
                  <a:off x="8825040" y="6312960"/>
                  <a:ext cx="0" cy="13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Connecteur droit 26"/>
                <p:cNvSpPr/>
                <p:nvPr/>
              </p:nvSpPr>
              <p:spPr>
                <a:xfrm>
                  <a:off x="8757360" y="6312960"/>
                  <a:ext cx="0" cy="13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Connecteur droit 27"/>
                <p:cNvSpPr/>
                <p:nvPr/>
              </p:nvSpPr>
              <p:spPr>
                <a:xfrm>
                  <a:off x="8689320" y="6312960"/>
                  <a:ext cx="0" cy="13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Connecteur droit 28"/>
                <p:cNvSpPr/>
                <p:nvPr/>
              </p:nvSpPr>
              <p:spPr>
                <a:xfrm>
                  <a:off x="8621640" y="6243120"/>
                  <a:ext cx="0" cy="208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Connecteur droit 29"/>
                <p:cNvSpPr/>
                <p:nvPr/>
              </p:nvSpPr>
              <p:spPr>
                <a:xfrm>
                  <a:off x="8553960" y="6312960"/>
                  <a:ext cx="0" cy="13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Connecteur droit 32"/>
                <p:cNvSpPr/>
                <p:nvPr/>
              </p:nvSpPr>
              <p:spPr>
                <a:xfrm>
                  <a:off x="8485920" y="6312960"/>
                  <a:ext cx="0" cy="13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Connecteur droit 33"/>
                <p:cNvSpPr/>
                <p:nvPr/>
              </p:nvSpPr>
              <p:spPr>
                <a:xfrm>
                  <a:off x="8418240" y="6312960"/>
                  <a:ext cx="0" cy="13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Connecteur droit 34"/>
                <p:cNvSpPr/>
                <p:nvPr/>
              </p:nvSpPr>
              <p:spPr>
                <a:xfrm flipV="1">
                  <a:off x="8349840" y="6104160"/>
                  <a:ext cx="720" cy="348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2" name="Groupe 39"/>
              <p:cNvGrpSpPr/>
              <p:nvPr/>
            </p:nvGrpSpPr>
            <p:grpSpPr>
              <a:xfrm>
                <a:off x="7808400" y="6104160"/>
                <a:ext cx="542880" cy="349200"/>
                <a:chOff x="7808400" y="6104160"/>
                <a:chExt cx="542880" cy="349200"/>
              </a:xfrm>
            </p:grpSpPr>
            <p:sp>
              <p:nvSpPr>
                <p:cNvPr id="373" name="Connecteur droit 40"/>
                <p:cNvSpPr/>
                <p:nvPr/>
              </p:nvSpPr>
              <p:spPr>
                <a:xfrm flipH="1" flipV="1">
                  <a:off x="7809120" y="6451920"/>
                  <a:ext cx="54216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Connecteur droit 41"/>
                <p:cNvSpPr/>
                <p:nvPr/>
              </p:nvSpPr>
              <p:spPr>
                <a:xfrm flipV="1">
                  <a:off x="8350560" y="6104160"/>
                  <a:ext cx="720" cy="348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Connecteur droit 42"/>
                <p:cNvSpPr/>
                <p:nvPr/>
              </p:nvSpPr>
              <p:spPr>
                <a:xfrm>
                  <a:off x="8283600" y="6312960"/>
                  <a:ext cx="0" cy="13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Connecteur droit 43"/>
                <p:cNvSpPr/>
                <p:nvPr/>
              </p:nvSpPr>
              <p:spPr>
                <a:xfrm>
                  <a:off x="8215920" y="6312960"/>
                  <a:ext cx="0" cy="13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Connecteur droit 44"/>
                <p:cNvSpPr/>
                <p:nvPr/>
              </p:nvSpPr>
              <p:spPr>
                <a:xfrm>
                  <a:off x="8147880" y="6312960"/>
                  <a:ext cx="0" cy="13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Connecteur droit 45"/>
                <p:cNvSpPr/>
                <p:nvPr/>
              </p:nvSpPr>
              <p:spPr>
                <a:xfrm>
                  <a:off x="8080200" y="6243120"/>
                  <a:ext cx="0" cy="208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Connecteur droit 46"/>
                <p:cNvSpPr/>
                <p:nvPr/>
              </p:nvSpPr>
              <p:spPr>
                <a:xfrm>
                  <a:off x="8012520" y="6312960"/>
                  <a:ext cx="0" cy="13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Connecteur droit 47"/>
                <p:cNvSpPr/>
                <p:nvPr/>
              </p:nvSpPr>
              <p:spPr>
                <a:xfrm>
                  <a:off x="7944480" y="6312960"/>
                  <a:ext cx="0" cy="13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Connecteur droit 48"/>
                <p:cNvSpPr/>
                <p:nvPr/>
              </p:nvSpPr>
              <p:spPr>
                <a:xfrm>
                  <a:off x="7876800" y="6312960"/>
                  <a:ext cx="0" cy="13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Connecteur droit 49"/>
                <p:cNvSpPr/>
                <p:nvPr/>
              </p:nvSpPr>
              <p:spPr>
                <a:xfrm flipV="1">
                  <a:off x="7808400" y="6104160"/>
                  <a:ext cx="720" cy="348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3" name="Groupe 50"/>
              <p:cNvGrpSpPr/>
              <p:nvPr/>
            </p:nvGrpSpPr>
            <p:grpSpPr>
              <a:xfrm>
                <a:off x="7265880" y="6104160"/>
                <a:ext cx="542880" cy="349200"/>
                <a:chOff x="7265880" y="6104160"/>
                <a:chExt cx="542880" cy="349200"/>
              </a:xfrm>
            </p:grpSpPr>
            <p:sp>
              <p:nvSpPr>
                <p:cNvPr id="384" name="Connecteur droit 51"/>
                <p:cNvSpPr/>
                <p:nvPr/>
              </p:nvSpPr>
              <p:spPr>
                <a:xfrm flipH="1" flipV="1">
                  <a:off x="7266600" y="6451920"/>
                  <a:ext cx="54216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Connecteur droit 52"/>
                <p:cNvSpPr/>
                <p:nvPr/>
              </p:nvSpPr>
              <p:spPr>
                <a:xfrm flipV="1">
                  <a:off x="7808040" y="6104160"/>
                  <a:ext cx="720" cy="348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Connecteur droit 53"/>
                <p:cNvSpPr/>
                <p:nvPr/>
              </p:nvSpPr>
              <p:spPr>
                <a:xfrm>
                  <a:off x="7741080" y="6312960"/>
                  <a:ext cx="0" cy="13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Connecteur droit 54"/>
                <p:cNvSpPr/>
                <p:nvPr/>
              </p:nvSpPr>
              <p:spPr>
                <a:xfrm>
                  <a:off x="7673400" y="6312960"/>
                  <a:ext cx="0" cy="13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Connecteur droit 55"/>
                <p:cNvSpPr/>
                <p:nvPr/>
              </p:nvSpPr>
              <p:spPr>
                <a:xfrm>
                  <a:off x="7605360" y="6312960"/>
                  <a:ext cx="0" cy="13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Connecteur droit 56"/>
                <p:cNvSpPr/>
                <p:nvPr/>
              </p:nvSpPr>
              <p:spPr>
                <a:xfrm>
                  <a:off x="7537680" y="6243120"/>
                  <a:ext cx="0" cy="208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Connecteur droit 57"/>
                <p:cNvSpPr/>
                <p:nvPr/>
              </p:nvSpPr>
              <p:spPr>
                <a:xfrm>
                  <a:off x="7470000" y="6312960"/>
                  <a:ext cx="0" cy="13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Connecteur droit 58"/>
                <p:cNvSpPr/>
                <p:nvPr/>
              </p:nvSpPr>
              <p:spPr>
                <a:xfrm>
                  <a:off x="7401960" y="6312960"/>
                  <a:ext cx="0" cy="13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Connecteur droit 59"/>
                <p:cNvSpPr/>
                <p:nvPr/>
              </p:nvSpPr>
              <p:spPr>
                <a:xfrm>
                  <a:off x="7334280" y="6312960"/>
                  <a:ext cx="0" cy="13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Connecteur droit 60"/>
                <p:cNvSpPr/>
                <p:nvPr/>
              </p:nvSpPr>
              <p:spPr>
                <a:xfrm flipV="1">
                  <a:off x="7265880" y="6104160"/>
                  <a:ext cx="720" cy="348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4" name="Groupe 61"/>
              <p:cNvGrpSpPr/>
              <p:nvPr/>
            </p:nvGrpSpPr>
            <p:grpSpPr>
              <a:xfrm>
                <a:off x="6723720" y="6104160"/>
                <a:ext cx="542880" cy="349200"/>
                <a:chOff x="6723720" y="6104160"/>
                <a:chExt cx="542880" cy="349200"/>
              </a:xfrm>
            </p:grpSpPr>
            <p:sp>
              <p:nvSpPr>
                <p:cNvPr id="395" name="Connecteur droit 62"/>
                <p:cNvSpPr/>
                <p:nvPr/>
              </p:nvSpPr>
              <p:spPr>
                <a:xfrm flipH="1" flipV="1">
                  <a:off x="6724440" y="6451920"/>
                  <a:ext cx="54216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Connecteur droit 63"/>
                <p:cNvSpPr/>
                <p:nvPr/>
              </p:nvSpPr>
              <p:spPr>
                <a:xfrm flipV="1">
                  <a:off x="7265880" y="6104160"/>
                  <a:ext cx="720" cy="348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Connecteur droit 64"/>
                <p:cNvSpPr/>
                <p:nvPr/>
              </p:nvSpPr>
              <p:spPr>
                <a:xfrm>
                  <a:off x="7198920" y="6312960"/>
                  <a:ext cx="0" cy="13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Connecteur droit 65"/>
                <p:cNvSpPr/>
                <p:nvPr/>
              </p:nvSpPr>
              <p:spPr>
                <a:xfrm>
                  <a:off x="7131240" y="6312960"/>
                  <a:ext cx="0" cy="13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Connecteur droit 66"/>
                <p:cNvSpPr/>
                <p:nvPr/>
              </p:nvSpPr>
              <p:spPr>
                <a:xfrm>
                  <a:off x="7063200" y="6312960"/>
                  <a:ext cx="0" cy="13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Connecteur droit 67"/>
                <p:cNvSpPr/>
                <p:nvPr/>
              </p:nvSpPr>
              <p:spPr>
                <a:xfrm>
                  <a:off x="6995520" y="6243120"/>
                  <a:ext cx="0" cy="208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Connecteur droit 68"/>
                <p:cNvSpPr/>
                <p:nvPr/>
              </p:nvSpPr>
              <p:spPr>
                <a:xfrm>
                  <a:off x="6927840" y="6312960"/>
                  <a:ext cx="0" cy="13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Connecteur droit 69"/>
                <p:cNvSpPr/>
                <p:nvPr/>
              </p:nvSpPr>
              <p:spPr>
                <a:xfrm>
                  <a:off x="6859800" y="6312960"/>
                  <a:ext cx="0" cy="13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Connecteur droit 70"/>
                <p:cNvSpPr/>
                <p:nvPr/>
              </p:nvSpPr>
              <p:spPr>
                <a:xfrm>
                  <a:off x="6792120" y="6312960"/>
                  <a:ext cx="0" cy="13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Connecteur droit 71"/>
                <p:cNvSpPr/>
                <p:nvPr/>
              </p:nvSpPr>
              <p:spPr>
                <a:xfrm flipV="1">
                  <a:off x="6723720" y="6104160"/>
                  <a:ext cx="720" cy="348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05" name="Groupe 84"/>
            <p:cNvGrpSpPr/>
            <p:nvPr/>
          </p:nvGrpSpPr>
          <p:grpSpPr>
            <a:xfrm>
              <a:off x="4554360" y="6104160"/>
              <a:ext cx="2169000" cy="349200"/>
              <a:chOff x="4554360" y="6104160"/>
              <a:chExt cx="2169000" cy="349200"/>
            </a:xfrm>
          </p:grpSpPr>
          <p:grpSp>
            <p:nvGrpSpPr>
              <p:cNvPr id="406" name="Groupe 38"/>
              <p:cNvGrpSpPr/>
              <p:nvPr/>
            </p:nvGrpSpPr>
            <p:grpSpPr>
              <a:xfrm>
                <a:off x="6180480" y="6104160"/>
                <a:ext cx="542880" cy="349200"/>
                <a:chOff x="6180480" y="6104160"/>
                <a:chExt cx="542880" cy="349200"/>
              </a:xfrm>
            </p:grpSpPr>
            <p:sp>
              <p:nvSpPr>
                <p:cNvPr id="407" name="Connecteur droit 119"/>
                <p:cNvSpPr/>
                <p:nvPr/>
              </p:nvSpPr>
              <p:spPr>
                <a:xfrm flipH="1" flipV="1">
                  <a:off x="6181200" y="6451920"/>
                  <a:ext cx="54216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Connecteur droit 120"/>
                <p:cNvSpPr/>
                <p:nvPr/>
              </p:nvSpPr>
              <p:spPr>
                <a:xfrm flipV="1">
                  <a:off x="6722640" y="6104160"/>
                  <a:ext cx="720" cy="348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Connecteur droit 121"/>
                <p:cNvSpPr/>
                <p:nvPr/>
              </p:nvSpPr>
              <p:spPr>
                <a:xfrm>
                  <a:off x="6655680" y="6312960"/>
                  <a:ext cx="0" cy="13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Connecteur droit 122"/>
                <p:cNvSpPr/>
                <p:nvPr/>
              </p:nvSpPr>
              <p:spPr>
                <a:xfrm>
                  <a:off x="6588000" y="6312960"/>
                  <a:ext cx="0" cy="13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Connecteur droit 123"/>
                <p:cNvSpPr/>
                <p:nvPr/>
              </p:nvSpPr>
              <p:spPr>
                <a:xfrm>
                  <a:off x="6519960" y="6312960"/>
                  <a:ext cx="0" cy="13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Connecteur droit 124"/>
                <p:cNvSpPr/>
                <p:nvPr/>
              </p:nvSpPr>
              <p:spPr>
                <a:xfrm>
                  <a:off x="6452280" y="6243120"/>
                  <a:ext cx="0" cy="208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Connecteur droit 125"/>
                <p:cNvSpPr/>
                <p:nvPr/>
              </p:nvSpPr>
              <p:spPr>
                <a:xfrm>
                  <a:off x="6384600" y="6312960"/>
                  <a:ext cx="0" cy="13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Connecteur droit 126"/>
                <p:cNvSpPr/>
                <p:nvPr/>
              </p:nvSpPr>
              <p:spPr>
                <a:xfrm>
                  <a:off x="6316560" y="6312960"/>
                  <a:ext cx="0" cy="13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Connecteur droit 127"/>
                <p:cNvSpPr/>
                <p:nvPr/>
              </p:nvSpPr>
              <p:spPr>
                <a:xfrm>
                  <a:off x="6248880" y="6312960"/>
                  <a:ext cx="0" cy="13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Connecteur droit 128"/>
                <p:cNvSpPr/>
                <p:nvPr/>
              </p:nvSpPr>
              <p:spPr>
                <a:xfrm flipV="1">
                  <a:off x="6180480" y="6104160"/>
                  <a:ext cx="720" cy="348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7" name="Groupe 39"/>
              <p:cNvGrpSpPr/>
              <p:nvPr/>
            </p:nvGrpSpPr>
            <p:grpSpPr>
              <a:xfrm>
                <a:off x="5639040" y="6104160"/>
                <a:ext cx="542880" cy="349200"/>
                <a:chOff x="5639040" y="6104160"/>
                <a:chExt cx="542880" cy="349200"/>
              </a:xfrm>
            </p:grpSpPr>
            <p:sp>
              <p:nvSpPr>
                <p:cNvPr id="418" name="Connecteur droit 109"/>
                <p:cNvSpPr/>
                <p:nvPr/>
              </p:nvSpPr>
              <p:spPr>
                <a:xfrm flipH="1" flipV="1">
                  <a:off x="5639760" y="6451920"/>
                  <a:ext cx="54216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Connecteur droit 110"/>
                <p:cNvSpPr/>
                <p:nvPr/>
              </p:nvSpPr>
              <p:spPr>
                <a:xfrm flipV="1">
                  <a:off x="6181200" y="6104160"/>
                  <a:ext cx="720" cy="348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Connecteur droit 111"/>
                <p:cNvSpPr/>
                <p:nvPr/>
              </p:nvSpPr>
              <p:spPr>
                <a:xfrm>
                  <a:off x="6114240" y="6312960"/>
                  <a:ext cx="0" cy="13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Connecteur droit 112"/>
                <p:cNvSpPr/>
                <p:nvPr/>
              </p:nvSpPr>
              <p:spPr>
                <a:xfrm>
                  <a:off x="6046560" y="6312960"/>
                  <a:ext cx="0" cy="13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Connecteur droit 113"/>
                <p:cNvSpPr/>
                <p:nvPr/>
              </p:nvSpPr>
              <p:spPr>
                <a:xfrm>
                  <a:off x="5978520" y="6312960"/>
                  <a:ext cx="0" cy="13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Connecteur droit 114"/>
                <p:cNvSpPr/>
                <p:nvPr/>
              </p:nvSpPr>
              <p:spPr>
                <a:xfrm>
                  <a:off x="5910840" y="6243120"/>
                  <a:ext cx="0" cy="208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Connecteur droit 115"/>
                <p:cNvSpPr/>
                <p:nvPr/>
              </p:nvSpPr>
              <p:spPr>
                <a:xfrm>
                  <a:off x="5843160" y="6312960"/>
                  <a:ext cx="0" cy="13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Connecteur droit 116"/>
                <p:cNvSpPr/>
                <p:nvPr/>
              </p:nvSpPr>
              <p:spPr>
                <a:xfrm>
                  <a:off x="5775120" y="6312960"/>
                  <a:ext cx="0" cy="13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Connecteur droit 117"/>
                <p:cNvSpPr/>
                <p:nvPr/>
              </p:nvSpPr>
              <p:spPr>
                <a:xfrm>
                  <a:off x="5707440" y="6312960"/>
                  <a:ext cx="0" cy="13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Connecteur droit 118"/>
                <p:cNvSpPr/>
                <p:nvPr/>
              </p:nvSpPr>
              <p:spPr>
                <a:xfrm flipV="1">
                  <a:off x="5639040" y="6104160"/>
                  <a:ext cx="720" cy="348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8" name="Groupe 50"/>
              <p:cNvGrpSpPr/>
              <p:nvPr/>
            </p:nvGrpSpPr>
            <p:grpSpPr>
              <a:xfrm>
                <a:off x="5096520" y="6104160"/>
                <a:ext cx="542880" cy="349200"/>
                <a:chOff x="5096520" y="6104160"/>
                <a:chExt cx="542880" cy="349200"/>
              </a:xfrm>
            </p:grpSpPr>
            <p:sp>
              <p:nvSpPr>
                <p:cNvPr id="429" name="Connecteur droit 99"/>
                <p:cNvSpPr/>
                <p:nvPr/>
              </p:nvSpPr>
              <p:spPr>
                <a:xfrm flipH="1" flipV="1">
                  <a:off x="5097240" y="6451920"/>
                  <a:ext cx="54216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Connecteur droit 100"/>
                <p:cNvSpPr/>
                <p:nvPr/>
              </p:nvSpPr>
              <p:spPr>
                <a:xfrm flipV="1">
                  <a:off x="5638680" y="6104160"/>
                  <a:ext cx="720" cy="348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Connecteur droit 101"/>
                <p:cNvSpPr/>
                <p:nvPr/>
              </p:nvSpPr>
              <p:spPr>
                <a:xfrm>
                  <a:off x="5571720" y="6312960"/>
                  <a:ext cx="0" cy="13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Connecteur droit 102"/>
                <p:cNvSpPr/>
                <p:nvPr/>
              </p:nvSpPr>
              <p:spPr>
                <a:xfrm>
                  <a:off x="5504040" y="6312960"/>
                  <a:ext cx="0" cy="13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Connecteur droit 103"/>
                <p:cNvSpPr/>
                <p:nvPr/>
              </p:nvSpPr>
              <p:spPr>
                <a:xfrm>
                  <a:off x="5436000" y="6312960"/>
                  <a:ext cx="0" cy="13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Connecteur droit 104"/>
                <p:cNvSpPr/>
                <p:nvPr/>
              </p:nvSpPr>
              <p:spPr>
                <a:xfrm>
                  <a:off x="5368320" y="6243120"/>
                  <a:ext cx="0" cy="208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Connecteur droit 105"/>
                <p:cNvSpPr/>
                <p:nvPr/>
              </p:nvSpPr>
              <p:spPr>
                <a:xfrm>
                  <a:off x="5300640" y="6312960"/>
                  <a:ext cx="0" cy="13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Connecteur droit 106"/>
                <p:cNvSpPr/>
                <p:nvPr/>
              </p:nvSpPr>
              <p:spPr>
                <a:xfrm>
                  <a:off x="5232600" y="6312960"/>
                  <a:ext cx="0" cy="13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Connecteur droit 107"/>
                <p:cNvSpPr/>
                <p:nvPr/>
              </p:nvSpPr>
              <p:spPr>
                <a:xfrm>
                  <a:off x="5164920" y="6312960"/>
                  <a:ext cx="0" cy="13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Connecteur droit 108"/>
                <p:cNvSpPr/>
                <p:nvPr/>
              </p:nvSpPr>
              <p:spPr>
                <a:xfrm flipV="1">
                  <a:off x="5096520" y="6104160"/>
                  <a:ext cx="720" cy="348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9" name="Groupe 61"/>
              <p:cNvGrpSpPr/>
              <p:nvPr/>
            </p:nvGrpSpPr>
            <p:grpSpPr>
              <a:xfrm>
                <a:off x="4554360" y="6104160"/>
                <a:ext cx="542880" cy="349200"/>
                <a:chOff x="4554360" y="6104160"/>
                <a:chExt cx="542880" cy="349200"/>
              </a:xfrm>
            </p:grpSpPr>
            <p:sp>
              <p:nvSpPr>
                <p:cNvPr id="440" name="Connecteur droit 89"/>
                <p:cNvSpPr/>
                <p:nvPr/>
              </p:nvSpPr>
              <p:spPr>
                <a:xfrm flipH="1" flipV="1">
                  <a:off x="4555080" y="6451920"/>
                  <a:ext cx="54216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Connecteur droit 90"/>
                <p:cNvSpPr/>
                <p:nvPr/>
              </p:nvSpPr>
              <p:spPr>
                <a:xfrm flipV="1">
                  <a:off x="5096520" y="6104160"/>
                  <a:ext cx="720" cy="348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Connecteur droit 91"/>
                <p:cNvSpPr/>
                <p:nvPr/>
              </p:nvSpPr>
              <p:spPr>
                <a:xfrm>
                  <a:off x="5029560" y="6312960"/>
                  <a:ext cx="0" cy="13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Connecteur droit 92"/>
                <p:cNvSpPr/>
                <p:nvPr/>
              </p:nvSpPr>
              <p:spPr>
                <a:xfrm>
                  <a:off x="4961880" y="6312960"/>
                  <a:ext cx="0" cy="13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Connecteur droit 93"/>
                <p:cNvSpPr/>
                <p:nvPr/>
              </p:nvSpPr>
              <p:spPr>
                <a:xfrm>
                  <a:off x="4893840" y="6312960"/>
                  <a:ext cx="0" cy="13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Connecteur droit 94"/>
                <p:cNvSpPr/>
                <p:nvPr/>
              </p:nvSpPr>
              <p:spPr>
                <a:xfrm>
                  <a:off x="4826160" y="6243120"/>
                  <a:ext cx="0" cy="208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Connecteur droit 95"/>
                <p:cNvSpPr/>
                <p:nvPr/>
              </p:nvSpPr>
              <p:spPr>
                <a:xfrm>
                  <a:off x="4758480" y="6312960"/>
                  <a:ext cx="0" cy="13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Connecteur droit 96"/>
                <p:cNvSpPr/>
                <p:nvPr/>
              </p:nvSpPr>
              <p:spPr>
                <a:xfrm>
                  <a:off x="4690440" y="6312960"/>
                  <a:ext cx="0" cy="13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Connecteur droit 97"/>
                <p:cNvSpPr/>
                <p:nvPr/>
              </p:nvSpPr>
              <p:spPr>
                <a:xfrm>
                  <a:off x="4622760" y="6312960"/>
                  <a:ext cx="0" cy="13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Connecteur droit 98"/>
                <p:cNvSpPr/>
                <p:nvPr/>
              </p:nvSpPr>
              <p:spPr>
                <a:xfrm flipV="1">
                  <a:off x="4554360" y="6104160"/>
                  <a:ext cx="720" cy="348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0" name="Groupe 129"/>
            <p:cNvGrpSpPr/>
            <p:nvPr/>
          </p:nvGrpSpPr>
          <p:grpSpPr>
            <a:xfrm>
              <a:off x="2385000" y="6104160"/>
              <a:ext cx="2169000" cy="349200"/>
              <a:chOff x="2385000" y="6104160"/>
              <a:chExt cx="2169000" cy="349200"/>
            </a:xfrm>
          </p:grpSpPr>
          <p:grpSp>
            <p:nvGrpSpPr>
              <p:cNvPr id="451" name="Groupe 38"/>
              <p:cNvGrpSpPr/>
              <p:nvPr/>
            </p:nvGrpSpPr>
            <p:grpSpPr>
              <a:xfrm>
                <a:off x="4011120" y="6104160"/>
                <a:ext cx="542880" cy="349200"/>
                <a:chOff x="4011120" y="6104160"/>
                <a:chExt cx="542880" cy="349200"/>
              </a:xfrm>
            </p:grpSpPr>
            <p:sp>
              <p:nvSpPr>
                <p:cNvPr id="452" name="Connecteur droit 164"/>
                <p:cNvSpPr/>
                <p:nvPr/>
              </p:nvSpPr>
              <p:spPr>
                <a:xfrm flipH="1" flipV="1">
                  <a:off x="4011840" y="6451920"/>
                  <a:ext cx="54216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Connecteur droit 165"/>
                <p:cNvSpPr/>
                <p:nvPr/>
              </p:nvSpPr>
              <p:spPr>
                <a:xfrm flipV="1">
                  <a:off x="4553280" y="6104160"/>
                  <a:ext cx="720" cy="348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Connecteur droit 166"/>
                <p:cNvSpPr/>
                <p:nvPr/>
              </p:nvSpPr>
              <p:spPr>
                <a:xfrm>
                  <a:off x="4486320" y="6312960"/>
                  <a:ext cx="0" cy="13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Connecteur droit 167"/>
                <p:cNvSpPr/>
                <p:nvPr/>
              </p:nvSpPr>
              <p:spPr>
                <a:xfrm>
                  <a:off x="4418640" y="6312960"/>
                  <a:ext cx="0" cy="13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Connecteur droit 168"/>
                <p:cNvSpPr/>
                <p:nvPr/>
              </p:nvSpPr>
              <p:spPr>
                <a:xfrm>
                  <a:off x="4350600" y="6312960"/>
                  <a:ext cx="0" cy="13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Connecteur droit 169"/>
                <p:cNvSpPr/>
                <p:nvPr/>
              </p:nvSpPr>
              <p:spPr>
                <a:xfrm>
                  <a:off x="4282920" y="6243120"/>
                  <a:ext cx="0" cy="208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Connecteur droit 170"/>
                <p:cNvSpPr/>
                <p:nvPr/>
              </p:nvSpPr>
              <p:spPr>
                <a:xfrm>
                  <a:off x="4215240" y="6312960"/>
                  <a:ext cx="0" cy="13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Connecteur droit 171"/>
                <p:cNvSpPr/>
                <p:nvPr/>
              </p:nvSpPr>
              <p:spPr>
                <a:xfrm>
                  <a:off x="4147200" y="6312960"/>
                  <a:ext cx="0" cy="13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Connecteur droit 172"/>
                <p:cNvSpPr/>
                <p:nvPr/>
              </p:nvSpPr>
              <p:spPr>
                <a:xfrm>
                  <a:off x="4079520" y="6312960"/>
                  <a:ext cx="0" cy="13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Connecteur droit 173"/>
                <p:cNvSpPr/>
                <p:nvPr/>
              </p:nvSpPr>
              <p:spPr>
                <a:xfrm flipV="1">
                  <a:off x="4011120" y="6104160"/>
                  <a:ext cx="720" cy="348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2" name="Groupe 39"/>
              <p:cNvGrpSpPr/>
              <p:nvPr/>
            </p:nvGrpSpPr>
            <p:grpSpPr>
              <a:xfrm>
                <a:off x="3469680" y="6104160"/>
                <a:ext cx="542880" cy="349200"/>
                <a:chOff x="3469680" y="6104160"/>
                <a:chExt cx="542880" cy="349200"/>
              </a:xfrm>
            </p:grpSpPr>
            <p:sp>
              <p:nvSpPr>
                <p:cNvPr id="463" name="Connecteur droit 154"/>
                <p:cNvSpPr/>
                <p:nvPr/>
              </p:nvSpPr>
              <p:spPr>
                <a:xfrm flipH="1" flipV="1">
                  <a:off x="3470400" y="6451920"/>
                  <a:ext cx="54216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Connecteur droit 155"/>
                <p:cNvSpPr/>
                <p:nvPr/>
              </p:nvSpPr>
              <p:spPr>
                <a:xfrm flipV="1">
                  <a:off x="4011840" y="6104160"/>
                  <a:ext cx="720" cy="348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Connecteur droit 156"/>
                <p:cNvSpPr/>
                <p:nvPr/>
              </p:nvSpPr>
              <p:spPr>
                <a:xfrm>
                  <a:off x="3944880" y="6312960"/>
                  <a:ext cx="0" cy="13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Connecteur droit 157"/>
                <p:cNvSpPr/>
                <p:nvPr/>
              </p:nvSpPr>
              <p:spPr>
                <a:xfrm>
                  <a:off x="3877200" y="6312960"/>
                  <a:ext cx="0" cy="13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Connecteur droit 158"/>
                <p:cNvSpPr/>
                <p:nvPr/>
              </p:nvSpPr>
              <p:spPr>
                <a:xfrm>
                  <a:off x="3809160" y="6312960"/>
                  <a:ext cx="0" cy="13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Connecteur droit 159"/>
                <p:cNvSpPr/>
                <p:nvPr/>
              </p:nvSpPr>
              <p:spPr>
                <a:xfrm>
                  <a:off x="3741480" y="6243120"/>
                  <a:ext cx="0" cy="208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Connecteur droit 160"/>
                <p:cNvSpPr/>
                <p:nvPr/>
              </p:nvSpPr>
              <p:spPr>
                <a:xfrm>
                  <a:off x="3673800" y="6312960"/>
                  <a:ext cx="0" cy="13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Connecteur droit 161"/>
                <p:cNvSpPr/>
                <p:nvPr/>
              </p:nvSpPr>
              <p:spPr>
                <a:xfrm>
                  <a:off x="3605760" y="6312960"/>
                  <a:ext cx="0" cy="13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Connecteur droit 162"/>
                <p:cNvSpPr/>
                <p:nvPr/>
              </p:nvSpPr>
              <p:spPr>
                <a:xfrm>
                  <a:off x="3538080" y="6312960"/>
                  <a:ext cx="0" cy="13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Connecteur droit 163"/>
                <p:cNvSpPr/>
                <p:nvPr/>
              </p:nvSpPr>
              <p:spPr>
                <a:xfrm flipV="1">
                  <a:off x="3469680" y="6104160"/>
                  <a:ext cx="720" cy="348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3" name="Groupe 50"/>
              <p:cNvGrpSpPr/>
              <p:nvPr/>
            </p:nvGrpSpPr>
            <p:grpSpPr>
              <a:xfrm>
                <a:off x="2927160" y="6104160"/>
                <a:ext cx="542880" cy="349200"/>
                <a:chOff x="2927160" y="6104160"/>
                <a:chExt cx="542880" cy="349200"/>
              </a:xfrm>
            </p:grpSpPr>
            <p:sp>
              <p:nvSpPr>
                <p:cNvPr id="474" name="Connecteur droit 144"/>
                <p:cNvSpPr/>
                <p:nvPr/>
              </p:nvSpPr>
              <p:spPr>
                <a:xfrm flipH="1" flipV="1">
                  <a:off x="2927880" y="6451920"/>
                  <a:ext cx="54216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Connecteur droit 145"/>
                <p:cNvSpPr/>
                <p:nvPr/>
              </p:nvSpPr>
              <p:spPr>
                <a:xfrm flipV="1">
                  <a:off x="3469320" y="6104160"/>
                  <a:ext cx="720" cy="348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Connecteur droit 146"/>
                <p:cNvSpPr/>
                <p:nvPr/>
              </p:nvSpPr>
              <p:spPr>
                <a:xfrm>
                  <a:off x="3402360" y="6312960"/>
                  <a:ext cx="0" cy="13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Connecteur droit 147"/>
                <p:cNvSpPr/>
                <p:nvPr/>
              </p:nvSpPr>
              <p:spPr>
                <a:xfrm>
                  <a:off x="3334680" y="6312960"/>
                  <a:ext cx="0" cy="13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Connecteur droit 148"/>
                <p:cNvSpPr/>
                <p:nvPr/>
              </p:nvSpPr>
              <p:spPr>
                <a:xfrm>
                  <a:off x="3266640" y="6312960"/>
                  <a:ext cx="0" cy="13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Connecteur droit 149"/>
                <p:cNvSpPr/>
                <p:nvPr/>
              </p:nvSpPr>
              <p:spPr>
                <a:xfrm>
                  <a:off x="3198960" y="6243120"/>
                  <a:ext cx="0" cy="208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Connecteur droit 150"/>
                <p:cNvSpPr/>
                <p:nvPr/>
              </p:nvSpPr>
              <p:spPr>
                <a:xfrm>
                  <a:off x="3131280" y="6312960"/>
                  <a:ext cx="0" cy="13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Connecteur droit 151"/>
                <p:cNvSpPr/>
                <p:nvPr/>
              </p:nvSpPr>
              <p:spPr>
                <a:xfrm>
                  <a:off x="3063240" y="6312960"/>
                  <a:ext cx="0" cy="13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Connecteur droit 152"/>
                <p:cNvSpPr/>
                <p:nvPr/>
              </p:nvSpPr>
              <p:spPr>
                <a:xfrm>
                  <a:off x="2995560" y="6312960"/>
                  <a:ext cx="0" cy="13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Connecteur droit 153"/>
                <p:cNvSpPr/>
                <p:nvPr/>
              </p:nvSpPr>
              <p:spPr>
                <a:xfrm flipV="1">
                  <a:off x="2927160" y="6104160"/>
                  <a:ext cx="720" cy="348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4" name="Groupe 61"/>
              <p:cNvGrpSpPr/>
              <p:nvPr/>
            </p:nvGrpSpPr>
            <p:grpSpPr>
              <a:xfrm>
                <a:off x="2385000" y="6104160"/>
                <a:ext cx="542880" cy="349200"/>
                <a:chOff x="2385000" y="6104160"/>
                <a:chExt cx="542880" cy="349200"/>
              </a:xfrm>
            </p:grpSpPr>
            <p:sp>
              <p:nvSpPr>
                <p:cNvPr id="485" name="Connecteur droit 134"/>
                <p:cNvSpPr/>
                <p:nvPr/>
              </p:nvSpPr>
              <p:spPr>
                <a:xfrm flipH="1" flipV="1">
                  <a:off x="2385720" y="6451920"/>
                  <a:ext cx="54216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Connecteur droit 135"/>
                <p:cNvSpPr/>
                <p:nvPr/>
              </p:nvSpPr>
              <p:spPr>
                <a:xfrm flipV="1">
                  <a:off x="2927160" y="6104160"/>
                  <a:ext cx="720" cy="348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Connecteur droit 136"/>
                <p:cNvSpPr/>
                <p:nvPr/>
              </p:nvSpPr>
              <p:spPr>
                <a:xfrm>
                  <a:off x="2860200" y="6312960"/>
                  <a:ext cx="0" cy="13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Connecteur droit 137"/>
                <p:cNvSpPr/>
                <p:nvPr/>
              </p:nvSpPr>
              <p:spPr>
                <a:xfrm>
                  <a:off x="2792520" y="6312960"/>
                  <a:ext cx="0" cy="13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Connecteur droit 138"/>
                <p:cNvSpPr/>
                <p:nvPr/>
              </p:nvSpPr>
              <p:spPr>
                <a:xfrm>
                  <a:off x="2724480" y="6312960"/>
                  <a:ext cx="0" cy="13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Connecteur droit 139"/>
                <p:cNvSpPr/>
                <p:nvPr/>
              </p:nvSpPr>
              <p:spPr>
                <a:xfrm>
                  <a:off x="2656800" y="6243120"/>
                  <a:ext cx="0" cy="208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Connecteur droit 140"/>
                <p:cNvSpPr/>
                <p:nvPr/>
              </p:nvSpPr>
              <p:spPr>
                <a:xfrm>
                  <a:off x="2589120" y="6312960"/>
                  <a:ext cx="0" cy="13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Connecteur droit 141"/>
                <p:cNvSpPr/>
                <p:nvPr/>
              </p:nvSpPr>
              <p:spPr>
                <a:xfrm>
                  <a:off x="2521080" y="6312960"/>
                  <a:ext cx="0" cy="13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Connecteur droit 142"/>
                <p:cNvSpPr/>
                <p:nvPr/>
              </p:nvSpPr>
              <p:spPr>
                <a:xfrm>
                  <a:off x="2453400" y="6312960"/>
                  <a:ext cx="0" cy="13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Connecteur droit 143"/>
                <p:cNvSpPr/>
                <p:nvPr/>
              </p:nvSpPr>
              <p:spPr>
                <a:xfrm flipV="1">
                  <a:off x="2385000" y="6104160"/>
                  <a:ext cx="720" cy="348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5" name="Groupe 174"/>
            <p:cNvGrpSpPr/>
            <p:nvPr/>
          </p:nvGrpSpPr>
          <p:grpSpPr>
            <a:xfrm>
              <a:off x="216000" y="6104160"/>
              <a:ext cx="2169000" cy="349200"/>
              <a:chOff x="216000" y="6104160"/>
              <a:chExt cx="2169000" cy="349200"/>
            </a:xfrm>
          </p:grpSpPr>
          <p:grpSp>
            <p:nvGrpSpPr>
              <p:cNvPr id="496" name="Groupe 38"/>
              <p:cNvGrpSpPr/>
              <p:nvPr/>
            </p:nvGrpSpPr>
            <p:grpSpPr>
              <a:xfrm>
                <a:off x="1842120" y="6104160"/>
                <a:ext cx="542880" cy="349200"/>
                <a:chOff x="1842120" y="6104160"/>
                <a:chExt cx="542880" cy="349200"/>
              </a:xfrm>
            </p:grpSpPr>
            <p:sp>
              <p:nvSpPr>
                <p:cNvPr id="497" name="Connecteur droit 209"/>
                <p:cNvSpPr/>
                <p:nvPr/>
              </p:nvSpPr>
              <p:spPr>
                <a:xfrm flipH="1" flipV="1">
                  <a:off x="1842840" y="6451920"/>
                  <a:ext cx="54216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Connecteur droit 210"/>
                <p:cNvSpPr/>
                <p:nvPr/>
              </p:nvSpPr>
              <p:spPr>
                <a:xfrm flipV="1">
                  <a:off x="2384280" y="6104160"/>
                  <a:ext cx="720" cy="348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Connecteur droit 211"/>
                <p:cNvSpPr/>
                <p:nvPr/>
              </p:nvSpPr>
              <p:spPr>
                <a:xfrm>
                  <a:off x="2317320" y="6312960"/>
                  <a:ext cx="0" cy="13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Connecteur droit 212"/>
                <p:cNvSpPr/>
                <p:nvPr/>
              </p:nvSpPr>
              <p:spPr>
                <a:xfrm>
                  <a:off x="2249640" y="6312960"/>
                  <a:ext cx="0" cy="13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Connecteur droit 213"/>
                <p:cNvSpPr/>
                <p:nvPr/>
              </p:nvSpPr>
              <p:spPr>
                <a:xfrm>
                  <a:off x="2181600" y="6312960"/>
                  <a:ext cx="0" cy="13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Connecteur droit 214"/>
                <p:cNvSpPr/>
                <p:nvPr/>
              </p:nvSpPr>
              <p:spPr>
                <a:xfrm>
                  <a:off x="2113920" y="6243120"/>
                  <a:ext cx="0" cy="208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" name="Connecteur droit 215"/>
                <p:cNvSpPr/>
                <p:nvPr/>
              </p:nvSpPr>
              <p:spPr>
                <a:xfrm>
                  <a:off x="2046240" y="6312960"/>
                  <a:ext cx="0" cy="13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" name="Connecteur droit 216"/>
                <p:cNvSpPr/>
                <p:nvPr/>
              </p:nvSpPr>
              <p:spPr>
                <a:xfrm>
                  <a:off x="1978200" y="6312960"/>
                  <a:ext cx="0" cy="13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Connecteur droit 217"/>
                <p:cNvSpPr/>
                <p:nvPr/>
              </p:nvSpPr>
              <p:spPr>
                <a:xfrm>
                  <a:off x="1910520" y="6312960"/>
                  <a:ext cx="0" cy="13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Connecteur droit 218"/>
                <p:cNvSpPr/>
                <p:nvPr/>
              </p:nvSpPr>
              <p:spPr>
                <a:xfrm flipV="1">
                  <a:off x="1842120" y="6104160"/>
                  <a:ext cx="720" cy="348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7" name="Groupe 39"/>
              <p:cNvGrpSpPr/>
              <p:nvPr/>
            </p:nvGrpSpPr>
            <p:grpSpPr>
              <a:xfrm>
                <a:off x="1300680" y="6104160"/>
                <a:ext cx="542880" cy="349200"/>
                <a:chOff x="1300680" y="6104160"/>
                <a:chExt cx="542880" cy="349200"/>
              </a:xfrm>
            </p:grpSpPr>
            <p:sp>
              <p:nvSpPr>
                <p:cNvPr id="508" name="Connecteur droit 199"/>
                <p:cNvSpPr/>
                <p:nvPr/>
              </p:nvSpPr>
              <p:spPr>
                <a:xfrm flipH="1" flipV="1">
                  <a:off x="1301400" y="6451920"/>
                  <a:ext cx="54216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Connecteur droit 200"/>
                <p:cNvSpPr/>
                <p:nvPr/>
              </p:nvSpPr>
              <p:spPr>
                <a:xfrm flipV="1">
                  <a:off x="1842840" y="6104160"/>
                  <a:ext cx="720" cy="348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Connecteur droit 201"/>
                <p:cNvSpPr/>
                <p:nvPr/>
              </p:nvSpPr>
              <p:spPr>
                <a:xfrm>
                  <a:off x="1775880" y="6312960"/>
                  <a:ext cx="0" cy="13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Connecteur droit 202"/>
                <p:cNvSpPr/>
                <p:nvPr/>
              </p:nvSpPr>
              <p:spPr>
                <a:xfrm>
                  <a:off x="1708200" y="6312960"/>
                  <a:ext cx="0" cy="13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Connecteur droit 203"/>
                <p:cNvSpPr/>
                <p:nvPr/>
              </p:nvSpPr>
              <p:spPr>
                <a:xfrm>
                  <a:off x="1640160" y="6312960"/>
                  <a:ext cx="0" cy="13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Connecteur droit 204"/>
                <p:cNvSpPr/>
                <p:nvPr/>
              </p:nvSpPr>
              <p:spPr>
                <a:xfrm>
                  <a:off x="1572480" y="6243120"/>
                  <a:ext cx="0" cy="208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Connecteur droit 205"/>
                <p:cNvSpPr/>
                <p:nvPr/>
              </p:nvSpPr>
              <p:spPr>
                <a:xfrm>
                  <a:off x="1504800" y="6312960"/>
                  <a:ext cx="0" cy="13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Connecteur droit 206"/>
                <p:cNvSpPr/>
                <p:nvPr/>
              </p:nvSpPr>
              <p:spPr>
                <a:xfrm>
                  <a:off x="1436760" y="6312960"/>
                  <a:ext cx="0" cy="13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Connecteur droit 207"/>
                <p:cNvSpPr/>
                <p:nvPr/>
              </p:nvSpPr>
              <p:spPr>
                <a:xfrm>
                  <a:off x="1369080" y="6312960"/>
                  <a:ext cx="0" cy="13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Connecteur droit 208"/>
                <p:cNvSpPr/>
                <p:nvPr/>
              </p:nvSpPr>
              <p:spPr>
                <a:xfrm flipV="1">
                  <a:off x="1300680" y="6104160"/>
                  <a:ext cx="720" cy="348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8" name="Groupe 50"/>
              <p:cNvGrpSpPr/>
              <p:nvPr/>
            </p:nvGrpSpPr>
            <p:grpSpPr>
              <a:xfrm>
                <a:off x="758160" y="6104160"/>
                <a:ext cx="542880" cy="349200"/>
                <a:chOff x="758160" y="6104160"/>
                <a:chExt cx="542880" cy="349200"/>
              </a:xfrm>
            </p:grpSpPr>
            <p:sp>
              <p:nvSpPr>
                <p:cNvPr id="519" name="Connecteur droit 189"/>
                <p:cNvSpPr/>
                <p:nvPr/>
              </p:nvSpPr>
              <p:spPr>
                <a:xfrm flipH="1" flipV="1">
                  <a:off x="758880" y="6451920"/>
                  <a:ext cx="54216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Connecteur droit 190"/>
                <p:cNvSpPr/>
                <p:nvPr/>
              </p:nvSpPr>
              <p:spPr>
                <a:xfrm flipV="1">
                  <a:off x="1300320" y="6104160"/>
                  <a:ext cx="720" cy="348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Connecteur droit 191"/>
                <p:cNvSpPr/>
                <p:nvPr/>
              </p:nvSpPr>
              <p:spPr>
                <a:xfrm>
                  <a:off x="1233360" y="6312960"/>
                  <a:ext cx="0" cy="13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Connecteur droit 192"/>
                <p:cNvSpPr/>
                <p:nvPr/>
              </p:nvSpPr>
              <p:spPr>
                <a:xfrm>
                  <a:off x="1165680" y="6312960"/>
                  <a:ext cx="0" cy="13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Connecteur droit 193"/>
                <p:cNvSpPr/>
                <p:nvPr/>
              </p:nvSpPr>
              <p:spPr>
                <a:xfrm>
                  <a:off x="1097640" y="6312960"/>
                  <a:ext cx="0" cy="13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Connecteur droit 194"/>
                <p:cNvSpPr/>
                <p:nvPr/>
              </p:nvSpPr>
              <p:spPr>
                <a:xfrm>
                  <a:off x="1029960" y="6243120"/>
                  <a:ext cx="0" cy="208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Connecteur droit 195"/>
                <p:cNvSpPr/>
                <p:nvPr/>
              </p:nvSpPr>
              <p:spPr>
                <a:xfrm>
                  <a:off x="962280" y="6312960"/>
                  <a:ext cx="0" cy="13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Connecteur droit 196"/>
                <p:cNvSpPr/>
                <p:nvPr/>
              </p:nvSpPr>
              <p:spPr>
                <a:xfrm>
                  <a:off x="894240" y="6312960"/>
                  <a:ext cx="0" cy="13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Connecteur droit 197"/>
                <p:cNvSpPr/>
                <p:nvPr/>
              </p:nvSpPr>
              <p:spPr>
                <a:xfrm>
                  <a:off x="826560" y="6312960"/>
                  <a:ext cx="0" cy="13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Connecteur droit 198"/>
                <p:cNvSpPr/>
                <p:nvPr/>
              </p:nvSpPr>
              <p:spPr>
                <a:xfrm flipV="1">
                  <a:off x="758160" y="6104160"/>
                  <a:ext cx="720" cy="348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9" name="Groupe 61"/>
              <p:cNvGrpSpPr/>
              <p:nvPr/>
            </p:nvGrpSpPr>
            <p:grpSpPr>
              <a:xfrm>
                <a:off x="216000" y="6104160"/>
                <a:ext cx="542880" cy="349200"/>
                <a:chOff x="216000" y="6104160"/>
                <a:chExt cx="542880" cy="349200"/>
              </a:xfrm>
            </p:grpSpPr>
            <p:sp>
              <p:nvSpPr>
                <p:cNvPr id="530" name="Connecteur droit 179"/>
                <p:cNvSpPr/>
                <p:nvPr/>
              </p:nvSpPr>
              <p:spPr>
                <a:xfrm flipH="1" flipV="1">
                  <a:off x="216720" y="6451920"/>
                  <a:ext cx="54216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Connecteur droit 180"/>
                <p:cNvSpPr/>
                <p:nvPr/>
              </p:nvSpPr>
              <p:spPr>
                <a:xfrm flipV="1">
                  <a:off x="758160" y="6104160"/>
                  <a:ext cx="720" cy="348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Connecteur droit 181"/>
                <p:cNvSpPr/>
                <p:nvPr/>
              </p:nvSpPr>
              <p:spPr>
                <a:xfrm>
                  <a:off x="691200" y="6312960"/>
                  <a:ext cx="0" cy="13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Connecteur droit 182"/>
                <p:cNvSpPr/>
                <p:nvPr/>
              </p:nvSpPr>
              <p:spPr>
                <a:xfrm>
                  <a:off x="623520" y="6312960"/>
                  <a:ext cx="0" cy="13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Connecteur droit 183"/>
                <p:cNvSpPr/>
                <p:nvPr/>
              </p:nvSpPr>
              <p:spPr>
                <a:xfrm>
                  <a:off x="555480" y="6312960"/>
                  <a:ext cx="0" cy="13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Connecteur droit 184"/>
                <p:cNvSpPr/>
                <p:nvPr/>
              </p:nvSpPr>
              <p:spPr>
                <a:xfrm>
                  <a:off x="487800" y="6243120"/>
                  <a:ext cx="0" cy="208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Connecteur droit 185"/>
                <p:cNvSpPr/>
                <p:nvPr/>
              </p:nvSpPr>
              <p:spPr>
                <a:xfrm>
                  <a:off x="420120" y="6312960"/>
                  <a:ext cx="0" cy="13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Connecteur droit 186"/>
                <p:cNvSpPr/>
                <p:nvPr/>
              </p:nvSpPr>
              <p:spPr>
                <a:xfrm>
                  <a:off x="352080" y="6312960"/>
                  <a:ext cx="0" cy="13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Connecteur droit 187"/>
                <p:cNvSpPr/>
                <p:nvPr/>
              </p:nvSpPr>
              <p:spPr>
                <a:xfrm>
                  <a:off x="284400" y="6312960"/>
                  <a:ext cx="0" cy="13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Connecteur droit 188"/>
                <p:cNvSpPr/>
                <p:nvPr/>
              </p:nvSpPr>
              <p:spPr>
                <a:xfrm flipV="1">
                  <a:off x="216000" y="6104160"/>
                  <a:ext cx="720" cy="348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0" name="Rectangle 219"/>
            <p:cNvSpPr/>
            <p:nvPr/>
          </p:nvSpPr>
          <p:spPr>
            <a:xfrm>
              <a:off x="216000" y="4714920"/>
              <a:ext cx="2170080" cy="347760"/>
            </a:xfrm>
            <a:prstGeom prst="rect">
              <a:avLst/>
            </a:prstGeom>
            <a:solidFill>
              <a:srgbClr val="a5cae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Rectangle 223"/>
            <p:cNvSpPr/>
            <p:nvPr/>
          </p:nvSpPr>
          <p:spPr>
            <a:xfrm>
              <a:off x="2386080" y="4714920"/>
              <a:ext cx="2168280" cy="347760"/>
            </a:xfrm>
            <a:prstGeom prst="rect">
              <a:avLst/>
            </a:prstGeom>
            <a:solidFill>
              <a:srgbClr val="a5cae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Rectangle 224"/>
            <p:cNvSpPr/>
            <p:nvPr/>
          </p:nvSpPr>
          <p:spPr>
            <a:xfrm>
              <a:off x="4554720" y="4714920"/>
              <a:ext cx="2170080" cy="347760"/>
            </a:xfrm>
            <a:prstGeom prst="rect">
              <a:avLst/>
            </a:prstGeom>
            <a:solidFill>
              <a:srgbClr val="a5cae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Rectangle 225"/>
            <p:cNvSpPr/>
            <p:nvPr/>
          </p:nvSpPr>
          <p:spPr>
            <a:xfrm>
              <a:off x="6724800" y="4714920"/>
              <a:ext cx="2168280" cy="347760"/>
            </a:xfrm>
            <a:prstGeom prst="rect">
              <a:avLst/>
            </a:prstGeom>
            <a:solidFill>
              <a:srgbClr val="a5cae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Rectangle 227"/>
            <p:cNvSpPr/>
            <p:nvPr/>
          </p:nvSpPr>
          <p:spPr>
            <a:xfrm>
              <a:off x="216000" y="5062680"/>
              <a:ext cx="2170080" cy="347400"/>
            </a:xfrm>
            <a:prstGeom prst="rect">
              <a:avLst/>
            </a:prstGeom>
            <a:solidFill>
              <a:srgbClr val="a5cae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Rectangle 228"/>
            <p:cNvSpPr/>
            <p:nvPr/>
          </p:nvSpPr>
          <p:spPr>
            <a:xfrm>
              <a:off x="2386080" y="5062680"/>
              <a:ext cx="541080" cy="347400"/>
            </a:xfrm>
            <a:prstGeom prst="rect">
              <a:avLst/>
            </a:prstGeom>
            <a:solidFill>
              <a:srgbClr val="a5cae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Rectangle 229"/>
            <p:cNvSpPr/>
            <p:nvPr/>
          </p:nvSpPr>
          <p:spPr>
            <a:xfrm>
              <a:off x="2927160" y="5062680"/>
              <a:ext cx="542880" cy="347400"/>
            </a:xfrm>
            <a:prstGeom prst="rect">
              <a:avLst/>
            </a:prstGeom>
            <a:solidFill>
              <a:srgbClr val="a5cae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Rectangle 230"/>
            <p:cNvSpPr/>
            <p:nvPr/>
          </p:nvSpPr>
          <p:spPr>
            <a:xfrm>
              <a:off x="3470400" y="5062680"/>
              <a:ext cx="1083960" cy="347400"/>
            </a:xfrm>
            <a:prstGeom prst="rect">
              <a:avLst/>
            </a:prstGeom>
            <a:solidFill>
              <a:srgbClr val="a5cae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Rectangle 234"/>
            <p:cNvSpPr/>
            <p:nvPr/>
          </p:nvSpPr>
          <p:spPr>
            <a:xfrm>
              <a:off x="216000" y="5410080"/>
              <a:ext cx="2170080" cy="347760"/>
            </a:xfrm>
            <a:prstGeom prst="rect">
              <a:avLst/>
            </a:prstGeom>
            <a:solidFill>
              <a:srgbClr val="a5cae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Rectangle 235"/>
            <p:cNvSpPr/>
            <p:nvPr/>
          </p:nvSpPr>
          <p:spPr>
            <a:xfrm>
              <a:off x="2386080" y="5410080"/>
              <a:ext cx="66600" cy="347760"/>
            </a:xfrm>
            <a:prstGeom prst="rect">
              <a:avLst/>
            </a:prstGeom>
            <a:solidFill>
              <a:srgbClr val="a5cae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Rectangle 236"/>
            <p:cNvSpPr/>
            <p:nvPr/>
          </p:nvSpPr>
          <p:spPr>
            <a:xfrm>
              <a:off x="2521080" y="5410080"/>
              <a:ext cx="271440" cy="347760"/>
            </a:xfrm>
            <a:prstGeom prst="rect">
              <a:avLst/>
            </a:prstGeom>
            <a:solidFill>
              <a:srgbClr val="a5cae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Rectangle 237"/>
            <p:cNvSpPr/>
            <p:nvPr/>
          </p:nvSpPr>
          <p:spPr>
            <a:xfrm>
              <a:off x="2452680" y="5410080"/>
              <a:ext cx="68040" cy="347760"/>
            </a:xfrm>
            <a:prstGeom prst="rect">
              <a:avLst/>
            </a:prstGeom>
            <a:solidFill>
              <a:srgbClr val="a5cae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ck aspect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The pack aspect (or pragma) applies to composite types (record and arrays)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It asks the compiler to optimize data structure for size no matter the performance impact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554" name=""/>
          <p:cNvGraphicFramePr/>
          <p:nvPr/>
        </p:nvGraphicFramePr>
        <p:xfrm>
          <a:off x="539640" y="4124160"/>
          <a:ext cx="3888000" cy="2103480"/>
        </p:xfrm>
        <a:graphic>
          <a:graphicData uri="http://schemas.openxmlformats.org/drawingml/2006/table">
            <a:tbl>
              <a:tblPr/>
              <a:tblGrid>
                <a:gridCol w="3888000"/>
              </a:tblGrid>
              <a:tr h="2103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Enum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(E1, E2, E3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Rec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cord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A : Integer;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B : Boolean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 : Boolean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D : Enum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cor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;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--  Size is 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Ar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rray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(1 .. 1000)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of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Boolean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-- Size is 8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55" name=""/>
          <p:cNvGraphicFramePr/>
          <p:nvPr/>
        </p:nvGraphicFramePr>
        <p:xfrm>
          <a:off x="4788000" y="3933720"/>
          <a:ext cx="3887640" cy="2438640"/>
        </p:xfrm>
        <a:graphic>
          <a:graphicData uri="http://schemas.openxmlformats.org/drawingml/2006/table">
            <a:tbl>
              <a:tblPr/>
              <a:tblGrid>
                <a:gridCol w="3887640"/>
              </a:tblGrid>
              <a:tr h="243864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Enum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(E1, E2, E3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Rec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cord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A : Integer;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B : Boolean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 : Boolean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D : Enum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cor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ith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ck;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--  Size is 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Ar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rray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(1 .. 1000)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of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Boole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ith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Pack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-- Size is 1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4T10:35:52Z</dcterms:created>
  <dc:creator>ochem</dc:creator>
  <dc:description/>
  <dc:language>en-US</dc:language>
  <cp:lastModifiedBy>Vasiliy Fofanov</cp:lastModifiedBy>
  <dcterms:modified xsi:type="dcterms:W3CDTF">2013-09-26T22:20:01Z</dcterms:modified>
  <cp:revision>298</cp:revision>
  <dc:subject/>
  <dc:title>Diapositive 1</dc:title>
</cp:coreProperties>
</file>