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C560-8E58-429F-965B-4A0E99BD0D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 clause cannot be made on a generic package (there’s no actual in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p of that, V is not directly visible because I is not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F536-3444-421C-9CAF-6DA4E9B9D8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mbiguity between the two V (from I1 and from I2). Prefix or qualification could work, e.g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2.V :=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:= My_Integer’(0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5A6A-86F8-4288-A1EE-7D419314D2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needs to be instantiated separately, e.g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kage Child1 is new I1.Chil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.V1 :=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57AE-B79E-4BF3-890B-3313ED6B0B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known as indefinite (&lt;&gt;). So it’s not possible to declare a variable V without specifying the const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B91D-FF25-4CE8-8C6C-7325C5A4EE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ckage is instantiated at the point of declaration. In this case, we don’t have the implementation of My_Type yet, so we can’t instantiate the pack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3813-FE1E-4CDC-BE57-7FB97F54EF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4 doesn’t compile, because String is indefinite, and T expects a definite 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CB8C-6209-47A6-93E3-613262139F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T can accept both definite and indefinite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36DA-BA33-4D68-833D-794C221359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if it’s instantiated with a non-limited type, T can be limited in F. So “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V.all;” is doing a copy, and will be forbidden by the compi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A4D7-1326-4E97-A426-DDD15FBB7F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generic point of view, T is just a random tagged type. It does not know that there is a Prim subprogram. So the generic prim is just an other subprogram not overriding the paren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BD0A-5AB4-4BD6-815A-D5F857104C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point of V, we have visibility over the full declaration of Grand_Child, so we can safely initialize it through the aggregate “null record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9FFB-C4A5-4A38-B8B7-BC902940CD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C4D8816-52CB-47D1-98CD-51EB8269245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A48BDD8-DEC4-49D8-AC7A-73B2F9636BC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5CF2F19-AF39-486B-AB54-9A98F853D5F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997403D-3EA9-4851-9A12-1B9461B855B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AD750D4-9036-46CC-B219-5FE3FBAE497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8154ABD-F2A8-49FA-9920-F45A1A62AF1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EA578C4-858B-4117-86DC-BA95C9ED974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it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subprograms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ubprograms can be defined in the generic contrac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Must be introduced by “with” to differ from the generic uni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 &lt;&gt;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” – matching subprogram is taken by defaul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 null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” – null subprogram is taken by defaul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143080" y="2060640"/>
          <a:ext cx="5143680" cy="192096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procedur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ba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ba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omething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_I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Something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2143080" y="4998960"/>
          <a:ext cx="5143680" cy="131148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procedur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back_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back_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back_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_I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Will take Callback_1 and n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patching operatio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y default, no generic subprogram is dispatching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 abstract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” identifies a dispatching oper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143080" y="2313000"/>
          <a:ext cx="5143680" cy="313992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313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 : 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V : 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V : T'Class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V : T'Class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(V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2 (V);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compiler error, non-dispatching 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3" name="Picture 10" descr="stop.jpg"/>
          <p:cNvPicPr/>
          <p:nvPr/>
        </p:nvPicPr>
        <p:blipFill>
          <a:blip r:embed="rId1"/>
          <a:stretch/>
        </p:blipFill>
        <p:spPr>
          <a:xfrm>
            <a:off x="1908000" y="4797360"/>
            <a:ext cx="2145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patching operation example -  object factori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t is possible to create a tagged object given: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nstructo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stance of Ada.Tags.Generic_Dispatching_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42920" y="2786040"/>
          <a:ext cx="5072040" cy="160020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ameters (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struct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Params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ameters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.Tags.Generic_Dispatching_Constru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The_Tag : Ta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ams 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ameters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'Clas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214720" y="4500720"/>
          <a:ext cx="6715080" cy="193500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19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structo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neric_Dispatching_Constru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oot, Integer, C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: Tag := Child’Ta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oot’Class := Constructor (T,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’(0)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package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generic unit can depend on the instance of another generic uni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arameters of the instantiation can be constrained partially or completel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143080" y="3156120"/>
          <a:ext cx="5143680" cy="207324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207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…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 (Integer, &lt;&gt;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B.T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ther […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_I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 (Integer, Floa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ther_I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ther (Base_I, 56.7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ications at compile-tim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body needs to be visible when compiling the user cod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refore, when distributing a component with generics to be instantiated, the code of the generic must come along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and Freezing poi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generic type “freezes” the type and needs to have access to its full view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is may force to separate the generic type declaration and subsequent generic instantiations (e.g. with containers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00000" y="4653000"/>
          <a:ext cx="3005280" cy="863640"/>
        </p:xfrm>
        <a:graphic>
          <a:graphicData uri="http://schemas.openxmlformats.org/drawingml/2006/table">
            <a:tbl>
              <a:tblPr/>
              <a:tblGrid>
                <a:gridCol w="300528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5148360" y="4503600"/>
          <a:ext cx="2952720" cy="11588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B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Base (X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7" name="Picture 10" descr="stop.jpg"/>
          <p:cNvPicPr/>
          <p:nvPr/>
        </p:nvPicPr>
        <p:blipFill>
          <a:blip r:embed="rId1"/>
          <a:stretch/>
        </p:blipFill>
        <p:spPr>
          <a:xfrm>
            <a:off x="4932360" y="4941720"/>
            <a:ext cx="21420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Incomplete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generic type can be incomplet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is allows generic instantiations before full type defini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age of the type is then fairly restricted (can only be used through an access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60" name="Picture 3" descr="C:\Users\ochem\Desktop\ada2012png-white-transparent.png"/>
          <p:cNvPicPr/>
          <p:nvPr/>
        </p:nvPicPr>
        <p:blipFill>
          <a:blip r:embed="rId1"/>
          <a:stretch/>
        </p:blipFill>
        <p:spPr>
          <a:xfrm>
            <a:off x="8105760" y="115920"/>
            <a:ext cx="930240" cy="4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900000" y="4941720"/>
          <a:ext cx="3005280" cy="863640"/>
        </p:xfrm>
        <a:graphic>
          <a:graphicData uri="http://schemas.openxmlformats.org/drawingml/2006/table">
            <a:tbl>
              <a:tblPr/>
              <a:tblGrid>
                <a:gridCol w="300528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148360" y="4791240"/>
          <a:ext cx="2952720" cy="11588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ase (X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6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059280" y="2708280"/>
            <a:ext cx="865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547640" y="2205000"/>
          <a:ext cx="2376720" cy="1189080"/>
        </p:xfrm>
        <a:graphic>
          <a:graphicData uri="http://schemas.openxmlformats.org/drawingml/2006/table">
            <a:tbl>
              <a:tblPr/>
              <a:tblGrid>
                <a:gridCol w="23767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067280" y="3429000"/>
          <a:ext cx="3313080" cy="155412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547640" y="2205000"/>
          <a:ext cx="2232360" cy="118908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4067280" y="3429000"/>
          <a:ext cx="4033800" cy="2286000"/>
        </p:xfrm>
        <a:graphic>
          <a:graphicData uri="http://schemas.openxmlformats.org/drawingml/2006/table">
            <a:tbl>
              <a:tblPr/>
              <a:tblGrid>
                <a:gridCol w="4033800"/>
              </a:tblGrid>
              <a:tr h="22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My_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, I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otion of a patter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ome algorithm can be abstracted from some types &amp; subprogram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would be nice to extract these properties in some common pattern, and then just replace the parts that needs to be replac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71280" y="2357280"/>
          <a:ext cx="4500720" cy="121464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21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Int (Left, Right :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Courier New"/>
                        </a:rPr>
                        <a:t>Integ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Courier New"/>
                        </a:rPr>
                        <a:t>Integ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Lef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 := Righ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:= V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In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572000" y="2357280"/>
          <a:ext cx="4500720" cy="121464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21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Bool (Left, Right :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Courier New"/>
                        </a:rPr>
                        <a:t>Boolea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Courier New"/>
                        </a:rPr>
                        <a:t>Boolea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Lef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 := Righ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:= V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Boo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071800" y="5022720"/>
          <a:ext cx="5214960" cy="121464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121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 (Left, Right :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Courier New"/>
                        </a:rPr>
                        <a:t>(Integer | Boolean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</a:t>
                      </a: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Courier New"/>
                        </a:rPr>
                        <a:t>: (Integer | Boolean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Lef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 := Righ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:= V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258920" y="2276640"/>
          <a:ext cx="2376360" cy="210312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210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643280" y="3033720"/>
          <a:ext cx="3384720" cy="13716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1.Child.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258920" y="2276640"/>
          <a:ext cx="2592360" cy="1188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932360" y="3860640"/>
          <a:ext cx="3384720" cy="13716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1.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932360" y="3860640"/>
          <a:ext cx="3384720" cy="17370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Ty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My_Typ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Ty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258920" y="2276640"/>
          <a:ext cx="2665440" cy="118872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500200" y="2398680"/>
          <a:ext cx="4572000" cy="30178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Floa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Charact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4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String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7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500200" y="2398680"/>
          <a:ext cx="4572000" cy="30178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Floa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Charact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4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String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500200" y="2398680"/>
          <a:ext cx="4572000" cy="24685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A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A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_Ac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Integer, I_Ac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3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500200" y="2398680"/>
          <a:ext cx="4572000" cy="24685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Roo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_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Roo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500200" y="2398680"/>
          <a:ext cx="5456520" cy="3017880"/>
        </p:xfrm>
        <a:graphic>
          <a:graphicData uri="http://schemas.openxmlformats.org/drawingml/2006/table">
            <a:tbl>
              <a:tblPr/>
              <a:tblGrid>
                <a:gridCol w="545652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_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Chil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.T_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oot’Class := Grand_Child’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: generic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 generic unit is a unit that does not exis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t is a pattern based on properti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instantiation applies the pattern to certain parameter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119240" y="2571840"/>
          <a:ext cx="7167600" cy="394632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394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gener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 (L, R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 (L, R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p : T :=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:= 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= T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I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 (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F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 (Floa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1, I2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1, F2 : Floa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_I (I1, I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_F (F1, F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mpl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 (T &amp; L, T &amp; 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mpl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 (T &amp; L, T &amp; R) 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Tmp = L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= 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= T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, I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1, F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 &lt;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 (I1, I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 &lt;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 (F1, F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can be made generic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ubprograms &amp; packages can be made generic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hildren of generic units have to be generic themselv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Generic instantiation is creating new set of data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071800" y="2108160"/>
          <a:ext cx="5214960" cy="146376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generic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ent.Child is […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 (Intege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_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.Child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071800" y="4149720"/>
          <a:ext cx="5214960" cy="253044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1.V := 5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2.V := 6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.V /= I2.V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-- will go th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types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A generic parameter is a template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It specifies the properties the generic body can rely on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The actual parameter must provide at least as many properties as the generic contract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The usage in the generic has to follow the contract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816120" y="1916280"/>
          <a:ext cx="7500960" cy="100620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should have the properties of a private typ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(assignment, comparison, ability to declare variables on the stack…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(&lt;&gt;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this type can be uncon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3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 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this type can be limi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826920" y="4149720"/>
          <a:ext cx="7500960" cy="25304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253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T (&lt;&gt;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1 : T := V;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, we can constrain the object by initi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2 : T;     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Compilation error, there is no constraint to this ob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_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String);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, unconstrained object are accep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, the object is already con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P3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P (L_T);    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NOK, the object can’t be limi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             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(the generic body is allowed to make copi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0" name="Picture 10" descr="stop.jpg"/>
          <p:cNvPicPr/>
          <p:nvPr/>
        </p:nvPicPr>
        <p:blipFill>
          <a:blip r:embed="rId1"/>
          <a:stretch/>
        </p:blipFill>
        <p:spPr>
          <a:xfrm>
            <a:off x="611280" y="522936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stop.jpg"/>
          <p:cNvPicPr/>
          <p:nvPr/>
        </p:nvPicPr>
        <p:blipFill>
          <a:blip r:embed="rId2"/>
          <a:stretch/>
        </p:blipFill>
        <p:spPr>
          <a:xfrm>
            <a:off x="611280" y="6310440"/>
            <a:ext cx="21564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erties that can be expressed on generic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private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, 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limited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,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 (&lt;&gt;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range &lt;&gt;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the type is integer, 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(&lt;&gt;)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type is any discret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digits &lt;&gt;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, the type is a floating typ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tagged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, new X with private, abstract, interfac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access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, 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array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124000" y="2637000"/>
          <a:ext cx="4572000" cy="15350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53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(&lt;&gt;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_One (V : 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’Next (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_On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_One_I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_One (Intege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_One_C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_One (Characte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2143080" y="5103720"/>
          <a:ext cx="4572000" cy="7016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995640" y="981000"/>
          <a:ext cx="3745080" cy="93672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(&lt;&gt;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_String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T =&gt; String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27" name="ZoneTexte 1"/>
          <p:cNvSpPr/>
          <p:nvPr/>
        </p:nvSpPr>
        <p:spPr>
          <a:xfrm>
            <a:off x="7812000" y="1052640"/>
            <a:ext cx="1224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te the position of (&lt;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boration Issues and Incomplete Formal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B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neric parameters can be built one on top of the other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onsistency is checked at compile-tim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835280" y="1916280"/>
          <a:ext cx="5526000" cy="2606400"/>
        </p:xfrm>
        <a:graphic>
          <a:graphicData uri="http://schemas.openxmlformats.org/drawingml/2006/table">
            <a:tbl>
              <a:tblPr/>
              <a:tblGrid>
                <a:gridCol w="5526000"/>
              </a:tblGrid>
              <a:tr h="260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(&lt;&gt;)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ces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dex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(&lt;&gt;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r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dex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_Pt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_Array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_Pt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_String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T     =&gt; String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   =&gt; String_Ptr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dex =&gt; Integer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   =&gt; String_Array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constants &amp; variables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Variables can be specified on the generic contrac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mode specifies the way the variable can be used: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-&gt; 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ut -&gt; rea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Generic variables can be defined after generic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195640" y="4365720"/>
          <a:ext cx="5143320" cy="2103480"/>
        </p:xfrm>
        <a:graphic>
          <a:graphicData uri="http://schemas.openxmlformats.org/drawingml/2006/table">
            <a:tbl>
              <a:tblPr/>
              <a:tblGrid>
                <a:gridCol w="514332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1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Floa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_I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T  =&gt; Float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1 =&gt; 42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 =&gt; 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Office 2004 Test Drive User</cp:lastModifiedBy>
  <dcterms:modified xsi:type="dcterms:W3CDTF">2015-02-18T15:55:04Z</dcterms:modified>
  <cp:revision>171</cp:revision>
  <dc:subject/>
  <dc:title>Diapositive 1</dc:title>
</cp:coreProperties>
</file>