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BB259D-6D97-4DC7-95DE-129259C4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must be aliased to be accessed from an access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_Access must be access all to receive a value of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of accessibility level 0, W of accessibility level one. Allowing to declare this would allow to reference the object outside of the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s of V can be accessed directly or through .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Access is of level 1. It can point to object of level 0 such as G, its scope is smaller any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F1 does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work - only one indirection can be omitted, and V is a pointer to a po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1 and V2 point to the same object, so the second Free should raise a Storage_Err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is initialed to null, to the first free does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o anything. The second actually frees the object and set it back to null. The last one, again, calls on nu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 trying to free an object on the stack here, which is not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is a local object, its accessibility level is 1. V is a pointer type expecting an accessibility level of at most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26C4A3B-2FAA-4EE6-B3B4-3C4722E8DBF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52C9DC7-D5E0-4D52-A641-CB1131214B0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4AD9D2C-62A7-49FC-9B1C-73BD9C000B0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F040529-CDB7-48B0-BD58-C1F7F66D28F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C1E45D5-4B9A-42A8-82D6-DB063F35E1C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6826A89-C9EB-4399-98F4-8A36B52C5F5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71883FC-A679-4A34-B92E-177F069DCC6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7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17598f"/>
              </a:solidFill>
              <a:latin typeface="Arial"/>
            </a:endParaRPr>
          </a:p>
        </p:txBody>
      </p:sp>
      <p:sp>
        <p:nvSpPr>
          <p:cNvPr id="338" name="PlaceHolder 10"/>
          <p:cNvSpPr>
            <a:spLocks noGrp="1"/>
          </p:cNvSpPr>
          <p:nvPr>
            <p:ph type="title"/>
          </p:nvPr>
        </p:nvSpPr>
        <p:spPr>
          <a:xfrm>
            <a:off x="3885840" y="14475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Basic access types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lloca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allocations are unsaf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eallocation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corru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dealloca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s soon as you use them: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lose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the safety of your poin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sometimes, you have to do what you have to do …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no simple way of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 provides Ada.Unchecked_D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o be instantiated (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 gene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work on an object, reset to null afte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7200" y="2149560"/>
          <a:ext cx="8381880" cy="26510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Unchecked_Deallocatio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Unchecked_Deallocation (A_Type, An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n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ee (V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llocation examp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379440" y="2057400"/>
            <a:ext cx="3659040" cy="493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1"/>
          <p:cNvSpPr/>
          <p:nvPr/>
        </p:nvSpPr>
        <p:spPr>
          <a:xfrm flipH="1">
            <a:off x="3962520" y="1693800"/>
            <a:ext cx="1457280" cy="36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5414400" y="144792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 on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H="1" flipV="1">
            <a:off x="5562720" y="3657240"/>
            <a:ext cx="76176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5656680" y="4952880"/>
            <a:ext cx="325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he deallo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(instance of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subprogra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ion first the type and 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1371600" y="4419360"/>
            <a:ext cx="9144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2288880" y="54100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is null after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685800" y="3112920"/>
            <a:ext cx="7694640" cy="49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eferencing poin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oes the access dereferen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 you access the object pointed to by th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s optional fo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on a component of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on a component of a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eference examp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371600" y="1905120"/>
          <a:ext cx="6553080" cy="414468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1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F1, F2 : Intege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Int    : A_Int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 : A_String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'("abc")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      : A_R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[…]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Int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0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"cde"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 (1) := 'z'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milar to V_String.all (1) := 'z'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(0, 0)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.F1 := 1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milar to V_R.all.F1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inting on objects declared on the stac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: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cannot point to objects from the stack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the compiler has optimized the object to a regist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ack Objects on which an access can be created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declared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li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es are then obtained through the </a:t>
            </a:r>
            <a:r>
              <a:rPr b="0" lang="ja-JP" sz="22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Acces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general pointers (declared with </a:t>
            </a: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can point to such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not be deallo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not keep references outside the scope of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ased objects example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666880" y="2819520"/>
          <a:ext cx="4038840" cy="137160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c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I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5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ame a I :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ased objects example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95280" y="2362320"/>
          <a:ext cx="6858000" cy="30780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307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Ac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= I'Unchecked_Access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Same as 'Access (see af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1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5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What if P2 is called after P1 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accessibility check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depth of an object depends on its nesting within declarative sco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ccess types can access to objects at most of the same depth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mpiler checks it statically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(Removing checks is a workaround!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2057400"/>
          <a:ext cx="6553080" cy="227016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22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 bod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Library level, depth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Library level subprogram, depth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Nested subprogram, enclosing + 1, here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accessibility check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o avoid having to face these issues, avoid nested access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371600" y="1219320"/>
          <a:ext cx="6553080" cy="39463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39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 bod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0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0 : T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V0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1 : T1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1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0 := V0'Acces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A0 := V1'Acces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0 := V1'Unchecked_Acces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1 := V0'Acces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1 := V1'Access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A1 := T1 (A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A0 := T0 (A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1 :=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   A0 := T0 (A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7" name="Picture 8" descr="stop.jpg"/>
          <p:cNvPicPr/>
          <p:nvPr/>
        </p:nvPicPr>
        <p:blipFill>
          <a:blip r:embed="rId1"/>
          <a:stretch/>
        </p:blipFill>
        <p:spPr>
          <a:xfrm>
            <a:off x="1143000" y="3068640"/>
            <a:ext cx="208080" cy="20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stop.jpg"/>
          <p:cNvPicPr/>
          <p:nvPr/>
        </p:nvPicPr>
        <p:blipFill>
          <a:blip r:embed="rId2"/>
          <a:stretch/>
        </p:blipFill>
        <p:spPr>
          <a:xfrm>
            <a:off x="1143000" y="4592520"/>
            <a:ext cx="208080" cy="208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stop.jpg"/>
          <p:cNvPicPr/>
          <p:nvPr/>
        </p:nvPicPr>
        <p:blipFill>
          <a:blip r:embed="rId3"/>
          <a:stretch/>
        </p:blipFill>
        <p:spPr>
          <a:xfrm>
            <a:off x="1143000" y="4059360"/>
            <a:ext cx="208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pointers to create recursive structur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not possible to declare recursive struct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there can be an access to the enclosing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057400" y="3429000"/>
          <a:ext cx="4343400" cy="179856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el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ell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el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e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xt       : Cell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ome_Value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3" name="Line 5"/>
          <p:cNvSpPr/>
          <p:nvPr/>
        </p:nvSpPr>
        <p:spPr>
          <a:xfrm flipV="1">
            <a:off x="3429000" y="3276720"/>
            <a:ext cx="11430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4575960" y="28954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i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4343400" y="4419720"/>
            <a:ext cx="21337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6499800" y="45720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l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ypes desig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Java references, or C/C++ pointers are called access type in Ada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n object is associated to a pool of memor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ifferent pools may have different allocation / deallocation polic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ithout doing unchecked deallocations, and by using pool-specific access types, access values are guaranteed to be always meaningful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n Ada, access types are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Arial"/>
              </a:rPr>
              <a:t>typ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66960" y="5105520"/>
          <a:ext cx="7796160" cy="1006200"/>
        </p:xfrm>
        <a:graphic>
          <a:graphicData uri="http://schemas.openxmlformats.org/drawingml/2006/table">
            <a:tbl>
              <a:tblPr/>
              <a:tblGrid>
                <a:gridCol w="3898800"/>
                <a:gridCol w="389736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_Access :=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V = malloc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or in C++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V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mory problems – uninitialized poin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046480" y="41148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aise Constraint_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81080" y="2666880"/>
          <a:ext cx="4572000" cy="1158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n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5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mory problems – double deallo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514600" y="4572000"/>
            <a:ext cx="64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aise Storage_Error if the memory is still protec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dealloc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deallocate an other object if the memory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ocated – putting an object in an incon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33520" y="1981080"/>
          <a:ext cx="8153280" cy="213372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213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 (Integer, An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An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An_Access := V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2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memory problems – accessing deallocated memory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33520" y="1981080"/>
          <a:ext cx="8153280" cy="213372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213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 (Integer, An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An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An_Access := V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5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35" name="Text Box 4"/>
          <p:cNvSpPr/>
          <p:nvPr/>
        </p:nvSpPr>
        <p:spPr>
          <a:xfrm>
            <a:off x="2514600" y="4572000"/>
            <a:ext cx="64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aise Storage_Error if the memory is still protec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dealloc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change an other object if the memory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ocated – putting an object in an incon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mory problems – memory lea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2545560" y="4456080"/>
            <a:ext cx="55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nt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raise Storage_Error if too many l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slow down the program if too many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09480" y="2666880"/>
          <a:ext cx="8153640" cy="137160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 (Integer, An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n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fix memory problems 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no language-defined solu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 the debugger!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 additional tool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atm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 monitor memory l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gri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 monitor all the dynamic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AT.Debug_P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 gives a pool for an access ty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raising explicit exception in c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of invali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4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352680" y="2743200"/>
            <a:ext cx="768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590920" y="3200400"/>
          <a:ext cx="4572000" cy="944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n_Access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4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590920" y="3200400"/>
          <a:ext cx="4572000" cy="944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n_Access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4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590920" y="3200400"/>
          <a:ext cx="4572000" cy="1798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X : An_Access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5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590920" y="2514600"/>
          <a:ext cx="4572000" cy="26510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1, F2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R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F1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F2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ypes are dangerou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ultiple memory issu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s / corru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troduces potential random failures complicated to analyz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crease the complexity of the data structur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ay decrease the performances of the appl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es are slightly more expensive than direc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s are a lot more expensive than stackin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avoids to use accesses as much as possi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are not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are implicitly passed by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use them when need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590920" y="2514600"/>
          <a:ext cx="4572000" cy="1798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G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5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752480" y="2514600"/>
          <a:ext cx="5410440" cy="3078000"/>
        </p:xfrm>
        <a:graphic>
          <a:graphicData uri="http://schemas.openxmlformats.org/drawingml/2006/table">
            <a:tbl>
              <a:tblPr/>
              <a:tblGrid>
                <a:gridCol w="5410440"/>
              </a:tblGrid>
              <a:tr h="307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1, F2, F3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_Access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R_Access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F1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F2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F3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6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828800" y="2514600"/>
          <a:ext cx="5791320" cy="222552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Integer, A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A_Access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A_Access := V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2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6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905120" y="2514600"/>
          <a:ext cx="5790960" cy="2438280"/>
        </p:xfrm>
        <a:graphic>
          <a:graphicData uri="http://schemas.openxmlformats.org/drawingml/2006/table">
            <a:tbl>
              <a:tblPr/>
              <a:tblGrid>
                <a:gridCol w="579096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Integer, A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6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905120" y="2514600"/>
          <a:ext cx="5790960" cy="2225520"/>
        </p:xfrm>
        <a:graphic>
          <a:graphicData uri="http://schemas.openxmlformats.org/drawingml/2006/table">
            <a:tbl>
              <a:tblPr/>
              <a:tblGrid>
                <a:gridCol w="579096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re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.Unchecked_De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Integer, A_Acces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e (V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6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590920" y="2362320"/>
          <a:ext cx="4572000" cy="32922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2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 :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.V := G.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.V := L.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7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3"/>
          <p:cNvSpPr/>
          <p:nvPr/>
        </p:nvSpPr>
        <p:spPr>
          <a:xfrm>
            <a:off x="1447920" y="4495680"/>
            <a:ext cx="990360" cy="20574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2"/>
          <p:cNvSpPr/>
          <p:nvPr/>
        </p:nvSpPr>
        <p:spPr>
          <a:xfrm>
            <a:off x="5410080" y="1447920"/>
            <a:ext cx="990720" cy="20574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0"/>
          <p:cNvSpPr/>
          <p:nvPr/>
        </p:nvSpPr>
        <p:spPr>
          <a:xfrm>
            <a:off x="3886200" y="4572000"/>
            <a:ext cx="4419720" cy="19810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1523880" y="4586400"/>
            <a:ext cx="838440" cy="747720"/>
          </a:xfrm>
          <a:prstGeom prst="rect">
            <a:avLst/>
          </a:prstGeom>
          <a:solidFill>
            <a:srgbClr val="17598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5486400" y="1523880"/>
            <a:ext cx="838080" cy="1447920"/>
          </a:xfrm>
          <a:prstGeom prst="rect">
            <a:avLst/>
          </a:prstGeom>
          <a:solidFill>
            <a:srgbClr val="17598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k vs Heap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548640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773680" y="1523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5716440" y="23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"/>
          <p:cNvSpPr/>
          <p:nvPr/>
        </p:nvSpPr>
        <p:spPr>
          <a:xfrm>
            <a:off x="1523880" y="49528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1523880" y="5334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1811160" y="457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1753920" y="496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6477120" y="5943600"/>
            <a:ext cx="838080" cy="380880"/>
          </a:xfrm>
          <a:prstGeom prst="rect">
            <a:avLst/>
          </a:prstGeom>
          <a:solidFill>
            <a:srgbClr val="17598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5105520" y="4800600"/>
            <a:ext cx="838080" cy="1066680"/>
          </a:xfrm>
          <a:prstGeom prst="rect">
            <a:avLst/>
          </a:prstGeom>
          <a:solidFill>
            <a:srgbClr val="17598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"/>
          <p:cNvSpPr/>
          <p:nvPr/>
        </p:nvSpPr>
        <p:spPr>
          <a:xfrm>
            <a:off x="2133720" y="4546440"/>
            <a:ext cx="4495680" cy="200664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832" h="1264">
                <a:moveTo>
                  <a:pt x="0" y="160"/>
                </a:moveTo>
                <a:cubicBezTo>
                  <a:pt x="320" y="80"/>
                  <a:pt x="640" y="0"/>
                  <a:pt x="960" y="160"/>
                </a:cubicBezTo>
                <a:cubicBezTo>
                  <a:pt x="1280" y="320"/>
                  <a:pt x="1608" y="976"/>
                  <a:pt x="1920" y="1120"/>
                </a:cubicBezTo>
                <a:cubicBezTo>
                  <a:pt x="2232" y="1264"/>
                  <a:pt x="2532" y="1144"/>
                  <a:pt x="2832" y="10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9"/>
          <p:cNvSpPr/>
          <p:nvPr/>
        </p:nvSpPr>
        <p:spPr>
          <a:xfrm>
            <a:off x="2133720" y="4889520"/>
            <a:ext cx="3124080" cy="100332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68" h="632">
                <a:moveTo>
                  <a:pt x="0" y="184"/>
                </a:moveTo>
                <a:cubicBezTo>
                  <a:pt x="52" y="148"/>
                  <a:pt x="104" y="112"/>
                  <a:pt x="240" y="184"/>
                </a:cubicBezTo>
                <a:cubicBezTo>
                  <a:pt x="376" y="256"/>
                  <a:pt x="584" y="632"/>
                  <a:pt x="816" y="616"/>
                </a:cubicBezTo>
                <a:cubicBezTo>
                  <a:pt x="1048" y="600"/>
                  <a:pt x="1440" y="176"/>
                  <a:pt x="1632" y="88"/>
                </a:cubicBezTo>
                <a:cubicBezTo>
                  <a:pt x="1824" y="0"/>
                  <a:pt x="1896" y="44"/>
                  <a:pt x="1968" y="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6484680" y="1461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610920" y="4495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7317720" y="42670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90640" y="1981080"/>
          <a:ext cx="3376440" cy="457200"/>
        </p:xfrm>
        <a:graphic>
          <a:graphicData uri="http://schemas.openxmlformats.org/drawingml/2006/table">
            <a:tbl>
              <a:tblPr/>
              <a:tblGrid>
                <a:gridCol w="3376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Integer := 0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: String := "Some Long String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33520" y="3809880"/>
          <a:ext cx="5357520" cy="457200"/>
        </p:xfrm>
        <a:graphic>
          <a:graphicData uri="http://schemas.openxmlformats.org/drawingml/2006/table">
            <a:tbl>
              <a:tblPr/>
              <a:tblGrid>
                <a:gridCol w="5357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Access_Integer :=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(0);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: Access_String :=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'("Some Long String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l specific access typ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ccess type is a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version is needed to move an object pointed by one type to another (pools may differ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can not do this kind of conversion with a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ool-specific access type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43000" y="1798560"/>
          <a:ext cx="3376440" cy="639720"/>
        </p:xfrm>
        <a:graphic>
          <a:graphicData uri="http://schemas.openxmlformats.org/drawingml/2006/table">
            <a:tbl>
              <a:tblPr/>
              <a:tblGrid>
                <a:gridCol w="33764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_Access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743200" y="5334120"/>
          <a:ext cx="3376440" cy="457200"/>
        </p:xfrm>
        <a:graphic>
          <a:graphicData uri="http://schemas.openxmlformats.org/drawingml/2006/table">
            <a:tbl>
              <a:tblPr/>
              <a:tblGrid>
                <a:gridCol w="3376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ccess_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2 : T_Access_2 := T_Access_2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2" name="Picture 7" descr="stop.jpg"/>
          <p:cNvPicPr/>
          <p:nvPr/>
        </p:nvPicPr>
        <p:blipFill>
          <a:blip r:embed="rId1"/>
          <a:stretch/>
        </p:blipFill>
        <p:spPr>
          <a:xfrm>
            <a:off x="2438280" y="5562720"/>
            <a:ext cx="208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access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point to any pool (including stack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ill distinct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versions are possi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666880" y="1828800"/>
          <a:ext cx="3376800" cy="639720"/>
        </p:xfrm>
        <a:graphic>
          <a:graphicData uri="http://schemas.openxmlformats.org/drawingml/2006/table">
            <a:tbl>
              <a:tblPr/>
              <a:tblGrid>
                <a:gridCol w="33768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_Access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743200" y="4495680"/>
          <a:ext cx="3376440" cy="457200"/>
        </p:xfrm>
        <a:graphic>
          <a:graphicData uri="http://schemas.openxmlformats.org/drawingml/2006/table">
            <a:tbl>
              <a:tblPr/>
              <a:tblGrid>
                <a:gridCol w="3376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ccess_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_Access_2 := T_Access_2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laration lo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be at library leve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be nested in a proced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esting adds non-trivial issu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sted pool with a nested 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do that unless you know what you are doing 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362320" y="1676520"/>
          <a:ext cx="4190760" cy="6397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438280" y="3200400"/>
          <a:ext cx="4572000" cy="13716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ll val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ointer that does not point to any actual data has a null val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ithout an initialization, a pointer is null by defaul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ull can be used in assignments and comparis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447920" y="3962520"/>
          <a:ext cx="6553080" cy="19206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c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ll go 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semantically correct, but introduces a le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ca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bjects are created with the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reserved wor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reated object must be constrained;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nstraint is given during the allo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object can be created by copying an existing object – using a qualifi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362320" y="3124080"/>
          <a:ext cx="4343400" cy="3049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_Access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362320" y="4648320"/>
          <a:ext cx="5410080" cy="30456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_Access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'("This is a String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23T19:05:28Z</dcterms:created>
  <dc:creator>Pat, Kathy and Joe Rogers</dc:creator>
  <dc:description/>
  <cp:keywords/>
  <dc:language>en-US</dc:language>
  <cp:lastModifiedBy>Vasiliy Fofanov</cp:lastModifiedBy>
  <dcterms:modified xsi:type="dcterms:W3CDTF">2013-09-24T22:14:22Z</dcterms:modified>
  <cp:revision>207</cp:revision>
  <dc:subject/>
  <dc:title>No Slide Title</dc:title>
</cp:coreProperties>
</file>