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0FA3-70B9-40BB-BA5B-F5F524D3B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5B72-0493-4643-9827-C28428B8A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792DEF7-2A8B-4232-BF9C-5C9DF541360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7F49E02C-292C-4E5A-86D9-8C9676EF01B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F28B18A2-FBCF-4352-984E-F9AD548F672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7"/>
          <p:cNvSpPr/>
          <p:nvPr/>
        </p:nvSpPr>
        <p:spPr>
          <a:xfrm>
            <a:off x="698400" y="3535200"/>
            <a:ext cx="7759800" cy="0"/>
          </a:xfrm>
          <a:prstGeom prst="line">
            <a:avLst/>
          </a:prstGeom>
          <a:ln w="9360">
            <a:solidFill>
              <a:srgbClr val="175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logo_textured_large.psd"/>
          <p:cNvPicPr/>
          <p:nvPr/>
        </p:nvPicPr>
        <p:blipFill>
          <a:blip r:embed="rId2"/>
          <a:stretch/>
        </p:blipFill>
        <p:spPr>
          <a:xfrm>
            <a:off x="457200" y="118584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51A57F85-F85A-43E1-B20B-4B697C6D41E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5C0DF6F-9EAA-43C1-8B68-62576102FB9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580D38C2-7C46-4C10-8BA0-1B46B1F7EFDC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958351B-04BF-4AAB-B715-C4BC0F82DB8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B4D68B4B-2206-4A00-AD50-3D2F5C6BCCDF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333600" y="3657240"/>
            <a:ext cx="25336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333600" y="3904920"/>
            <a:ext cx="25336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9120" y="5715000"/>
            <a:ext cx="410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1b9da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0912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594324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4324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8"/>
          <p:cNvSpPr>
            <a:spLocks noGrp="1"/>
          </p:cNvSpPr>
          <p:nvPr>
            <p:ph/>
          </p:nvPr>
        </p:nvSpPr>
        <p:spPr>
          <a:xfrm>
            <a:off x="685800" y="251460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facing with C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43" name="PlaceHolder 9"/>
          <p:cNvSpPr>
            <a:spLocks noGrp="1"/>
          </p:cNvSpPr>
          <p:nvPr>
            <p:ph/>
          </p:nvPr>
        </p:nvSpPr>
        <p:spPr>
          <a:xfrm>
            <a:off x="5684760" y="1371240"/>
            <a:ext cx="28497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759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rays from C to Ada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re is no boundaries to C types, the only Ada arrays that can be bound must have static bound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dditional information will probably need to be pass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539640" y="3840120"/>
          <a:ext cx="7920000" cy="2468520"/>
        </p:xfrm>
        <a:graphic>
          <a:graphicData uri="http://schemas.openxmlformats.org/drawingml/2006/table">
            <a:tbl>
              <a:tblPr/>
              <a:tblGrid>
                <a:gridCol w="3961080"/>
                <a:gridCol w="3958920"/>
              </a:tblGrid>
              <a:tr h="246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r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(0 .. Integer’Las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 DO NOT DECLARE AN OBJECT OF THAT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 (V : Arr; Size : in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agm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Export (C, P, "p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 (V : Arr; Size : int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o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J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0 .. Size – 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lo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cod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loo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xtern vo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* v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iz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x [100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 (x, 10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ing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Importing a String from C is like importing an array - has to be done through a constrained array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Interfaces.C.Strings gives a standard way of doing that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Unfortunately, C strings have to end by a null character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Exporting an Ada string to C needs a copy!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Alternatively, a knowledgeable Ada programmer can manually create Ada strings with correct ending and manage them directly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Back to the unsafe world – it really has to be worth it speed-wise!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835280" y="3573360"/>
          <a:ext cx="4545000" cy="457200"/>
        </p:xfrm>
        <a:graphic>
          <a:graphicData uri="http://schemas.openxmlformats.org/drawingml/2006/table">
            <a:tbl>
              <a:tblPr/>
              <a:tblGrid>
                <a:gridCol w="454500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da_Str : String := "Hello World"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_Str : chars_ptr := New_String (Ada_St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1835280" y="5388120"/>
          <a:ext cx="4545000" cy="272880"/>
        </p:xfrm>
        <a:graphic>
          <a:graphicData uri="http://schemas.openxmlformats.org/drawingml/2006/table">
            <a:tbl>
              <a:tblPr/>
              <a:tblGrid>
                <a:gridCol w="4545000"/>
              </a:tblGrid>
              <a:tr h="27360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da_Str : String := "Hello World" &amp; ASCII.NUL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gma Import / Export (1/2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ragma Import allows to provide a C implementation to an Ada specific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ragma Export allows to provide an Ada implementation to a C specific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539640" y="2492280"/>
          <a:ext cx="7920000" cy="639720"/>
        </p:xfrm>
        <a:graphic>
          <a:graphicData uri="http://schemas.openxmlformats.org/drawingml/2006/table">
            <a:tbl>
              <a:tblPr/>
              <a:tblGrid>
                <a:gridCol w="3961080"/>
                <a:gridCol w="395892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C_Pro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agm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mport (C, C_Proc, "c_proc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o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c_proc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o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// some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539640" y="4910040"/>
          <a:ext cx="7920000" cy="1371600"/>
        </p:xfrm>
        <a:graphic>
          <a:graphicData uri="http://schemas.openxmlformats.org/drawingml/2006/table">
            <a:tbl>
              <a:tblPr/>
              <a:tblGrid>
                <a:gridCol w="3961080"/>
                <a:gridCol w="395892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da_Pro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agm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Export (C, Ada_Proc, "ada_proc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da_Pro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some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da_Pro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xte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o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da_proc 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gma Import / Export (2/2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You can also import/export variabl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 imported won’t be initi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yntax: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539640" y="1700280"/>
          <a:ext cx="7920000" cy="576360"/>
        </p:xfrm>
        <a:graphic>
          <a:graphicData uri="http://schemas.openxmlformats.org/drawingml/2006/table">
            <a:tbl>
              <a:tblPr/>
              <a:tblGrid>
                <a:gridCol w="3961080"/>
                <a:gridCol w="395892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y_Var : in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agm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mport (C, My_Var, “my_var”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 my_va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2556000" y="4221000"/>
          <a:ext cx="3959280" cy="576360"/>
        </p:xfrm>
        <a:graphic>
          <a:graphicData uri="http://schemas.openxmlformats.org/drawingml/2006/table">
            <a:tbl>
              <a:tblPr/>
              <a:tblGrid>
                <a:gridCol w="395928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da_Pro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agm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Export (C, Ada_Proc, "ada_proc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52" name="Line Callout 1 2"/>
          <p:cNvSpPr/>
          <p:nvPr/>
        </p:nvSpPr>
        <p:spPr>
          <a:xfrm>
            <a:off x="324000" y="5229360"/>
            <a:ext cx="3816360" cy="792000"/>
          </a:xfrm>
          <a:prstGeom prst="borderCallout1">
            <a:avLst>
              <a:gd name="adj1" fmla="val 18750"/>
              <a:gd name="adj2" fmla="val -8333"/>
              <a:gd name="adj3" fmla="val -68425"/>
              <a:gd name="adj4" fmla="val 9760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C, Asm, Ada, Intrinsic, Fortran, Cobol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Callout 1 6"/>
          <p:cNvSpPr/>
          <p:nvPr/>
        </p:nvSpPr>
        <p:spPr>
          <a:xfrm>
            <a:off x="4932360" y="5373720"/>
            <a:ext cx="3816360" cy="792000"/>
          </a:xfrm>
          <a:prstGeom prst="borderCallout1">
            <a:avLst>
              <a:gd name="adj1" fmla="val 18750"/>
              <a:gd name="adj2" fmla="val -8333"/>
              <a:gd name="adj3" fmla="val -82574"/>
              <a:gd name="adj4" fmla="val 2077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duced from the entity name if not speci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Callout 1 7"/>
          <p:cNvSpPr/>
          <p:nvPr/>
        </p:nvSpPr>
        <p:spPr>
          <a:xfrm>
            <a:off x="4716360" y="3284640"/>
            <a:ext cx="3816360" cy="649080"/>
          </a:xfrm>
          <a:prstGeom prst="borderCallout1">
            <a:avLst>
              <a:gd name="adj1" fmla="val 18750"/>
              <a:gd name="adj2" fmla="val -8333"/>
              <a:gd name="adj3" fmla="val 182694"/>
              <a:gd name="adj4" fmla="val -149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ity to be ex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 careful with overload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ssing Scalar Data as Parameter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C types are defined by the Standar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da types are implementation-dependen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GNAT standard types are compatible with C typ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choice, use carefu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t the interface level, scalar types must be either constrained with representation clauses, or coming from Interfaces.C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84360" y="5732640"/>
          <a:ext cx="7920000" cy="825480"/>
        </p:xfrm>
        <a:graphic>
          <a:graphicData uri="http://schemas.openxmlformats.org/drawingml/2006/table">
            <a:tbl>
              <a:tblPr/>
              <a:tblGrid>
                <a:gridCol w="3960720"/>
                <a:gridCol w="3959280"/>
              </a:tblGrid>
              <a:tr h="82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rfaces.C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 us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erfaces.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_Proc (I : int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agm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mport (C, C_Proc, "c_proc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c_proc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// some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ssing Structures as Parameters 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n Ada record that is mapping on a C struct must be: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 as convention C to enforce a C-like memory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 only C-compatible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9640" y="3357720"/>
          <a:ext cx="7920000" cy="1920600"/>
        </p:xfrm>
        <a:graphic>
          <a:graphicData uri="http://schemas.openxmlformats.org/drawingml/2006/table">
            <a:tbl>
              <a:tblPr/>
              <a:tblGrid>
                <a:gridCol w="3961080"/>
                <a:gridCol w="3958920"/>
              </a:tblGrid>
              <a:tr h="192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Enum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(E1, E2, E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Convention =&gt; 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e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A : int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B : in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: in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D : Enum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Convention =&gt; 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u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Enum {E1, E2, E3}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truc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ec {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um 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}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ameter mod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In” Scalar parameters are passed by copy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Out” and “In Out” scalars are passed using a temporary pointer on the C side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By default, composite types are passed by reference on all modes (in, in out, out and access) except when the type is marked C_Pass_By_Copy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 very careful with records, as some C ABI pass small structures by cop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11280" y="4533840"/>
          <a:ext cx="7921440" cy="192096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192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 in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Convention =&gt; 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2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 in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Convention =&gt; C_Pass_By_Cop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truc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1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V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}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truc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2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V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}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o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f1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R1 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o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f2 (R2 p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on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C Unions can be bound using the Unchecked_Union aspect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These types must have a mutable discriminant for convention purpose, which doesn’t exist at run-time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ll checks based on its value are removed – safety lo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t cannot be manually access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539640" y="2133720"/>
          <a:ext cx="7920000" cy="2103480"/>
        </p:xfrm>
        <a:graphic>
          <a:graphicData uri="http://schemas.openxmlformats.org/drawingml/2006/table">
            <a:tbl>
              <a:tblPr/>
              <a:tblGrid>
                <a:gridCol w="3961080"/>
                <a:gridCol w="395892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ec (Flag : Boolean := False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Flag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rue =&gt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A : in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False =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 :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Unchecked_Union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vention =&gt; 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un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ec {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lo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}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rays Interfacing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In Ada, arrays are of two kinds: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strained array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nconstrained array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Unconstrained arrays are associated with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oun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In C, an array is just a memory location pointing (hopefully) to a structured memory location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C does not have the notion of unconstrained arrays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bounds” must be managed manually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y convention (null at the end of string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y storing them on the si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Only Ada constrained arrays can be interfaced with C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rays from Ada to C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n Ada array is a composite data structure containing 2 elements: Bounds and Element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t pointe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When arrays can be sent from Ada to C, C will only receive an access to the elements of the array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539640" y="4349880"/>
          <a:ext cx="7920000" cy="2103480"/>
        </p:xfrm>
        <a:graphic>
          <a:graphicData uri="http://schemas.openxmlformats.org/drawingml/2006/table">
            <a:tbl>
              <a:tblPr/>
              <a:tblGrid>
                <a:gridCol w="3961080"/>
                <a:gridCol w="395892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r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&lt;&gt;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 (V : Arr; Size : in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agm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mport (C, P, "p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o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* v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ize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0:35:52Z</dcterms:created>
  <dc:creator>ochem</dc:creator>
  <dc:description/>
  <dc:language>en-US</dc:language>
  <cp:lastModifiedBy>Vasiliy Fofanov</cp:lastModifiedBy>
  <dcterms:modified xsi:type="dcterms:W3CDTF">2012-11-15T15:53:06Z</dcterms:modified>
  <cp:revision>315</cp:revision>
  <dc:subject/>
  <dc:title>Diapositive 1</dc:title>
</cp:coreProperties>
</file>