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CB2DC0-7C6B-484F-9C44-80F985D50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must be aliased to be accessed from an access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of accessibility level 0, W of accessibility level one. Allowing to declare this would allow to reference the object outside of the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Access is of level 1. It can point to object of level 0 such as G, its scope is smaller any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is a local object, its accessibility level is 1. V is a pointer type expecting an accessibility level of at most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t_Error will be raised. V is uninitialized, so should be initialized to null according to Ada access types semantics – but type NAcc is null-exclud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8296915-730F-4EB6-8403-FC4953BBC3F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6F986E3-85B2-439A-ADB6-C3F96AF813E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06F1CFE-02B2-4C9F-B25E-3CC53C9F5B0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99FB3D1-174D-4D47-AB34-BC0A513C5FD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4B8D452-463D-4299-866E-FA6D8634E4D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CCDA87D-D17A-4402-9362-8423DC7BD3B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0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17598f"/>
              </a:solidFill>
              <a:latin typeface="Arial"/>
            </a:endParaRPr>
          </a:p>
        </p:txBody>
      </p:sp>
      <p:sp>
        <p:nvSpPr>
          <p:cNvPr id="261" name="PlaceHolder 10"/>
          <p:cNvSpPr>
            <a:spLocks noGrp="1"/>
          </p:cNvSpPr>
          <p:nvPr>
            <p:ph type="title"/>
          </p:nvPr>
        </p:nvSpPr>
        <p:spPr>
          <a:xfrm>
            <a:off x="3885840" y="14475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Basic access types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ting Around Accessibility Chec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ometimes it is OK to use unsafe accesses to dat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Unchecked_Access 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allows to access a variable of an incompatible accessibility leve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eware of potential problems!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666880" y="4572000"/>
          <a:ext cx="4038840" cy="179856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c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Ac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= V'Unchecked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constraints on acces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constant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(instead of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) denotes an access type through which the referenced object cannot be modifi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not null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denotes an access type for which null value cannot be accep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971800" y="2590920"/>
          <a:ext cx="4419720" cy="179856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Ac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stan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1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2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1 : CAcc := G1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 : CAcc := G2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V1.all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2895480" y="5638680"/>
          <a:ext cx="4191120" cy="8082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8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c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ot null acces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V : NAcc :=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294" name="Picture 5" descr="stop.jpg"/>
          <p:cNvPicPr/>
          <p:nvPr/>
        </p:nvPicPr>
        <p:blipFill>
          <a:blip r:embed="rId1"/>
          <a:stretch/>
        </p:blipFill>
        <p:spPr>
          <a:xfrm>
            <a:off x="2590920" y="41148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stop.jpg"/>
          <p:cNvPicPr/>
          <p:nvPr/>
        </p:nvPicPr>
        <p:blipFill>
          <a:blip r:embed="rId2"/>
          <a:stretch/>
        </p:blipFill>
        <p:spPr>
          <a:xfrm>
            <a:off x="2590920" y="610884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9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352680" y="2743200"/>
            <a:ext cx="768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/6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590920" y="3200400"/>
          <a:ext cx="4572000" cy="9446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n_Access := 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0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2/6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590920" y="3200400"/>
          <a:ext cx="4572000" cy="1798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X : An_Access := 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0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3/6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90920" y="2514600"/>
          <a:ext cx="4572000" cy="1798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G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0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4/6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590920" y="2362320"/>
          <a:ext cx="4572000" cy="32922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29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A_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 :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.V := G.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.V := L.W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0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5/6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90920" y="2362320"/>
          <a:ext cx="4572000" cy="20574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0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_Acc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stan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1 : C_Access := X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 : A_Access := A_Access (V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2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6/6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"/>
          <p:cNvGraphicFramePr/>
          <p:nvPr/>
        </p:nvGraphicFramePr>
        <p:xfrm>
          <a:off x="1981080" y="2590920"/>
          <a:ext cx="5029200" cy="20113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01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c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ot null 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NAc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= G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liasing is a means to have two names for the same entit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n be done us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s (Access in 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Java references, or C/C++ pointers are called accesses in Ad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cess objects always need to be typ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e are going to concentrate on access types only pointing to the stack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743200" y="4800600"/>
          <a:ext cx="3886200" cy="3049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04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7" name="Rounded Rectangular Callout 1"/>
          <p:cNvSpPr/>
          <p:nvPr/>
        </p:nvSpPr>
        <p:spPr>
          <a:xfrm>
            <a:off x="1143000" y="5257800"/>
            <a:ext cx="3394080" cy="431640"/>
          </a:xfrm>
          <a:prstGeom prst="wedgeRoundRectCallout">
            <a:avLst>
              <a:gd name="adj1" fmla="val 72953"/>
              <a:gd name="adj2" fmla="val -103087"/>
              <a:gd name="adj3" fmla="val 16667"/>
            </a:avLst>
          </a:prstGeom>
          <a:solidFill>
            <a:srgbClr val="dbea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ow pointing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da Access typ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cess types are true types in the Ada sense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(implicit conversions not allowed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cess objects are initialized to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null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y default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(to avoid dangling pointers at initialization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2270160"/>
          <a:ext cx="3886200" cy="1189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2 := T2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3 : T2 := V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819520" y="4784760"/>
          <a:ext cx="3886200" cy="824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Boolean := (V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ing the stack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y default, object cannot be referenced – and can even be optimized into a register by the compil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liased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declares an object to be referenceable through an acces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ccess 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gives a reference to the obje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743200" y="5029200"/>
          <a:ext cx="3886200" cy="4572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as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_Access := V'Acce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ing the referenc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.all</a:t>
            </a:r>
            <a:r>
              <a:rPr b="1" lang="ja-JP" sz="22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allows to “dereference” the object – i.e. gain access to its valu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is optional for: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 on a component of an arr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 on a component of a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Dereferencing a null access raises Constraint_Erro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743200" y="2606760"/>
          <a:ext cx="3886200" cy="8222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as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_Access := V'Acce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0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ame as 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eference exampl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371600" y="1523880"/>
          <a:ext cx="6553080" cy="414504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414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F1, F2 : Intege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Str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;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Int    : A_I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String : A_String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R      : A_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[…]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Int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0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String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"cde"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String (1) := 'z'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imilar to V_String.all (1) := 'z'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R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(0, 0)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_R.F1 := 1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imilar to V_R.all.F1 :=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Accessibility Check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sider the following situ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s the following safe?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forbids the abov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666880" y="1981080"/>
          <a:ext cx="4038840" cy="179892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c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 Ac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 := V'Ac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666880" y="4648320"/>
          <a:ext cx="4038840" cy="30456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.all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Accessibility Check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“Accessibility Level” of an object is its depth in the subprograms hierarch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pointer type declared at library level can only point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vel 0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bjects (see more later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371600" y="2041560"/>
          <a:ext cx="6553080" cy="329256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329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-- Level 0 / Library-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Lev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Leve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23T19:05:28Z</dcterms:created>
  <dc:creator>Pat, Kathy and Joe Rogers</dc:creator>
  <dc:description/>
  <cp:keywords/>
  <dc:language>en-US</dc:language>
  <cp:lastModifiedBy>Vasiliy Fofanov</cp:lastModifiedBy>
  <dcterms:modified xsi:type="dcterms:W3CDTF">2013-09-24T21:04:27Z</dcterms:modified>
  <cp:revision>240</cp:revision>
  <dc:subject/>
  <dc:title>No Slide Title</dc:title>
</cp:coreProperties>
</file>