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6654-74E8-44B2-8541-26AB0A5F74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clause cannot be made on a generic package (there’s no actual in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p of that, V is not directly visible because I is not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4B6A-DF2B-4F46-8A5F-5F636E5F3E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mbiguity between the two V (from I1 and from I2). Prefix or qualification could work, e.g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2.V :=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:= My_Integer’(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5DB6-99AB-4974-BC8D-21BADA6A8C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4C68-A4C0-4F77-B714-8E08EA1261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needs to be instantiated separately, e.g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e Child1 is new I1.Chil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1.V1 :=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0B2-539C-42E8-A5D8-AC80BF4DB5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known as indefinite (&lt;&gt;). So it’s not possible to declare a variable V without specifying the const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C8F9-33AE-40D2-8574-C0CE2D5AA3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ckage is instantiated at the point of declaration. In this case, we don’t have the implementation of My_Type yet, so we can’t instantiate the pack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8F29-91AE-418B-A729-7F9B38E1A6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4 doesn’t compile, because String is indefinite, and T expects a definite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4E34-3ECB-47FA-8B7F-0879B1073A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T can accept both definite and indefinite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D118-EAFE-4A13-91BD-DFB2926BD1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5E47A19-0818-4123-BB3A-23FF1A6C9DF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00D46E6-6A43-4684-890B-4FDA50D3F12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F3430EA-8039-4818-82FB-744CCBF1764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9710D59-CD9B-400E-B1E1-2F48EF592B6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D34BDDE-F1E3-4D40-86D3-A6E0D73F815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BF5B50D-AC7A-4407-8D22-38499C25ED4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C1818BF-2F24-4212-A9B4-B91049BF6D4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it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Child Uni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generic unit can only have generic children, even if they don’t have any paramete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o use a generic child, the parent must be instantiated firs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979640" y="2492280"/>
          <a:ext cx="2305080" cy="79236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Lists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...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932360" y="2492280"/>
          <a:ext cx="2303640" cy="79236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sts.Util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...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276720" y="4905360"/>
          <a:ext cx="3240000" cy="42696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sts (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U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.Util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4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059280" y="2708280"/>
            <a:ext cx="865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547640" y="2205000"/>
          <a:ext cx="2376720" cy="118908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067280" y="3429000"/>
          <a:ext cx="3313080" cy="155412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47640" y="2205000"/>
          <a:ext cx="2232360" cy="118908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067280" y="3429000"/>
          <a:ext cx="4033800" cy="2286000"/>
        </p:xfrm>
        <a:graphic>
          <a:graphicData uri="http://schemas.openxmlformats.org/drawingml/2006/table">
            <a:tbl>
              <a:tblPr/>
              <a:tblGrid>
                <a:gridCol w="4033800"/>
              </a:tblGrid>
              <a:tr h="22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My_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, I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3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547640" y="2205000"/>
          <a:ext cx="2232360" cy="118908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4067280" y="3429000"/>
          <a:ext cx="4033800" cy="2286000"/>
        </p:xfrm>
        <a:graphic>
          <a:graphicData uri="http://schemas.openxmlformats.org/drawingml/2006/table">
            <a:tbl>
              <a:tblPr/>
              <a:tblGrid>
                <a:gridCol w="4033800"/>
              </a:tblGrid>
              <a:tr h="22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My_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4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547640" y="2133720"/>
          <a:ext cx="2376720" cy="194472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.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643280" y="3860640"/>
          <a:ext cx="3384720" cy="13716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1.Child.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5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258920" y="2276640"/>
          <a:ext cx="2592360" cy="1188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932360" y="3860640"/>
          <a:ext cx="3384720" cy="13716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1.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6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932360" y="3860640"/>
          <a:ext cx="3384720" cy="17370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Ty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My_Typ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Ty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258920" y="2276640"/>
          <a:ext cx="2665440" cy="118872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7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500200" y="2398680"/>
          <a:ext cx="4572000" cy="3017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Floa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Charact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4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String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7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8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500200" y="2398680"/>
          <a:ext cx="4572000" cy="3017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Floa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Charact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4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String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otion of a patter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ome algorithm can be abstracted from some types &amp; subprogram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would be nice to extract these properties in some common pattern, and then just replace the parts that need to be replac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2357280"/>
          <a:ext cx="4321080" cy="121464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121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Int (Left, Right :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17598f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0" lang="en-US" sz="1000" spc="-1" strike="noStrike">
                          <a:solidFill>
                            <a:srgbClr val="17598f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Lef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 := Righ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:= V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In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572000" y="2357280"/>
          <a:ext cx="4321080" cy="121464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121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Bool (Left, Right :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17598f"/>
                          </a:solidFill>
                          <a:latin typeface="Courier New"/>
                        </a:rPr>
                        <a:t>Boolea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0" lang="en-US" sz="1000" spc="-1" strike="noStrike">
                          <a:solidFill>
                            <a:srgbClr val="17598f"/>
                          </a:solidFill>
                          <a:latin typeface="Courier New"/>
                        </a:rPr>
                        <a:t>Boolea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Lef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 := Righ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:= V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Boo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071800" y="5022720"/>
          <a:ext cx="5214960" cy="121464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21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Left, Right :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17598f"/>
                          </a:solidFill>
                          <a:latin typeface="Courier New"/>
                        </a:rPr>
                        <a:t>(Integer | Boolean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0" lang="en-US" sz="1000" spc="-1" strike="noStrike">
                          <a:solidFill>
                            <a:srgbClr val="17598f"/>
                          </a:solidFill>
                          <a:latin typeface="Courier New"/>
                        </a:rPr>
                        <a:t>(Integer | Boolean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Lef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 := Righ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:= V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: generic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generic unit is a unit that doesn’t exis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t is a pattern based on properti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instantiation applies the pattern to certain parameter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19240" y="2571840"/>
          <a:ext cx="7167600" cy="394632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394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gener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L, R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L, R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p : T :=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:= 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T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I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 (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_F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 (Floa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1, I2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, F2 :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_I (I1, I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_F (F1, F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mpl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T &amp; L, T &amp; 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mpl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wap (T &amp; L, T &amp; R)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Tmp = L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= 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= T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, I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1, F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 &lt;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 (I1, I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ap &lt;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 (F1, F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can be made generic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ubprograms &amp; packages can be made generic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hildren of generic units have to be generic themselv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Generic instantiation is creating new set of data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071800" y="2108160"/>
          <a:ext cx="5214960" cy="146376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generic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ent.Child is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ent (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_Child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.Child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071800" y="4149720"/>
          <a:ext cx="5214960" cy="253044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1.V := 5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2.V := 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.V /= I2.V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will go th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types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generic parameter is a templat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t specifies the properties the generic body can rely 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actual parameter must provide at least as many properties as the generic contrac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usage in the generic has to follow the contrac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816120" y="2135160"/>
          <a:ext cx="7500960" cy="100656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should have the properties of a private typ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(assignment, comparison, ability to declare variables on the stack…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(&lt;&gt;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his type can be uncon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826920" y="4365720"/>
          <a:ext cx="7500960" cy="20876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T (&lt;&gt;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1 : T := V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, we can constrain the object by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2 : T;      </a:t>
                      </a:r>
                      <a:r>
                        <a:rPr b="0" i="1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Compilation error, there is no constraint for this ob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String);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, unconstrained objects are accep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Integer)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, the object is already con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0" name="Picture 5" descr="stop.jpg"/>
          <p:cNvPicPr/>
          <p:nvPr/>
        </p:nvPicPr>
        <p:blipFill>
          <a:blip r:embed="rId1"/>
          <a:stretch/>
        </p:blipFill>
        <p:spPr>
          <a:xfrm>
            <a:off x="611280" y="544500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erties that can be expressed on generic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rivate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– any definite (and non-limited)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(&lt;&gt;) private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– allowed to be indefinit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(&lt;&gt;)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– any discrete (integer or enumeration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range &lt;&gt;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– any integ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igits &lt;&gt;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– any floa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rray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– array type (needs index and components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ccess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– access type (needs target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340000" y="4859280"/>
          <a:ext cx="4572000" cy="17384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3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(&lt;&gt;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 (V : 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'Succ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_One_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(Intege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_One_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(Characte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neric parameters can be built one on top of the other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nsistency is checked at compile-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403280" y="2276640"/>
          <a:ext cx="6337440" cy="265248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265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dex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&lt;&gt;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r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dex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Arra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haract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_Str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T     =&gt; Integer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dex =&gt; Character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   =&gt; Int_Array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constants &amp; variables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ariables can be specified on the generic contrac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mode specifies the way the variable can be used: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-&gt; 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ut -&gt; rea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Generic variables can be defined after generic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195640" y="4365720"/>
          <a:ext cx="5143320" cy="2103480"/>
        </p:xfrm>
        <a:graphic>
          <a:graphicData uri="http://schemas.openxmlformats.org/drawingml/2006/table">
            <a:tbl>
              <a:tblPr/>
              <a:tblGrid>
                <a:gridCol w="51433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1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_I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T  =&gt; Float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1 =&gt; 42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 =&gt; 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subprograms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ubprograms can be defined in the generic contrac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Must be introduced by “with” to differ from the generic uni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is &lt;&gt;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” – matching subprogram is taken by defaul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is null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” – null subprogram is taken by defaul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143080" y="2060640"/>
          <a:ext cx="5143680" cy="192096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procedur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ba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ba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thing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_I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Someth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143080" y="4998960"/>
          <a:ext cx="5143680" cy="131148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procedur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back_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&gt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back_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back_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_I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Will take Callback_1 and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9-26T10:03:16Z</dcterms:modified>
  <cp:revision>194</cp:revision>
  <dc:subject/>
  <dc:title>Diapositive 1</dc:title>
</cp:coreProperties>
</file>