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8780D96-C456-42C9-BDE0-7AFC24E8F85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5912D33-0D5D-404F-9644-5083F8D7C8B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CCAA61D-5A29-439B-A244-2AEB1166F3D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9508417-896F-4EB5-95BC-FF387AAAED2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3BF906D-C56F-4918-B498-BFDAA7DE50E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B8754D1-EF79-4948-ACA4-F00926E2D29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C8AC3F5-C210-4ACA-82E7-51EB1A090BB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F08EF4B-9760-4032-A6C6-1E6065076EC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NAT Pro Compiler Extensio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6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offers a nice type system ensuring type consistenc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ut this type system fails at properly expressing physical dimens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fining manually all the operators is cumbersome and error-pron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836720" y="3652920"/>
          <a:ext cx="5543640" cy="143172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ength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re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Length := 10.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Area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1 * V1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houldn’t be Length * Length an Area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= V1 * V1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Refused at compile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ackage System.Dim.M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836640"/>
            <a:ext cx="784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System.Dim.Mks declares a dimension system</a:t>
            </a: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Subtype can then be declared to represent simple dimensions</a:t>
            </a: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… </a:t>
            </a: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or more complex ones</a:t>
            </a: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with associated constants</a:t>
            </a: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116000" y="1292400"/>
          <a:ext cx="7128000" cy="1920600"/>
        </p:xfrm>
        <a:graphic>
          <a:graphicData uri="http://schemas.openxmlformats.org/drawingml/2006/table">
            <a:tbl>
              <a:tblPr/>
              <a:tblGrid>
                <a:gridCol w="712800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ks_Ty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ng_Long_Flo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_System =&gt; 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Unit_Name =&gt; Meter,    Unit_Symbol =&gt; 'm',   Dim_Symbol =&gt; 'L'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Unit_Name =&gt; Kilogram, Unit_Symbol =&gt; "kg",  Dim_Symbol =&gt; 'M'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Unit_Name =&gt; Second,   Unit_Symbol =&gt; 's',   Dim_Symbol =&gt; 'T'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Unit_Name =&gt; Ampere,   Unit_Symbol =&gt; 'A',   Dim_Symbol =&gt; 'I'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Unit_Name =&gt; Kelvin,   Unit_Symbol =&gt; 'K',   Dim_Symbol =&gt; "Î˜"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Unit_Name =&gt; Mole,     Unit_Symbol =&gt; "mol", Dim_Symbol =&gt; 'N'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Unit_Name =&gt; Candela,  Unit_Symbol =&gt; "cd",  Dim_Symbol =&gt; 'J'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1187280" y="3789360"/>
          <a:ext cx="7129800" cy="455760"/>
        </p:xfrm>
        <a:graphic>
          <a:graphicData uri="http://schemas.openxmlformats.org/drawingml/2006/table">
            <a:tbl>
              <a:tblPr/>
              <a:tblGrid>
                <a:gridCol w="7129800"/>
              </a:tblGrid>
              <a:tr h="45576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ength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ks_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imension =&gt; (Symbol =&gt; 'm', Meter  =&gt; 1, others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1187280" y="4724280"/>
          <a:ext cx="7345440" cy="45720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e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ks_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imension =&gt; (Symbol =&gt; 'm/s', Meter  =&gt; 1, Second =&gt; -1, others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187280" y="5805360"/>
          <a:ext cx="7129800" cy="639720"/>
        </p:xfrm>
        <a:graphic>
          <a:graphicData uri="http://schemas.openxmlformats.org/drawingml/2006/table">
            <a:tbl>
              <a:tblPr/>
              <a:tblGrid>
                <a:gridCol w="71298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   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ength :=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  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cond :=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m_h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eed  := (1_000.0 * m) / (3_600.0 * 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mension Chec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compiler will check dimension consistenc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is is a “magic” static check, done by specific compiler work – beyond Ada 2012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11280" y="1844640"/>
          <a:ext cx="7993080" cy="21034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   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ime   := 3600.0 * 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m  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ength := 1000.0 * m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m_h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eed  := km / h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Speed  : Speed := 50.0 * km_h;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Time   : Time := 5.0 * h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Weight : Mass := 300.0 * k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_Traveled : Length := My_Speed * My_Time;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ergy_Needed     : Energy := (Distance_Traveled ** 2 * My_Weight) / (My_Time **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Endianness Attribute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has an extensive set of features to define the memory layout …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ut the endianness of the actual data has to be the one of the target architectur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ortable data representation cross architectures has to be using tricky byte-array represent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alar_Storage_Order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calar_Storage_Order can be applied on a composite type (array, record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forces the endianness to be of a certain kin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compiler will automatically insert bitwise transformations on read / write operations if requir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same data structure can have subcomponents with a different endianness if need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alar_Storage_Order exampl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oth Scalar_Storage_Order (endianness) and Bit_Order (bit numbering convention) need to be specified on a representation claus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835280" y="2781360"/>
          <a:ext cx="5616360" cy="3444840"/>
        </p:xfrm>
        <a:graphic>
          <a:graphicData uri="http://schemas.openxmlformats.org/drawingml/2006/table">
            <a:tbl>
              <a:tblPr/>
              <a:tblGrid>
                <a:gridCol w="5616360"/>
              </a:tblGrid>
              <a:tr h="344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   :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   : Small_In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    : Small_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   : Colo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Bit_Order            =&gt; High_Order_First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Scalar_Storage_Order =&gt; High_Order_First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                =&gt; 128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ignment            =&gt; 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3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4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3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8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.. 7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8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3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9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3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3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Overflow Check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are subtype checks performed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71640" y="1557360"/>
          <a:ext cx="7416720" cy="8636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_000 .. 10_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My_Int := A + C – 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A = 9_999, C = 2 and D = 1, what is the result of this expression?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_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_Error is ra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neous (not def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swer: 10_000! Subtype checks are not performed on intermediate resul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8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468360" y="2708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A = Integer’Last, what result of this expression?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_073_841_8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_073_841_8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_Error is ra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neous (not def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swer: depends…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about overflow checks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971640" y="1557360"/>
          <a:ext cx="7416720" cy="30492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(A + 1) / 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468360" y="2708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Vectorization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act Issu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ith contracts, things can get even more problematic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hen dealing with a “big” number, the pre condition may be perfectly fine but may raise Constraint_Error because of overflow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te: there is no subtype check here, only overflow…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971640" y="2548080"/>
          <a:ext cx="7416720" cy="51912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A, B, C : 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A ** 2 * B ** 2 &gt; C ** 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NAT Pro Overflow Polic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ll intermediate overflow checked (STRICT)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mediate computations are done in base 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n checks are enabled, substantial run-time footpr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Most intermediate overflow avoided (MINIMIZED)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mediate computation may be done using a larger base 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n check are enabled, they're bound to places where absence of overflow can’t be determin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maller footprint with checks, higher reliability of comput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ll intermediate overflow avoided (ELIMINATED)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s infinite precision integers when 64 bits computation is not enoug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need for che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o Select Overflow Policy? 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rough the pragma Overflow_Mod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rough the –gnatoxx switch: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igit specifies the policy for general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digit specifies the policy for ass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=&gt; 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=&gt;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=&gt; ELI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-gnato enables overflow check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971640" y="2133720"/>
          <a:ext cx="7416720" cy="3045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flow_Mode (General =&gt; Mode, Assersions =&gt; Mod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ctorization Principl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ertain architectures offer specialized vectorization instruction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86 and S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werPC and Altiv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ertain patterns of loops over arrays can be largely optimized with new CPUs and sets of instruction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GCC knows how to take advantage of it in case of </a:t>
            </a:r>
            <a:br>
              <a:rPr sz="2200"/>
            </a:b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“C-like” array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da unconstrained arrays are very different from C arrays – they could not be vectoriz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ctorization exampl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55640" y="112500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rior to GNAT Pro 7.1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fter GNAT Pro 7.1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826920" y="1557360"/>
          <a:ext cx="7345440" cy="14320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ecto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_000_00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mbine (V1, V2 : Vector; R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ector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1'Ran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(I) := V1 (I) / V2 (I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826920" y="4110120"/>
          <a:ext cx="7345440" cy="143172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ecto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mbine (V1, V2 : Vector; R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ecto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1'Ran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(I) := V1 (I) / V2 (I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547640" y="2975040"/>
          <a:ext cx="5904000" cy="741240"/>
        </p:xfrm>
        <a:graphic>
          <a:graphicData uri="http://schemas.openxmlformats.org/drawingml/2006/table">
            <a:tbl>
              <a:tblPr/>
              <a:tblGrid>
                <a:gridCol w="2953080"/>
                <a:gridCol w="29509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3 -msse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476360" y="5516640"/>
          <a:ext cx="5904000" cy="7412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3 -mss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Lock-Free Protected Type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an Atomic Oper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564000" y="1700280"/>
          <a:ext cx="1368360" cy="32364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15e94"/>
                          </a:solidFill>
                          <a:latin typeface="Courier New"/>
                        </a:rPr>
                        <a:t>A := A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539640" y="3494160"/>
          <a:ext cx="2737080" cy="115884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system call lock]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read A in $1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215e94"/>
                          </a:solidFill>
                          <a:latin typeface="Courier New"/>
                        </a:rPr>
                        <a:t>[add 1 in $1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write $1 in 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system call unloc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708360" y="3357720"/>
          <a:ext cx="5111640" cy="1584000"/>
        </p:xfrm>
        <a:graphic>
          <a:graphicData uri="http://schemas.openxmlformats.org/drawingml/2006/table">
            <a:tbl>
              <a:tblPr/>
              <a:tblGrid>
                <a:gridCol w="5111640"/>
              </a:tblGrid>
              <a:tr h="158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loop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read A in $1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copy $1 in $ol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215e94"/>
                          </a:solidFill>
                          <a:latin typeface="Courier New"/>
                        </a:rPr>
                        <a:t>[add 1 in $1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if A = $old then write $1 in A else error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exit when not error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unloc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351" name="Straight Arrow Connector 7"/>
          <p:cNvCxnSpPr/>
          <p:nvPr/>
        </p:nvCxnSpPr>
        <p:spPr>
          <a:xfrm flipH="1">
            <a:off x="2195280" y="2060640"/>
            <a:ext cx="2016720" cy="12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Straight Arrow Connector 10"/>
          <p:cNvCxnSpPr/>
          <p:nvPr/>
        </p:nvCxnSpPr>
        <p:spPr>
          <a:xfrm>
            <a:off x="4211280" y="2060640"/>
            <a:ext cx="1801080" cy="12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age Example 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908000" y="5640480"/>
          <a:ext cx="5904000" cy="741240"/>
        </p:xfrm>
        <a:graphic>
          <a:graphicData uri="http://schemas.openxmlformats.org/drawingml/2006/table">
            <a:tbl>
              <a:tblPr/>
              <a:tblGrid>
                <a:gridCol w="2953080"/>
                <a:gridCol w="29509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k_Free =&gt; 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k_Free =&gt; 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  <p:sp>
        <p:nvSpPr>
          <p:cNvPr id="355" name="TextBox 4"/>
          <p:cNvSpPr/>
          <p:nvPr/>
        </p:nvSpPr>
        <p:spPr>
          <a:xfrm>
            <a:off x="1643400" y="5157720"/>
            <a:ext cx="63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est on a Windows dual core machine, 200_000 updates done by 2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87640" y="981000"/>
          <a:ext cx="3328920" cy="3932280"/>
        </p:xfrm>
        <a:graphic>
          <a:graphicData uri="http://schemas.openxmlformats.org/drawingml/2006/table">
            <a:tbl>
              <a:tblPr/>
              <a:tblGrid>
                <a:gridCol w="3328920"/>
              </a:tblGrid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Lock_Free =&gt; 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dy Coun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= 10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Restrictions on Lock_Free bod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n elementary out paramet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 loop, goto or subprogram cal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 reference to more than one protected variab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 side effec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orkaround possible with manual use of System.Atomic_Primitiv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Physical Dimension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Utilisateur Microsoft Office</cp:lastModifiedBy>
  <dcterms:modified xsi:type="dcterms:W3CDTF">2018-02-07T14:06:32Z</dcterms:modified>
  <cp:revision>216</cp:revision>
  <dc:subject/>
  <dc:title>Diapositive 1</dc:title>
</cp:coreProperties>
</file>