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68443-3773-47C4-A1BD-098EE8E18F0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ilation err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da equality symbol is =, .not =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4F0A2-5513-4C04-9530-BEA0A4B3048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ilation error (assignment statement is not an operation in Ad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BE7AF-234C-45F3-9395-AF70FADBC53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ilation err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value is missin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4331B-DE00-43B8-B7CB-56BEDDD484C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ilation err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ve and Natural overla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74969-D53F-43F1-BCEA-1A3A64D3A5C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ilation err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ype of the expression in a case statement must be DISCRE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nd static, by the wa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DB648-5DA9-441A-93F9-5041C842640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ilation err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p indexes are constant in Ada, so the assignment is forbidd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B0E9F-1E45-48C2-B3A6-226F2261337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hing is printed - the range is empty. The correct way to get the 11 numbers (10 to 0) is to writ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I in reverse 0 .. 10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_Line (Integer’Image (I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 loop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88CCC-6352-4234-B0E8-12DA87D1942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ilation err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da inequality symbol is /=, .not !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E7DF3-CDBD-4C1F-9526-1EC9D8A82F5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, but typical beginner mistake: it is not necessary to declare I, the for/loop will declare an itera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he way, the value of I after the loop is not 10 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10C30-96D6-4A0B-94EE-3232D1CAE61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he type of the loop parameter is resolved before entering the loop sequence of state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he modification of X after that point has no effect on the range definition of 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20B39-583B-4FF4-A48D-5846D1F0DBD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82C31-8427-499F-AFF8-960C8D1DD7F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09F11FC1-0441-426E-8E8D-C82DB9768B61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3C16371E-4312-42F2-9A29-23F7D07039D7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0d25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7CE97709-C332-433F-965E-8496218C47DC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traight Connector 7"/>
          <p:cNvSpPr/>
          <p:nvPr/>
        </p:nvSpPr>
        <p:spPr>
          <a:xfrm>
            <a:off x="698400" y="3535200"/>
            <a:ext cx="7759800" cy="0"/>
          </a:xfrm>
          <a:prstGeom prst="line">
            <a:avLst/>
          </a:prstGeom>
          <a:ln w="9360">
            <a:solidFill>
              <a:srgbClr val="1759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0" y="0"/>
            <a:ext cx="914400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logo_textured_large.psd"/>
          <p:cNvPicPr/>
          <p:nvPr/>
        </p:nvPicPr>
        <p:blipFill>
          <a:blip r:embed="rId2"/>
          <a:stretch/>
        </p:blipFill>
        <p:spPr>
          <a:xfrm>
            <a:off x="457200" y="1185840"/>
            <a:ext cx="1905120" cy="5335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0d25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E10DC6F8-610C-4F71-B626-5144041FEE61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9505FF8F-DEEE-4149-8F88-7BC88C6F4D58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-7920" y="0"/>
            <a:ext cx="9151920" cy="685800"/>
          </a:xfrm>
          <a:prstGeom prst="rect">
            <a:avLst/>
          </a:prstGeom>
          <a:gradFill rotWithShape="0">
            <a:gsLst>
              <a:gs pos="0">
                <a:srgbClr val="040b11"/>
              </a:gs>
              <a:gs pos="100000">
                <a:srgbClr val="0d253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D1F2BB9E-4980-439B-A5E1-4A91D3790937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-7920" y="0"/>
            <a:ext cx="9151920" cy="685800"/>
          </a:xfrm>
          <a:prstGeom prst="rect">
            <a:avLst/>
          </a:prstGeom>
          <a:gradFill rotWithShape="0">
            <a:gsLst>
              <a:gs pos="0">
                <a:srgbClr val="040b11"/>
              </a:gs>
              <a:gs pos="100000">
                <a:srgbClr val="0d253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0d25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C13D8731-58DB-4414-AEE3-60F2AE29645A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8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3333600" y="3657240"/>
            <a:ext cx="253368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333600" y="3904920"/>
            <a:ext cx="253368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09120" y="3657240"/>
            <a:ext cx="259092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9120" y="5715000"/>
            <a:ext cx="4103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91b9da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09120" y="3904920"/>
            <a:ext cx="25909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5943240" y="3657240"/>
            <a:ext cx="259092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5943240" y="3904920"/>
            <a:ext cx="25909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8"/>
          <p:cNvSpPr>
            <a:spLocks noGrp="1"/>
          </p:cNvSpPr>
          <p:nvPr>
            <p:ph/>
          </p:nvPr>
        </p:nvSpPr>
        <p:spPr>
          <a:xfrm>
            <a:off x="685800" y="2514600"/>
            <a:ext cx="769608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tements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3" name="PlaceHolder 9"/>
          <p:cNvSpPr>
            <a:spLocks noGrp="1"/>
          </p:cNvSpPr>
          <p:nvPr>
            <p:ph/>
          </p:nvPr>
        </p:nvSpPr>
        <p:spPr>
          <a:xfrm>
            <a:off x="5684760" y="1371240"/>
            <a:ext cx="284976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7598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on of loop range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Loop range is evaluated before the loop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Iterator is constant (can’t be modified directly)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344" name="Picture 4" descr="http://www.clker.com/cliparts/7/e/4/2/124223856074483192Biohazard_orange.svg.hi.png"/>
          <p:cNvPicPr/>
          <p:nvPr/>
        </p:nvPicPr>
        <p:blipFill>
          <a:blip r:embed="rId1"/>
          <a:stretch/>
        </p:blipFill>
        <p:spPr>
          <a:xfrm>
            <a:off x="8532720" y="117360"/>
            <a:ext cx="432000" cy="43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5" name=""/>
          <p:cNvGraphicFramePr/>
          <p:nvPr/>
        </p:nvGraphicFramePr>
        <p:xfrm>
          <a:off x="1547640" y="1773360"/>
          <a:ext cx="6696360" cy="1554120"/>
        </p:xfrm>
        <a:graphic>
          <a:graphicData uri="http://schemas.openxmlformats.org/drawingml/2006/table">
            <a:tbl>
              <a:tblPr/>
              <a:tblGrid>
                <a:gridCol w="6696360"/>
              </a:tblGrid>
              <a:tr h="155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: Integer := 1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J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 .. F (A)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:= 5;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We still iterate between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   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and what F(1) return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 loop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6" name=""/>
          <p:cNvGraphicFramePr/>
          <p:nvPr/>
        </p:nvGraphicFramePr>
        <p:xfrm>
          <a:off x="1476360" y="4365720"/>
          <a:ext cx="6700680" cy="792000"/>
        </p:xfrm>
        <a:graphic>
          <a:graphicData uri="http://schemas.openxmlformats.org/drawingml/2006/table">
            <a:tbl>
              <a:tblPr/>
              <a:tblGrid>
                <a:gridCol w="3314880"/>
                <a:gridCol w="3385800"/>
              </a:tblGrid>
              <a:tr h="79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J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 .. 10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J := 5;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N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 loop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j = 1; j&lt;=10; j++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j = 5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47" name="Picture 5" descr="stop.jpg"/>
          <p:cNvPicPr/>
          <p:nvPr/>
        </p:nvPicPr>
        <p:blipFill>
          <a:blip r:embed="rId2"/>
          <a:stretch/>
        </p:blipFill>
        <p:spPr>
          <a:xfrm>
            <a:off x="1187280" y="4581360"/>
            <a:ext cx="28908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antifier expression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Allow to check that all / at least one element of a container checks a given condition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Check that array A with an index subtype T is sorted...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Check that a number is composite (as opposed to prime)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1187280" y="2133720"/>
          <a:ext cx="6985080" cy="360360"/>
        </p:xfrm>
        <a:graphic>
          <a:graphicData uri="http://schemas.openxmlformats.org/drawingml/2006/table">
            <a:tbl>
              <a:tblPr/>
              <a:tblGrid>
                <a:gridCol w="698508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r al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|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om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var&gt;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|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expression&gt; =&gt; &lt;condition&gt;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1" name=""/>
          <p:cNvGraphicFramePr/>
          <p:nvPr/>
        </p:nvGraphicFramePr>
        <p:xfrm>
          <a:off x="1187280" y="3357720"/>
          <a:ext cx="6985080" cy="863280"/>
        </p:xfrm>
        <a:graphic>
          <a:graphicData uri="http://schemas.openxmlformats.org/drawingml/2006/table">
            <a:tbl>
              <a:tblPr/>
              <a:tblGrid>
                <a:gridCol w="6985080"/>
              </a:tblGrid>
              <a:tr h="86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A'Length &lt; 2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r else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   (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r al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 I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 A'First .. T'Pred(A'Last) =&gt; A (I) &lt;= A (T'Succ (I)))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2" name=""/>
          <p:cNvGraphicFramePr/>
          <p:nvPr/>
        </p:nvGraphicFramePr>
        <p:xfrm>
          <a:off x="1187280" y="5157720"/>
          <a:ext cx="6985080" cy="360360"/>
        </p:xfrm>
        <a:graphic>
          <a:graphicData uri="http://schemas.openxmlformats.org/drawingml/2006/table">
            <a:tbl>
              <a:tblPr/>
              <a:tblGrid>
                <a:gridCol w="6985080"/>
              </a:tblGrid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r som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 X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 2 .. N / 2 =&gt; N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o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 X = 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53" name="Picture 6" descr="C:\Users\ochem\Desktop\ada2012png-white-transparent.png"/>
          <p:cNvPicPr/>
          <p:nvPr/>
        </p:nvPicPr>
        <p:blipFill>
          <a:blip r:embed="rId1"/>
          <a:stretch/>
        </p:blipFill>
        <p:spPr>
          <a:xfrm>
            <a:off x="8105760" y="115920"/>
            <a:ext cx="93024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380880" y="2666880"/>
            <a:ext cx="8382240" cy="9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Quiz</a:t>
            </a:r>
            <a:endParaRPr b="1" lang="en-US" sz="48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355" name="Picture 6" descr="Question-mark-blue-glossy-button.gif"/>
          <p:cNvPicPr/>
          <p:nvPr/>
        </p:nvPicPr>
        <p:blipFill>
          <a:blip r:embed="rId1"/>
          <a:stretch/>
        </p:blipFill>
        <p:spPr>
          <a:xfrm>
            <a:off x="2771640" y="2708280"/>
            <a:ext cx="86364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n error? (1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2050920" y="2924280"/>
          <a:ext cx="5616720" cy="863640"/>
        </p:xfrm>
        <a:graphic>
          <a:graphicData uri="http://schemas.openxmlformats.org/drawingml/2006/table">
            <a:tbl>
              <a:tblPr/>
              <a:tblGrid>
                <a:gridCol w="5616720"/>
              </a:tblGrid>
              <a:tr h="863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== 0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A is 0"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58" name="Picture 5" descr="Question-mark-blue-glossy-button.gif"/>
          <p:cNvPicPr/>
          <p:nvPr/>
        </p:nvPicPr>
        <p:blipFill>
          <a:blip r:embed="rId1"/>
          <a:stretch/>
        </p:blipFill>
        <p:spPr>
          <a:xfrm>
            <a:off x="8459640" y="71280"/>
            <a:ext cx="55404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n error? (2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2050920" y="2924280"/>
          <a:ext cx="5616720" cy="863640"/>
        </p:xfrm>
        <a:graphic>
          <a:graphicData uri="http://schemas.openxmlformats.org/drawingml/2006/table">
            <a:tbl>
              <a:tblPr/>
              <a:tblGrid>
                <a:gridCol w="5616720"/>
              </a:tblGrid>
              <a:tr h="863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:= 0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A has been assigned to 0"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61" name="Picture 6" descr="Question-mark-blue-glossy-button.gif"/>
          <p:cNvPicPr/>
          <p:nvPr/>
        </p:nvPicPr>
        <p:blipFill>
          <a:blip r:embed="rId1"/>
          <a:stretch/>
        </p:blipFill>
        <p:spPr>
          <a:xfrm>
            <a:off x="8459640" y="71280"/>
            <a:ext cx="55404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n error? (3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1835280" y="2205000"/>
          <a:ext cx="5616360" cy="2530440"/>
        </p:xfrm>
        <a:graphic>
          <a:graphicData uri="http://schemas.openxmlformats.org/drawingml/2006/table">
            <a:tbl>
              <a:tblPr/>
              <a:tblGrid>
                <a:gridCol w="5616360"/>
              </a:tblGrid>
              <a:tr h="253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: Integer := Integer'Value (Get_Line)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 .. 9 =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Simple digit"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0 .. Integer'Last =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Long positive"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'First .. -1 =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Negative"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64" name="Picture 6" descr="Question-mark-blue-glossy-button.gif"/>
          <p:cNvPicPr/>
          <p:nvPr/>
        </p:nvPicPr>
        <p:blipFill>
          <a:blip r:embed="rId1"/>
          <a:stretch/>
        </p:blipFill>
        <p:spPr>
          <a:xfrm>
            <a:off x="8459640" y="71280"/>
            <a:ext cx="55404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n error? (4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1835280" y="2205000"/>
          <a:ext cx="5616360" cy="2530440"/>
        </p:xfrm>
        <a:graphic>
          <a:graphicData uri="http://schemas.openxmlformats.org/drawingml/2006/table">
            <a:tbl>
              <a:tblPr/>
              <a:tblGrid>
                <a:gridCol w="5616360"/>
              </a:tblGrid>
              <a:tr h="253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: Integer := Integer'Value (Get_Line)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ositive =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Positive"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Natural =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Natural"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ther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=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Other"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67" name="Picture 6" descr="Question-mark-blue-glossy-button.gif"/>
          <p:cNvPicPr/>
          <p:nvPr/>
        </p:nvPicPr>
        <p:blipFill>
          <a:blip r:embed="rId1"/>
          <a:stretch/>
        </p:blipFill>
        <p:spPr>
          <a:xfrm>
            <a:off x="8459640" y="71280"/>
            <a:ext cx="55404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n error? (5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1835280" y="2205000"/>
          <a:ext cx="5616360" cy="2530440"/>
        </p:xfrm>
        <a:graphic>
          <a:graphicData uri="http://schemas.openxmlformats.org/drawingml/2006/table">
            <a:tbl>
              <a:tblPr/>
              <a:tblGrid>
                <a:gridCol w="5616360"/>
              </a:tblGrid>
              <a:tr h="253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: Float := 10.0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.0 .. Float'Last =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Positive"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Float'First .. -1.0 =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Negative"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others =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Other"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70" name="Picture 6" descr="Question-mark-blue-glossy-button.gif"/>
          <p:cNvPicPr/>
          <p:nvPr/>
        </p:nvPicPr>
        <p:blipFill>
          <a:blip r:embed="rId1"/>
          <a:stretch/>
        </p:blipFill>
        <p:spPr>
          <a:xfrm>
            <a:off x="8459640" y="71280"/>
            <a:ext cx="55404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n error? (6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1979640" y="3284640"/>
          <a:ext cx="5616720" cy="863640"/>
        </p:xfrm>
        <a:graphic>
          <a:graphicData uri="http://schemas.openxmlformats.org/drawingml/2006/table">
            <a:tbl>
              <a:tblPr/>
              <a:tblGrid>
                <a:gridCol w="5616720"/>
              </a:tblGrid>
              <a:tr h="863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0 .. 10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 := 10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73" name="Picture 6" descr="Question-mark-blue-glossy-button.gif"/>
          <p:cNvPicPr/>
          <p:nvPr/>
        </p:nvPicPr>
        <p:blipFill>
          <a:blip r:embed="rId1"/>
          <a:stretch/>
        </p:blipFill>
        <p:spPr>
          <a:xfrm>
            <a:off x="8459640" y="71280"/>
            <a:ext cx="55404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is the output of this code? (7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835280" y="3141720"/>
          <a:ext cx="5616360" cy="863640"/>
        </p:xfrm>
        <a:graphic>
          <a:graphicData uri="http://schemas.openxmlformats.org/drawingml/2006/table">
            <a:tbl>
              <a:tblPr/>
              <a:tblGrid>
                <a:gridCol w="5616360"/>
              </a:tblGrid>
              <a:tr h="863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0 .. 0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Integer'Image (I)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76" name="Picture 6" descr="Question-mark-blue-glossy-button.gif"/>
          <p:cNvPicPr/>
          <p:nvPr/>
        </p:nvPicPr>
        <p:blipFill>
          <a:blip r:embed="rId1"/>
          <a:stretch/>
        </p:blipFill>
        <p:spPr>
          <a:xfrm>
            <a:off x="8459640" y="71280"/>
            <a:ext cx="55404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Statements / If Expression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If statements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If expressions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971640" y="1773360"/>
          <a:ext cx="7599240" cy="2041560"/>
        </p:xfrm>
        <a:graphic>
          <a:graphicData uri="http://schemas.openxmlformats.org/drawingml/2006/table">
            <a:tbl>
              <a:tblPr/>
              <a:tblGrid>
                <a:gridCol w="3800520"/>
                <a:gridCol w="3798720"/>
              </a:tblGrid>
              <a:tr h="2041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 = 0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A is 0"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lsif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B = 0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B is 0"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l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Else..."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A == 0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f ("A is 0"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lse if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B == 0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f ("B is 0"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l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f ("Else..."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539640" y="4654440"/>
          <a:ext cx="8280360" cy="1798920"/>
        </p:xfrm>
        <a:graphic>
          <a:graphicData uri="http://schemas.openxmlformats.org/drawingml/2006/table">
            <a:tbl>
              <a:tblPr/>
              <a:tblGrid>
                <a:gridCol w="4138560"/>
                <a:gridCol w="4141800"/>
              </a:tblGrid>
              <a:tr h="1798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 = 0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A is 0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lsif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B = 0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B is 0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l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Else")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f (A == 0 ? "A is 0" 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B == 0 ? "B is 0" 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Else...")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08" name="Picture 7" descr="C:\Users\ochem\Desktop\ada2012png-white-transparent.png"/>
          <p:cNvPicPr/>
          <p:nvPr/>
        </p:nvPicPr>
        <p:blipFill>
          <a:blip r:embed="rId1"/>
          <a:stretch/>
        </p:blipFill>
        <p:spPr>
          <a:xfrm>
            <a:off x="8105760" y="115920"/>
            <a:ext cx="93024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n error? (8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2050920" y="2924280"/>
          <a:ext cx="5616720" cy="863640"/>
        </p:xfrm>
        <a:graphic>
          <a:graphicData uri="http://schemas.openxmlformats.org/drawingml/2006/table">
            <a:tbl>
              <a:tblPr/>
              <a:tblGrid>
                <a:gridCol w="5616720"/>
              </a:tblGrid>
              <a:tr h="863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!= 0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A is not 0"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79" name="Picture 6" descr="Question-mark-blue-glossy-button.gif"/>
          <p:cNvPicPr/>
          <p:nvPr/>
        </p:nvPicPr>
        <p:blipFill>
          <a:blip r:embed="rId1"/>
          <a:stretch/>
        </p:blipFill>
        <p:spPr>
          <a:xfrm>
            <a:off x="8459640" y="71280"/>
            <a:ext cx="55404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n error? (9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1979640" y="3284640"/>
          <a:ext cx="5616720" cy="1311120"/>
        </p:xfrm>
        <a:graphic>
          <a:graphicData uri="http://schemas.openxmlformats.org/drawingml/2006/table">
            <a:tbl>
              <a:tblPr/>
              <a:tblGrid>
                <a:gridCol w="5616720"/>
              </a:tblGrid>
              <a:tr h="131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 : Natural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0 .. 10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82" name="Picture 6" descr="Question-mark-blue-glossy-button.gif"/>
          <p:cNvPicPr/>
          <p:nvPr/>
        </p:nvPicPr>
        <p:blipFill>
          <a:blip r:embed="rId1"/>
          <a:stretch/>
        </p:blipFill>
        <p:spPr>
          <a:xfrm>
            <a:off x="8459640" y="71280"/>
            <a:ext cx="55404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is the output of this code? (10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1979640" y="3284640"/>
          <a:ext cx="5616720" cy="1554120"/>
        </p:xfrm>
        <a:graphic>
          <a:graphicData uri="http://schemas.openxmlformats.org/drawingml/2006/table">
            <a:tbl>
              <a:tblPr/>
              <a:tblGrid>
                <a:gridCol w="5616720"/>
              </a:tblGrid>
              <a:tr h="155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 Integer := 1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 .. X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= 10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   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'A'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 loop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85" name="Picture 6" descr="Question-mark-blue-glossy-button.gif"/>
          <p:cNvPicPr/>
          <p:nvPr/>
        </p:nvPicPr>
        <p:blipFill>
          <a:blip r:embed="rId1"/>
          <a:stretch/>
        </p:blipFill>
        <p:spPr>
          <a:xfrm>
            <a:off x="8459640" y="71280"/>
            <a:ext cx="55404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761760" y="1142640"/>
            <a:ext cx="3809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Comparison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724280" y="1142640"/>
            <a:ext cx="38102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Boolean operators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dition symbol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ware of the boolean operator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and”, “or” are not short-circuit, both operands are always evaluated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The short-circuit operators are “and then” and “or else”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571760" y="2362320"/>
          <a:ext cx="6095880" cy="2746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X /= 0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Y / X &gt; 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MAY RAISE AN EXCE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1571760" y="4307040"/>
          <a:ext cx="6095880" cy="2743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X /= 0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nd the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Y / X &gt; 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16" name="Picture 4" descr="http://www.clker.com/cliparts/7/e/4/2/124223856074483192Biohazard_orange.svg.hi.png"/>
          <p:cNvPicPr/>
          <p:nvPr/>
        </p:nvPicPr>
        <p:blipFill>
          <a:blip r:embed="rId1"/>
          <a:stretch/>
        </p:blipFill>
        <p:spPr>
          <a:xfrm>
            <a:off x="8532720" y="115920"/>
            <a:ext cx="43200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se Statement / Case Expression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252360" y="981000"/>
          <a:ext cx="8712360" cy="3168720"/>
        </p:xfrm>
        <a:graphic>
          <a:graphicData uri="http://schemas.openxmlformats.org/drawingml/2006/table">
            <a:tbl>
              <a:tblPr/>
              <a:tblGrid>
                <a:gridCol w="3743280"/>
                <a:gridCol w="4969080"/>
              </a:tblGrid>
              <a:tr h="316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0 =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zero"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-9 .. -1 | 1 .. 9 =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digit"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ther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=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other"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witc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A) {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0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f ("0"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reak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-9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:cas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-8: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-7: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-6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-5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:cas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-4: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-3: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-2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-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:cas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: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2: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3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:cas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5: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6: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7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8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:cas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9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f ("digit"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reak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efaul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f ("other"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319" name="Rounded Rectangular Callout 1"/>
          <p:cNvSpPr/>
          <p:nvPr/>
        </p:nvSpPr>
        <p:spPr>
          <a:xfrm>
            <a:off x="-1440" y="1700280"/>
            <a:ext cx="1439640" cy="360360"/>
          </a:xfrm>
          <a:prstGeom prst="wedgeRoundRectCallout">
            <a:avLst>
              <a:gd name="adj1" fmla="val 63185"/>
              <a:gd name="adj2" fmla="val -4074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fall throu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971640" y="4581360"/>
          <a:ext cx="7421400" cy="1800360"/>
        </p:xfrm>
        <a:graphic>
          <a:graphicData uri="http://schemas.openxmlformats.org/drawingml/2006/table">
            <a:tbl>
              <a:tblPr/>
              <a:tblGrid>
                <a:gridCol w="4103640"/>
                <a:gridCol w="3317760"/>
              </a:tblGrid>
              <a:tr h="180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0 =&gt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zero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-9 .. -1 | 1 .. 9 =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digit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ther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=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other")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o direct equival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21" name="Picture 5" descr="C:\Users\ochem\Desktop\ada2012png-white-transparent.png"/>
          <p:cNvPicPr/>
          <p:nvPr/>
        </p:nvPicPr>
        <p:blipFill>
          <a:blip r:embed="rId1"/>
          <a:stretch/>
        </p:blipFill>
        <p:spPr>
          <a:xfrm>
            <a:off x="8105760" y="115920"/>
            <a:ext cx="93024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se statements rule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All values covered by the type of the expression should be covered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Values must be unique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1571760" y="2276640"/>
          <a:ext cx="6095880" cy="1188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188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V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0 =&gt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NOK!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1571760" y="4255920"/>
          <a:ext cx="6095880" cy="192096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920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V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0 =&gt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0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'First .. 0 =&gt;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NOK!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Negative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ther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=&gt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26" name="Picture 5" descr="stop.jpg"/>
          <p:cNvPicPr/>
          <p:nvPr/>
        </p:nvPicPr>
        <p:blipFill>
          <a:blip r:embed="rId1"/>
          <a:stretch/>
        </p:blipFill>
        <p:spPr>
          <a:xfrm>
            <a:off x="1187280" y="3141720"/>
            <a:ext cx="289080" cy="287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5" descr="stop.jpg"/>
          <p:cNvPicPr/>
          <p:nvPr/>
        </p:nvPicPr>
        <p:blipFill>
          <a:blip r:embed="rId2"/>
          <a:stretch/>
        </p:blipFill>
        <p:spPr>
          <a:xfrm>
            <a:off x="1187280" y="5156280"/>
            <a:ext cx="28908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riting ranges for case statement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A case statement must contain static ranges only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ranges computed out of static expre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1571760" y="2492280"/>
          <a:ext cx="6095880" cy="33829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382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 :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stan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 := 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b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 .. 1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b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tic_Predicate =&gt; I2 &gt;= 100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b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3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Dynamic_Predicate =&gt; I3 &gt;= V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X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V  =&gt;                  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N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W  =&gt;                  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1 =&gt;                 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-- 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2 =&gt;                  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20 | 30 | 40 =&gt;        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50 + W =&gt;              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3 =&gt;                  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N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W + 1 .. Integer'Last =&gt;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31" name="Picture 5" descr="stop.jpg"/>
          <p:cNvPicPr/>
          <p:nvPr/>
        </p:nvPicPr>
        <p:blipFill>
          <a:blip r:embed="rId1"/>
          <a:stretch/>
        </p:blipFill>
        <p:spPr>
          <a:xfrm>
            <a:off x="1332000" y="4365720"/>
            <a:ext cx="215640" cy="2156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5" descr="stop.jpg"/>
          <p:cNvPicPr/>
          <p:nvPr/>
        </p:nvPicPr>
        <p:blipFill>
          <a:blip r:embed="rId2"/>
          <a:stretch/>
        </p:blipFill>
        <p:spPr>
          <a:xfrm>
            <a:off x="1332000" y="5445000"/>
            <a:ext cx="21564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op statement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Simple loop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While loop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No do-while/repeat-until loops, use simple loop with exit instead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1403280" y="1700280"/>
          <a:ext cx="6697800" cy="1311120"/>
        </p:xfrm>
        <a:graphic>
          <a:graphicData uri="http://schemas.openxmlformats.org/drawingml/2006/table">
            <a:tbl>
              <a:tblPr/>
              <a:tblGrid>
                <a:gridCol w="3745080"/>
                <a:gridCol w="2952720"/>
              </a:tblGrid>
              <a:tr h="131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lt;statements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{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xi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[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condition&gt;];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lt;statements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o direct equival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1403280" y="3789360"/>
          <a:ext cx="6769080" cy="1066680"/>
        </p:xfrm>
        <a:graphic>
          <a:graphicData uri="http://schemas.openxmlformats.org/drawingml/2006/table">
            <a:tbl>
              <a:tblPr/>
              <a:tblGrid>
                <a:gridCol w="3745080"/>
                <a:gridCol w="302400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ile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lt;condition&gt;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lt;statements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{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xi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[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condition&gt;];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il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&lt;condition&gt;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lt;statements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-Loop statement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Iteration over indices 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 has to be grow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is constant in the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Iteration over objects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an be modified in the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755640" y="2649600"/>
          <a:ext cx="8064360" cy="1006560"/>
        </p:xfrm>
        <a:graphic>
          <a:graphicData uri="http://schemas.openxmlformats.org/drawingml/2006/table">
            <a:tbl>
              <a:tblPr/>
              <a:tblGrid>
                <a:gridCol w="4032360"/>
                <a:gridCol w="4032000"/>
              </a:tblGrid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r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lt;var&gt;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iterator&g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|[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vers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] &lt;range&gt;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lt;statements&g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{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xi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[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condition&gt;];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o direct equival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826920" y="5025960"/>
          <a:ext cx="8064720" cy="863640"/>
        </p:xfrm>
        <a:graphic>
          <a:graphicData uri="http://schemas.openxmlformats.org/drawingml/2006/table">
            <a:tbl>
              <a:tblPr/>
              <a:tblGrid>
                <a:gridCol w="4032360"/>
                <a:gridCol w="4032360"/>
              </a:tblGrid>
              <a:tr h="863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r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lt;var&gt;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lt;container&gt;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lt;statements&g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{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xi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[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condition&gt;];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&lt;type&gt; &lt;var&gt; : &lt;container&gt;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lt;statements&g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{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condition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reak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41" name="Picture 5" descr="C:\Users\ochem\Desktop\ada2012png-white-transparent.png"/>
          <p:cNvPicPr/>
          <p:nvPr/>
        </p:nvPicPr>
        <p:blipFill>
          <a:blip r:embed="rId1"/>
          <a:stretch/>
        </p:blipFill>
        <p:spPr>
          <a:xfrm>
            <a:off x="8105760" y="115920"/>
            <a:ext cx="93024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4T10:35:52Z</dcterms:created>
  <dc:creator>ochem</dc:creator>
  <dc:description/>
  <dc:language>en-US</dc:language>
  <cp:lastModifiedBy>Vasiliy Fofanov</cp:lastModifiedBy>
  <dcterms:modified xsi:type="dcterms:W3CDTF">2013-09-22T11:08:23Z</dcterms:modified>
  <cp:revision>193</cp:revision>
  <dc:subject/>
  <dc:title>Diapositive 1</dc:title>
</cp:coreProperties>
</file>