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C0DE-6222-4ECC-A34F-81D54CDDE3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ed types cannot extend Controlled, need to extend Limited_Contro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367D-6026-4670-A934-6EE466FB8D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Adjust provided for Limited_Contro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43A2-DA1B-42FC-8FC2-97ADE75110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-time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’Class (V).Initialize will recursively call the same Initialize sub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719-393F-423B-A541-D93E1C6205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explicit initialization through an aggregate. The default initialization is not called, so no call to initialize. There is no copy either, so no call to Adj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7AF-D27D-4A87-95A5-8CB18F57FA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too, we’re overriding the default initialization of Cpt with the aggre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37E-9E9A-4734-A98D-2B89DD6875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gregate (others =&gt; &lt;&gt;) calls default initialization of the components, including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6FBD-A704-4CED-A686-180BF65974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 initialization is overridden by the aggre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B04-8864-440C-A48A-50C838F221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ioning Root in the aggregate uses its default initialization, and calls Initial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2B32-6857-41AD-A368-23D9DA8A88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itialize subprogram is called after the elaboration of the object, so after the initialization of F to 66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67F7-6EF1-48A4-8581-102BF69810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- on init of V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- on assign to V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- on return of Fu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- on assign of result to V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554-9A71-436B-A526-FC26AAB7A6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CA63614-3527-4497-A68B-489532D9556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F2343E2-042B-43AC-9C8D-9231A6BE93B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19B446A-416F-46A2-9B0D-8967A1F5DB0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4ABD7FF-01AB-448B-B3EA-18E41BE6136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1CDF4C9-81E3-4759-A4B5-D8C7D442721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DCA98D5-316F-4BEF-A093-0047C012AAF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2892C99-A790-474F-A4B0-30012692647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143080" y="2857680"/>
          <a:ext cx="4857840" cy="714240"/>
        </p:xfrm>
        <a:graphic>
          <a:graphicData uri="http://schemas.openxmlformats.org/drawingml/2006/table">
            <a:tbl>
              <a:tblPr/>
              <a:tblGrid>
                <a:gridCol w="485784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mi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143080" y="2857680"/>
          <a:ext cx="4857840" cy="714240"/>
        </p:xfrm>
        <a:graphic>
          <a:graphicData uri="http://schemas.openxmlformats.org/drawingml/2006/table">
            <a:tbl>
              <a:tblPr/>
              <a:tblGrid>
                <a:gridCol w="485784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mited_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or runtime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357280" y="3000240"/>
          <a:ext cx="4857840" cy="1737000"/>
        </p:xfrm>
        <a:graphic>
          <a:graphicData uri="http://schemas.openxmlformats.org/drawingml/2006/table">
            <a:tbl>
              <a:tblPr/>
              <a:tblGrid>
                <a:gridCol w="485784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’Class (V).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Initialize T”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14240" y="1714680"/>
          <a:ext cx="4857840" cy="2835000"/>
        </p:xfrm>
        <a:graphic>
          <a:graphicData uri="http://schemas.openxmlformats.org/drawingml/2006/table">
            <a:tbl>
              <a:tblPr/>
              <a:tblGrid>
                <a:gridCol w="4857840"/>
              </a:tblGrid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Initialize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djus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500720" y="5583240"/>
          <a:ext cx="3857400" cy="27468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at code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00040" y="2089080"/>
          <a:ext cx="4429080" cy="15541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In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214800" y="4643280"/>
          <a:ext cx="5500440" cy="1006560"/>
        </p:xfrm>
        <a:graphic>
          <a:graphicData uri="http://schemas.openxmlformats.org/drawingml/2006/table">
            <a:tbl>
              <a:tblPr/>
              <a:tblGrid>
                <a:gridCol w="5500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ain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pt : Roo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ontainer := (Cpt =&gt;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at code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0040" y="2089080"/>
          <a:ext cx="4429080" cy="15541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Init”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29080" y="4643280"/>
          <a:ext cx="4286160" cy="100656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ain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pt : Roo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ontainer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at code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00040" y="2089080"/>
          <a:ext cx="4429080" cy="15541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In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4429080" y="4643280"/>
          <a:ext cx="4286160" cy="71460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hild :=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00040" y="2089080"/>
          <a:ext cx="4429080" cy="15541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In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643280" y="4643280"/>
          <a:ext cx="4071960" cy="7146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hild := (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00040" y="2089080"/>
          <a:ext cx="4429080" cy="192096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Integer := 66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F := 77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643280" y="4643280"/>
          <a:ext cx="4071960" cy="7146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oo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.F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output of this code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00040" y="2089080"/>
          <a:ext cx="4429080" cy="283536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283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.Id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unc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d =&gt;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un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4643280" y="5168880"/>
          <a:ext cx="4071960" cy="118908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 :=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d =&gt;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oot :=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d =&gt;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Root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= Func (V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ometimes « limited » is « too limited »: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may want to make assignment legal but keep control of what happens to the object in this cas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ackage Ada.Finalization: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o allow the user to keep track of creation, modification and destruction of a tagged object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rivation from « Controlled » type 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50920" y="4653000"/>
          <a:ext cx="5072040" cy="173664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Finalization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Finaliza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 initializ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:= may be used in two contex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en used in initialization, it replaces the default initial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916360" y="3573360"/>
          <a:ext cx="4071960" cy="283536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er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Unique_I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er := Counter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 : Integer := Unique_I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V1.Id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Id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R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V3.Id =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types &amp; initializ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agged types may add an extra processing at default initialization if they are derived from Ada.Finalization.Controll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is called at default initialization only, after the elaboration of the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143080" y="2700360"/>
          <a:ext cx="5072040" cy="173664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Finalization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Finaliza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195640" y="5564160"/>
          <a:ext cx="5072040" cy="45720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;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calls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ning! Initialize is not a C++/Java constructor!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parent’s Initialize has to be called explicitly if requir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143080" y="2100240"/>
          <a:ext cx="5072040" cy="447984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447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dy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 (R (V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B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cting to object destruc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trolled types may implemen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liz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alled before object destruc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T a C++/Java destructor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(as it does not call the parent Finalize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73200" y="3252960"/>
          <a:ext cx="7786440" cy="320040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_Access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ree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Unchecked_Deallocation (Integer, Integer_Acces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Integer_Acces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alize (This :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alize (This :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ee (This.F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aliz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cting to object modific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possible to react to a copy of a tagged type if it is derived from Controll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just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is called on the target of the cop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trolled types are tagged types, always passed by reference =&gt;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is no copy on parameter passing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050920" y="2565360"/>
          <a:ext cx="5000760" cy="210348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just (This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V;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calls Adjust on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2;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-- calls Adjust on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controlle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Limited tagged types can be derived from Limited_Controll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ince limited types can’t be copied, there is no Adjust subprogram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857240" y="3182760"/>
          <a:ext cx="5857920" cy="1189080"/>
        </p:xfrm>
        <a:graphic>
          <a:graphicData uri="http://schemas.openxmlformats.org/drawingml/2006/table">
            <a:tbl>
              <a:tblPr/>
              <a:tblGrid>
                <a:gridCol w="58579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mited_Controll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 (This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alize(This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2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276720" y="2781360"/>
            <a:ext cx="7189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5T23:16:59Z</dcterms:modified>
  <cp:revision>119</cp:revision>
  <dc:subject/>
  <dc:title>Diapositive 1</dc:title>
</cp:coreProperties>
</file>