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4C6E-F2CA-4722-8F93-F6C92C3CD5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1 /= V2 is forbidden because of the fact that T is lim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6583-F3A3-40D1-B1B4-66F759B9C4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contains a limited component, so it’s implicitly limited. V1 := V2 is forbid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4425-8448-46AB-9B4F-9E958C88B8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as a limited component, so it’s implicitely limited.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1 (5 .. 10) := V2 (5 .. 10);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is forbid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05CB-CF20-42E4-9499-DE88076B95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contains an access to a limited type, but is not limited it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515B-A79C-49CD-914F-36D9914644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ll view of T is implicitly limited because of the limited component C. The private view must be explicitly limited otherwise the user doesn’t have access to the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763D-1F46-4EAF-88AA-98B3E72706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vate view is limited, however the full one is not. Therefore, it doesn’t have to follow limited types constrains and can in particular do assig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6A30-6D98-4E56-8FC8-9090EDB65B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.Child has visibility over the private part of P, which is not limited. Assignment is permit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1B11-80E9-4BF5-AE2C-3028A14212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is limited, so removed the default equality, but it’s explicitly added afterw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2208-372A-4BB5-A59F-8EC5186889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turned statements are doing “in place” return. There’s no copy here, so the initialization wo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0A8C-421E-45C3-BF98-BC187F4588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OK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gregate creation works - there’s no copy invol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ault initialization to Null_L is OK, it’s a reference to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6424-8879-4965-867C-85237A3A31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153A4B3-D2E5-43FD-A1CF-E0BD0BA8622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B225A96-7D6E-4B01-A8D8-B8299D96E8F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4D79651-BDEF-4F6B-86C1-C3EFD0B045D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A3F0E83-4720-4B43-A03E-FBB62255922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50379E6-D04D-4944-B76A-C06196C6730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226E10B-27C7-46F5-9900-0A1A8BE52A6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B449A22D-487C-45FE-9C59-7EBA4F880EC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 Typ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iz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44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3203640" y="2781360"/>
            <a:ext cx="79200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1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071800" y="1971720"/>
          <a:ext cx="5000400" cy="1006560"/>
        </p:xfrm>
        <a:graphic>
          <a:graphicData uri="http://schemas.openxmlformats.org/drawingml/2006/table">
            <a:tbl>
              <a:tblPr/>
              <a:tblGrid>
                <a:gridCol w="500040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 null recor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071800" y="3900600"/>
          <a:ext cx="5000400" cy="1736640"/>
        </p:xfrm>
        <a:graphic>
          <a:graphicData uri="http://schemas.openxmlformats.org/drawingml/2006/table">
            <a:tbl>
              <a:tblPr/>
              <a:tblGrid>
                <a:gridCol w="5000400"/>
              </a:tblGrid>
              <a:tr h="173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us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, V2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1 /= V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48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2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484360" y="2781360"/>
          <a:ext cx="4357800" cy="1920960"/>
        </p:xfrm>
        <a:graphic>
          <a:graphicData uri="http://schemas.openxmlformats.org/drawingml/2006/table">
            <a:tbl>
              <a:tblPr/>
              <a:tblGrid>
                <a:gridCol w="4357800"/>
              </a:tblGrid>
              <a:tr h="192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V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1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3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500200" y="2781360"/>
          <a:ext cx="4357800" cy="1554120"/>
        </p:xfrm>
        <a:graphic>
          <a:graphicData uri="http://schemas.openxmlformats.org/drawingml/2006/table">
            <a:tbl>
              <a:tblPr/>
              <a:tblGrid>
                <a:gridCol w="43578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A (1 .. 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A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(5 .. 10) := V2 (5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4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4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500200" y="2765520"/>
          <a:ext cx="4357800" cy="2103480"/>
        </p:xfrm>
        <a:graphic>
          <a:graphicData uri="http://schemas.openxmlformats.org/drawingml/2006/table">
            <a:tbl>
              <a:tblPr/>
              <a:tblGrid>
                <a:gridCol w="435780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A_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V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7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5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500200" y="2587680"/>
          <a:ext cx="4357800" cy="2468520"/>
        </p:xfrm>
        <a:graphic>
          <a:graphicData uri="http://schemas.openxmlformats.org/drawingml/2006/table">
            <a:tbl>
              <a:tblPr/>
              <a:tblGrid>
                <a:gridCol w="4357800"/>
              </a:tblGrid>
              <a:tr h="24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: 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0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6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500200" y="1571760"/>
          <a:ext cx="3500640" cy="2468520"/>
        </p:xfrm>
        <a:graphic>
          <a:graphicData uri="http://schemas.openxmlformats.org/drawingml/2006/table">
            <a:tbl>
              <a:tblPr/>
              <a:tblGrid>
                <a:gridCol w="3500640"/>
              </a:tblGrid>
              <a:tr h="24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2500200" y="4214880"/>
          <a:ext cx="3500640" cy="1736640"/>
        </p:xfrm>
        <a:graphic>
          <a:graphicData uri="http://schemas.openxmlformats.org/drawingml/2006/table">
            <a:tbl>
              <a:tblPr/>
              <a:tblGrid>
                <a:gridCol w="3500640"/>
              </a:tblGrid>
              <a:tr h="173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V := 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4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7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14240" y="1571760"/>
          <a:ext cx="3500640" cy="2103480"/>
        </p:xfrm>
        <a:graphic>
          <a:graphicData uri="http://schemas.openxmlformats.org/drawingml/2006/table">
            <a:tbl>
              <a:tblPr/>
              <a:tblGrid>
                <a:gridCol w="350064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714920" y="4214880"/>
          <a:ext cx="3500280" cy="1736640"/>
        </p:xfrm>
        <a:graphic>
          <a:graphicData uri="http://schemas.openxmlformats.org/drawingml/2006/table">
            <a:tbl>
              <a:tblPr/>
              <a:tblGrid>
                <a:gridCol w="3500280"/>
              </a:tblGrid>
              <a:tr h="173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V := 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714920" y="1571760"/>
          <a:ext cx="3500280" cy="1006200"/>
        </p:xfrm>
        <a:graphic>
          <a:graphicData uri="http://schemas.openxmlformats.org/drawingml/2006/table">
            <a:tbl>
              <a:tblPr/>
              <a:tblGrid>
                <a:gridCol w="350028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9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8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2071800" y="1971720"/>
          <a:ext cx="5000400" cy="1371600"/>
        </p:xfrm>
        <a:graphic>
          <a:graphicData uri="http://schemas.openxmlformats.org/drawingml/2006/table">
            <a:tbl>
              <a:tblPr/>
              <a:tblGrid>
                <a:gridCol w="500040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 null recor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"=" (Left, Right : T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071800" y="3900600"/>
          <a:ext cx="5000400" cy="1736640"/>
        </p:xfrm>
        <a:graphic>
          <a:graphicData uri="http://schemas.openxmlformats.org/drawingml/2006/table">
            <a:tbl>
              <a:tblPr/>
              <a:tblGrid>
                <a:gridCol w="5000400"/>
              </a:tblGrid>
              <a:tr h="173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us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, V2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1 = V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3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9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059280" y="2276640"/>
          <a:ext cx="3143160" cy="2835000"/>
        </p:xfrm>
        <a:graphic>
          <a:graphicData uri="http://schemas.openxmlformats.org/drawingml/2006/table">
            <a:tbl>
              <a:tblPr/>
              <a:tblGrid>
                <a:gridCol w="3143160"/>
              </a:tblGrid>
              <a:tr h="28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 null recor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 : 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L := F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6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 of default assignment and equalit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Default assignment and equality may not be appropriate for certain typ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85840" y="2239920"/>
          <a:ext cx="4214880" cy="2286000"/>
        </p:xfrm>
        <a:graphic>
          <a:graphicData uri="http://schemas.openxmlformats.org/drawingml/2006/table">
            <a:tbl>
              <a:tblPr/>
              <a:tblGrid>
                <a:gridCol w="4214880"/>
              </a:tblGrid>
              <a:tr h="2286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e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ell_Acces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e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el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    : Cell_Access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ement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This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ell; Element : 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ree_List (This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ell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4643280" y="2233440"/>
          <a:ext cx="4071960" cy="1920960"/>
        </p:xfrm>
        <a:graphic>
          <a:graphicData uri="http://schemas.openxmlformats.org/drawingml/2006/table">
            <a:tbl>
              <a:tblPr/>
              <a:tblGrid>
                <a:gridCol w="4071960"/>
              </a:tblGrid>
              <a:tr h="192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1 : Ce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2 : Ce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 (List1, 5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 (List1, 6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2 := List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 (List2, 7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419415"/>
                          </a:solidFill>
                          <a:latin typeface="Courier New"/>
                        </a:rPr>
                        <a:t>-- What is in list1 her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ree_List (List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419415"/>
                          </a:solidFill>
                          <a:latin typeface="Courier New"/>
                        </a:rPr>
                        <a:t>-- What is in list2 her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4643280" y="4386240"/>
          <a:ext cx="4071960" cy="1563840"/>
        </p:xfrm>
        <a:graphic>
          <a:graphicData uri="http://schemas.openxmlformats.org/drawingml/2006/table">
            <a:tbl>
              <a:tblPr/>
              <a:tblGrid>
                <a:gridCol w="4071960"/>
              </a:tblGrid>
              <a:tr h="156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1 : Ce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2 : Ce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 (List1, 5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 (List2, 5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ist1 = Lis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i="1" lang="en-US" sz="1200" spc="-1" strike="noStrike">
                          <a:solidFill>
                            <a:srgbClr val="419415"/>
                          </a:solidFill>
                          <a:latin typeface="Courier New"/>
                        </a:rPr>
                        <a:t>-- are these two equal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10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843280" y="2276640"/>
          <a:ext cx="3589200" cy="2651040"/>
        </p:xfrm>
        <a:graphic>
          <a:graphicData uri="http://schemas.openxmlformats.org/drawingml/2006/table">
            <a:tbl>
              <a:tblPr/>
              <a:tblGrid>
                <a:gridCol w="3589200"/>
              </a:tblGrid>
              <a:tr h="265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_L : L := (0,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L := Null_L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L'(5, 7)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9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bidding equality &amp; assignment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90756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Declaring a type as being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imited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 forbids: </a:t>
            </a:r>
            <a:br>
              <a:rPr sz="2200"/>
            </a:b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ssignment, Comparison and Copy 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2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04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2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04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2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04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2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04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2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04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2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04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04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04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04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04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04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04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04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can still be added as overriding sub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objects are always passed by reference when used as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Components can still be accessed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63680" y="1841400"/>
          <a:ext cx="4214520" cy="2316240"/>
        </p:xfrm>
        <a:graphic>
          <a:graphicData uri="http://schemas.openxmlformats.org/drawingml/2006/table">
            <a:tbl>
              <a:tblPr/>
              <a:tblGrid>
                <a:gridCol w="4214520"/>
              </a:tblGrid>
              <a:tr h="2316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e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ell_Access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e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ell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limite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    : Cell_Access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ement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This :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ell; Element : 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ree_List (This :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ell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4821120" y="1835280"/>
          <a:ext cx="4071960" cy="1371600"/>
        </p:xfrm>
        <a:graphic>
          <a:graphicData uri="http://schemas.openxmlformats.org/drawingml/2006/table">
            <a:tbl>
              <a:tblPr/>
              <a:tblGrid>
                <a:gridCol w="407196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1 : Ce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2 : Ce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 (List1, 5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 (List1, 6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List2 := List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4821120" y="3352680"/>
          <a:ext cx="4071960" cy="1239840"/>
        </p:xfrm>
        <a:graphic>
          <a:graphicData uri="http://schemas.openxmlformats.org/drawingml/2006/table">
            <a:tbl>
              <a:tblPr/>
              <a:tblGrid>
                <a:gridCol w="4071960"/>
              </a:tblGrid>
              <a:tr h="1239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1 : Ce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2 : Ce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 (List1, 5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 (List1, 6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List2 = List1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t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6012000" y="5877000"/>
          <a:ext cx="2592360" cy="63972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1 : Ce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1.Element := 0;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15" name="ZoneTexte 7"/>
          <p:cNvSpPr/>
          <p:nvPr/>
        </p:nvSpPr>
        <p:spPr>
          <a:xfrm>
            <a:off x="7236000" y="4076640"/>
            <a:ext cx="172872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Only possible </a:t>
            </a:r>
            <a:br>
              <a:rPr sz="1400"/>
            </a:b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if «=» is overri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9" descr="stop.jpg"/>
          <p:cNvPicPr/>
          <p:nvPr/>
        </p:nvPicPr>
        <p:blipFill>
          <a:blip r:embed="rId1"/>
          <a:stretch/>
        </p:blipFill>
        <p:spPr>
          <a:xfrm>
            <a:off x="4643280" y="2781360"/>
            <a:ext cx="217800" cy="216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0" descr="stop.jpg"/>
          <p:cNvPicPr/>
          <p:nvPr/>
        </p:nvPicPr>
        <p:blipFill>
          <a:blip r:embed="rId2"/>
          <a:stretch/>
        </p:blipFill>
        <p:spPr>
          <a:xfrm>
            <a:off x="4572000" y="4292640"/>
            <a:ext cx="2174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 objects as parameter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Limited objects cannot be copi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us, limited objects are always passed by reference when used in parameter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214800" y="3462480"/>
          <a:ext cx="2928960" cy="227016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227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A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B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V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 type initializ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Default initializ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nitialization with an aggregat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nitialization with a function resul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285920" y="1773360"/>
          <a:ext cx="4000320" cy="1189080"/>
        </p:xfrm>
        <a:graphic>
          <a:graphicData uri="http://schemas.openxmlformats.org/drawingml/2006/table">
            <a:tbl>
              <a:tblPr/>
              <a:tblGrid>
                <a:gridCol w="40003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 : Integer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1285920" y="3860640"/>
          <a:ext cx="4000320" cy="274680"/>
        </p:xfrm>
        <a:graphic>
          <a:graphicData uri="http://schemas.openxmlformats.org/drawingml/2006/table">
            <a:tbl>
              <a:tblPr/>
              <a:tblGrid>
                <a:gridCol w="400032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:= (0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1285920" y="4797360"/>
          <a:ext cx="4000320" cy="639720"/>
        </p:xfrm>
        <a:graphic>
          <a:graphicData uri="http://schemas.openxmlformats.org/drawingml/2006/table">
            <a:tbl>
              <a:tblPr/>
              <a:tblGrid>
                <a:gridCol w="400032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:= F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 type in function retur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10920" y="83196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Since limited types </a:t>
            </a:r>
            <a:r>
              <a:rPr b="1" lang="en-US" sz="2000" spc="-1" strike="noStrike" u="sng">
                <a:solidFill>
                  <a:srgbClr val="404040"/>
                </a:solidFill>
                <a:uFillTx/>
                <a:latin typeface="Arial"/>
              </a:rPr>
              <a:t>cannot be copied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, a local variable can’t be used as the result of a function returning a limited object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da offers “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place return statement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” which creates the object directly at the place of the caller.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object can be an aggre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 reference to the object getting the result can be obtained through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tended return statement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203640" y="1700280"/>
          <a:ext cx="2928960" cy="93024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3143160" y="3789360"/>
          <a:ext cx="2928960" cy="76212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763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0, 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3143160" y="5300640"/>
          <a:ext cx="2928960" cy="126540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: T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.A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.B := R.A + 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31" name="Picture 7" descr="stop.jpg"/>
          <p:cNvPicPr/>
          <p:nvPr/>
        </p:nvPicPr>
        <p:blipFill>
          <a:blip r:embed="rId1"/>
          <a:stretch/>
        </p:blipFill>
        <p:spPr>
          <a:xfrm>
            <a:off x="2987640" y="2205000"/>
            <a:ext cx="2174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 component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record type with a limited component is always itself limited (even if it’s not explicitly specified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000160" y="2428920"/>
          <a:ext cx="5143680" cy="2468520"/>
        </p:xfrm>
        <a:graphic>
          <a:graphicData uri="http://schemas.openxmlformats.org/drawingml/2006/table">
            <a:tbl>
              <a:tblPr/>
              <a:tblGrid>
                <a:gridCol w="5143680"/>
              </a:tblGrid>
              <a:tr h="24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_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L_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r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_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, V2 : T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3, V4 : Arr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V1 := V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V3 := V4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35" name="Picture 7" descr="stop.jpg"/>
          <p:cNvPicPr/>
          <p:nvPr/>
        </p:nvPicPr>
        <p:blipFill>
          <a:blip r:embed="rId1"/>
          <a:stretch/>
        </p:blipFill>
        <p:spPr>
          <a:xfrm>
            <a:off x="1763640" y="4653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stop.jpg"/>
          <p:cNvPicPr/>
          <p:nvPr/>
        </p:nvPicPr>
        <p:blipFill>
          <a:blip r:embed="rId2"/>
          <a:stretch/>
        </p:blipFill>
        <p:spPr>
          <a:xfrm>
            <a:off x="1763640" y="4437000"/>
            <a:ext cx="2174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vac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68360" y="1142640"/>
            <a:ext cx="8205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limited constraint can be given only to the users of a type, and removed for the implementer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f the full view of a type is limited, the partial one has to be limited as well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er of a type can’t have more rights than the implemen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000160" y="2286000"/>
          <a:ext cx="5143680" cy="1006560"/>
        </p:xfrm>
        <a:graphic>
          <a:graphicData uri="http://schemas.openxmlformats.org/drawingml/2006/table">
            <a:tbl>
              <a:tblPr/>
              <a:tblGrid>
                <a:gridCol w="514368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1979640" y="5300640"/>
          <a:ext cx="5143320" cy="1006560"/>
        </p:xfrm>
        <a:graphic>
          <a:graphicData uri="http://schemas.openxmlformats.org/drawingml/2006/table">
            <a:tbl>
              <a:tblPr/>
              <a:tblGrid>
                <a:gridCol w="51433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ag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360" y="1142640"/>
            <a:ext cx="8277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f assignment or predefined equality are undesirabl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ssignment means no cop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ing may not make sense, such as for file types or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Don’t make types limited unless necessar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able but annoying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llowance of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eritance of limitedness by composit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dealing with generic units, further annoyances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Vasiliy Fofanov</cp:lastModifiedBy>
  <dcterms:modified xsi:type="dcterms:W3CDTF">2013-09-26T09:48:14Z</dcterms:modified>
  <cp:revision>120</cp:revision>
  <dc:subject/>
  <dc:title>Diapositive 1</dc:title>
</cp:coreProperties>
</file>