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ABAC-0B17-4145-921A-1001B81F2A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edure Main doesn’t have visibility over the representation of V, so it can’t make the assig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ssignment of P.Main is OK though, since it’s a child unit, it has visibility over the private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C4AD-3E24-4CB6-A375-3E6C208BF1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laration of the constant Zero has no visibility over the representation of T, it can’t be initialized. What should be done instead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ckage P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type T is privat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Zero : constant 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 T is range 0 .. 1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Zero : constant T := 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AC5B-6FC8-4643-AD55-BC08A39DCB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fine on P.Main, it has visibility over P. The with and use clauses are redund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Main doesn’t have visibility over the private part of P, so it can’t use its ent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F9BF-0345-4818-912F-A3DA6BDD3B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has an indefinite full view, but a definite partial view. This is inconsistent, as clients are not aware of the fact that they should constrain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rtial view of T should b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T (&lt;&gt;) is privat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D8BA-0CC1-4D4A-84DF-D8F26A070E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vate definition is fine, but not the declaration – T is not constrained in Main (even if the real type doesn’t have to be, the private view is unconstrain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55CA-7EFF-44B1-B071-77927FC3C7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applicable operator "+" for private type "T" defined at p.ads: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4AAA-A8B5-4E36-AD0B-FBE58493EE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blic view of P.Constants has only visibility over the public view of P. It cannot reveal things that are hidden. So the constant cannot be given a literal here. What would work is to declare them in the private part, e.g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.Constant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Zero : constant T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ne  : constant T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Zero : constant T := 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ne  : constant T := 1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P.Consta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86A4-BD55-4137-9225-D82C2807E6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 : invalid prefix in selected component "S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A9F8-C14E-4AB2-B39B-F8DFF18464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C349-61A6-446E-A454-7FBC339484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AC3B-761A-46E5-B51C-FCD78498EB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complia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956F-229F-42FE-8251-970901BB44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F0A3BC4-0BA1-4B9C-BA19-2586CB58C34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38F5A3C-4BAF-4E21-AA85-9AF7184BB46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3F0D3F0-58E6-4A50-A902-75D335628E1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9000C25-8C52-4BF2-A5CA-54C09D9F0D0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BC46F48-DADE-435E-B957-121DC422F4A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563F26E-D9E9-4648-97CA-5555781483E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8ED9CFB-48EA-4F70-9ADF-930CB8588AB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ic Privac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erred private constan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’s useful to declare constants visible in the public view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Values can’t be given before the representation is accessible – so constants of private types have a public and a private view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786040" y="3500280"/>
          <a:ext cx="3571920" cy="310860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108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Empty_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;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Dat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1 .. 100)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record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  : Integer := 0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Data : Stack_Data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Empty_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:=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(0, (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)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vate part is not only for private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ny kind of declaration can be provided in the private part of the packag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Entities declared only in the private part are not reachable at all for the clien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285920" y="3030480"/>
          <a:ext cx="6572160" cy="3565440"/>
        </p:xfrm>
        <a:graphic>
          <a:graphicData uri="http://schemas.openxmlformats.org/drawingml/2006/table">
            <a:tbl>
              <a:tblPr/>
              <a:tblGrid>
                <a:gridCol w="6572160"/>
              </a:tblGrid>
              <a:tr h="356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--  public part of the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declaration of subprograms, variables exceptions, tasks…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visible to the external 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used by the compiler for all dependencies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--  private part of the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declaration of subprograms, variables exceptions, tasks…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visible to the children and the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used by the compiler for all dependen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--  bo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declaration of subprograms, variables exceptions, tasks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</a:t>
                      </a: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implementation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f sub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used for the compiler from 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in certain cases, visible from the compiler for dependen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5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2843280" y="2781360"/>
            <a:ext cx="7999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/7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785960" y="2143080"/>
          <a:ext cx="2571840" cy="9302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1785960" y="4143240"/>
          <a:ext cx="2571840" cy="12654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5429160" y="4143240"/>
          <a:ext cx="2571840" cy="12654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5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2/7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357200" y="2071800"/>
          <a:ext cx="2571840" cy="109692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Zero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5429160" y="2071800"/>
          <a:ext cx="2571840" cy="12650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3214800" y="4211640"/>
          <a:ext cx="2571480" cy="143208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143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.F := Zer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3/7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785960" y="2143080"/>
          <a:ext cx="2571840" cy="109692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Zero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785960" y="4143240"/>
          <a:ext cx="2571840" cy="12654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= Zer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5429160" y="4143240"/>
          <a:ext cx="2571840" cy="12654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= Zer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5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4/7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143080" y="2143080"/>
          <a:ext cx="4714920" cy="930240"/>
        </p:xfrm>
        <a:graphic>
          <a:graphicData uri="http://schemas.openxmlformats.org/drawingml/2006/table">
            <a:tbl>
              <a:tblPr/>
              <a:tblGrid>
                <a:gridCol w="471492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3071880" y="4071960"/>
          <a:ext cx="2571840" cy="9302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(1 .. 1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(1)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9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5/7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2143080" y="2143080"/>
          <a:ext cx="4950000" cy="930240"/>
        </p:xfrm>
        <a:graphic>
          <a:graphicData uri="http://schemas.openxmlformats.org/drawingml/2006/table">
            <a:tbl>
              <a:tblPr/>
              <a:tblGrid>
                <a:gridCol w="495000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(&lt;&gt;)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71880" y="4071960"/>
          <a:ext cx="2571840" cy="12650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3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6/7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286080" y="2235240"/>
          <a:ext cx="2571840" cy="143172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One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  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3286080" y="4307040"/>
          <a:ext cx="2571840" cy="12650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: T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al := One + On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7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7/7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571760" y="1857240"/>
          <a:ext cx="2571480" cy="93024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3143160" y="4068720"/>
          <a:ext cx="3214800" cy="143208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143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Constants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onstant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 T := On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4357800" y="1857240"/>
          <a:ext cx="3643200" cy="76212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763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Constant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ero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 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1;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onstant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38224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Private types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ical problem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Having the full implementation of the types accessible is error-pron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But the compiler needs to have access to the representation (needs to know how much memory is to be used)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o the representation has to stay in the specification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084720" y="2565360"/>
          <a:ext cx="2571840" cy="14940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4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S : Stacks.Stack_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S, 15)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S.Max := 10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Pop (S, 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395280" y="1916280"/>
          <a:ext cx="5214960" cy="277308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27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Dat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1 .. 10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  : Integer := 0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Data : Stack_Data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; Val :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; Val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vate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Introduces a new section in the package specification : the private section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ble by the comp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ble by the implementation and the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visible by the user of the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In Ada, private applies to a type as a whole, not on a field by field basi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In Ada, privacy is managed at package level, not at class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28760" y="3213000"/>
          <a:ext cx="8501040" cy="3276720"/>
        </p:xfrm>
        <a:graphic>
          <a:graphicData uri="http://schemas.openxmlformats.org/drawingml/2006/table">
            <a:tbl>
              <a:tblPr/>
              <a:tblGrid>
                <a:gridCol w="4251240"/>
                <a:gridCol w="4249800"/>
              </a:tblGrid>
              <a:tr h="3276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  :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Dat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1 .. 100)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record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  : Integer := 0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Data : Stack_Data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mespac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{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{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al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] Data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x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has access to the private information?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ody, and child unit have access to the implement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95360" y="2075040"/>
          <a:ext cx="3571920" cy="444960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444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  :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Dat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1 .. 100)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record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  : Integer := 0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Data : Stack_Data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  : Integ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.Data (Stack.Max + 1) := Val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Stack.Max := Stack.Max + 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857840" y="2117880"/>
          <a:ext cx="3429000" cy="21031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210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.Util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mp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.Util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.Util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mp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.Max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.Util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.Util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857840" y="4660920"/>
          <a:ext cx="3429000" cy="17683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768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.Utils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.Util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tack_Typ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Push (S, 1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mpty (S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S.Max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17" name="Picture 5" descr="stop.jpg"/>
          <p:cNvPicPr/>
          <p:nvPr/>
        </p:nvPicPr>
        <p:blipFill>
          <a:blip r:embed="rId1"/>
          <a:stretch/>
        </p:blipFill>
        <p:spPr>
          <a:xfrm>
            <a:off x="4643280" y="602136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can you do with a private type?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From the user perspective, a private type is equivalent to a null recor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can be used for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, parameters and components decla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5286240" y="3860640"/>
          <a:ext cx="3429000" cy="24228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242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S1, S2 : Stacks.Stack_Typ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S1, 15)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S2 := S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S2,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S1,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1 = S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S1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428760" y="4005360"/>
          <a:ext cx="3571920" cy="21034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  : Integer);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…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can a private type be implemented?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105264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 “simple” private type can be implemented by any type giving at least the same level of capabiliti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ype must allow variable declarations without the need of constraints, it has to be definite (e.g. no unconstrained arr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ype must allow copy and comparison (e.g. no limited 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714760" y="3214800"/>
          <a:ext cx="3571920" cy="7142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714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08000" y="4005360"/>
          <a:ext cx="3240000" cy="122400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12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ran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3419640" y="4000680"/>
          <a:ext cx="2652480" cy="1265040"/>
        </p:xfrm>
        <a:graphic>
          <a:graphicData uri="http://schemas.openxmlformats.org/drawingml/2006/table">
            <a:tbl>
              <a:tblPr/>
              <a:tblGrid>
                <a:gridCol w="265248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recor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V : Integer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6143760" y="4000680"/>
          <a:ext cx="2928960" cy="126504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array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932360" y="5373720"/>
          <a:ext cx="4103640" cy="109692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1c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395280" y="5357880"/>
          <a:ext cx="4248000" cy="109692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(Size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V : Integer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1c1"/>
                    </a:solidFill>
                  </a:tcPr>
                </a:tc>
              </a:tr>
            </a:tbl>
          </a:graphicData>
        </a:graphic>
      </p:graphicFrame>
      <p:pic>
        <p:nvPicPr>
          <p:cNvPr id="330" name="Picture 5" descr="stop.jpg"/>
          <p:cNvPicPr/>
          <p:nvPr/>
        </p:nvPicPr>
        <p:blipFill>
          <a:blip r:embed="rId1"/>
          <a:stretch/>
        </p:blipFill>
        <p:spPr>
          <a:xfrm>
            <a:off x="71280" y="537372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stop.jpg"/>
          <p:cNvPicPr/>
          <p:nvPr/>
        </p:nvPicPr>
        <p:blipFill>
          <a:blip r:embed="rId2"/>
          <a:stretch/>
        </p:blipFill>
        <p:spPr>
          <a:xfrm>
            <a:off x="4643280" y="5373720"/>
            <a:ext cx="2890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can a private type be implemented?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105264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n “indefinite” private type can be implemented by any type that can be implemented by private type as well as indefinit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 user needs to consider it as indefinite (no declaration without initial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714760" y="3214800"/>
          <a:ext cx="3571920" cy="7142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714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(&lt;&gt;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08000" y="4005360"/>
          <a:ext cx="3240000" cy="122400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12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ran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419640" y="4000680"/>
          <a:ext cx="2665080" cy="1265040"/>
        </p:xfrm>
        <a:graphic>
          <a:graphicData uri="http://schemas.openxmlformats.org/drawingml/2006/table">
            <a:tbl>
              <a:tblPr/>
              <a:tblGrid>
                <a:gridCol w="266508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recor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V : Integer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6143760" y="4000680"/>
          <a:ext cx="2928960" cy="126504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array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4643280" y="5373720"/>
          <a:ext cx="4321440" cy="1096920"/>
        </p:xfrm>
        <a:graphic>
          <a:graphicData uri="http://schemas.openxmlformats.org/drawingml/2006/table">
            <a:tbl>
              <a:tblPr/>
              <a:tblGrid>
                <a:gridCol w="432144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22200" y="5357880"/>
          <a:ext cx="4178520" cy="1096920"/>
        </p:xfrm>
        <a:graphic>
          <a:graphicData uri="http://schemas.openxmlformats.org/drawingml/2006/table">
            <a:tbl>
              <a:tblPr/>
              <a:tblGrid>
                <a:gridCol w="417852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(Size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V : Integer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Discriminants on Private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9640" y="112500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’s possible to specify the discriminants of a private typ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050920" y="2637000"/>
          <a:ext cx="5300640" cy="2225520"/>
        </p:xfrm>
        <a:graphic>
          <a:graphicData uri="http://schemas.openxmlformats.org/drawingml/2006/table">
            <a:tbl>
              <a:tblPr/>
              <a:tblGrid>
                <a:gridCol w="5300640"/>
              </a:tblGrid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(Size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(Size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V : Integer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Vasiliy Fofanov</cp:lastModifiedBy>
  <dcterms:modified xsi:type="dcterms:W3CDTF">2013-09-23T21:03:04Z</dcterms:modified>
  <cp:revision>178</cp:revision>
  <dc:subject/>
  <dc:title>Diapositive 1</dc:title>
</cp:coreProperties>
</file>