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3FA-C071-45F4-84CC-F2CED62A75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81E-BBA2-4409-A5C7-763A837A7E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56E-5B26-4E53-A095-7738096C19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is OK, but stack overflow at run-time because of the huge array to allocate on the st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7DC-619E-4F47-996F-6AD3C988AB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gnment is wrong, V1 and V2 are not of the sam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36B-D5A0-409D-87CB-6631A8182F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is wrong, indices are equal to ‘First, ‘First + 1 and ‘First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34C-EC8F-4973-81A6-583ACBD639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 here, TS is a subtype of T and even if the boundaries are different, the size is the same and sliding will do th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918-8DB1-46EC-B10B-9D5EB87540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roblem. Even if X value change, that doesn’t impact the declaration of the array type T, so V1 and V2 have the same bound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CF2F-4A2D-488C-BFA6-AF7D281FC9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(I) will raise an exception because the range is different from the one of V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A5A4-2985-4D67-A4B3-1838791C49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doesn’t work because TS is already constr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6EC7-E326-4513-864F-AA24A3A773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 has to be constrained for thi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38A-976F-47ED-B06C-3CBBDCF23D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_Component_Value is initialized with a dynamic expression, 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151-FBB8-4D7F-AD59-3B8F798795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5D1-12A8-4DF4-AB93-027CE2D33C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09DF43B-C883-4991-9881-1E18EC78F3B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D4012C8-E2C9-4658-82E5-5C5094E17ED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4A2EAE1-8B0A-40F5-9491-FFB0FC59FC8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17E9783-CFCE-4712-8360-CB4185AEBD9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1F12118-12A0-42C8-9E77-BCB71D9170C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8DB5480-9477-4402-AC85-73A11F380A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643C938-2273-49FD-A352-A26A0C24EB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Concaten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wo arrays can be concatenated through the &amp; operato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array’s lower bound is the lower bound of the left ope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rray can be concatenated with a valu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547640" y="2927520"/>
          <a:ext cx="6096240" cy="1006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(4, 5, 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 : T := A1 &amp; A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571760" y="4869000"/>
          <a:ext cx="6095880" cy="8283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A1 &amp; 4 &amp;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Equal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wo arrays are equal if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size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mponents are equal one by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ctual indices do not matter in array equali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47640" y="2781360"/>
          <a:ext cx="6096240" cy="1554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1 = A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ALWAYS 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ps over an arra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rough an index l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rough an object l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47640" y="198900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'Ran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I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547640" y="450864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7" descr="C:\Users\ochem\Desktop\ada2012png-black-transparent.png"/>
          <p:cNvPicPr/>
          <p:nvPr/>
        </p:nvPicPr>
        <p:blipFill>
          <a:blip r:embed="rId1"/>
          <a:stretch/>
        </p:blipFill>
        <p:spPr>
          <a:xfrm>
            <a:off x="250920" y="3789360"/>
            <a:ext cx="7603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ric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wo dimensional array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utes are ’First (dimension), ’Last (dimension), ’Range (dim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s of array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332000" y="1773360"/>
          <a:ext cx="6985080" cy="82224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,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, 0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, 0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258920" y="4797360"/>
          <a:ext cx="6985080" cy="10065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0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(0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rings are regular array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a special String literal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package ASCII provides named Character valu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979640" y="1989000"/>
          <a:ext cx="5545080" cy="27468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Positiv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aract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979640" y="3429000"/>
          <a:ext cx="5545080" cy="45720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String := "This is it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tring := "Here come quotes ("")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979640" y="5229360"/>
          <a:ext cx="5545080" cy="27468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String := "This is null terminated" &amp; ASCII.NU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Subtypes and Derive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hen subtyping an array, it’s possible to define a constrai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ame with array deriv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ce the array is definite, bounds cannot be chang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403280" y="2133720"/>
          <a:ext cx="6985080" cy="6397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_Bound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ne_To_Te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ny_Bounds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1403280" y="3860640"/>
          <a:ext cx="6985080" cy="64008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_Bound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ne_To_Te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ny_Bounds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ault Component Val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By default, arrays do not come with default valu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t’s possible to force a default value initialization through a static express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For performance reasons, the above may not be desirabl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58920" y="1916280"/>
          <a:ext cx="6985080" cy="82224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V (1)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lays an uninitialized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258920" y="4076640"/>
          <a:ext cx="6985080" cy="10065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ault_Component_Value =&gt;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V (1)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lays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2" name="Picture 5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64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2627280" y="2708280"/>
            <a:ext cx="1008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411280" y="306864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My_Int)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195640" y="3352680"/>
          <a:ext cx="5113080" cy="100656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0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 are first class citize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l arrays are (doubly) typ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operties of array types are…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index type (can be any discrete type, with optional specific boundari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omponent type (can be any definite 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operties of array objects are…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rray ty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cific bounda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cific val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76400" y="1773360"/>
          <a:ext cx="7167600" cy="8222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0 .. 1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A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15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195640" y="3352680"/>
          <a:ext cx="5113080" cy="137160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 (1 .. 3)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195640" y="3352680"/>
          <a:ext cx="5113080" cy="100656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0) := V (1) + V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5640" y="3352680"/>
          <a:ext cx="5113080" cy="137160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1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0 .. 1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S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9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195640" y="3352680"/>
          <a:ext cx="5113080" cy="173700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195640" y="3352680"/>
          <a:ext cx="5113080" cy="1371600"/>
        </p:xfrm>
        <a:graphic>
          <a:graphicData uri="http://schemas.openxmlformats.org/drawingml/2006/table">
            <a:tbl>
              <a:tblPr/>
              <a:tblGrid>
                <a:gridCol w="511308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 .. 3) := (10, 20, 3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(10, 20, 30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'Ran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(I) := V1 (I) + V2 (I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258920" y="3071880"/>
          <a:ext cx="6985080" cy="10065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_Bound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ny_Bounds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S (1 .. 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835280" y="3071880"/>
          <a:ext cx="5400720" cy="27468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_Arra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1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484360" y="3429000"/>
          <a:ext cx="4392720" cy="1189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ault_Component_Value =&gt;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4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e vs. Indefinite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finite types are types that can be used to create objects without additional inform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size i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nstraints are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definite types need additional constrain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 types can be definite or indefini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mponents of array types must be defini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476360" y="4076640"/>
          <a:ext cx="6095880" cy="100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ini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fini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Defini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Indefinite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Indic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rray indices can be of any discrete typ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(signed or mod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rray indices can be defined on any continuous ran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rray index range may be empt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rray indices are computed at the point of array type declarati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47640" y="3357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haract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'a' .. 'z'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Boolean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547640" y="5303880"/>
          <a:ext cx="6096240" cy="646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changes to X don't change A instances after this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ng Array Compon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 components can be directly access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 types and array objects offer ‘Length, ‘Range, ‘First and ‘Last attribut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 access, bounds are dynamically checked and raise Constraint_Error if overflowed or underflow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47640" y="170028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547640" y="5157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0) := 0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Cop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 operations are first class citize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copy operations, lengths are checked, but not actual indic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47640" y="1916280"/>
          <a:ext cx="6096240" cy="1188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571760" y="4292640"/>
          <a:ext cx="6095880" cy="1554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3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Initializ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rray copy can occur at initialization 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the array type is of an indefinite type, then an object of this type can deduce bounds from initializ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47640" y="184464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1 .. 20) := A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47640" y="462276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A1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-- A2 bounds are 1 .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Slic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’s possible to refer to only a part of the array using a sli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rray with only one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lices can be used in any place that requires an array objec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47640" y="407664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(2 .. 4) := A2 (5 .. 7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 Literals (Aggregates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ggregates can be used to provide values to an array as a whol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y can be used wherever an array value is expected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Finite aggregate can initialize variable constraints, lower bound will be equal to T’Firs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92360" y="2060640"/>
          <a:ext cx="6337080" cy="118908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{[&lt;position&gt; =&gt; ] &lt;expression&gt;,} [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expression&gt;]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, 2, 3)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inite positional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 =&gt; 1, 2 =&gt; 10, 3 =&gt; 30)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inite named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indefinite positional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 =&gt; 1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indefinite named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692360" y="4869000"/>
          <a:ext cx="6337080" cy="118908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 (initializ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 (assign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Anthony Leonardo Gracio</cp:lastModifiedBy>
  <dcterms:modified xsi:type="dcterms:W3CDTF">2018-01-22T15:28:55Z</dcterms:modified>
  <cp:revision>213</cp:revision>
  <dc:subject/>
  <dc:title>Diapositive 1</dc:title>
</cp:coreProperties>
</file>