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C0CB-DEA8-4143-BB8D-7F9C4A1E6E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: F will be called before the body has been elabor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aboration of P requires to elaborate A, thus calling F. However, F is not yet elaborated at this point since bodies of packages are elaborated after the spe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5ED3-7B45-40B9-86EF-D31B57E413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d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2 (body + spec) must be elaborated before the spec of P1. But the body of P2 relies on the spec of P1 which must be elaborated before… There’s a circu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160E-CEA4-4337-8F2B-321B064524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C7520E3-0D4B-449D-A905-A0A0F4D3A9A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C15711E-AB3E-4A3B-897A-62E0E664F96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ECCF443-AED7-4C3F-AB53-7E0511C18B7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698400" y="3535200"/>
            <a:ext cx="7759800" cy="0"/>
          </a:xfrm>
          <a:prstGeom prst="line">
            <a:avLst/>
          </a:prstGeom>
          <a:ln w="9360">
            <a:solidFill>
              <a:srgbClr val="175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ogo_textured_large.psd"/>
          <p:cNvPicPr/>
          <p:nvPr/>
        </p:nvPicPr>
        <p:blipFill>
          <a:blip r:embed="rId2"/>
          <a:stretch/>
        </p:blipFill>
        <p:spPr>
          <a:xfrm>
            <a:off x="457200" y="118584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00ED3E6-21F7-4F5C-903F-8AEF4928FBF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86840AA-657D-4F30-935E-083C2AEE8C4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7ACD94B-36A1-4A3A-BE0F-20ADEDCE02D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27758BC-9272-4D14-86B7-F0C763BE65F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333600" y="3657240"/>
            <a:ext cx="25336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0" y="3904920"/>
            <a:ext cx="25336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5715000"/>
            <a:ext cx="410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1b9d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5943240" y="3657240"/>
            <a:ext cx="25909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3240" y="3904920"/>
            <a:ext cx="2590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8"/>
          <p:cNvSpPr>
            <a:spLocks noGrp="1"/>
          </p:cNvSpPr>
          <p:nvPr>
            <p:ph/>
          </p:nvPr>
        </p:nvSpPr>
        <p:spPr>
          <a:xfrm>
            <a:off x="685800" y="251460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bor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9"/>
          <p:cNvSpPr>
            <a:spLocks noGrp="1"/>
          </p:cNvSpPr>
          <p:nvPr>
            <p:ph/>
          </p:nvPr>
        </p:nvSpPr>
        <p:spPr>
          <a:xfrm>
            <a:off x="5684760" y="1371240"/>
            <a:ext cx="28497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759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gma Elaborate_Bod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Forces the elaboration of a body just after a specific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Forces a body to be present even if none is requir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oblem: it may introduce extra circulariti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eful in the case where a variable declared in the specification is initialized in the bod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857160" y="3429000"/>
          <a:ext cx="3643560" cy="1736640"/>
        </p:xfrm>
        <a:graphic>
          <a:graphicData uri="http://schemas.openxmlformats.org/drawingml/2006/table">
            <a:tbl>
              <a:tblPr/>
              <a:tblGrid>
                <a:gridCol w="364356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aborate_Bod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786200" y="3429000"/>
          <a:ext cx="3643560" cy="1736640"/>
        </p:xfrm>
        <a:graphic>
          <a:graphicData uri="http://schemas.openxmlformats.org/drawingml/2006/table">
            <a:tbl>
              <a:tblPr/>
              <a:tblGrid>
                <a:gridCol w="364356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aborate_Bod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gma Elaborat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agma Elaborate forces the elaboration of a dependency bod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does not force the elaboration of transitive dependenci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85840" y="3000240"/>
          <a:ext cx="3643200" cy="63972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1143000" y="5000760"/>
          <a:ext cx="3643200" cy="155412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aborate (P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P2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5000760" y="3000240"/>
          <a:ext cx="3643200" cy="210348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return Inte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gma Elaborate_All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agma Elaborate forces the elaboration of a dependency body and all transitive dependenci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May introduce unwanted cycle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afer than Elaborat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85840" y="3149640"/>
          <a:ext cx="3643200" cy="63972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1143000" y="5000760"/>
          <a:ext cx="3643200" cy="155412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aborate_All (P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P2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5000760" y="3000240"/>
          <a:ext cx="3643200" cy="210348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return Inte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tom lin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Elaboration is a difficult problem to deal with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binder tries to resolve it in a “safe way”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f it can’t, it’s possible to manually place elaboration pragmas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etter to avoid elaboration constraints as much as possibl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Use dynamic elaboration (gnat binder switch -E) as last resor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ee ‘Elaboration Order Handling in GNAT’ annex in GNAT Pro User’s Guide.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iz</a:t>
            </a:r>
            <a:endParaRPr b="1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53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3276720" y="2781360"/>
            <a:ext cx="7189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1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143080" y="2857680"/>
          <a:ext cx="4857840" cy="1006200"/>
        </p:xfrm>
        <a:graphic>
          <a:graphicData uri="http://schemas.openxmlformats.org/drawingml/2006/table">
            <a:tbl>
              <a:tblPr/>
              <a:tblGrid>
                <a:gridCol w="48578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F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 compilation error? (2/2)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826920" y="2852640"/>
          <a:ext cx="3078360" cy="1189080"/>
        </p:xfrm>
        <a:graphic>
          <a:graphicData uri="http://schemas.openxmlformats.org/drawingml/2006/table">
            <a:tbl>
              <a:tblPr/>
              <a:tblGrid>
                <a:gridCol w="30783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aborate_All (P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59" name="Picture 7" descr="Question-mark-blue-glossy-button.gif"/>
          <p:cNvPicPr/>
          <p:nvPr/>
        </p:nvPicPr>
        <p:blipFill>
          <a:blip r:embed="rId1"/>
          <a:stretch/>
        </p:blipFill>
        <p:spPr>
          <a:xfrm>
            <a:off x="8458200" y="76320"/>
            <a:ext cx="55404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"/>
          <p:cNvGraphicFramePr/>
          <p:nvPr/>
        </p:nvGraphicFramePr>
        <p:xfrm>
          <a:off x="4859280" y="2997360"/>
          <a:ext cx="3078360" cy="647640"/>
        </p:xfrm>
        <a:graphic>
          <a:graphicData uri="http://schemas.openxmlformats.org/drawingml/2006/table">
            <a:tbl>
              <a:tblPr/>
              <a:tblGrid>
                <a:gridCol w="307836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859280" y="4221000"/>
          <a:ext cx="3078360" cy="1006560"/>
        </p:xfrm>
        <a:graphic>
          <a:graphicData uri="http://schemas.openxmlformats.org/drawingml/2006/table">
            <a:tbl>
              <a:tblPr/>
              <a:tblGrid>
                <a:gridCol w="3078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bod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elaboration is needed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da has some powerful features that require initialization: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May also involve dynamic allocation: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r explicit user code to initialize a package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Requires initialization code at startup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mplies ordering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116000" y="1628640"/>
          <a:ext cx="3960720" cy="86364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constant Integer := Dep1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07" name="Rounded Rectangular Callout 1"/>
          <p:cNvSpPr/>
          <p:nvPr/>
        </p:nvSpPr>
        <p:spPr>
          <a:xfrm>
            <a:off x="4859280" y="1557360"/>
            <a:ext cx="3168720" cy="324000"/>
          </a:xfrm>
          <a:prstGeom prst="wedgeRoundRectCallout">
            <a:avLst>
              <a:gd name="adj1" fmla="val -66615"/>
              <a:gd name="adj2" fmla="val 109694"/>
              <a:gd name="adj3" fmla="val 16667"/>
            </a:avLst>
          </a:prstGeom>
          <a:solidFill>
            <a:srgbClr val="dbea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 is not known by the comp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116000" y="2924280"/>
          <a:ext cx="3960720" cy="8650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ffer : String (1 .. P1.Val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09" name="Rounded Rectangular Callout 7"/>
          <p:cNvSpPr/>
          <p:nvPr/>
        </p:nvSpPr>
        <p:spPr>
          <a:xfrm>
            <a:off x="5076720" y="2781360"/>
            <a:ext cx="3167280" cy="323640"/>
          </a:xfrm>
          <a:prstGeom prst="wedgeRoundRectCallout">
            <a:avLst>
              <a:gd name="adj1" fmla="val -71212"/>
              <a:gd name="adj2" fmla="val 148180"/>
              <a:gd name="adj3" fmla="val 16667"/>
            </a:avLst>
          </a:prstGeom>
          <a:solidFill>
            <a:srgbClr val="dbea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 is not known by the comp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116000" y="4292640"/>
          <a:ext cx="3960720" cy="100656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Starting P3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boration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Process where entities are created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he Rule: “an entity has to be elaborated before used”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programs have to be elaborated before being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have to be elaborated before being refere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uch elaboration issues typically arise on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variable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sequence of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714680" y="3984480"/>
          <a:ext cx="5715000" cy="24688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246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Spec : Integer := Dep1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p1 body has to be elaborated before this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p2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= Dep2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p2 body has to be elaborated before this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boration basic rul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BD - Show that elaboration is done for a package spec or body at once &amp; spec before body &amp; with spec before withing packag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boration order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elaboration order is the order in which the packages are create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It may or may not be deterministic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binder (GNAT: gnatbind)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is responsible for finding an elaboration order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s the possible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an error when no order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14280" y="2643120"/>
          <a:ext cx="2786400" cy="1371600"/>
        </p:xfrm>
        <a:graphic>
          <a:graphicData uri="http://schemas.openxmlformats.org/drawingml/2006/table">
            <a:tbl>
              <a:tblPr/>
              <a:tblGrid>
                <a:gridCol w="27864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Spec : Integer := 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 Integer := 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500800" y="2643120"/>
          <a:ext cx="2786040" cy="137160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Spec : Integer := 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 Integer := 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rcular elaboration dependencies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lthough not explicitly specified by the with clauses,  elaboration dependencies may exhibit circularities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ometimes, they are static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ometimes they are dynamic</a:t>
            </a: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857160" y="2421000"/>
          <a:ext cx="3643560" cy="1554120"/>
        </p:xfrm>
        <a:graphic>
          <a:graphicData uri="http://schemas.openxmlformats.org/drawingml/2006/table">
            <a:tbl>
              <a:tblPr/>
              <a:tblGrid>
                <a:gridCol w="36435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 Integer := P2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786200" y="2421000"/>
          <a:ext cx="3643560" cy="1554120"/>
        </p:xfrm>
        <a:graphic>
          <a:graphicData uri="http://schemas.openxmlformats.org/drawingml/2006/table">
            <a:tbl>
              <a:tblPr/>
              <a:tblGrid>
                <a:gridCol w="36435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 Integer := P1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857160" y="4589640"/>
          <a:ext cx="3643560" cy="1554120"/>
        </p:xfrm>
        <a:graphic>
          <a:graphicData uri="http://schemas.openxmlformats.org/drawingml/2006/table">
            <a:tbl>
              <a:tblPr/>
              <a:tblGrid>
                <a:gridCol w="36435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ay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o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2 = 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= P2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786200" y="4589640"/>
          <a:ext cx="3643560" cy="1554120"/>
        </p:xfrm>
        <a:graphic>
          <a:graphicData uri="http://schemas.openxmlformats.org/drawingml/2006/table">
            <a:tbl>
              <a:tblPr/>
              <a:tblGrid>
                <a:gridCol w="36435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ay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o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2 = 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_Body := P1.Ca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NAT Static Elaboration Model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y default, GNAT ensures elaboration safety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dds elaboration control pragma to statically know that elaboration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af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fully Ada compliant (may reject some valid progr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recommended however (least surprising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ヒラギノ角ゴ ProN W3"/>
              </a:rPr>
              <a:t>Performed by gnatbind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called by a builder (gnatmake or gprbu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ALI files from the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b~xxx.ad[sb] or b__xxx.ad[sb]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elaboration and finalizatio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the entry point procedure, main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gma Preelaborat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ds restrictions on a unit to ease elabor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Elaboration without explicit execution of cod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initializ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lls to sub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ies only on Preelabor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ut compiler may generate elaboration cod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340000" y="3933720"/>
          <a:ext cx="3643200" cy="82260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elabora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r : Integer := 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547640" y="5373720"/>
          <a:ext cx="5977080" cy="100476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10047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elaborat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t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acces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tr :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e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'("hello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gma Pur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ds restrictions on a unit to ease elaboration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eelaborate +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variable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llo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ccess type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ies only on Pur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ut compiler may generate elaboration code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763640" y="3933720"/>
          <a:ext cx="5329440" cy="1079640"/>
        </p:xfrm>
        <a:graphic>
          <a:graphicData uri="http://schemas.openxmlformats.org/drawingml/2006/table">
            <a:tbl>
              <a:tblPr/>
              <a:tblGrid>
                <a:gridCol w="5329440"/>
              </a:tblGrid>
              <a:tr h="107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Numeric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r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gument_Error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p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i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3.14…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a.Numerics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547640" y="5589720"/>
          <a:ext cx="6769440" cy="822240"/>
        </p:xfrm>
        <a:graphic>
          <a:graphicData uri="http://schemas.openxmlformats.org/drawingml/2006/table">
            <a:tbl>
              <a:tblPr/>
              <a:tblGrid>
                <a:gridCol w="676944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r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r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 (1 .. 10 * 1024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:= (others =&gt; 118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Vasiliy Fofanov</cp:lastModifiedBy>
  <dcterms:modified xsi:type="dcterms:W3CDTF">2013-09-26T13:36:35Z</dcterms:modified>
  <cp:revision>108</cp:revision>
  <dc:subject/>
  <dc:title>Diapositive 1</dc:title>
</cp:coreProperties>
</file>