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  <p:sldId id="278" r:id="rId45"/>
    <p:sldId id="279" r:id="rId46"/>
    <p:sldId id="280" r:id="rId47"/>
    <p:sldId id="281" r:id="rId48"/>
    <p:sldId id="282" r:id="rId49"/>
    <p:sldId id="283" r:id="rId50"/>
    <p:sldId id="284" r:id="rId51"/>
    <p:sldId id="285" r:id="rId52"/>
    <p:sldId id="286" r:id="rId53"/>
    <p:sldId id="287" r:id="rId54"/>
    <p:sldId id="288" r:id="rId55"/>
    <p:sldId id="289" r:id="rId56"/>
    <p:sldId id="290" r:id="rId57"/>
    <p:sldId id="291" r:id="rId58"/>
    <p:sldId id="292" r:id="rId59"/>
    <p:sldId id="293" r:id="rId60"/>
    <p:sldId id="294" r:id="rId61"/>
    <p:sldId id="295" r:id="rId6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slide" Target="slides/slide23.xml"/><Relationship Id="rId46" Type="http://schemas.openxmlformats.org/officeDocument/2006/relationships/slide" Target="slides/slide24.xml"/><Relationship Id="rId47" Type="http://schemas.openxmlformats.org/officeDocument/2006/relationships/slide" Target="slides/slide25.xml"/><Relationship Id="rId48" Type="http://schemas.openxmlformats.org/officeDocument/2006/relationships/slide" Target="slides/slide26.xml"/><Relationship Id="rId49" Type="http://schemas.openxmlformats.org/officeDocument/2006/relationships/slide" Target="slides/slide27.xml"/><Relationship Id="rId50" Type="http://schemas.openxmlformats.org/officeDocument/2006/relationships/slide" Target="slides/slide28.xml"/><Relationship Id="rId51" Type="http://schemas.openxmlformats.org/officeDocument/2006/relationships/slide" Target="slides/slide29.xml"/><Relationship Id="rId52" Type="http://schemas.openxmlformats.org/officeDocument/2006/relationships/slide" Target="slides/slide30.xml"/><Relationship Id="rId53" Type="http://schemas.openxmlformats.org/officeDocument/2006/relationships/slide" Target="slides/slide31.xml"/><Relationship Id="rId54" Type="http://schemas.openxmlformats.org/officeDocument/2006/relationships/slide" Target="slides/slide32.xml"/><Relationship Id="rId55" Type="http://schemas.openxmlformats.org/officeDocument/2006/relationships/slide" Target="slides/slide33.xml"/><Relationship Id="rId56" Type="http://schemas.openxmlformats.org/officeDocument/2006/relationships/slide" Target="slides/slide34.xml"/><Relationship Id="rId57" Type="http://schemas.openxmlformats.org/officeDocument/2006/relationships/slide" Target="slides/slide35.xml"/><Relationship Id="rId58" Type="http://schemas.openxmlformats.org/officeDocument/2006/relationships/slide" Target="slides/slide36.xml"/><Relationship Id="rId59" Type="http://schemas.openxmlformats.org/officeDocument/2006/relationships/slide" Target="slides/slide37.xml"/><Relationship Id="rId60" Type="http://schemas.openxmlformats.org/officeDocument/2006/relationships/slide" Target="slides/slide38.xml"/><Relationship Id="rId61" Type="http://schemas.openxmlformats.org/officeDocument/2006/relationships/slide" Target="slides/slide39.xml"/><Relationship Id="rId62" Type="http://schemas.openxmlformats.org/officeDocument/2006/relationships/slide" Target="slides/slide40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 type="ftr" idx="2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 type="sldNum" idx="3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A3E02CFF-7928-45FD-9781-BBFA47D2E8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CD3ED5AD-A587-4D3C-A3EE-E0B4C6A20D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of PO should be greater or equal than priority of the interru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B86A9076-395C-483E-A33C-EAA802239E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2"/>
          <p:cNvSpPr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GPS AE653 Debugging Capability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6"/>
          <p:cNvSpPr/>
          <p:nvPr/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4 Feb 2005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8F568A45-C470-466E-9BAD-60A2B467896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upt handlers are executed according to their prio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2"/>
          <p:cNvSpPr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ransitioning to Ada 2005 with GNAT Pro</a:t>
            </a:r>
            <a:endParaRPr b="0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4"/>
          <p:cNvSpPr/>
          <p:nvPr/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al-Time Enhancements</a:t>
            </a:r>
            <a:endParaRPr b="0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5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CC13C-0835-4C35-9CCF-AA7CFB2B51DE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upts are not delivered until the handler is attached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y deferred task activation fails, the whole partition dies with Tasking_Error (because the environment task is waiting for activations and attachments to complete and it gets the excep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2"/>
          <p:cNvSpPr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ransitioning to Ada 2005 with GNAT Pro</a:t>
            </a:r>
            <a:endParaRPr b="0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4"/>
          <p:cNvSpPr/>
          <p:nvPr/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al-Time Enhancements</a:t>
            </a:r>
            <a:endParaRPr b="0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5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4852D-3051-4AE7-B30E-2AE3D4E895D1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  Relative delay statement are not a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0BFD5D6B-462F-4915-8C11-1F49D8AC0076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s ok but loop is not periodic (will drift because the delay is actually 1 sec PLUS the time to execute an ite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5BB3D38F-A932-4940-8FB1-F6C3C9D3D468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C09B8937-06DB-4E13-95A1-C0DE38BBAE80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  Priority must be in System.Priority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D8A418D0-5423-4A6D-ADFB-074A887A9A29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.  Note that some interrupts will be masked while the task is run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B45C1676-8E67-4D67-B62A-C92EAEA04591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ntime error: ceiling locking vio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ority of the task is higher than priority of the protected object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A1925647-E041-4593-BC35-5F1732A3C9EF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ntime error: no blocking action in protected 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9CEBE4F5-BC3F-49D4-BA30-9AD03B79A097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.  An implicit pragma Interrupt_Priority is ad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33961F3B-FBD2-481D-93F9-3C428F1572A2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correct: priority not in the interrupt_Priority r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3A2118CA-556B-4565-943A-4174138F0B6D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rtainly not correct, as the maximum entry queue length is 1 (at most one task can be blocked at an entr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work as long as both tasks are not trying to enter Monitor at the sam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EE04AC96-5B3E-40D1-B11F-E1A2DD92CF59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 but misleading: should use Pragma Interrupt_Prio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EAA4E367-EE66-456E-8B8C-3B7190749AB4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2E1A9C9B-BA7F-4332-8F96-B190D942A251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 2013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B2107D9F-27F0-4FA7-BDCA-92C2305B17E8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-19800" y="6634080"/>
            <a:ext cx="16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 2012-2014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ED6E55E7-AF7D-4FAA-8022-C3E358914ECC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-19800" y="6634080"/>
            <a:ext cx="16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 2012-2014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4CBC7427-4D76-4A5B-8A67-05E02A5637D9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-19800" y="6634080"/>
            <a:ext cx="16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 2012-2014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A822028B-48D3-49D4-8E92-37DD1F05D55A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6"/>
          <p:cNvSpPr/>
          <p:nvPr/>
        </p:nvSpPr>
        <p:spPr>
          <a:xfrm>
            <a:off x="-19800" y="6634080"/>
            <a:ext cx="16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 2012-2014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72E7210E-9352-4C12-87D7-FB76ACCEEB11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-19800" y="6634080"/>
            <a:ext cx="16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 2012-2014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8B6884C7-6ED6-4A0C-915C-C27F505C290A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-19800" y="6634080"/>
            <a:ext cx="16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 2012-2014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2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1" descr="gnatpro.png"/>
          <p:cNvPicPr/>
          <p:nvPr/>
        </p:nvPicPr>
        <p:blipFill>
          <a:blip r:embed="rId2"/>
          <a:stretch/>
        </p:blipFill>
        <p:spPr>
          <a:xfrm>
            <a:off x="1905120" y="2743200"/>
            <a:ext cx="5321160" cy="9810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8" descr="gnatpro-slogan.png"/>
          <p:cNvPicPr/>
          <p:nvPr/>
        </p:nvPicPr>
        <p:blipFill>
          <a:blip r:embed="rId3"/>
          <a:stretch/>
        </p:blipFill>
        <p:spPr>
          <a:xfrm>
            <a:off x="1905120" y="3884760"/>
            <a:ext cx="5257800" cy="45864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1621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7AF20628-9E84-474F-ACAB-027053D5B289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6"/>
          <p:cNvSpPr/>
          <p:nvPr/>
        </p:nvSpPr>
        <p:spPr>
          <a:xfrm>
            <a:off x="-19800" y="6634080"/>
            <a:ext cx="16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 2012-2014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2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3" descr="codepeer.png"/>
          <p:cNvPicPr/>
          <p:nvPr/>
        </p:nvPicPr>
        <p:blipFill>
          <a:blip r:embed="rId2"/>
          <a:stretch/>
        </p:blipFill>
        <p:spPr>
          <a:xfrm>
            <a:off x="1752480" y="2743200"/>
            <a:ext cx="5677200" cy="103356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4" descr="codepeer-slogan.png"/>
          <p:cNvPicPr/>
          <p:nvPr/>
        </p:nvPicPr>
        <p:blipFill>
          <a:blip r:embed="rId3"/>
          <a:stretch/>
        </p:blipFill>
        <p:spPr>
          <a:xfrm>
            <a:off x="1295280" y="3863880"/>
            <a:ext cx="6477120" cy="422280"/>
          </a:xfrm>
          <a:prstGeom prst="rect">
            <a:avLst/>
          </a:prstGeom>
          <a:ln w="0">
            <a:noFill/>
          </a:ln>
        </p:spPr>
      </p:pic>
      <p:sp>
        <p:nvSpPr>
          <p:cNvPr id="63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1621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1D3AE913-927E-43E5-A4EF-50A1BDA0BCEC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6"/>
          <p:cNvSpPr/>
          <p:nvPr/>
        </p:nvSpPr>
        <p:spPr>
          <a:xfrm>
            <a:off x="-19800" y="6634080"/>
            <a:ext cx="16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 2012-2014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2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4" descr="gnatpro-safety.png"/>
          <p:cNvPicPr/>
          <p:nvPr/>
        </p:nvPicPr>
        <p:blipFill>
          <a:blip r:embed="rId2"/>
          <a:stretch/>
        </p:blipFill>
        <p:spPr>
          <a:xfrm>
            <a:off x="1903320" y="2743200"/>
            <a:ext cx="5335560" cy="1527120"/>
          </a:xfrm>
          <a:prstGeom prst="rect">
            <a:avLst/>
          </a:prstGeom>
          <a:ln w="0">
            <a:noFill/>
          </a:ln>
        </p:spPr>
      </p:pic>
      <p:sp>
        <p:nvSpPr>
          <p:cNvPr id="67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1621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BEC7D56B-60BF-450E-8D30-4526D7D56391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6"/>
          <p:cNvSpPr/>
          <p:nvPr/>
        </p:nvSpPr>
        <p:spPr>
          <a:xfrm>
            <a:off x="-19800" y="6634080"/>
            <a:ext cx="16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 2012-2014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Box 2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Picture 1" descr="gnatpro-security.png"/>
          <p:cNvPicPr/>
          <p:nvPr/>
        </p:nvPicPr>
        <p:blipFill>
          <a:blip r:embed="rId2"/>
          <a:stretch/>
        </p:blipFill>
        <p:spPr>
          <a:xfrm>
            <a:off x="1905120" y="2743200"/>
            <a:ext cx="5333760" cy="1530360"/>
          </a:xfrm>
          <a:prstGeom prst="rect">
            <a:avLst/>
          </a:prstGeom>
          <a:ln w="0">
            <a:noFill/>
          </a:ln>
        </p:spPr>
      </p:pic>
      <p:sp>
        <p:nvSpPr>
          <p:cNvPr id="71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1621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2E5A3FEB-ABE0-4B5B-9A4B-170993D9ACEE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6"/>
          <p:cNvSpPr/>
          <p:nvPr/>
        </p:nvSpPr>
        <p:spPr>
          <a:xfrm>
            <a:off x="-19800" y="6634080"/>
            <a:ext cx="16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 2012-2014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2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1" descr="sparkpro.png"/>
          <p:cNvPicPr/>
          <p:nvPr/>
        </p:nvPicPr>
        <p:blipFill>
          <a:blip r:embed="rId2"/>
          <a:stretch/>
        </p:blipFill>
        <p:spPr>
          <a:xfrm>
            <a:off x="1447920" y="2762280"/>
            <a:ext cx="6172200" cy="97164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4" descr="sparkpro-slogan.png"/>
          <p:cNvPicPr/>
          <p:nvPr/>
        </p:nvPicPr>
        <p:blipFill>
          <a:blip r:embed="rId3"/>
          <a:stretch/>
        </p:blipFill>
        <p:spPr>
          <a:xfrm>
            <a:off x="1066680" y="3809880"/>
            <a:ext cx="6858000" cy="446040"/>
          </a:xfrm>
          <a:prstGeom prst="rect">
            <a:avLst/>
          </a:prstGeom>
          <a:ln w="0">
            <a:noFill/>
          </a:ln>
        </p:spPr>
      </p:pic>
      <p:sp>
        <p:nvSpPr>
          <p:cNvPr id="76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79680E9E-6DEA-4319-85D8-7F20F7483CA5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-19800" y="6634080"/>
            <a:ext cx="16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 2012-2014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1621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2C972B02-3CD0-4ED6-B2CC-116CCC52F4D6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6"/>
          <p:cNvSpPr/>
          <p:nvPr/>
        </p:nvSpPr>
        <p:spPr>
          <a:xfrm>
            <a:off x="-19800" y="6634080"/>
            <a:ext cx="16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 2012-2014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Box 2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Picture 3" descr="sparkprobb.png"/>
          <p:cNvPicPr/>
          <p:nvPr/>
        </p:nvPicPr>
        <p:blipFill>
          <a:blip r:embed="rId2"/>
          <a:stretch/>
        </p:blipFill>
        <p:spPr>
          <a:xfrm>
            <a:off x="549360" y="2819520"/>
            <a:ext cx="8045280" cy="75708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376AA22D-B1CB-4CEC-9776-E01D1BED9D07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 2013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7"/>
          <p:cNvSpPr/>
          <p:nvPr/>
        </p:nvSpPr>
        <p:spPr>
          <a:xfrm>
            <a:off x="698400" y="3535200"/>
            <a:ext cx="7759800" cy="0"/>
          </a:xfrm>
          <a:prstGeom prst="line">
            <a:avLst/>
          </a:prstGeom>
          <a:ln w="9360">
            <a:solidFill>
              <a:srgbClr val="1759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logo_textured_large.psd"/>
          <p:cNvPicPr/>
          <p:nvPr/>
        </p:nvPicPr>
        <p:blipFill>
          <a:blip r:embed="rId2"/>
          <a:stretch/>
        </p:blipFill>
        <p:spPr>
          <a:xfrm>
            <a:off x="457200" y="1185840"/>
            <a:ext cx="1905120" cy="5335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7D4A84F7-BDD3-4B1D-8CE5-1DD6F2F8401F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 2013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7"/>
          <p:cNvSpPr/>
          <p:nvPr/>
        </p:nvSpPr>
        <p:spPr>
          <a:xfrm>
            <a:off x="698400" y="3535200"/>
            <a:ext cx="7759800" cy="0"/>
          </a:xfrm>
          <a:prstGeom prst="line">
            <a:avLst/>
          </a:prstGeom>
          <a:ln w="9360">
            <a:solidFill>
              <a:srgbClr val="1759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logo_textured_large.psd"/>
          <p:cNvPicPr/>
          <p:nvPr/>
        </p:nvPicPr>
        <p:blipFill>
          <a:blip r:embed="rId3"/>
          <a:stretch/>
        </p:blipFill>
        <p:spPr>
          <a:xfrm>
            <a:off x="457200" y="1185840"/>
            <a:ext cx="1905120" cy="533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48A2B024-4D57-45A6-8A4A-74BB63C9D4D1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 2013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CB6D32F1-C39F-440E-A90D-B229FAE5F345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 2013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658CBF45-9246-479E-9E7E-D14EC6BE98D1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 2013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3D825756-1715-427C-90DE-81D4E9DE1DFF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 2013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7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209CD070-8D46-4912-A3BF-E634D64113FE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 2013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68EE36DE-D7F4-47D8-B1AB-DF82288D3DA4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-19800" y="6634080"/>
            <a:ext cx="16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 2012-2014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traight Connector 7"/>
          <p:cNvSpPr/>
          <p:nvPr/>
        </p:nvSpPr>
        <p:spPr>
          <a:xfrm>
            <a:off x="698400" y="3535200"/>
            <a:ext cx="7759800" cy="0"/>
          </a:xfrm>
          <a:prstGeom prst="line">
            <a:avLst/>
          </a:prstGeom>
          <a:ln w="9360">
            <a:solidFill>
              <a:srgbClr val="1759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2" descr="logo_textured_large.psd"/>
          <p:cNvPicPr/>
          <p:nvPr/>
        </p:nvPicPr>
        <p:blipFill>
          <a:blip r:embed="rId2"/>
          <a:stretch/>
        </p:blipFill>
        <p:spPr>
          <a:xfrm>
            <a:off x="457200" y="1185840"/>
            <a:ext cx="1905120" cy="5335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2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2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/>
          </p:nvPr>
        </p:nvSpPr>
        <p:spPr>
          <a:xfrm>
            <a:off x="3333600" y="3657240"/>
            <a:ext cx="253368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3333600" y="3904920"/>
            <a:ext cx="253368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3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60912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09120" y="5715000"/>
            <a:ext cx="4103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400" spc="-1" strike="noStrike">
              <a:solidFill>
                <a:srgbClr val="91b9da"/>
              </a:solidFill>
              <a:latin typeface="Arial"/>
              <a:ea typeface="ＭＳ Ｐゴシック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60912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3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852" name="PlaceHolder 6"/>
          <p:cNvSpPr>
            <a:spLocks noGrp="1"/>
          </p:cNvSpPr>
          <p:nvPr>
            <p:ph/>
          </p:nvPr>
        </p:nvSpPr>
        <p:spPr>
          <a:xfrm>
            <a:off x="594324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853" name="PlaceHolder 7"/>
          <p:cNvSpPr>
            <a:spLocks noGrp="1"/>
          </p:cNvSpPr>
          <p:nvPr>
            <p:ph/>
          </p:nvPr>
        </p:nvSpPr>
        <p:spPr>
          <a:xfrm>
            <a:off x="594324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3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854" name="PlaceHolder 8"/>
          <p:cNvSpPr>
            <a:spLocks noGrp="1"/>
          </p:cNvSpPr>
          <p:nvPr>
            <p:ph/>
          </p:nvPr>
        </p:nvSpPr>
        <p:spPr>
          <a:xfrm>
            <a:off x="685800" y="2514600"/>
            <a:ext cx="769608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asking with Ravenscar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55" name="PlaceHolder 9"/>
          <p:cNvSpPr>
            <a:spLocks noGrp="1"/>
          </p:cNvSpPr>
          <p:nvPr>
            <p:ph/>
          </p:nvPr>
        </p:nvSpPr>
        <p:spPr>
          <a:xfrm>
            <a:off x="5684760" y="1371240"/>
            <a:ext cx="284976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7598f"/>
              </a:solidFill>
              <a:latin typeface="Arial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78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sk typ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It is possible to create task types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ask objects can only be instantiated statically in Ravensca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an be instantiated on stack or heap in full Ada tasking mod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By default tasks are activated at the end of the elaboration of their library unit</a:t>
            </a:r>
            <a:r>
              <a:rPr b="1" lang="ja-JP" sz="2200" spc="-1" strike="noStrike">
                <a:solidFill>
                  <a:srgbClr val="404040"/>
                </a:solidFill>
                <a:latin typeface="Arial"/>
              </a:rPr>
              <a:t>’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s declarative part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s if they were declared the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tivation can be deferred to the end of all elabor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Tasks are limited objects (no copies allowed)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881" name=""/>
          <p:cNvGraphicFramePr/>
          <p:nvPr/>
        </p:nvGraphicFramePr>
        <p:xfrm>
          <a:off x="1187280" y="2421000"/>
          <a:ext cx="2521080" cy="1512720"/>
        </p:xfrm>
        <a:graphic>
          <a:graphicData uri="http://schemas.openxmlformats.org/drawingml/2006/table">
            <a:tbl>
              <a:tblPr/>
              <a:tblGrid>
                <a:gridCol w="252108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sk 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_A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   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sk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2" name=""/>
          <p:cNvGraphicFramePr/>
          <p:nvPr/>
        </p:nvGraphicFramePr>
        <p:xfrm>
          <a:off x="4572000" y="2492280"/>
          <a:ext cx="3960720" cy="1152720"/>
        </p:xfrm>
        <a:graphic>
          <a:graphicData uri="http://schemas.openxmlformats.org/drawingml/2006/table">
            <a:tbl>
              <a:tblPr/>
              <a:tblGrid>
                <a:gridCol w="3960720"/>
              </a:tblGrid>
              <a:tr h="115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T;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iase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3 : A_T;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V3 := </a:t>
                      </a: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T; </a:t>
                      </a:r>
                      <a:r>
                        <a:rPr b="0" i="1" lang="en-US" sz="11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-- Not allowed in Ravenscar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3 := V2'Access;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883" name="Picture 5" descr="stop.jpg"/>
          <p:cNvPicPr/>
          <p:nvPr/>
        </p:nvPicPr>
        <p:blipFill>
          <a:blip r:embed="rId1"/>
          <a:stretch/>
        </p:blipFill>
        <p:spPr>
          <a:xfrm>
            <a:off x="4356000" y="3141720"/>
            <a:ext cx="216000" cy="2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78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ected object typ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Like tasks, protected objects can be defined through type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nstantiation can then be done on library level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Protected object types are limited type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886" name=""/>
          <p:cNvGraphicFramePr/>
          <p:nvPr/>
        </p:nvGraphicFramePr>
        <p:xfrm>
          <a:off x="612720" y="3483000"/>
          <a:ext cx="3743280" cy="1432080"/>
        </p:xfrm>
        <a:graphic>
          <a:graphicData uri="http://schemas.openxmlformats.org/drawingml/2006/table">
            <a:tbl>
              <a:tblPr/>
              <a:tblGrid>
                <a:gridCol w="3743280"/>
              </a:tblGrid>
              <a:tr h="1432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protected</a:t>
                      </a:r>
                      <a:r>
                        <a:rPr b="0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1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type</a:t>
                      </a:r>
                      <a:r>
                        <a:rPr b="0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sh (V : Integer);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try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Pop  (V :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);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uffer : Integer_Array (1 .. 10);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ize : Integer := 0;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as_Elements : Boolean := False;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O;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7" name=""/>
          <p:cNvGraphicFramePr/>
          <p:nvPr/>
        </p:nvGraphicFramePr>
        <p:xfrm>
          <a:off x="4788000" y="3483000"/>
          <a:ext cx="3744720" cy="2941560"/>
        </p:xfrm>
        <a:graphic>
          <a:graphicData uri="http://schemas.openxmlformats.org/drawingml/2006/table">
            <a:tbl>
              <a:tblPr/>
              <a:tblGrid>
                <a:gridCol w="3744720"/>
              </a:tblGrid>
              <a:tr h="2941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protected</a:t>
                      </a:r>
                      <a:r>
                        <a:rPr b="0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1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body</a:t>
                      </a:r>
                      <a:r>
                        <a:rPr b="0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sh (V : Integer)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uffer (Size + 1) := V;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ize := Size + 1;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as_Elements := True;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ush;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try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p  (V :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Has_Elements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= Buffer (Size);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ize := Size – 1;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as_Elements := Size &gt; 0;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p;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;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8" name=""/>
          <p:cNvGraphicFramePr/>
          <p:nvPr/>
        </p:nvGraphicFramePr>
        <p:xfrm>
          <a:off x="611280" y="5084640"/>
          <a:ext cx="3743280" cy="287640"/>
        </p:xfrm>
        <a:graphic>
          <a:graphicData uri="http://schemas.openxmlformats.org/drawingml/2006/table">
            <a:tbl>
              <a:tblPr/>
              <a:tblGrid>
                <a:gridCol w="3743280"/>
              </a:tblGrid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, V2 : O;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78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ope of a task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In Ada, tasks can be nested in any declarative block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cope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be exited before all nested tasks 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In Ravenscar, tasks can only be declared at library level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have to finish before the program termin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1" name=""/>
          <p:cNvGraphicFramePr/>
          <p:nvPr/>
        </p:nvGraphicFramePr>
        <p:xfrm>
          <a:off x="1116000" y="3645000"/>
          <a:ext cx="6572160" cy="2103480"/>
        </p:xfrm>
        <a:graphic>
          <a:graphicData uri="http://schemas.openxmlformats.org/drawingml/2006/table">
            <a:tbl>
              <a:tblPr/>
              <a:tblGrid>
                <a:gridCol w="6572160"/>
              </a:tblGrid>
              <a:tr h="210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packag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P is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task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T; 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P;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is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task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is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loop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...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end loop;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T;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P;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/>
          </p:nvPr>
        </p:nvSpPr>
        <p:spPr>
          <a:xfrm>
            <a:off x="380880" y="2666520"/>
            <a:ext cx="8382240" cy="8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ome Advanced Concepts…</a:t>
            </a:r>
            <a:endParaRPr b="1" lang="en-US" sz="44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78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venscar pattern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Periodic tasks (cyclic tasks / time triggered)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or data acqui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lo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Event driven task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arm, Time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ru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rom another 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  <a:ea typeface="ヒラギノ角ゴ ProN W3"/>
              </a:rPr>
              <a:t>Protected objects to synchronize task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84320" y="79200"/>
            <a:ext cx="77724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tasks look like in Ravenscar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896" name="Tableau 6" descr=""/>
          <p:cNvPicPr/>
          <p:nvPr/>
        </p:nvPicPr>
        <p:blipFill>
          <a:blip r:embed="rId1"/>
          <a:stretch/>
        </p:blipFill>
        <p:spPr>
          <a:xfrm>
            <a:off x="493560" y="2230560"/>
            <a:ext cx="4499280" cy="2639880"/>
          </a:xfrm>
          <a:prstGeom prst="rect">
            <a:avLst/>
          </a:prstGeom>
          <a:ln w="0">
            <a:noFill/>
          </a:ln>
        </p:spPr>
      </p:pic>
      <p:sp>
        <p:nvSpPr>
          <p:cNvPr id="897" name="TextBox 3"/>
          <p:cNvSpPr/>
          <p:nvPr/>
        </p:nvSpPr>
        <p:spPr>
          <a:xfrm>
            <a:off x="1766520" y="1628640"/>
            <a:ext cx="18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17598f"/>
                </a:solidFill>
                <a:latin typeface="Arial"/>
              </a:rPr>
              <a:t>Time-triggered task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Tableau 6" descr=""/>
          <p:cNvPicPr/>
          <p:nvPr/>
        </p:nvPicPr>
        <p:blipFill>
          <a:blip r:embed="rId2"/>
          <a:stretch/>
        </p:blipFill>
        <p:spPr>
          <a:xfrm>
            <a:off x="5102280" y="2597040"/>
            <a:ext cx="3852720" cy="1762200"/>
          </a:xfrm>
          <a:prstGeom prst="rect">
            <a:avLst/>
          </a:prstGeom>
          <a:ln w="0">
            <a:noFill/>
          </a:ln>
        </p:spPr>
      </p:pic>
      <p:sp>
        <p:nvSpPr>
          <p:cNvPr id="899" name="TextBox 5"/>
          <p:cNvSpPr/>
          <p:nvPr/>
        </p:nvSpPr>
        <p:spPr>
          <a:xfrm>
            <a:off x="6017040" y="1628640"/>
            <a:ext cx="190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17598f"/>
                </a:solidFill>
                <a:latin typeface="Arial"/>
              </a:rPr>
              <a:t>Event-triggered task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84320" y="79200"/>
            <a:ext cx="77724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nchronization in Ravenscar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1" name="Rectangle 4"/>
          <p:cNvSpPr/>
          <p:nvPr/>
        </p:nvSpPr>
        <p:spPr>
          <a:xfrm>
            <a:off x="3657600" y="2903400"/>
            <a:ext cx="4572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5"/>
          <p:cNvSpPr/>
          <p:nvPr/>
        </p:nvSpPr>
        <p:spPr>
          <a:xfrm>
            <a:off x="3657600" y="2979720"/>
            <a:ext cx="4572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13"/>
          <p:cNvSpPr/>
          <p:nvPr/>
        </p:nvSpPr>
        <p:spPr>
          <a:xfrm>
            <a:off x="3881520" y="244620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d5f7c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d253a"/>
                </a:solidFill>
                <a:latin typeface="Verdana"/>
                <a:ea typeface="Arial"/>
              </a:rPr>
              <a:t>Pr  </a:t>
            </a:r>
            <a:r>
              <a:rPr b="0" i="1" lang="en-US" sz="1200" spc="-1" strike="noStrike">
                <a:solidFill>
                  <a:srgbClr val="0d253a"/>
                </a:solidFill>
                <a:latin typeface="Verdana"/>
                <a:ea typeface="Arial"/>
              </a:rPr>
              <a:t>	</a:t>
            </a:r>
            <a:r>
              <a:rPr b="0" i="1" lang="en-US" sz="1200" spc="-1" strike="noStrike">
                <a:solidFill>
                  <a:srgbClr val="0d253a"/>
                </a:solidFill>
                <a:latin typeface="Verdana"/>
                <a:ea typeface="Arial"/>
              </a:rPr>
              <a:t>     Buffer          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14"/>
          <p:cNvSpPr/>
          <p:nvPr/>
        </p:nvSpPr>
        <p:spPr>
          <a:xfrm>
            <a:off x="3881520" y="2674800"/>
            <a:ext cx="1604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1800" anchor="t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Line 15"/>
          <p:cNvSpPr/>
          <p:nvPr/>
        </p:nvSpPr>
        <p:spPr>
          <a:xfrm>
            <a:off x="4110120" y="2446200"/>
            <a:ext cx="0" cy="23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6"/>
          <p:cNvSpPr/>
          <p:nvPr/>
        </p:nvSpPr>
        <p:spPr>
          <a:xfrm>
            <a:off x="3635280" y="2834280"/>
            <a:ext cx="588960" cy="20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d253a"/>
                </a:solidFill>
                <a:latin typeface="Verdana"/>
                <a:ea typeface="Arial"/>
              </a:rPr>
              <a:t>Put</a:t>
            </a:r>
            <a:endParaRPr b="0" i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20"/>
          <p:cNvSpPr/>
          <p:nvPr/>
        </p:nvSpPr>
        <p:spPr>
          <a:xfrm>
            <a:off x="1619280" y="328464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d5f7c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d253a"/>
                </a:solidFill>
                <a:latin typeface="Verdana"/>
                <a:ea typeface="Arial"/>
              </a:rPr>
              <a:t>C      Producer      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Line 21"/>
          <p:cNvSpPr/>
          <p:nvPr/>
        </p:nvSpPr>
        <p:spPr>
          <a:xfrm>
            <a:off x="1619280" y="3513240"/>
            <a:ext cx="1604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1440" anchor="t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Line 22"/>
          <p:cNvSpPr/>
          <p:nvPr/>
        </p:nvSpPr>
        <p:spPr>
          <a:xfrm>
            <a:off x="1847880" y="3284640"/>
            <a:ext cx="0" cy="23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AutoShape 23"/>
          <p:cNvSpPr/>
          <p:nvPr/>
        </p:nvSpPr>
        <p:spPr>
          <a:xfrm>
            <a:off x="6783480" y="400536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d5f7c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d253a"/>
                </a:solidFill>
                <a:latin typeface="Verdana"/>
                <a:ea typeface="Arial"/>
              </a:rPr>
              <a:t>S      Consumer      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24"/>
          <p:cNvSpPr/>
          <p:nvPr/>
        </p:nvSpPr>
        <p:spPr>
          <a:xfrm>
            <a:off x="6783480" y="4233960"/>
            <a:ext cx="1604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1440" anchor="t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25"/>
          <p:cNvSpPr/>
          <p:nvPr/>
        </p:nvSpPr>
        <p:spPr>
          <a:xfrm>
            <a:off x="7012080" y="4005360"/>
            <a:ext cx="0" cy="23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3" name="AutoShape 26"/>
          <p:cNvCxnSpPr>
            <a:stCxn id="910" idx="0"/>
            <a:endCxn id="914" idx="1"/>
          </p:cNvCxnSpPr>
          <p:nvPr/>
        </p:nvCxnSpPr>
        <p:spPr>
          <a:xfrm flipV="1" rot="16200000">
            <a:off x="5161680" y="1583640"/>
            <a:ext cx="894600" cy="3948840"/>
          </a:xfrm>
          <a:prstGeom prst="bentConnector4">
            <a:avLst>
              <a:gd name="adj1" fmla="val 44524"/>
              <a:gd name="adj2" fmla="val 105789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915" name="AutoShape 27"/>
          <p:cNvCxnSpPr>
            <a:stCxn id="907" idx="0"/>
            <a:endCxn id="906" idx="1"/>
          </p:cNvCxnSpPr>
          <p:nvPr/>
        </p:nvCxnSpPr>
        <p:spPr>
          <a:xfrm flipH="1" flipV="1" rot="5400000">
            <a:off x="2852280" y="2501640"/>
            <a:ext cx="349920" cy="1216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914" name="Rectangle 16"/>
          <p:cNvSpPr/>
          <p:nvPr/>
        </p:nvSpPr>
        <p:spPr>
          <a:xfrm>
            <a:off x="3635280" y="3010680"/>
            <a:ext cx="588960" cy="20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700" spc="-1" strike="noStrike">
                <a:solidFill>
                  <a:srgbClr val="0d253a"/>
                </a:solidFill>
                <a:latin typeface="Verdana"/>
                <a:ea typeface="Arial"/>
              </a:rPr>
              <a:t>Get</a:t>
            </a:r>
            <a:endParaRPr b="0" i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Tableau 6" descr=""/>
          <p:cNvPicPr/>
          <p:nvPr/>
        </p:nvPicPr>
        <p:blipFill>
          <a:blip r:embed="rId1"/>
          <a:stretch/>
        </p:blipFill>
        <p:spPr>
          <a:xfrm>
            <a:off x="6394320" y="4950000"/>
            <a:ext cx="2487600" cy="1566720"/>
          </a:xfrm>
          <a:prstGeom prst="rect">
            <a:avLst/>
          </a:prstGeom>
          <a:ln w="0">
            <a:noFill/>
          </a:ln>
        </p:spPr>
      </p:pic>
      <p:pic>
        <p:nvPicPr>
          <p:cNvPr id="917" name="Tableau 6" descr=""/>
          <p:cNvPicPr/>
          <p:nvPr/>
        </p:nvPicPr>
        <p:blipFill>
          <a:blip r:embed="rId2"/>
          <a:stretch/>
        </p:blipFill>
        <p:spPr>
          <a:xfrm>
            <a:off x="347760" y="4175280"/>
            <a:ext cx="4357440" cy="2487600"/>
          </a:xfrm>
          <a:prstGeom prst="rect">
            <a:avLst/>
          </a:prstGeom>
          <a:ln w="0">
            <a:noFill/>
          </a:ln>
        </p:spPr>
      </p:pic>
      <p:sp>
        <p:nvSpPr>
          <p:cNvPr id="918" name="Rectangle 20"/>
          <p:cNvSpPr/>
          <p:nvPr/>
        </p:nvSpPr>
        <p:spPr>
          <a:xfrm>
            <a:off x="5219640" y="907920"/>
            <a:ext cx="4572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Tableau 6" descr=""/>
          <p:cNvPicPr/>
          <p:nvPr/>
        </p:nvPicPr>
        <p:blipFill>
          <a:blip r:embed="rId3"/>
          <a:stretch/>
        </p:blipFill>
        <p:spPr>
          <a:xfrm>
            <a:off x="201600" y="1079640"/>
            <a:ext cx="3279960" cy="1334880"/>
          </a:xfrm>
          <a:prstGeom prst="rect">
            <a:avLst/>
          </a:prstGeom>
          <a:ln w="0">
            <a:noFill/>
          </a:ln>
        </p:spPr>
      </p:pic>
      <p:pic>
        <p:nvPicPr>
          <p:cNvPr id="920" name="Tableau 6" descr=""/>
          <p:cNvPicPr/>
          <p:nvPr/>
        </p:nvPicPr>
        <p:blipFill>
          <a:blip r:embed="rId4"/>
          <a:stretch/>
        </p:blipFill>
        <p:spPr>
          <a:xfrm>
            <a:off x="5602320" y="1023840"/>
            <a:ext cx="32796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84320" y="79200"/>
            <a:ext cx="77724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rupt support in Ravenscar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2" name="Rectangle 4"/>
          <p:cNvSpPr/>
          <p:nvPr/>
        </p:nvSpPr>
        <p:spPr>
          <a:xfrm>
            <a:off x="1892160" y="1860480"/>
            <a:ext cx="4572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5"/>
          <p:cNvSpPr/>
          <p:nvPr/>
        </p:nvSpPr>
        <p:spPr>
          <a:xfrm>
            <a:off x="1892160" y="1936800"/>
            <a:ext cx="4572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AutoShape 13"/>
          <p:cNvSpPr/>
          <p:nvPr/>
        </p:nvSpPr>
        <p:spPr>
          <a:xfrm>
            <a:off x="2116080" y="14130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d5f7c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Pr 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   Monitor        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4"/>
          <p:cNvSpPr/>
          <p:nvPr/>
        </p:nvSpPr>
        <p:spPr>
          <a:xfrm>
            <a:off x="2116080" y="1641600"/>
            <a:ext cx="1604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1440" anchor="t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5"/>
          <p:cNvSpPr/>
          <p:nvPr/>
        </p:nvSpPr>
        <p:spPr>
          <a:xfrm>
            <a:off x="2465280" y="1413000"/>
            <a:ext cx="0" cy="23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16"/>
          <p:cNvSpPr/>
          <p:nvPr/>
        </p:nvSpPr>
        <p:spPr>
          <a:xfrm>
            <a:off x="1887480" y="1791360"/>
            <a:ext cx="588960" cy="20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d253a"/>
                </a:solidFill>
                <a:latin typeface="Verdana"/>
                <a:ea typeface="Arial"/>
              </a:rPr>
              <a:t>Handler</a:t>
            </a:r>
            <a:endParaRPr b="0" i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AutoShape 23"/>
          <p:cNvSpPr/>
          <p:nvPr/>
        </p:nvSpPr>
        <p:spPr>
          <a:xfrm>
            <a:off x="3132000" y="302256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d5f7c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200" spc="-1" strike="noStrike">
                <a:solidFill>
                  <a:srgbClr val="0d253a"/>
                </a:solidFill>
                <a:latin typeface="Verdana"/>
                <a:ea typeface="Arial"/>
              </a:rPr>
              <a:t>S   Interrupt_Task  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24"/>
          <p:cNvSpPr/>
          <p:nvPr/>
        </p:nvSpPr>
        <p:spPr>
          <a:xfrm>
            <a:off x="3132000" y="3251160"/>
            <a:ext cx="1605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1800" anchor="t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25"/>
          <p:cNvSpPr/>
          <p:nvPr/>
        </p:nvSpPr>
        <p:spPr>
          <a:xfrm>
            <a:off x="3360600" y="3022560"/>
            <a:ext cx="0" cy="23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1" name="AutoShape 26"/>
          <p:cNvCxnSpPr>
            <a:stCxn id="928" idx="0"/>
            <a:endCxn id="932" idx="1"/>
          </p:cNvCxnSpPr>
          <p:nvPr/>
        </p:nvCxnSpPr>
        <p:spPr>
          <a:xfrm flipV="1" rot="16200000">
            <a:off x="2432160" y="1522440"/>
            <a:ext cx="956520" cy="2043720"/>
          </a:xfrm>
          <a:prstGeom prst="bentConnector4">
            <a:avLst>
              <a:gd name="adj1" fmla="val 44879"/>
              <a:gd name="adj2" fmla="val 111187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932" name="Rectangle 16"/>
          <p:cNvSpPr/>
          <p:nvPr/>
        </p:nvSpPr>
        <p:spPr>
          <a:xfrm>
            <a:off x="1889280" y="1967400"/>
            <a:ext cx="588960" cy="20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700" spc="-1" strike="noStrike">
                <a:solidFill>
                  <a:srgbClr val="0d253a"/>
                </a:solidFill>
                <a:latin typeface="Verdana"/>
                <a:ea typeface="Arial"/>
              </a:rPr>
              <a:t>Wait</a:t>
            </a:r>
            <a:endParaRPr b="0" i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39"/>
          <p:cNvSpPr/>
          <p:nvPr/>
        </p:nvSpPr>
        <p:spPr>
          <a:xfrm>
            <a:off x="1434960" y="1870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40"/>
          <p:cNvSpPr/>
          <p:nvPr/>
        </p:nvSpPr>
        <p:spPr>
          <a:xfrm flipV="1">
            <a:off x="1434960" y="1793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41"/>
          <p:cNvSpPr/>
          <p:nvPr/>
        </p:nvSpPr>
        <p:spPr>
          <a:xfrm flipH="1">
            <a:off x="748800" y="1793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42"/>
          <p:cNvSpPr/>
          <p:nvPr/>
        </p:nvSpPr>
        <p:spPr>
          <a:xfrm>
            <a:off x="237600" y="1579680"/>
            <a:ext cx="98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External Interrupt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7" name="Tableau 6" descr=""/>
          <p:cNvPicPr/>
          <p:nvPr/>
        </p:nvPicPr>
        <p:blipFill>
          <a:blip r:embed="rId1"/>
          <a:stretch/>
        </p:blipFill>
        <p:spPr>
          <a:xfrm>
            <a:off x="4956120" y="4968720"/>
            <a:ext cx="2487600" cy="1474920"/>
          </a:xfrm>
          <a:prstGeom prst="rect">
            <a:avLst/>
          </a:prstGeom>
          <a:ln w="0">
            <a:noFill/>
          </a:ln>
        </p:spPr>
      </p:pic>
      <p:pic>
        <p:nvPicPr>
          <p:cNvPr id="938" name="Tableau 6" descr=""/>
          <p:cNvPicPr/>
          <p:nvPr/>
        </p:nvPicPr>
        <p:blipFill>
          <a:blip r:embed="rId2"/>
          <a:stretch/>
        </p:blipFill>
        <p:spPr>
          <a:xfrm>
            <a:off x="4237200" y="1152360"/>
            <a:ext cx="4498920" cy="1724040"/>
          </a:xfrm>
          <a:prstGeom prst="rect">
            <a:avLst/>
          </a:prstGeom>
          <a:ln w="0">
            <a:noFill/>
          </a:ln>
        </p:spPr>
      </p:pic>
      <p:pic>
        <p:nvPicPr>
          <p:cNvPr id="939" name="Tableau 6" descr=""/>
          <p:cNvPicPr/>
          <p:nvPr/>
        </p:nvPicPr>
        <p:blipFill>
          <a:blip r:embed="rId3"/>
          <a:stretch/>
        </p:blipFill>
        <p:spPr>
          <a:xfrm>
            <a:off x="706320" y="4108320"/>
            <a:ext cx="3279960" cy="1871640"/>
          </a:xfrm>
          <a:prstGeom prst="rect">
            <a:avLst/>
          </a:prstGeom>
          <a:ln w="0">
            <a:noFill/>
          </a:ln>
        </p:spPr>
      </p:pic>
      <p:sp>
        <p:nvSpPr>
          <p:cNvPr id="940" name="TextBox 11"/>
          <p:cNvSpPr/>
          <p:nvPr/>
        </p:nvSpPr>
        <p:spPr>
          <a:xfrm>
            <a:off x="5435640" y="2924280"/>
            <a:ext cx="3384360" cy="946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the right priority level!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ority of PO should be greater or equal to priority of the interrupt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on that in a bit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Picture 4" descr="http://www.clker.com/cliparts/7/e/4/2/124223856074483192Biohazard_orange.svg.hi.png"/>
          <p:cNvPicPr/>
          <p:nvPr/>
        </p:nvPicPr>
        <p:blipFill>
          <a:blip r:embed="rId4"/>
          <a:stretch/>
        </p:blipFill>
        <p:spPr>
          <a:xfrm>
            <a:off x="5364000" y="2997360"/>
            <a:ext cx="28584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78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sk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Fixed set of task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nly at library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o dynamic alloc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o nested task declara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xed prior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atically crea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ask descriptors, stacks, 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Each task is an infinite loop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ngle 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iggering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action (delay or even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sks never termina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o entries, no rendezvou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o ab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Task creation and activation is very simple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l tasks are created at initializ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n all are executed according to their priori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78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ected objects and interrupt handling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Simple protected operation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most on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queu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one task can be blocked on the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iling locking on mono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nded priority i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t locking/unlocking by increasing/decreasing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xy mode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protected e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 unneeded context 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nterrupt handling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and 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ed procedures as low level interrupt hand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king hardware interrupts according to active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/>
          </p:nvPr>
        </p:nvSpPr>
        <p:spPr>
          <a:xfrm>
            <a:off x="380880" y="2666880"/>
            <a:ext cx="8382240" cy="9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48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84320" y="79200"/>
            <a:ext cx="77724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iti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7" name="Rectangle 20"/>
          <p:cNvSpPr/>
          <p:nvPr/>
        </p:nvSpPr>
        <p:spPr>
          <a:xfrm>
            <a:off x="5219640" y="907920"/>
            <a:ext cx="4572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3"/>
          <p:cNvSpPr/>
          <p:nvPr/>
        </p:nvSpPr>
        <p:spPr>
          <a:xfrm>
            <a:off x="684360" y="1052640"/>
            <a:ext cx="7848360" cy="3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Priorities are defined in package Syste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Lower values mean lower priority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Two non-overlapping ranges: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Priority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Interrupt_Priority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Priority is set by a pragma Priority or pragma Interrupt_Priority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Only for Tasks, Protected Types, Protected Objects, Subprograms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Ignored for non-main Subprograms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Set the priority of the environment task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Interrupt_Priority for priorities in the interrupt ran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9" name="Tableau 6" descr=""/>
          <p:cNvPicPr/>
          <p:nvPr/>
        </p:nvPicPr>
        <p:blipFill>
          <a:blip r:embed="rId1"/>
          <a:stretch/>
        </p:blipFill>
        <p:spPr>
          <a:xfrm>
            <a:off x="347760" y="4248000"/>
            <a:ext cx="3852720" cy="658800"/>
          </a:xfrm>
          <a:prstGeom prst="rect">
            <a:avLst/>
          </a:prstGeom>
          <a:ln w="0">
            <a:noFill/>
          </a:ln>
        </p:spPr>
      </p:pic>
      <p:pic>
        <p:nvPicPr>
          <p:cNvPr id="950" name="Tableau 6" descr=""/>
          <p:cNvPicPr/>
          <p:nvPr/>
        </p:nvPicPr>
        <p:blipFill>
          <a:blip r:embed="rId2"/>
          <a:stretch/>
        </p:blipFill>
        <p:spPr>
          <a:xfrm>
            <a:off x="4743360" y="4248000"/>
            <a:ext cx="3851280" cy="1768680"/>
          </a:xfrm>
          <a:prstGeom prst="rect">
            <a:avLst/>
          </a:prstGeom>
          <a:ln w="0">
            <a:noFill/>
          </a:ln>
        </p:spPr>
      </p:pic>
      <p:pic>
        <p:nvPicPr>
          <p:cNvPr id="951" name="Tableau 6" descr=""/>
          <p:cNvPicPr/>
          <p:nvPr/>
        </p:nvPicPr>
        <p:blipFill>
          <a:blip r:embed="rId3"/>
          <a:stretch/>
        </p:blipFill>
        <p:spPr>
          <a:xfrm>
            <a:off x="347760" y="5187960"/>
            <a:ext cx="385272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78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eduling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Priority based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No time slicing (quantum)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 task executes until …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ask is blocked (on delays or on protected object ent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igher priority task is woken up or unblo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84320" y="79200"/>
            <a:ext cx="77724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Ceiling Locking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55" name="Rectangle 20"/>
          <p:cNvSpPr/>
          <p:nvPr/>
        </p:nvSpPr>
        <p:spPr>
          <a:xfrm>
            <a:off x="5219640" y="907920"/>
            <a:ext cx="4572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3"/>
          <p:cNvSpPr/>
          <p:nvPr/>
        </p:nvSpPr>
        <p:spPr>
          <a:xfrm>
            <a:off x="684360" y="1125360"/>
            <a:ext cx="7848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Task priority is increased within a protected objec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Priorities of task must be lower or equal than the priorities of protected objects used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Blocks other tasks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Performs locks without using locks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7" name="Tableau 6" descr=""/>
          <p:cNvPicPr/>
          <p:nvPr/>
        </p:nvPicPr>
        <p:blipFill>
          <a:blip r:embed="rId1"/>
          <a:stretch/>
        </p:blipFill>
        <p:spPr>
          <a:xfrm>
            <a:off x="274680" y="5327640"/>
            <a:ext cx="3852720" cy="1049400"/>
          </a:xfrm>
          <a:prstGeom prst="rect">
            <a:avLst/>
          </a:prstGeom>
          <a:ln w="0">
            <a:noFill/>
          </a:ln>
        </p:spPr>
      </p:pic>
      <p:pic>
        <p:nvPicPr>
          <p:cNvPr id="958" name="Tableau 6" descr=""/>
          <p:cNvPicPr/>
          <p:nvPr/>
        </p:nvPicPr>
        <p:blipFill>
          <a:blip r:embed="rId2"/>
          <a:stretch/>
        </p:blipFill>
        <p:spPr>
          <a:xfrm>
            <a:off x="274680" y="4108320"/>
            <a:ext cx="3852720" cy="897120"/>
          </a:xfrm>
          <a:prstGeom prst="rect">
            <a:avLst/>
          </a:prstGeom>
          <a:ln w="0">
            <a:noFill/>
          </a:ln>
        </p:spPr>
      </p:pic>
      <p:pic>
        <p:nvPicPr>
          <p:cNvPr id="959" name="Tableau 6" descr=""/>
          <p:cNvPicPr/>
          <p:nvPr/>
        </p:nvPicPr>
        <p:blipFill>
          <a:blip r:embed="rId3"/>
          <a:stretch/>
        </p:blipFill>
        <p:spPr>
          <a:xfrm>
            <a:off x="274680" y="3097080"/>
            <a:ext cx="3852720" cy="657360"/>
          </a:xfrm>
          <a:prstGeom prst="rect">
            <a:avLst/>
          </a:prstGeom>
          <a:ln w="0">
            <a:noFill/>
          </a:ln>
        </p:spPr>
      </p:pic>
      <p:sp>
        <p:nvSpPr>
          <p:cNvPr id="960" name="Rectangle 2"/>
          <p:cNvSpPr/>
          <p:nvPr/>
        </p:nvSpPr>
        <p:spPr>
          <a:xfrm>
            <a:off x="4932360" y="3789360"/>
            <a:ext cx="3311640" cy="1871640"/>
          </a:xfrm>
          <a:prstGeom prst="rect">
            <a:avLst/>
          </a:prstGeom>
          <a:noFill/>
          <a:ln w="9360">
            <a:solidFill>
              <a:srgbClr val="17598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Straight Connector 15"/>
          <p:cNvSpPr/>
          <p:nvPr/>
        </p:nvSpPr>
        <p:spPr>
          <a:xfrm>
            <a:off x="4932360" y="5229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Straight Connector 27"/>
          <p:cNvSpPr/>
          <p:nvPr/>
        </p:nvSpPr>
        <p:spPr>
          <a:xfrm>
            <a:off x="5940360" y="4437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Straight Connector 28"/>
          <p:cNvSpPr/>
          <p:nvPr/>
        </p:nvSpPr>
        <p:spPr>
          <a:xfrm>
            <a:off x="5940360" y="4437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Straight Connector 29"/>
          <p:cNvSpPr/>
          <p:nvPr/>
        </p:nvSpPr>
        <p:spPr>
          <a:xfrm>
            <a:off x="6948360" y="522936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Straight Connector 30"/>
          <p:cNvSpPr/>
          <p:nvPr/>
        </p:nvSpPr>
        <p:spPr>
          <a:xfrm>
            <a:off x="6948360" y="4437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Box 22"/>
          <p:cNvSpPr/>
          <p:nvPr/>
        </p:nvSpPr>
        <p:spPr>
          <a:xfrm>
            <a:off x="6009840" y="3789360"/>
            <a:ext cx="7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Task T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Box 19455"/>
          <p:cNvSpPr/>
          <p:nvPr/>
        </p:nvSpPr>
        <p:spPr>
          <a:xfrm>
            <a:off x="4646160" y="5084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4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Box 19456"/>
          <p:cNvSpPr/>
          <p:nvPr/>
        </p:nvSpPr>
        <p:spPr>
          <a:xfrm>
            <a:off x="4646160" y="4292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5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Box 19457"/>
          <p:cNvSpPr/>
          <p:nvPr/>
        </p:nvSpPr>
        <p:spPr>
          <a:xfrm>
            <a:off x="4934160" y="5229360"/>
            <a:ext cx="52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598f"/>
                </a:solidFill>
                <a:latin typeface="Arial"/>
              </a:rPr>
              <a:t>start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19458"/>
          <p:cNvSpPr/>
          <p:nvPr/>
        </p:nvSpPr>
        <p:spPr>
          <a:xfrm>
            <a:off x="6086160" y="443700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598f"/>
                </a:solidFill>
                <a:latin typeface="Arial"/>
              </a:rPr>
              <a:t>P.Set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nchronous Task Control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Provides primitives to construct synchronization mechanisms and two-stage suspend operations</a:t>
            </a: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Package exports a Suspension_Object type</a:t>
            </a: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s are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initially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h objects are awaited by one task but set by other t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Tableau 6" descr=""/>
          <p:cNvPicPr/>
          <p:nvPr/>
        </p:nvPicPr>
        <p:blipFill>
          <a:blip r:embed="rId1"/>
          <a:stretch/>
        </p:blipFill>
        <p:spPr>
          <a:xfrm>
            <a:off x="1785960" y="3602160"/>
            <a:ext cx="5584680" cy="21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ming Event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685800" y="980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User-defined actions executed at a specified wall-clock time</a:t>
            </a: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lemented as protected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Do not require a task or a delay statement</a:t>
            </a: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Controlled via procedural interface </a:t>
            </a: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s the protected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s the ti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6" name="Tableau 6" descr=""/>
          <p:cNvPicPr/>
          <p:nvPr/>
        </p:nvPicPr>
        <p:blipFill>
          <a:blip r:embed="rId1"/>
          <a:stretch/>
        </p:blipFill>
        <p:spPr>
          <a:xfrm>
            <a:off x="3591000" y="3316320"/>
            <a:ext cx="5576760" cy="3548160"/>
          </a:xfrm>
          <a:prstGeom prst="rect">
            <a:avLst/>
          </a:prstGeom>
          <a:ln w="0">
            <a:noFill/>
          </a:ln>
        </p:spPr>
      </p:pic>
      <p:sp>
        <p:nvSpPr>
          <p:cNvPr id="977" name="TextBox 11"/>
          <p:cNvSpPr/>
          <p:nvPr/>
        </p:nvSpPr>
        <p:spPr>
          <a:xfrm>
            <a:off x="841680" y="4869000"/>
            <a:ext cx="26298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Ravenscar run time interfac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ecution Time Clock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Each task has an associated CPU time clock</a:t>
            </a: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ible via function c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Clocks start after creation but before activation</a:t>
            </a: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Whenever the task executes the clock increments</a:t>
            </a: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Total time includes run-time library &amp; O.S. services executed on its behalf</a:t>
            </a: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System and run-time library execution not specific to a given task may be assigned to some task(s)</a:t>
            </a: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lementation-defined whether it do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lementation-defined which task if it do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tition elaboration control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Library units are elaborated in an undefined order</a:t>
            </a: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can declare tasks and interrupt handl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ce elaborated tasks start exec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rupts occur as soon as hardware is 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These are unacceptable race conditions</a:t>
            </a: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pecially for certificatio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pragma Partition_Elaboration_Policy</a:t>
            </a: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s when activation &amp; attachment happens relative to library unit elaboration comple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ined in High Integrity Systems Ann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oncurr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oli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semantics: tasks and interrupts are concurrent with remaining library units’ elab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equenti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oli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sk activation and interrupt handler attachment are deferred until library unit elaboration comple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sk termination notification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Tasks silently terminate</a:t>
            </a: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out notification by defau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User-defined handlers for termination</a:t>
            </a: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sentially a task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“last wishe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ers are protected procedures called by the run-time libr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States differentiated</a:t>
            </a: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ion due to unhandled excep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ion due to task ab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4" name="Tableau 6" descr=""/>
          <p:cNvPicPr/>
          <p:nvPr/>
        </p:nvPicPr>
        <p:blipFill>
          <a:blip r:embed="rId1"/>
          <a:stretch/>
        </p:blipFill>
        <p:spPr>
          <a:xfrm>
            <a:off x="3444840" y="4968720"/>
            <a:ext cx="5576760" cy="1571760"/>
          </a:xfrm>
          <a:prstGeom prst="rect">
            <a:avLst/>
          </a:prstGeom>
          <a:ln w="0">
            <a:noFill/>
          </a:ln>
        </p:spPr>
      </p:pic>
      <p:sp>
        <p:nvSpPr>
          <p:cNvPr id="985" name="TextBox 11"/>
          <p:cNvSpPr/>
          <p:nvPr/>
        </p:nvSpPr>
        <p:spPr>
          <a:xfrm>
            <a:off x="765360" y="5589720"/>
            <a:ext cx="26298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Ravenscar run time interfac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78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Ravenscar Small FootPrint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04040"/>
                </a:solidFill>
                <a:latin typeface="Arial"/>
              </a:rPr>
              <a:t>Everything is done by the Ada run-time library</a:t>
            </a:r>
            <a:endParaRPr b="1" lang="en-US" sz="17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OS underne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04040"/>
                </a:solidFill>
                <a:latin typeface="Arial"/>
              </a:rPr>
              <a:t>Simple</a:t>
            </a:r>
            <a:endParaRPr b="1" lang="en-US" sz="17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 than 2800 Logical SLO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print for simple tasking program is 10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04040"/>
                </a:solidFill>
                <a:latin typeface="Arial"/>
              </a:rPr>
              <a:t>Static tasking model</a:t>
            </a:r>
            <a:endParaRPr b="1" lang="en-US" sz="17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sks descriptors and stacks are statically created at compile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sk creation and activation is very si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tasks are created at initi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n all activated and executed according to their prio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04040"/>
                </a:solidFill>
                <a:latin typeface="Arial"/>
              </a:rPr>
              <a:t>Simple protected operations</a:t>
            </a:r>
            <a:endParaRPr b="1" lang="en-US" sz="17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queu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king/unlocking by increasing/decreasing prio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04040"/>
                </a:solidFill>
                <a:latin typeface="Arial"/>
              </a:rPr>
              <a:t>Complex features removed</a:t>
            </a:r>
            <a:endParaRPr b="1" lang="en-US" sz="17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h as exception handling and propag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04040"/>
                </a:solidFill>
                <a:latin typeface="Arial"/>
              </a:rPr>
              <a:t>ECSS (E-ST-40C and Q-ST-80C) qualification material</a:t>
            </a:r>
            <a:endParaRPr b="1" lang="en-US" sz="17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/>
          </p:nvPr>
        </p:nvSpPr>
        <p:spPr>
          <a:xfrm>
            <a:off x="380880" y="2666880"/>
            <a:ext cx="8382240" cy="9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1" lang="en-US" sz="48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989" name="Picture 6" descr="Question-mark-blue-glossy-button.gif"/>
          <p:cNvPicPr/>
          <p:nvPr/>
        </p:nvPicPr>
        <p:blipFill>
          <a:blip r:embed="rId1"/>
          <a:stretch/>
        </p:blipFill>
        <p:spPr>
          <a:xfrm>
            <a:off x="2771640" y="2708280"/>
            <a:ext cx="86364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78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Ravenscar profile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2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Use concurrency in embedded real-time systems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02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erifiab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2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mple (Implemented reliably and efficiently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Scheduling theory for accurate analysis of real-time behavior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A subset of the Ada tasking model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Defined to help meeting safety-critical real-time requirements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terminis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chedulability analys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emory-boundednes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xecution efficiency and small footpri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uitability for certific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State-of-the-art concurrency constructs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dequate for most types of real-time softwa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84320" y="79200"/>
            <a:ext cx="77724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1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2050920" y="2924280"/>
          <a:ext cx="5616720" cy="179856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sk bod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la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.0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…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oop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992" name="Picture 5" descr="Question-mark-blue-glossy-button.gif"/>
          <p:cNvPicPr/>
          <p:nvPr/>
        </p:nvPicPr>
        <p:blipFill>
          <a:blip r:embed="rId1"/>
          <a:stretch/>
        </p:blipFill>
        <p:spPr>
          <a:xfrm>
            <a:off x="845964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78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wrong? (2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994" name=""/>
          <p:cNvGraphicFramePr/>
          <p:nvPr/>
        </p:nvGraphicFramePr>
        <p:xfrm>
          <a:off x="2050920" y="2924280"/>
          <a:ext cx="5616720" cy="179856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sk body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lay until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ock + Seconds (1)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…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loop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995" name="Picture 5" descr="Question-mark-blue-glossy-button.gif"/>
          <p:cNvPicPr/>
          <p:nvPr/>
        </p:nvPicPr>
        <p:blipFill>
          <a:blip r:embed="rId1"/>
          <a:stretch/>
        </p:blipFill>
        <p:spPr>
          <a:xfrm>
            <a:off x="845964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78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3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997" name=""/>
          <p:cNvGraphicFramePr/>
          <p:nvPr/>
        </p:nvGraphicFramePr>
        <p:xfrm>
          <a:off x="2050920" y="2924280"/>
          <a:ext cx="5616720" cy="228600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228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sk body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 : Time := Clock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…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 := Next + Seconds (1)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lay until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loop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998" name="Picture 5" descr="Question-mark-blue-glossy-button.gif"/>
          <p:cNvPicPr/>
          <p:nvPr/>
        </p:nvPicPr>
        <p:blipFill>
          <a:blip r:embed="rId1"/>
          <a:stretch/>
        </p:blipFill>
        <p:spPr>
          <a:xfrm>
            <a:off x="845964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178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4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1000" name=""/>
          <p:cNvGraphicFramePr/>
          <p:nvPr/>
        </p:nvGraphicFramePr>
        <p:xfrm>
          <a:off x="1476360" y="2924280"/>
          <a:ext cx="6191280" cy="1066680"/>
        </p:xfrm>
        <a:graphic>
          <a:graphicData uri="http://schemas.openxmlformats.org/drawingml/2006/table">
            <a:tbl>
              <a:tblPr/>
              <a:tblGrid>
                <a:gridCol w="6191280"/>
              </a:tblGrid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sk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agma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ority (Interrupt_Priority'First)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1001" name="Picture 5" descr="Question-mark-blue-glossy-button.gif"/>
          <p:cNvPicPr/>
          <p:nvPr/>
        </p:nvPicPr>
        <p:blipFill>
          <a:blip r:embed="rId1"/>
          <a:stretch/>
        </p:blipFill>
        <p:spPr>
          <a:xfrm>
            <a:off x="845964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78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5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1003" name=""/>
          <p:cNvGraphicFramePr/>
          <p:nvPr/>
        </p:nvGraphicFramePr>
        <p:xfrm>
          <a:off x="755640" y="2924280"/>
          <a:ext cx="7561440" cy="1066680"/>
        </p:xfrm>
        <a:graphic>
          <a:graphicData uri="http://schemas.openxmlformats.org/drawingml/2006/table">
            <a:tbl>
              <a:tblPr/>
              <a:tblGrid>
                <a:gridCol w="7561440"/>
              </a:tblGrid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sk 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agma 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rrupt_Priority (Interrupt_Priority'First)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1004" name="Picture 5" descr="Question-mark-blue-glossy-button.gif"/>
          <p:cNvPicPr/>
          <p:nvPr/>
        </p:nvPicPr>
        <p:blipFill>
          <a:blip r:embed="rId1"/>
          <a:stretch/>
        </p:blipFill>
        <p:spPr>
          <a:xfrm>
            <a:off x="845964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78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6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1006" name=""/>
          <p:cNvGraphicFramePr/>
          <p:nvPr/>
        </p:nvGraphicFramePr>
        <p:xfrm>
          <a:off x="539640" y="1397160"/>
          <a:ext cx="7993080" cy="253044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253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sk 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est_Driver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agma 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rrupt_Priority (System.Interrupt_Priority'First)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est_Driver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tected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c (Res :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)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agma 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ority (System.Priority'Last)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al : Integer := 0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1007" name="Picture 5" descr="Question-mark-blue-glossy-button.gif"/>
          <p:cNvPicPr/>
          <p:nvPr/>
        </p:nvPicPr>
        <p:blipFill>
          <a:blip r:embed="rId1"/>
          <a:stretch/>
        </p:blipFill>
        <p:spPr>
          <a:xfrm>
            <a:off x="8459640" y="71280"/>
            <a:ext cx="554040" cy="54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8" name=""/>
          <p:cNvGraphicFramePr/>
          <p:nvPr/>
        </p:nvGraphicFramePr>
        <p:xfrm>
          <a:off x="611280" y="4349880"/>
          <a:ext cx="7993080" cy="131112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sk body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est_Drive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Integer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.Inc (V)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…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78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7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1010" name=""/>
          <p:cNvGraphicFramePr/>
          <p:nvPr/>
        </p:nvGraphicFramePr>
        <p:xfrm>
          <a:off x="539640" y="2349360"/>
          <a:ext cx="7993080" cy="86364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86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tected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c (Res :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)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1011" name="Picture 5" descr="Question-mark-blue-glossy-button.gif"/>
          <p:cNvPicPr/>
          <p:nvPr/>
        </p:nvPicPr>
        <p:blipFill>
          <a:blip r:embed="rId1"/>
          <a:stretch/>
        </p:blipFill>
        <p:spPr>
          <a:xfrm>
            <a:off x="8459640" y="71280"/>
            <a:ext cx="554040" cy="54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2" name=""/>
          <p:cNvGraphicFramePr/>
          <p:nvPr/>
        </p:nvGraphicFramePr>
        <p:xfrm>
          <a:off x="539640" y="3357720"/>
          <a:ext cx="7993080" cy="151596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1515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tecte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c (Res :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…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lay until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_Activation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78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8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1014" name="Picture 5" descr="Question-mark-blue-glossy-button.gif"/>
          <p:cNvPicPr/>
          <p:nvPr/>
        </p:nvPicPr>
        <p:blipFill>
          <a:blip r:embed="rId1"/>
          <a:stretch/>
        </p:blipFill>
        <p:spPr>
          <a:xfrm>
            <a:off x="8459640" y="71280"/>
            <a:ext cx="554040" cy="54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5" name=""/>
          <p:cNvGraphicFramePr/>
          <p:nvPr/>
        </p:nvGraphicFramePr>
        <p:xfrm>
          <a:off x="539640" y="1916280"/>
          <a:ext cx="7993080" cy="228600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228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tected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sz="1600" spc="-1" strike="noStrike">
                          <a:solidFill>
                            <a:srgbClr val="17598f"/>
                          </a:solidFill>
                          <a:latin typeface="Courier New"/>
                          <a:ea typeface="Courier New"/>
                        </a:rPr>
                        <a:t>Monitor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Handler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agma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ttach_Handler (Handler, Interrupt_ID)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try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Wait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ivate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ignaled : </a:t>
                      </a:r>
                      <a:r>
                        <a:rPr b="1" sz="1600" spc="-1" strike="noStrike">
                          <a:solidFill>
                            <a:srgbClr val="8eafcb"/>
                          </a:solidFill>
                          <a:latin typeface="Courier New"/>
                          <a:ea typeface="Courier New"/>
                        </a:rPr>
                        <a:t>Boolean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:= False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sz="1600" spc="-1" strike="noStrike">
                          <a:solidFill>
                            <a:srgbClr val="17598f"/>
                          </a:solidFill>
                          <a:latin typeface="Courier New"/>
                          <a:ea typeface="Courier New"/>
                        </a:rPr>
                        <a:t>Monitor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78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9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1017" name="Picture 5" descr="Question-mark-blue-glossy-button.gif"/>
          <p:cNvPicPr/>
          <p:nvPr/>
        </p:nvPicPr>
        <p:blipFill>
          <a:blip r:embed="rId1"/>
          <a:stretch/>
        </p:blipFill>
        <p:spPr>
          <a:xfrm>
            <a:off x="8459640" y="71280"/>
            <a:ext cx="554040" cy="54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8" name=""/>
          <p:cNvGraphicFramePr/>
          <p:nvPr/>
        </p:nvGraphicFramePr>
        <p:xfrm>
          <a:off x="539640" y="1916280"/>
          <a:ext cx="7993080" cy="277488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2774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tected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sz="1600" spc="-1" strike="noStrike">
                          <a:solidFill>
                            <a:srgbClr val="17598f"/>
                          </a:solidFill>
                          <a:latin typeface="Courier New"/>
                          <a:ea typeface="Courier New"/>
                        </a:rPr>
                        <a:t>Monitor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agma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riority (Priority'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Last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)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Handler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agma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ttach_Handler (Handler, Interrupt_ID)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try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Wait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ivate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ignaled : </a:t>
                      </a:r>
                      <a:r>
                        <a:rPr b="1" sz="1600" spc="-1" strike="noStrike">
                          <a:solidFill>
                            <a:srgbClr val="8eafcb"/>
                          </a:solidFill>
                          <a:latin typeface="Courier New"/>
                          <a:ea typeface="Courier New"/>
                        </a:rPr>
                        <a:t>Boolean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:= False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sz="1600" spc="-1" strike="noStrike">
                          <a:solidFill>
                            <a:srgbClr val="17598f"/>
                          </a:solidFill>
                          <a:latin typeface="Courier New"/>
                          <a:ea typeface="Courier New"/>
                        </a:rPr>
                        <a:t>Monitor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78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10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1020" name="Picture 5" descr="Question-mark-blue-glossy-button.gif"/>
          <p:cNvPicPr/>
          <p:nvPr/>
        </p:nvPicPr>
        <p:blipFill>
          <a:blip r:embed="rId1"/>
          <a:stretch/>
        </p:blipFill>
        <p:spPr>
          <a:xfrm>
            <a:off x="8459640" y="71280"/>
            <a:ext cx="554040" cy="54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1" name=""/>
          <p:cNvGraphicFramePr/>
          <p:nvPr/>
        </p:nvGraphicFramePr>
        <p:xfrm>
          <a:off x="2916360" y="1989000"/>
          <a:ext cx="2808000" cy="1295640"/>
        </p:xfrm>
        <a:graphic>
          <a:graphicData uri="http://schemas.openxmlformats.org/drawingml/2006/table">
            <a:tbl>
              <a:tblPr/>
              <a:tblGrid>
                <a:gridCol w="2808000"/>
              </a:tblGrid>
              <a:tr h="129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tecte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onito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tr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Wait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…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onitor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22" name=""/>
          <p:cNvGraphicFramePr/>
          <p:nvPr/>
        </p:nvGraphicFramePr>
        <p:xfrm>
          <a:off x="1116000" y="3933720"/>
          <a:ext cx="2735280" cy="1554120"/>
        </p:xfrm>
        <a:graphic>
          <a:graphicData uri="http://schemas.openxmlformats.org/drawingml/2006/table">
            <a:tbl>
              <a:tblPr/>
              <a:tblGrid>
                <a:gridCol w="273528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sk body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1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…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onitor.Wait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…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23" name=""/>
          <p:cNvGraphicFramePr/>
          <p:nvPr/>
        </p:nvGraphicFramePr>
        <p:xfrm>
          <a:off x="4716360" y="3933720"/>
          <a:ext cx="2735280" cy="1554120"/>
        </p:xfrm>
        <a:graphic>
          <a:graphicData uri="http://schemas.openxmlformats.org/drawingml/2006/table">
            <a:tbl>
              <a:tblPr/>
              <a:tblGrid>
                <a:gridCol w="273528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sk body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2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…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onitor.Wait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…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78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imple task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Ada implements the notion of a “thread” via the task entity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A task is started when its declaration scope is elaborated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Its enclosing scope exits when all tasks have finished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861" name=""/>
          <p:cNvGraphicFramePr/>
          <p:nvPr/>
        </p:nvGraphicFramePr>
        <p:xfrm>
          <a:off x="1116000" y="2492280"/>
          <a:ext cx="3672000" cy="2835360"/>
        </p:xfrm>
        <a:graphic>
          <a:graphicData uri="http://schemas.openxmlformats.org/drawingml/2006/table">
            <a:tbl>
              <a:tblPr/>
              <a:tblGrid>
                <a:gridCol w="3672000"/>
              </a:tblGrid>
              <a:tr h="2835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packag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is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  <a:ea typeface="MS PGothic"/>
                        </a:rPr>
                        <a:t>task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Courier New"/>
                          <a:ea typeface="MS PGothic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T;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end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P;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package body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is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  <a:ea typeface="MS PGothic"/>
                        </a:rPr>
                        <a:t>task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Courier New"/>
                          <a:ea typeface="MS PGothic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  <a:ea typeface="MS PGothic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Courier New"/>
                          <a:ea typeface="MS PGothic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is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ick : </a:t>
                      </a:r>
                      <a:r>
                        <a:rPr b="0" sz="1200" spc="-1" strike="noStrike">
                          <a:solidFill>
                            <a:srgbClr val="8eafcb"/>
                          </a:solidFill>
                          <a:latin typeface="Courier New"/>
                          <a:ea typeface="Courier New"/>
                        </a:rPr>
                        <a:t>Time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:= Clock;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begin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loop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delay until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Tick;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Put_Line ("T");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Tick := Tick + Seconds (10);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end loop;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T;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end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P;  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62" name=""/>
          <p:cNvGraphicFramePr/>
          <p:nvPr/>
        </p:nvGraphicFramePr>
        <p:xfrm>
          <a:off x="5076720" y="2492280"/>
          <a:ext cx="3456000" cy="2103480"/>
        </p:xfrm>
        <a:graphic>
          <a:graphicData uri="http://schemas.openxmlformats.org/drawingml/2006/table">
            <a:tbl>
              <a:tblPr/>
              <a:tblGrid>
                <a:gridCol w="3456000"/>
              </a:tblGrid>
              <a:tr h="210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P;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procedur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Main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is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ick : </a:t>
                      </a:r>
                      <a:r>
                        <a:rPr b="0" sz="1200" spc="-1" strike="noStrike">
                          <a:solidFill>
                            <a:srgbClr val="8eafcb"/>
                          </a:solidFill>
                          <a:latin typeface="Courier New"/>
                          <a:ea typeface="Courier New"/>
                        </a:rPr>
                        <a:t>Time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:= Clock;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begin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loop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delay until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Tick;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Put_Line ("Main");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Tick := Tick + Seconds (10);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loop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;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;  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63" name=""/>
          <p:cNvGraphicFramePr/>
          <p:nvPr/>
        </p:nvGraphicFramePr>
        <p:xfrm>
          <a:off x="1116000" y="1557360"/>
          <a:ext cx="3816360" cy="822240"/>
        </p:xfrm>
        <a:graphic>
          <a:graphicData uri="http://schemas.openxmlformats.org/drawingml/2006/table">
            <a:tbl>
              <a:tblPr/>
              <a:tblGrid>
                <a:gridCol w="3816360"/>
              </a:tblGrid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pragma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Ravenscar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;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Ada.Text_IO;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us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Ada.Text_IO;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Ada.Real_Time;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us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Ada.Real_Time;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...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78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11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1025" name="Picture 5" descr="Question-mark-blue-glossy-button.gif"/>
          <p:cNvPicPr/>
          <p:nvPr/>
        </p:nvPicPr>
        <p:blipFill>
          <a:blip r:embed="rId1"/>
          <a:stretch/>
        </p:blipFill>
        <p:spPr>
          <a:xfrm>
            <a:off x="8459640" y="71280"/>
            <a:ext cx="554040" cy="54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6" name=""/>
          <p:cNvGraphicFramePr/>
          <p:nvPr/>
        </p:nvGraphicFramePr>
        <p:xfrm>
          <a:off x="539640" y="1916280"/>
          <a:ext cx="7993080" cy="277488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2774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tected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sz="1600" spc="-1" strike="noStrike">
                          <a:solidFill>
                            <a:srgbClr val="17598f"/>
                          </a:solidFill>
                          <a:latin typeface="Courier New"/>
                          <a:ea typeface="Courier New"/>
                        </a:rPr>
                        <a:t>Monitor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agma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riority (Interrupt_Priority'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Last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)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Handler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agma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ttach_Handler (Handler, Interrupt_ID)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try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Wait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ivate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ignaled : </a:t>
                      </a:r>
                      <a:r>
                        <a:rPr b="1" sz="1600" spc="-1" strike="noStrike">
                          <a:solidFill>
                            <a:srgbClr val="8eafcb"/>
                          </a:solidFill>
                          <a:latin typeface="Courier New"/>
                          <a:ea typeface="Courier New"/>
                        </a:rPr>
                        <a:t>Boolean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:= False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sz="1600" spc="-1" strike="noStrike">
                          <a:solidFill>
                            <a:srgbClr val="17598f"/>
                          </a:solidFill>
                          <a:latin typeface="Courier New"/>
                          <a:ea typeface="Courier New"/>
                        </a:rPr>
                        <a:t>Monitor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78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acting with task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ctive synchronization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/server model of interaction (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symmetric rendezvous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 task declares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ntrie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interac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task makes an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ntry cal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vailable in Ravenscar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Passive synchronization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data objects with concurrency-safe access seman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ed with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tected object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78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ected object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asks are “active” object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Synchronization can be achieved through “passive” objects that hold and manage value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 protected object is an object with an interfac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ncurrent modifications are allow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t is a natural replacement for a lot of cases where a semaphore is needed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868" name=""/>
          <p:cNvGraphicFramePr/>
          <p:nvPr/>
        </p:nvGraphicFramePr>
        <p:xfrm>
          <a:off x="611280" y="4870440"/>
          <a:ext cx="3744720" cy="1366920"/>
        </p:xfrm>
        <a:graphic>
          <a:graphicData uri="http://schemas.openxmlformats.org/drawingml/2006/table">
            <a:tbl>
              <a:tblPr/>
              <a:tblGrid>
                <a:gridCol w="3744720"/>
              </a:tblGrid>
              <a:tr h="136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protected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Only subprograms are allowed here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et (V : Integer);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e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Data declaration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cal : Integer;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;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69" name=""/>
          <p:cNvGraphicFramePr/>
          <p:nvPr/>
        </p:nvGraphicFramePr>
        <p:xfrm>
          <a:off x="4932360" y="4684680"/>
          <a:ext cx="3743280" cy="1768680"/>
        </p:xfrm>
        <a:graphic>
          <a:graphicData uri="http://schemas.openxmlformats.org/drawingml/2006/table">
            <a:tbl>
              <a:tblPr/>
              <a:tblGrid>
                <a:gridCol w="3743280"/>
              </a:tblGrid>
              <a:tr h="1768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protected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et (V : Integer)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cal := V;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et;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e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ocal;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et;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;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78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ected functions vs. protected procedur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Procedures can modify the state of the protected data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ncurrent access to procedures can be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rocedure can be called when functions are c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Functions are just ways to retrieve values, the protected data is read-only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urrent access to functions can be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function can be called when a procedure is c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 txBox="1"/>
          <p:nvPr/>
        </p:nvSpPr>
        <p:spPr>
          <a:xfrm>
            <a:off x="761760" y="1142640"/>
            <a:ext cx="3809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Protected entries are a special kind of protected procedures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ly one entry per PO in Ravensc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ey can be defined using a barrier, a conditional expression allowing the entry to be called or no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Boolean expression in full 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simple Boolean value only in Ravensc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e barriers are evaluated…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ery time a task request to call an 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ery time a protected entry or procedure is exi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7100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ected object entries (1/2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874" name=""/>
          <p:cNvGraphicFramePr/>
          <p:nvPr/>
        </p:nvGraphicFramePr>
        <p:xfrm>
          <a:off x="4859280" y="1197000"/>
          <a:ext cx="3743280" cy="1432080"/>
        </p:xfrm>
        <a:graphic>
          <a:graphicData uri="http://schemas.openxmlformats.org/drawingml/2006/table">
            <a:tbl>
              <a:tblPr/>
              <a:tblGrid>
                <a:gridCol w="3743280"/>
              </a:tblGrid>
              <a:tr h="1432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tected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sh (V : Integer);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try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Pop  (V :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);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uffer : Integer_Array (1 .. 10);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ize : Integer := 0;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as_Elements : Boolean := False;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O;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75" name=""/>
          <p:cNvGraphicFramePr/>
          <p:nvPr/>
        </p:nvGraphicFramePr>
        <p:xfrm>
          <a:off x="4859280" y="2781360"/>
          <a:ext cx="3745080" cy="2941560"/>
        </p:xfrm>
        <a:graphic>
          <a:graphicData uri="http://schemas.openxmlformats.org/drawingml/2006/table">
            <a:tbl>
              <a:tblPr/>
              <a:tblGrid>
                <a:gridCol w="3745080"/>
              </a:tblGrid>
              <a:tr h="2941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tected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sh (V : Integer)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uffer (Size + 1) := V;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ize := Size + 1;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as_Elements := True;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ush;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try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p  (V :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Has_Elements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= Buffer (Size);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ize := Size – 1;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as_Elements := Size &gt; 0;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p;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;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 txBox="1"/>
          <p:nvPr/>
        </p:nvSpPr>
        <p:spPr>
          <a:xfrm>
            <a:off x="761760" y="1142640"/>
            <a:ext cx="3809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Tasks can be waiting on entrie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in full 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most one in Ravens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A task is reactivated when the barrier is relieved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7100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ected object entries (2/2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878" name=""/>
          <p:cNvGraphicFramePr/>
          <p:nvPr/>
        </p:nvGraphicFramePr>
        <p:xfrm>
          <a:off x="4716360" y="1268280"/>
          <a:ext cx="3745080" cy="2232000"/>
        </p:xfrm>
        <a:graphic>
          <a:graphicData uri="http://schemas.openxmlformats.org/drawingml/2006/table">
            <a:tbl>
              <a:tblPr/>
              <a:tblGrid>
                <a:gridCol w="3745080"/>
              </a:tblGrid>
              <a:tr h="223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sk body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Integer;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.Pop (V);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1;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sk body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l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.0;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.Push (42);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3;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09:55:05Z</dcterms:created>
  <dc:creator>Jose F. Ruiz</dc:creator>
  <dc:description/>
  <cp:keywords>Ravenscar GNAT Pro</cp:keywords>
  <dc:language>en-US</dc:language>
  <cp:lastModifiedBy>Jose Ruiz</cp:lastModifiedBy>
  <dcterms:modified xsi:type="dcterms:W3CDTF">2014-10-20T13:42:54Z</dcterms:modified>
  <cp:revision>202</cp:revision>
  <dc:subject>Ravenscar</dc:subject>
  <dc:title>Ravenscar Overview</dc:title>
</cp:coreProperties>
</file>