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E07E-361E-428A-BB4A-CE2686AE31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ggregage should read (A =&gt; 1, others =&gt; &lt;&gt;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3572-3F57-45AE-BEDD-AF16B3EC1B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components must have the same type for th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othe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work with an ex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F52B-AA55-424D-85FC-131AC04D6C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 definition cannot be recurs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079D-8202-4B8B-A8AD-F79BBAB366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F306-2BC8-49D2-8896-6EDFEDB088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re is no explicit default value, &lt;&gt; will take default initialization, which will just get the state of the memory at the lo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9B24-C700-4A96-8603-26938B8261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ton must have a named aggreg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31B8-46ED-4768-AFD5-16C6E1F96A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cord cannot have an indefinite as a component ty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E2FF-4A9A-4093-9736-B5B078E617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-time error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riminant must be equal in assignment, when not dealing with mutable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C014-D0E8-48F5-ACDD-B1972C0235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-time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 required size for R is 5, because the object is mutable, the compiler needs to reserve the maximum amount of memory, which is just too big for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9D2E-9173-4D94-AC5D-710BEB55C4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and Y fields are duplic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FBCF-A373-4C87-92A9-A7E73B3F9E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-Time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criminants are different but the object is not mutable. Would nee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ind : Shape_Kind := Circle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37DD-3EAB-4F6D-AF39-0D8DEE8259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7F82-3570-49DD-B93A-B50DDBC48E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F1F46023-DE3C-4294-B127-B6A51ED248C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FB614120-DB3E-4DFB-B918-6D594424099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777CB4B-D1E3-42DA-B5BE-2FA34A35FC2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B4B67A7-C119-4D25-A8AD-8C18E763F5BB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8491715-E983-4F5A-9429-C9A4A749E31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DBD5451-5A2E-4D0D-91B3-0020A26B02F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9A3A06C-FDB5-4234-AD66-9B6D330D8A4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rd typ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3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age of a record with discriminant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s for arrays – the unconstrained part has to be specifi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ccessing a component not accessible for a given constraint will raise </a:t>
            </a:r>
            <a:r>
              <a:rPr b="1" i="1" lang="en-US" sz="2400" spc="-1" strike="noStrike">
                <a:solidFill>
                  <a:srgbClr val="404040"/>
                </a:solidFill>
                <a:latin typeface="Arial"/>
              </a:rPr>
              <a:t>Constraint_Error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476360" y="2276640"/>
          <a:ext cx="6095880" cy="1008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08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Shape (Circle)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2 : Shape := V1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OK, constrained by initial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.Radius := 0.0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OK, radius is in the Circle cas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2.X2 := 0.0;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Raises constraint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gregat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ame as record aggregates – but have to give a value to the discriminan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Only the values related to the constraint have to be valuat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116000" y="3789360"/>
          <a:ext cx="7129440" cy="45720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Shape := (Kind =&gt; Line, X =&gt; 0.0, Y =&gt; 0.0, X2 =&gt; 10.0, Y2 =&gt; 10.0)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Shape := (Circle, 0.0, 0.0, 5.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traints on record component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Record component types need to be definit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f a constraint is needed, it can be dependent on the discriminant valu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547640" y="4079880"/>
          <a:ext cx="6096240" cy="10065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ring_Container (Size : Positive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S : String (1 .. Siz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String_Container 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table objects (1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We may want to change the constraint of the object over tim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Such object needs to have an initial value for their discriminants – they are </a:t>
            </a:r>
            <a:r>
              <a:rPr b="1" i="1" lang="en-US" sz="2200" spc="-1" strike="noStrike">
                <a:solidFill>
                  <a:srgbClr val="404040"/>
                </a:solidFill>
                <a:latin typeface="Arial"/>
              </a:rPr>
              <a:t>constrained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e discriminant can’t be directly changed – the whole object has to be assigned to a new valu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e discriminant of an object with an explicit constraint can’t be changed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116000" y="4653000"/>
          <a:ext cx="7201080" cy="1920960"/>
        </p:xfrm>
        <a:graphic>
          <a:graphicData uri="http://schemas.openxmlformats.org/drawingml/2006/table">
            <a:tbl>
              <a:tblPr/>
              <a:tblGrid>
                <a:gridCol w="7201080"/>
              </a:tblGrid>
              <a:tr h="192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(Kind : Shape_Kind := Line)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recor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Shape (Circle); </a:t>
                      </a:r>
                      <a:r>
                        <a:rPr b="0" i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Still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Shape;         </a:t>
                      </a:r>
                      <a:r>
                        <a:rPr b="0" i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Ok, of type line</a:t>
                      </a:r>
                      <a:br>
                        <a:rPr sz="1200"/>
                      </a:b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200"/>
                      </a:b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2 := V;                 </a:t>
                      </a:r>
                      <a:r>
                        <a:rPr b="0" i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Ok, since the object if mutable</a:t>
                      </a:r>
                      <a:br>
                        <a:rPr sz="1200"/>
                      </a:b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= (Line, 0.0, 0.0, 0.0, 0.0); </a:t>
                      </a:r>
                      <a:br>
                        <a:rPr sz="1200"/>
                      </a:br>
                      <a:r>
                        <a:rPr b="0" i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-- Raises Constraint_Error, V has been explicitly constrai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table objects (2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size of a mutable object is the </a:t>
            </a:r>
            <a:r>
              <a:rPr b="1" i="1" lang="en-US" sz="2400" spc="-1" strike="noStrike">
                <a:solidFill>
                  <a:srgbClr val="404040"/>
                </a:solidFill>
                <a:latin typeface="Arial"/>
              </a:rPr>
              <a:t>maximal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size needed to represent all possible object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Be careful when used with array constraints ! 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above will raise Storage_Error – no object of the maximum needed space can be allocat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116000" y="2949480"/>
          <a:ext cx="7201080" cy="1006560"/>
        </p:xfrm>
        <a:graphic>
          <a:graphicData uri="http://schemas.openxmlformats.org/drawingml/2006/table">
            <a:tbl>
              <a:tblPr/>
              <a:tblGrid>
                <a:gridCol w="720108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ring_Container (Size : Positive := 1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S : String (1 .. Siz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String_Contain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table object exampl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BD - show memory layou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BD - how to access the discriminan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Quiz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55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2916360" y="2708280"/>
            <a:ext cx="8715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1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050920" y="292428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, C : Integer :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A =&gt; 1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58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2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050920" y="2924280"/>
          <a:ext cx="5616720" cy="204156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041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Intege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, C : Integer :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 : My_Integer :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1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1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3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050920" y="2924280"/>
          <a:ext cx="5616720" cy="106668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067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ell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 :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 : Cel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4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rd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llow to store named heterogeneous data in a typ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Fields are accessed through dot notation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203640" y="1844640"/>
          <a:ext cx="2663640" cy="822240"/>
        </p:xfrm>
        <a:graphic>
          <a:graphicData uri="http://schemas.openxmlformats.org/drawingml/2006/table">
            <a:tbl>
              <a:tblPr/>
              <a:tblGrid>
                <a:gridCol w="266364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d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987640" y="3645000"/>
          <a:ext cx="3160800" cy="822240"/>
        </p:xfrm>
        <a:graphic>
          <a:graphicData uri="http://schemas.openxmlformats.org/drawingml/2006/table">
            <a:tbl>
              <a:tblPr/>
              <a:tblGrid>
                <a:gridCol w="316080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: Shap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.X := 0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.Id :=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4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050920" y="2924280"/>
          <a:ext cx="5616720" cy="204156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041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Intege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, C :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 : My_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7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5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2050920" y="292428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0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70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6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050920" y="292428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String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V =&gt; "Hello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73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7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050920" y="2924280"/>
          <a:ext cx="5616720" cy="204156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041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(D : Integer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 := (D =&gt; 5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R := (D =&gt; 6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= V2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76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8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050920" y="292428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(Size : Integer := 0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: String (1 .. Size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5, "Hello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79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9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476360" y="1844640"/>
          <a:ext cx="6624720" cy="3017880"/>
        </p:xfrm>
        <a:graphic>
          <a:graphicData uri="http://schemas.openxmlformats.org/drawingml/2006/table">
            <a:tbl>
              <a:tblPr/>
              <a:tblGrid>
                <a:gridCol w="6624720"/>
              </a:tblGrid>
              <a:tr h="301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_Kind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Circle, Line);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(Kind : Shape_Kind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Kind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ine  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2, Y2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ircle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dius : Float;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2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10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476360" y="1844640"/>
          <a:ext cx="6624720" cy="3992760"/>
        </p:xfrm>
        <a:graphic>
          <a:graphicData uri="http://schemas.openxmlformats.org/drawingml/2006/table">
            <a:tbl>
              <a:tblPr/>
              <a:tblGrid>
                <a:gridCol w="6624720"/>
              </a:tblGrid>
              <a:tr h="399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_Kind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Circle, Line);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(Kind : Shape_Kind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Kind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ine  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2, Y2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ircle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dius : Float;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Shape := (Circle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Shape := (Line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V2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5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rd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ny kind of definite type can be used as component type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Size may not be known at compile tim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impact on code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2916360" y="1844640"/>
          <a:ext cx="2879640" cy="1554120"/>
        </p:xfrm>
        <a:graphic>
          <a:graphicData uri="http://schemas.openxmlformats.org/drawingml/2006/table">
            <a:tbl>
              <a:tblPr/>
              <a:tblGrid>
                <a:gridCol w="287964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itio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me : String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: Positio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2627280" y="4005360"/>
          <a:ext cx="3960720" cy="155412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 : Natural := Compute_Le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me_Type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 (1 .. Len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me : Name_Typ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: Positio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ault Valu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Default values can be provided to record components: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Default values are dynamic expressions evaluated at object declaration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132000" y="1700280"/>
          <a:ext cx="2880000" cy="822240"/>
        </p:xfrm>
        <a:graphic>
          <a:graphicData uri="http://schemas.openxmlformats.org/drawingml/2006/table">
            <a:tbl>
              <a:tblPr/>
              <a:tblGrid>
                <a:gridCol w="288000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itio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 : Integer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2843280" y="3357720"/>
          <a:ext cx="4032360" cy="320040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3200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x, Cy : Integer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ition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Cx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 : Integer := C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 : Position; </a:t>
                      </a:r>
                      <a:r>
                        <a:rPr b="0" i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= (0, 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x :=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y :=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cl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 : Position; </a:t>
                      </a:r>
                      <a:r>
                        <a:rPr b="0" i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= (1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gregates (1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Like arrays, record values can be given through aggregat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Named aggregates are possible (but cannot switch back to positional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2050920" y="2060640"/>
          <a:ext cx="4896000" cy="2103480"/>
        </p:xfrm>
        <a:graphic>
          <a:graphicData uri="http://schemas.openxmlformats.org/drawingml/2006/table">
            <a:tbl>
              <a:tblPr/>
              <a:tblGrid>
                <a:gridCol w="489600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itio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me : String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: Positio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enter : Position := (0, 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ircle : Shape := (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' '), Cent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124000" y="5373720"/>
          <a:ext cx="4896000" cy="822240"/>
        </p:xfrm>
        <a:graphic>
          <a:graphicData uri="http://schemas.openxmlformats.org/drawingml/2006/table">
            <a:tbl>
              <a:tblPr/>
              <a:tblGrid>
                <a:gridCol w="489600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 : Position := (0, Y =&gt; 0);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 : Position := (X =&gt; 0, Y =&gt; 0)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3 : Position := (Y =&gt; 0, X =&gt; 0)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4 : Position := (X =&gt; 0, 0);     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-- N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20" name="Picture 5" descr="stop.jpg"/>
          <p:cNvPicPr/>
          <p:nvPr/>
        </p:nvPicPr>
        <p:blipFill>
          <a:blip r:embed="rId1"/>
          <a:stretch/>
        </p:blipFill>
        <p:spPr>
          <a:xfrm>
            <a:off x="1906560" y="5948280"/>
            <a:ext cx="2174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gregates (2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Named aggregate is required for one-elements record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Default values can be referred as &lt;&gt; after a name or </a:t>
            </a:r>
            <a:r>
              <a:rPr b="1" i="1" lang="en-US" sz="2000" spc="-1" strike="noStrike">
                <a:solidFill>
                  <a:srgbClr val="404040"/>
                </a:solidFill>
                <a:latin typeface="Arial"/>
              </a:rPr>
              <a:t>other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If all remaining types are the same, </a:t>
            </a:r>
            <a:r>
              <a:rPr b="1" i="1" lang="en-US" sz="2000" spc="-1" strike="noStrike">
                <a:solidFill>
                  <a:srgbClr val="404040"/>
                </a:solidFill>
                <a:latin typeface="Arial"/>
              </a:rPr>
              <a:t>others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can use an expression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2195640" y="1700280"/>
          <a:ext cx="4895640" cy="1189080"/>
        </p:xfrm>
        <a:graphic>
          <a:graphicData uri="http://schemas.openxmlformats.org/drawingml/2006/table">
            <a:tbl>
              <a:tblPr/>
              <a:tblGrid>
                <a:gridCol w="48956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ingleto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Singleton := (V =&gt; 0)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Singleton := (0);     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-- N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2195640" y="3357720"/>
          <a:ext cx="4895640" cy="1188720"/>
        </p:xfrm>
        <a:graphic>
          <a:graphicData uri="http://schemas.openxmlformats.org/drawingml/2006/table">
            <a:tbl>
              <a:tblPr/>
              <a:tblGrid>
                <a:gridCol w="489564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, C, D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ec :=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Rec := (A =&gt; 0, B =&gt; &lt;&gt;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2268360" y="5373720"/>
          <a:ext cx="4896000" cy="1189080"/>
        </p:xfrm>
        <a:graphic>
          <a:graphicData uri="http://schemas.openxmlformats.org/drawingml/2006/table">
            <a:tbl>
              <a:tblPr/>
              <a:tblGrid>
                <a:gridCol w="48960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, D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ec := (0, 0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0.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26" name="Picture 7" descr="stop.jpg"/>
          <p:cNvPicPr/>
          <p:nvPr/>
        </p:nvPicPr>
        <p:blipFill>
          <a:blip r:embed="rId1"/>
          <a:stretch/>
        </p:blipFill>
        <p:spPr>
          <a:xfrm>
            <a:off x="1906560" y="2637000"/>
            <a:ext cx="2174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riminant problematic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Only a subset of the components are needed to use this type, depending on the contex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Why do we need to use the memory for Radius if the shape is a line?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203640" y="2600280"/>
          <a:ext cx="2663640" cy="1189080"/>
        </p:xfrm>
        <a:graphic>
          <a:graphicData uri="http://schemas.openxmlformats.org/drawingml/2006/table">
            <a:tbl>
              <a:tblPr/>
              <a:tblGrid>
                <a:gridCol w="26636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2, Y2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dius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er_Radius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of a discriminant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ypes can be parameterized by a discrete typ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is type is indefinite, needs to be constrained at object declar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547640" y="1844640"/>
          <a:ext cx="6096240" cy="24685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46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_Kind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Circle, Line, Torus);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(Kind : Shape_Kind)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Kind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ine   =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2, Y2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rus  =&gt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er_Radius, Inner_Radius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ircle    =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dius : Float;</a:t>
                      </a:r>
                      <a:br>
                        <a:rPr sz="1200"/>
                      </a:b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1547640" y="5805360"/>
          <a:ext cx="6096240" cy="279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7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Shape (Circl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 Syntax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ll identifiers must be unique – even if declared in distinct variant part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re can be a variant part within the variant par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ll values must have a branch in the case – use </a:t>
            </a:r>
            <a:r>
              <a:rPr b="1" i="1" lang="en-US" sz="2400" spc="-1" strike="noStrike">
                <a:solidFill>
                  <a:srgbClr val="404040"/>
                </a:solidFill>
                <a:latin typeface="Arial"/>
              </a:rPr>
              <a:t>others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f need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object will fit the size needed to work with the given discriminant – unnecessary fields won’t get allocat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55640" y="1160640"/>
          <a:ext cx="7848720" cy="118872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d ([Discriminant : Discrete_Type] {, Discriminant : Discrete_Type}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common part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variant part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35:52Z</dcterms:created>
  <dc:creator>ochem</dc:creator>
  <dc:description/>
  <dc:language>en-US</dc:language>
  <cp:lastModifiedBy>Vasiliy Fofanov</cp:lastModifiedBy>
  <dcterms:modified xsi:type="dcterms:W3CDTF">2013-09-23T20:48:26Z</dcterms:modified>
  <cp:revision>272</cp:revision>
  <dc:subject/>
  <dc:title>Diapositive 1</dc:title>
</cp:coreProperties>
</file>