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2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EEDE264-326E-4839-A864-2930AFB4B4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C305962-0E18-4CD6-B477-C89266DE97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5840F300-A769-47BA-8BF1-3C6C78C4198A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DF8BF447-FF74-4977-B00E-174F9EFECCFE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" descr="gnatpro-security.png"/>
          <p:cNvPicPr/>
          <p:nvPr/>
        </p:nvPicPr>
        <p:blipFill>
          <a:blip r:embed="rId2"/>
          <a:stretch/>
        </p:blipFill>
        <p:spPr>
          <a:xfrm>
            <a:off x="1905120" y="2743200"/>
            <a:ext cx="5333760" cy="15303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31641174-9C84-4124-ACC3-901E20F953DF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" descr="sparkpro.png"/>
          <p:cNvPicPr/>
          <p:nvPr/>
        </p:nvPicPr>
        <p:blipFill>
          <a:blip r:embed="rId2"/>
          <a:stretch/>
        </p:blipFill>
        <p:spPr>
          <a:xfrm>
            <a:off x="1447920" y="2762280"/>
            <a:ext cx="6172200" cy="971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sparkpro-slogan.png"/>
          <p:cNvPicPr/>
          <p:nvPr/>
        </p:nvPicPr>
        <p:blipFill>
          <a:blip r:embed="rId3"/>
          <a:stretch/>
        </p:blipFill>
        <p:spPr>
          <a:xfrm>
            <a:off x="1066680" y="3809880"/>
            <a:ext cx="6858000" cy="44604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FCB48831-A8A3-48A7-9BF6-C7EB4CB90B4F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3" descr="sparkprobb.png"/>
          <p:cNvPicPr/>
          <p:nvPr/>
        </p:nvPicPr>
        <p:blipFill>
          <a:blip r:embed="rId2"/>
          <a:stretch/>
        </p:blipFill>
        <p:spPr>
          <a:xfrm>
            <a:off x="549360" y="2819520"/>
            <a:ext cx="8045280" cy="75708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3648DC5C-BF47-4EFD-A60E-5BFF119CBDB8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6F4B522D-9C95-4F58-83FB-BE3A2203AAD5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64DB10E3-E065-4F41-9206-2012420A0624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7B9CBAAD-41BF-411D-B1C4-5C033DD94DB4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BDD420BF-8985-4A04-9A7E-A77FA73270C2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6EA7FE73-E949-4179-9B98-1B8526B7D282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" descr="gnatpro.png"/>
          <p:cNvPicPr/>
          <p:nvPr/>
        </p:nvPicPr>
        <p:blipFill>
          <a:blip r:embed="rId2"/>
          <a:stretch/>
        </p:blipFill>
        <p:spPr>
          <a:xfrm>
            <a:off x="1905120" y="2743200"/>
            <a:ext cx="5321160" cy="981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gnatpro-slogan.png"/>
          <p:cNvPicPr/>
          <p:nvPr/>
        </p:nvPicPr>
        <p:blipFill>
          <a:blip r:embed="rId3"/>
          <a:stretch/>
        </p:blipFill>
        <p:spPr>
          <a:xfrm>
            <a:off x="1905120" y="3884760"/>
            <a:ext cx="5257800" cy="4586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50F241EC-EC78-4906-A82D-2664E02BE519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codepeer.png"/>
          <p:cNvPicPr/>
          <p:nvPr/>
        </p:nvPicPr>
        <p:blipFill>
          <a:blip r:embed="rId2"/>
          <a:stretch/>
        </p:blipFill>
        <p:spPr>
          <a:xfrm>
            <a:off x="1752480" y="2743200"/>
            <a:ext cx="5677200" cy="1033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codepeer-slogan.png"/>
          <p:cNvPicPr/>
          <p:nvPr/>
        </p:nvPicPr>
        <p:blipFill>
          <a:blip r:embed="rId3"/>
          <a:stretch/>
        </p:blipFill>
        <p:spPr>
          <a:xfrm>
            <a:off x="1295280" y="3863880"/>
            <a:ext cx="6477120" cy="4222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6BED985D-730C-45D6-88F3-D3227B520DE9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gnatpro-safety.png"/>
          <p:cNvPicPr/>
          <p:nvPr/>
        </p:nvPicPr>
        <p:blipFill>
          <a:blip r:embed="rId2"/>
          <a:stretch/>
        </p:blipFill>
        <p:spPr>
          <a:xfrm>
            <a:off x="1903320" y="2743200"/>
            <a:ext cx="5335560" cy="15271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FP Runtim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8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ZFP: compiler emitted call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ompiler may insert calls to perform some operation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h as memory block copy to copy arrays or rec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4 bits shif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ome are defined by the C library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c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ome are defined in a compiler library, libgcc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: muldi3: 64 bit multi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wo strategies: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ther be careful and not using these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with libgcc (default unless –nostdli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ZFP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ro Foot Print runtim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mallest runtime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inimal runtime to build a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User extensible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can add system packages to support some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an have no code impac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the use of -nostd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Easy to certify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re is no code outside the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e  ‘GNAT Pro User's Guide Supplement for High-Integrity Edition Platforms’ for detail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ZFP: Restriction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ragma Restriction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 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AT 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olations are detected at compil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Missing predefined environment unit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Ada.Direc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ed at compil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Missing system run time unit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as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ed at compil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1258920" y="1484280"/>
          <a:ext cx="6121440" cy="36036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trictions (No_Exception_Propagation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179280" y="3755880"/>
          <a:ext cx="8640720" cy="33516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est.adb:12:06: "Ada.Directories" is not a predefined library unit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08000" y="5084640"/>
          <a:ext cx="8856720" cy="1008360"/>
        </p:xfrm>
        <a:graphic>
          <a:graphicData uri="http://schemas.openxmlformats.org/drawingml/2006/table">
            <a:tbl>
              <a:tblPr/>
              <a:tblGrid>
                <a:gridCol w="8856720"/>
              </a:tblGrid>
              <a:tr h="100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pro.ads:4:04: construct not allowed in configurable run-time mod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pro.ads:4:04: file s-tpoben.ads not found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pro.ads:4:04: entity "System.Tasking.Protected_Objects.Entries.Protection_Entries" not availabl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ZFP: Exceptions (1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Exceptions: last chance handler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propa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of ch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raise is translated into a call to __gnat_last_chance_hand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defined by th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08000" y="3645000"/>
          <a:ext cx="8820000" cy="863640"/>
        </p:xfrm>
        <a:graphic>
          <a:graphicData uri="http://schemas.openxmlformats.org/drawingml/2006/table">
            <a:tbl>
              <a:tblPr/>
              <a:tblGrid>
                <a:gridCol w="882000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st_Chance_Handler (Msg : System.Address; Line : Integer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mport (C, Last_Chance_Handler, "__gnat_last_chance_handler"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_Return (Last_Chance_Handler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29" name="Rounded Rectangular Callout 4"/>
          <p:cNvSpPr/>
          <p:nvPr/>
        </p:nvSpPr>
        <p:spPr>
          <a:xfrm>
            <a:off x="2987640" y="2924280"/>
            <a:ext cx="2232000" cy="431640"/>
          </a:xfrm>
          <a:prstGeom prst="wedgeRoundRectCallout">
            <a:avLst>
              <a:gd name="adj1" fmla="val 11583"/>
              <a:gd name="adj2" fmla="val 146138"/>
              <a:gd name="adj3" fmla="val 16667"/>
            </a:avLst>
          </a:prstGeom>
          <a:solidFill>
            <a:srgbClr val="dbea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messag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ounded Rectangular Callout 6"/>
          <p:cNvSpPr/>
          <p:nvPr/>
        </p:nvSpPr>
        <p:spPr>
          <a:xfrm>
            <a:off x="5508720" y="2924280"/>
            <a:ext cx="2808360" cy="433440"/>
          </a:xfrm>
          <a:prstGeom prst="wedgeRoundRectCallout">
            <a:avLst>
              <a:gd name="adj1" fmla="val 5046"/>
              <a:gd name="adj2" fmla="val 132310"/>
              <a:gd name="adj3" fmla="val 16667"/>
            </a:avLst>
          </a:prstGeom>
          <a:solidFill>
            <a:srgbClr val="dbea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e number (for checks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ZFP: Exceptions (2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Local handler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propa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of ch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ptions handlers in the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d form of go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iler will emit a warning if handler is not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042920" y="3284640"/>
          <a:ext cx="6913800" cy="1655640"/>
        </p:xfrm>
        <a:graphic>
          <a:graphicData uri="http://schemas.openxmlformats.org/drawingml/2006/table">
            <a:tbl>
              <a:tblPr/>
              <a:tblGrid>
                <a:gridCol w="6913800"/>
              </a:tblGrid>
              <a:tr h="16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Y + Z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straint_Error =&gt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 result of addition outside range of X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ZFP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ary stack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Required to support functions that returns unconstrained object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runtim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user provided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-secsta.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900000" y="1785960"/>
          <a:ext cx="6912000" cy="106668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dent (N : Natural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'(1 .. N =&gt; ' '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539640" y="4363920"/>
          <a:ext cx="8280360" cy="64944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64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_Sec_Stack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tur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ystem.Addres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port (C, Get_Sec_Stack,"__gnat_get_secondary_stack"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ZFP: Memory alloc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Need user provided routine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careful of al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error if they are mi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_Allocator restriction to detect at compil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.Unchecked_Deallocation provided (generic un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_Unchecked_Deallocation restr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0000" y="1701720"/>
          <a:ext cx="6912000" cy="64764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 *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__gnat_malloc (size_t size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__gnat_free (void *ptr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ZFP: GNAT IO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tripped down version of Text_IO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t for Integer, Character and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t_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_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Require user provided version of Pu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charac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ZFP: Misc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agged type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.T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level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controlled ty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Interface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Machine Code Insertion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Asser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loating point attribute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ystem.Storage_Element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ystem.Address_To_Access_Conversion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Ada.Unchecked_Conversion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9:55:05Z</dcterms:created>
  <dc:creator>Jose F. Ruiz</dc:creator>
  <dc:description/>
  <cp:keywords>Ravenscar GNAT Pro</cp:keywords>
  <dc:language>en-US</dc:language>
  <cp:lastModifiedBy>Vasiliy Fofanov</cp:lastModifiedBy>
  <dcterms:modified xsi:type="dcterms:W3CDTF">2013-05-28T23:13:42Z</dcterms:modified>
  <cp:revision>83</cp:revision>
  <dc:subject>Ravenscar</dc:subject>
  <dc:title>Ravenscar Overview</dc:title>
</cp:coreProperties>
</file>