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38D-B359-4D60-A605-5591C3C1FD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 and T2 are two different types, and Proc applies only on T1. Should be writ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 (T1 (V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126-319A-4B49-86D7-CDA16EEA41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, Proc is a primitive of T1 inherited by T2. So there’s a Proc (V : T2) declaration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6A2E-E6CB-4A30-BEC7-D3823A653F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a conversion, the target of the conversion is the type of the expression. So the resul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81E-683E-4F9F-A205-FFE1F79E9F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f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has an implicit derivation of Proc, which is then overridden  with T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FFD-7594-422B-9596-7BD69645C3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oint of the declaration of the variable V, the type T is frozen. There cannot be primitives declared later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A9C-421F-4B41-81E7-356007F496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OK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 is declared in a separate package, so it’ s not a primitive. The fact that it is declared after the frozen point is f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6AFD-DB86-4062-8EEE-B661416608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 is not tagged, it cannot be derived with an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B87-2229-47D6-9252-ADB528BFBA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l to V.Proc is fine. However, Proc is not directly visible, so Proc (V) cannot be called directly and need to be prefixed (e.g. P.Proc (V);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F1E-E8F2-45E7-BFC5-315E604B34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 is a primitive of T, so it comes visible thanks for the “use all” cla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56E-5250-4143-A1EF-BAD7E071F6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 is a primitive of T1 and T2. The use all type makes i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BC8F-A6D0-48BF-92DD-CF216CAEFC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656880D-77DA-4446-BA69-7020D58E1EC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986E3D2-1D01-4623-B794-6917E6E3BA2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BCDDB22-A93A-477C-828E-9BFC80ECD9D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D3BF733-D816-4963-8D9B-22B6CA7562C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E3C4387-6CD4-4D61-8EC9-0DD7C167C58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51E9F11-F4CC-4E07-8C9F-20C28B4F6A9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39DADEF-B7EC-440E-BDA5-A13E6FAAD44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can simple derivation do to the structure?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structure of the type has to be kep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stays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alar stays a 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calar ranges can be reduc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onstraints on unconstrained types can be specifi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643120" y="3122640"/>
          <a:ext cx="3857760" cy="593640"/>
        </p:xfrm>
        <a:graphic>
          <a:graphicData uri="http://schemas.openxmlformats.org/drawingml/2006/table">
            <a:tbl>
              <a:tblPr/>
              <a:tblGrid>
                <a:gridCol w="3857760"/>
              </a:tblGrid>
              <a:tr h="593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2071800" y="4853160"/>
          <a:ext cx="5072040" cy="160020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n_Elem_Ar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(Size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em : Arr (1 .. Siz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n_Elem_Ar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(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can simple derivation do to the list of operations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Operations can be overridden – this overriding can be checked by the optional 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verriding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” reserved wor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Operations can be added – this addition can be checked by the optional 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ot overriding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” reserved wor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Operations can be removed – the removal can be checked by the optional 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verriding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” reserved wor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484360" y="1916280"/>
          <a:ext cx="4429080" cy="93024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556000" y="3651120"/>
          <a:ext cx="4429080" cy="93024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verrid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2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84360" y="5522760"/>
          <a:ext cx="4500720" cy="93060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93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Child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agged derivation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gged deriv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97488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imple derivation cannot change the structure of a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agged derivation applies only to tagged record and allows to add field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n Ada tagged type is the equivalent of a C++ class in terms of OOP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14200" y="4127400"/>
          <a:ext cx="8750520" cy="2397240"/>
        </p:xfrm>
        <a:graphic>
          <a:graphicData uri="http://schemas.openxmlformats.org/drawingml/2006/table">
            <a:tbl>
              <a:tblPr/>
              <a:tblGrid>
                <a:gridCol w="4375440"/>
                <a:gridCol w="4375080"/>
              </a:tblGrid>
              <a:tr h="239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_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 (This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_D2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 (This : T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2 (This : T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D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rtu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2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bidden operations in tagged typ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tagged derivation has to be a type extensio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tagged derivation cannot remove primitiv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onversions from child to parent are allowed, but not the other way around (need extra fields to be provided)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071880" y="1658880"/>
          <a:ext cx="3857400" cy="76212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71880" y="3933720"/>
          <a:ext cx="3857400" cy="243864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243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oot  := (F1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 := (F1 =&gt; 0, F2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Root (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2 := Child (V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= (V1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2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0" name="Picture 5" descr="stop.jpg"/>
          <p:cNvPicPr/>
          <p:nvPr/>
        </p:nvPicPr>
        <p:blipFill>
          <a:blip r:embed="rId1"/>
          <a:stretch/>
        </p:blipFill>
        <p:spPr>
          <a:xfrm>
            <a:off x="2771640" y="2133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stop.jpg"/>
          <p:cNvPicPr/>
          <p:nvPr/>
        </p:nvPicPr>
        <p:blipFill>
          <a:blip r:embed="rId2"/>
          <a:stretch/>
        </p:blipFill>
        <p:spPr>
          <a:xfrm>
            <a:off x="2771640" y="5950080"/>
            <a:ext cx="2890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imitiv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s for regular types, primitives are implicitly inherited, and can be overridden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 child can add new primitives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The parameter which the subprogram is primitive of is called the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</a:rPr>
              <a:t>controlling paramet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All controlling parameters must be of the same typ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428920" y="2492280"/>
          <a:ext cx="4929120" cy="143208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4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1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2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 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m1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3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mplicitly inherited procedure Prim2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2428920" y="5284800"/>
          <a:ext cx="4929120" cy="93024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1 : Root1; V2 : Roo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2 (V1 : Root1; V2 : Root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5" descr="stop.jpg"/>
          <p:cNvPicPr/>
          <p:nvPr/>
        </p:nvPicPr>
        <p:blipFill>
          <a:blip r:embed="rId1"/>
          <a:stretch/>
        </p:blipFill>
        <p:spPr>
          <a:xfrm>
            <a:off x="2124000" y="5950080"/>
            <a:ext cx="2890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agged aggregat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egular aggregate works – values must be given to all fields of the type hierarchy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oesn’t work if there are private types involved!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ggregate extension allows to use a copy of a parent instance, or the default initialization of the parent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« </a:t>
            </a: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with null record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 » can be used when there is no additional component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857680" y="1989000"/>
          <a:ext cx="3929040" cy="160020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 := (F1 =&gt; 0, F2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843280" y="5732640"/>
          <a:ext cx="3929040" cy="76176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Root := (F1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 := (V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2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Child := (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2 =&gt; 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4 : Empty_Child := (Root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ze point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doesn’t explicitly identify the end of the list of member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is end is the implicit “freeze point” occurring whenever: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riable of the type is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is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 of the scope is re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Declaring primitives on a tagged type past this point is an error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908000" y="3933720"/>
          <a:ext cx="6000840" cy="1935360"/>
        </p:xfrm>
        <a:graphic>
          <a:graphicData uri="http://schemas.openxmlformats.org/drawingml/2006/table">
            <a:tbl>
              <a:tblPr/>
              <a:tblGrid>
                <a:gridCol w="6000840"/>
              </a:tblGrid>
              <a:tr h="19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 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Freeze Ro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rim2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ild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Freeze Ch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rim3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4" descr="http://www.clker.com/cliparts/7/e/4/2/124223856074483192Biohazard_orange.svg.hi.png"/>
          <p:cNvPicPr/>
          <p:nvPr/>
        </p:nvPicPr>
        <p:blipFill>
          <a:blip r:embed="rId1"/>
          <a:stretch/>
        </p:blipFill>
        <p:spPr>
          <a:xfrm>
            <a:off x="8604360" y="1159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stop.jpg"/>
          <p:cNvPicPr/>
          <p:nvPr/>
        </p:nvPicPr>
        <p:blipFill>
          <a:blip r:embed="rId2"/>
          <a:stretch/>
        </p:blipFill>
        <p:spPr>
          <a:xfrm>
            <a:off x="1547640" y="5589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stop.jpg"/>
          <p:cNvPicPr/>
          <p:nvPr/>
        </p:nvPicPr>
        <p:blipFill>
          <a:blip r:embed="rId3"/>
          <a:stretch/>
        </p:blipFill>
        <p:spPr>
          <a:xfrm>
            <a:off x="1547640" y="4941720"/>
            <a:ext cx="2890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fix not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Primitives of tagged types can be called like any other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When the first parameter is a controlling parameter, the call can be prefixed by the object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No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</a:rPr>
              <a:t>use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or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</a:rPr>
              <a:t>use type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clause is needed to have visibility over the primitives in this case</a:t>
            </a:r>
            <a:endParaRPr b="1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03360" y="1773360"/>
          <a:ext cx="4286160" cy="10969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1 (V : Roo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2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 V2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5175360" y="1773360"/>
          <a:ext cx="3429000" cy="12650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_Access is access all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 : Root_Access :=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ias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oo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m1 (X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m2 (X.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5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m2 (X2’Access, 5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928960" y="4238640"/>
          <a:ext cx="3429000" cy="762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.Prim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.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Prim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.Prim2 (5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’Access.Prim2 (5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73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3059280" y="2781360"/>
            <a:ext cx="7268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Primitives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41360" y="2205000"/>
          <a:ext cx="2571840" cy="12240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98680" y="220500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227640" y="220500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370320" y="4227480"/>
          <a:ext cx="2571840" cy="1600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79" name="Picture 10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835280" y="2133720"/>
          <a:ext cx="2592360" cy="12952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4716360" y="213372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144960" y="4156200"/>
          <a:ext cx="2571480" cy="143172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4" name="Picture 8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result of this call? (3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042920" y="1484280"/>
          <a:ext cx="3286080" cy="160020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614920" y="3392640"/>
          <a:ext cx="2571840" cy="19350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9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T2 (V1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T1 (V2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1042920" y="3392640"/>
          <a:ext cx="3286080" cy="260640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2606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Text_IO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Text_I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1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1”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2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“2”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9" name="Picture 9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4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556000" y="2708280"/>
          <a:ext cx="4000320" cy="193500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19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3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errid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3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5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916360" y="2637000"/>
          <a:ext cx="3071520" cy="160020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5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6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219320" y="3068640"/>
          <a:ext cx="3071520" cy="126540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076720" y="3068640"/>
          <a:ext cx="3071880" cy="12654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7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916360" y="2565360"/>
          <a:ext cx="3071520" cy="193536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9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2" name="Picture 6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8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059280" y="2133720"/>
          <a:ext cx="3071520" cy="126504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059280" y="3919680"/>
          <a:ext cx="3071520" cy="143172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.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0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9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59280" y="1989000"/>
          <a:ext cx="3071520" cy="126540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059280" y="3774960"/>
          <a:ext cx="3071520" cy="1600200"/>
        </p:xfrm>
        <a:graphic>
          <a:graphicData uri="http://schemas.openxmlformats.org/drawingml/2006/table">
            <a:tbl>
              <a:tblPr/>
              <a:tblGrid>
                <a:gridCol w="307152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.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Pro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0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0/10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843280" y="1916280"/>
          <a:ext cx="3357360" cy="160020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gg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1 : T1; V2 : T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843280" y="3701880"/>
          <a:ext cx="3357360" cy="176868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176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P.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P.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 (V1, 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Proc (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otion of a primitiv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type is characterized by two sets of propert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operations that applie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se operations are called methods in C++, or Primitives in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Ada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mitive relationship is im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hidden” parameter “this” is explici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can have any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11280" y="5229360"/>
          <a:ext cx="8072280" cy="1006200"/>
        </p:xfrm>
        <a:graphic>
          <a:graphicData uri="http://schemas.openxmlformats.org/drawingml/2006/table">
            <a:tbl>
              <a:tblPr/>
              <a:tblGrid>
                <a:gridCol w="4037040"/>
                <a:gridCol w="40352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_Data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unction (This : 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Dat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ttribute_Function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rule for a primitiv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subprogram S is a primitive of type T if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declared in the scope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has at least one parameter of type T (of any mode, including access) or returns a value of typ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 subprogram can be a primitive of several typ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63640" y="2852640"/>
          <a:ext cx="5214960" cy="160020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(V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(V1 : Integer; V2 : 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785960" y="5092560"/>
          <a:ext cx="5214960" cy="143208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1 : T1; V2 : T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ware of access types !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ing a named access type in a subprogram creates a primitive of the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access type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 u="sng">
                <a:solidFill>
                  <a:srgbClr val="40404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the type of the accessed object!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n order to create a primitive using an access type, the access mode should be us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85960" y="2496960"/>
          <a:ext cx="5214960" cy="143208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4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A_T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rimitive of A_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785960" y="4995720"/>
          <a:ext cx="5214960" cy="109728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e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rimitive of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cit primitive operation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t type declaration, primitives are implicitly created if not explicitly given by the developer, depending on the kind of the typ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se primitives can be used just as any other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00120" y="2639880"/>
          <a:ext cx="6715080" cy="193536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193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mplicitly declares function “+” (Left, Right : T1) return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mplicitly declares function “-” (Left, Right : T1) return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recor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mplicitly declares function “=” (Left, Right : T2) return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428840" y="5286240"/>
          <a:ext cx="6715080" cy="93024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P.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1 := P."+" (V1, V2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use all type” claus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ften, “use clauses” are forbidden by a coding standard. This means that all operations have to be prefix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any coding standards allow “use type clauses” which give visibility only on the primitives of given typ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00120" y="1989000"/>
          <a:ext cx="6715080" cy="7621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.B.C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nt (V : T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.B.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500120" y="2846520"/>
          <a:ext cx="6715080" cy="14317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.B.C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A.B.C.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1 := A.B.C."+" (V1, V2)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.B.C.Print (V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457280" y="5164200"/>
          <a:ext cx="6715080" cy="14317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.B.C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 all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.B.C.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, V2 : A.B.C.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1 := V1 + V2;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allowed by use typ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rint (V1);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allowed by use all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6" descr="C:\Users\ochem\Desktop\ada2012png-white-transparent.png"/>
          <p:cNvPicPr/>
          <p:nvPr/>
        </p:nvPicPr>
        <p:blipFill>
          <a:blip r:embed="rId1"/>
          <a:stretch/>
        </p:blipFill>
        <p:spPr>
          <a:xfrm>
            <a:off x="8105760" y="115920"/>
            <a:ext cx="93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3822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Simple derivation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type deriv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 Ada, any (non-tagged) type can be derived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A child is a distinct type inheriting from: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ata representation of the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mitives of the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onversions are possible for non-primitive operations</a:t>
            </a:r>
            <a:endParaRPr b="1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348000" y="1557360"/>
          <a:ext cx="2357640" cy="285840"/>
        </p:xfrm>
        <a:graphic>
          <a:graphicData uri="http://schemas.openxmlformats.org/drawingml/2006/table">
            <a:tbl>
              <a:tblPr/>
              <a:tblGrid>
                <a:gridCol w="2357640"/>
              </a:tblGrid>
              <a:tr h="285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003640" y="2421000"/>
          <a:ext cx="3857760" cy="1768320"/>
        </p:xfrm>
        <a:graphic>
          <a:graphicData uri="http://schemas.openxmlformats.org/drawingml/2006/table">
            <a:tbl>
              <a:tblPr/>
              <a:tblGrid>
                <a:gridCol w="385776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 (V : Paren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mplicit procedure Prim (V : Child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5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m (V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187280" y="4827600"/>
          <a:ext cx="3000600" cy="76212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il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00720" y="4781520"/>
          <a:ext cx="4214520" cy="160020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160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ot_A_Primitive (V : Parent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Paren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Chil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_A_Primitive (V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_A_Primitive (Parent (V2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5T23:07:22Z</dcterms:modified>
  <cp:revision>237</cp:revision>
  <dc:subject/>
  <dc:title>Diapositive 1</dc:title>
</cp:coreProperties>
</file>