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DB9-E131-461A-97DF-4E940F421E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a “with P1;” on P2 to have access to its cont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1A7-0B13-4690-92CD-EAE20323F6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declared in the body of P1, not reachable from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EEB-4158-4EFA-B223-6E850939E5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ircular dependency between P1 and P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3EEE-57C2-4842-8BC2-E0EEA81632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are OK here, thanks to the limited with which allow to create access types on types declared on P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60AF-3431-422C-A8DC-AF980B152E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are OK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circular dependency. P1 only depends on the spec of P2. The body of P2 depends on the spec of P1, but not the spec of P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B28-AAE0-45A9-BEA2-69CD3BCBE2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.Child has visibility over P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D03-5DA5-4C17-BDF7-3620E4E438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ircular dependency between P1, and P1.Child (which implicitly depends on P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C0E-1D8E-4092-BC76-E0A955676E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 of P1.Child depends on the spec of P1, but not its body, so it’s ok to have a dependency from the body of P1 to the spec of P1.Chi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81E9-A60C-457C-B4F2-17C6E7C5D7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.V is declaring a variable of type P2.T2, which is not permitted by the limited with. Only access to objects can be done in this con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AAE-2DEF-4BAF-84D3-2380571100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are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.Child inherits from the with clauses of P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99DF-D719-4D67-BB95-3D0AA50B4B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 should be as limited as possible. Everything not supposed to be used out of package should be in the body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52DF-A387-45DE-9FA0-416F85D0E6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A1CB-B941-417B-BFCD-6227E13316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imited With =&gt; Ada 2005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0D0-8507-4ABC-9529-FF74D85E70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6D7E64C-5970-42F4-BAB3-7074D4A9216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AAF6A6D-18D2-4C20-9499-E00A99ED812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0411044-2CBC-43FB-9DC9-17DA158A32A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42C1F80-7ECC-49C1-A3B1-ABE537C8878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82FA28F-4D91-4A22-83F2-8D3777DF94D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B53EF17-4711-48E3-8091-498EC6AA7E0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B138464-EEEB-4D32-A577-356FC84E35A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ag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ckage is a High Level Semantic Ent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ompiler is responsible for checking structural and semantic consistency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214280" y="2289240"/>
          <a:ext cx="7167600" cy="4114800"/>
        </p:xfrm>
        <a:graphic>
          <a:graphicData uri="http://schemas.openxmlformats.org/drawingml/2006/table">
            <a:tbl>
              <a:tblPr/>
              <a:tblGrid>
                <a:gridCol w="3584880"/>
                <a:gridCol w="358272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line (Proc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 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te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 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nclude “p.hi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i 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I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I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 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c 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with GNAT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ompiler knows how to work just with the specifi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0" name="Forme libre 3"/>
          <p:cNvSpPr/>
          <p:nvPr/>
        </p:nvSpPr>
        <p:spPr>
          <a:xfrm>
            <a:off x="-465120" y="2286000"/>
            <a:ext cx="9621720" cy="3963960"/>
          </a:xfrm>
          <a:custGeom>
            <a:avLst/>
            <a:gdLst>
              <a:gd name="textAreaLeft" fmla="*/ 0 w 9621720"/>
              <a:gd name="textAreaRight" fmla="*/ 9622080 w 9621720"/>
              <a:gd name="textAreaTop" fmla="*/ 0 h 3963960"/>
              <a:gd name="textAreaBottom" fmla="*/ 3964320 h 3963960"/>
            </a:gdLst>
            <a:ahLst/>
            <a:rect l="textAreaLeft" t="textAreaTop" r="textAreaRight" b="textAreaBottom"/>
            <a:pathLst>
              <a:path w="9620317" h="3963438">
                <a:moveTo>
                  <a:pt x="1250165" y="221924"/>
                </a:moveTo>
                <a:cubicBezTo>
                  <a:pt x="0" y="424332"/>
                  <a:pt x="738194" y="1102993"/>
                  <a:pt x="1107290" y="1364932"/>
                </a:cubicBezTo>
                <a:cubicBezTo>
                  <a:pt x="1476386" y="1626871"/>
                  <a:pt x="3036115" y="1412557"/>
                  <a:pt x="3464743" y="1793559"/>
                </a:cubicBezTo>
                <a:cubicBezTo>
                  <a:pt x="3893371" y="2174562"/>
                  <a:pt x="3148544" y="3338456"/>
                  <a:pt x="3679057" y="3650947"/>
                </a:cubicBezTo>
                <a:cubicBezTo>
                  <a:pt x="4209570" y="3963438"/>
                  <a:pt x="6088225" y="3954255"/>
                  <a:pt x="6647823" y="3668503"/>
                </a:cubicBezTo>
                <a:cubicBezTo>
                  <a:pt x="7207421" y="3382751"/>
                  <a:pt x="6614650" y="2308457"/>
                  <a:pt x="7036643" y="1936435"/>
                </a:cubicBezTo>
                <a:cubicBezTo>
                  <a:pt x="7458636" y="1564413"/>
                  <a:pt x="8858313" y="1722121"/>
                  <a:pt x="9179784" y="1436369"/>
                </a:cubicBezTo>
                <a:cubicBezTo>
                  <a:pt x="9501255" y="1150617"/>
                  <a:pt x="9620317" y="436237"/>
                  <a:pt x="8965469" y="221923"/>
                </a:cubicBezTo>
                <a:cubicBezTo>
                  <a:pt x="8310621" y="7609"/>
                  <a:pt x="6536577" y="150486"/>
                  <a:pt x="5250693" y="150486"/>
                </a:cubicBezTo>
                <a:cubicBezTo>
                  <a:pt x="3964809" y="150486"/>
                  <a:pt x="1937492" y="0"/>
                  <a:pt x="1250165" y="221924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571920" y="2722680"/>
          <a:ext cx="2071800" cy="8636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642960" y="272268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715080" y="272268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3571920" y="4579920"/>
          <a:ext cx="2071800" cy="1189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642960" y="461340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715080" y="457992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929040" y="6294600"/>
          <a:ext cx="1357200" cy="35712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357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cc –c p.a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253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with GNAT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information is needed from the body (generic, inline), the compiler works transparently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0" name="Forme libre 10"/>
          <p:cNvSpPr/>
          <p:nvPr/>
        </p:nvSpPr>
        <p:spPr>
          <a:xfrm>
            <a:off x="-333360" y="2252520"/>
            <a:ext cx="9477360" cy="3962520"/>
          </a:xfrm>
          <a:custGeom>
            <a:avLst/>
            <a:gdLst>
              <a:gd name="textAreaLeft" fmla="*/ 0 w 9477360"/>
              <a:gd name="textAreaRight" fmla="*/ 9477720 w 94773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9477441" h="3961864">
                <a:moveTo>
                  <a:pt x="1250165" y="221924"/>
                </a:moveTo>
                <a:cubicBezTo>
                  <a:pt x="0" y="424332"/>
                  <a:pt x="678661" y="829147"/>
                  <a:pt x="607223" y="1364932"/>
                </a:cubicBezTo>
                <a:cubicBezTo>
                  <a:pt x="535785" y="1900717"/>
                  <a:pt x="333377" y="3054362"/>
                  <a:pt x="821537" y="3436633"/>
                </a:cubicBezTo>
                <a:cubicBezTo>
                  <a:pt x="1309697" y="3818904"/>
                  <a:pt x="2588946" y="3618643"/>
                  <a:pt x="3536181" y="3658556"/>
                </a:cubicBezTo>
                <a:cubicBezTo>
                  <a:pt x="4483416" y="3698469"/>
                  <a:pt x="5945349" y="3961864"/>
                  <a:pt x="6504947" y="3676112"/>
                </a:cubicBezTo>
                <a:cubicBezTo>
                  <a:pt x="7064545" y="3390360"/>
                  <a:pt x="6471774" y="2316066"/>
                  <a:pt x="6893767" y="1944044"/>
                </a:cubicBezTo>
                <a:cubicBezTo>
                  <a:pt x="7315760" y="1572022"/>
                  <a:pt x="8715437" y="1729730"/>
                  <a:pt x="9036908" y="1443978"/>
                </a:cubicBezTo>
                <a:cubicBezTo>
                  <a:pt x="9358379" y="1158226"/>
                  <a:pt x="9477441" y="443846"/>
                  <a:pt x="8822593" y="229532"/>
                </a:cubicBezTo>
                <a:cubicBezTo>
                  <a:pt x="8167745" y="15218"/>
                  <a:pt x="6369888" y="159363"/>
                  <a:pt x="5107817" y="158095"/>
                </a:cubicBezTo>
                <a:cubicBezTo>
                  <a:pt x="3845746" y="156827"/>
                  <a:pt x="1937492" y="0"/>
                  <a:pt x="1250165" y="221924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571920" y="2722680"/>
          <a:ext cx="2071800" cy="8636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42960" y="2722680"/>
          <a:ext cx="2489040" cy="1006200"/>
        </p:xfrm>
        <a:graphic>
          <a:graphicData uri="http://schemas.openxmlformats.org/drawingml/2006/table">
            <a:tbl>
              <a:tblPr/>
              <a:tblGrid>
                <a:gridCol w="24890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 (Pro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715080" y="272268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3571920" y="4579920"/>
          <a:ext cx="2071800" cy="1189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42960" y="461340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6715080" y="457992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3929040" y="6294600"/>
          <a:ext cx="1357200" cy="35712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357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cc –c p.a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253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7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2771640" y="2708280"/>
            <a:ext cx="863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500120" y="2922480"/>
          <a:ext cx="2571840" cy="100656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5357880" y="2922480"/>
          <a:ext cx="2214360" cy="100656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00120" y="2143080"/>
          <a:ext cx="3000600" cy="7146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357880" y="2136600"/>
          <a:ext cx="2714400" cy="13716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571760" y="471492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500120" y="2922480"/>
          <a:ext cx="3000600" cy="17370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357880" y="2922480"/>
          <a:ext cx="2714400" cy="17370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00120" y="2922480"/>
          <a:ext cx="3000600" cy="17370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357880" y="2922480"/>
          <a:ext cx="2714400" cy="17370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00120" y="1857240"/>
          <a:ext cx="3000600" cy="17370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57880" y="1857240"/>
          <a:ext cx="2714400" cy="100656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357880" y="4780080"/>
          <a:ext cx="2714400" cy="13716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071720" y="2025720"/>
          <a:ext cx="2643120" cy="100656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786200" y="4786200"/>
          <a:ext cx="2428920" cy="14288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786200" y="2217600"/>
          <a:ext cx="2214720" cy="64008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da Packa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ackage is the base of software architecture in Ad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’s a semantic entity checked by the compil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separates clearly a specification and an implement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119240" y="3657600"/>
          <a:ext cx="7167600" cy="265104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714680" y="2357280"/>
          <a:ext cx="2214360" cy="137160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57880" y="2214720"/>
          <a:ext cx="2714400" cy="10062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714680" y="2357280"/>
          <a:ext cx="2214360" cy="71460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714680" y="4222800"/>
          <a:ext cx="2428560" cy="1428840"/>
        </p:xfrm>
        <a:graphic>
          <a:graphicData uri="http://schemas.openxmlformats.org/drawingml/2006/table">
            <a:tbl>
              <a:tblPr/>
              <a:tblGrid>
                <a:gridCol w="242856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5357880" y="2214720"/>
          <a:ext cx="2571840" cy="1006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500120" y="2922480"/>
          <a:ext cx="3000600" cy="173700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5357880" y="2922480"/>
          <a:ext cx="2714400" cy="17370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286080" y="2025720"/>
          <a:ext cx="2643120" cy="118908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286680" y="4786200"/>
          <a:ext cx="2428560" cy="1006560"/>
        </p:xfrm>
        <a:graphic>
          <a:graphicData uri="http://schemas.openxmlformats.org/drawingml/2006/table">
            <a:tbl>
              <a:tblPr/>
              <a:tblGrid>
                <a:gridCol w="24285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Dep.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286680" y="2217600"/>
          <a:ext cx="2214360" cy="64008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85840" y="2000160"/>
          <a:ext cx="2643120" cy="100656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2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Structure of a Packa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ntities should be put in the body except if they have to be expor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body is easier to change than the specifi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285920" y="1268280"/>
          <a:ext cx="6572160" cy="27082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--  public part of th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external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-- 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implementation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 sub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for the compiler from 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n certain cases, visible from the compiler for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of a Packa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ovide a common naming space for a logically related set of entit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ackage acts as a name wrapp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se kind of packages are typically stateless (i.e. there are no global objec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roup related types and objec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package of this sort allows to factor in a single place inter-related types and ob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s type of packages does not typically have a bo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ne-of-a-kind objec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-of-a-kind objects are objects for which a single instance exis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-of-a-kind packages have the object state in their bo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reate a data type abstrac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so known as “Abstract Data Type” (AD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 ADT is a data type T (or family thereof) together with the operations that are allowed to manipulate objects of type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ing components of a packa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ly entities declared in the public part are visib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ntities are referenced through the dot not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714920" y="2428920"/>
          <a:ext cx="2071800" cy="10065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500120" y="2428920"/>
          <a:ext cx="2214720" cy="10065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b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643280" y="3786120"/>
          <a:ext cx="2428920" cy="210348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Pub_Proc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1.Priv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500120" y="3720960"/>
          <a:ext cx="2214720" cy="10065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v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8" name="Picture 5" descr="stop.jpg"/>
          <p:cNvPicPr/>
          <p:nvPr/>
        </p:nvPicPr>
        <p:blipFill>
          <a:blip r:embed="rId1"/>
          <a:stretch/>
        </p:blipFill>
        <p:spPr>
          <a:xfrm>
            <a:off x="4427640" y="5084640"/>
            <a:ext cx="2156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 uni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child unit is an extension of a packa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an be used to organize the namespace or break big packages into piec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hild units have visibility over paren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enerally speaking, it’s a good habit to split functionality into packages as much as possibl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71920" y="2565360"/>
          <a:ext cx="2071800" cy="8636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85840" y="3494160"/>
          <a:ext cx="2071440" cy="8636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1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571920" y="3565440"/>
          <a:ext cx="2071800" cy="8636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2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6786720" y="3494160"/>
          <a:ext cx="2071440" cy="8636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3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000240" y="4559400"/>
          <a:ext cx="3500640" cy="86364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2-grand_child.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.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.Grand_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dependencies (“with clause”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ith clause” defines a dependency between two packag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ives access to all the public declaration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an be applied to the spec or the bod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dependency is normally done to a specifica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pecification with” applies to the bod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pecification with” applies to childre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643200" y="4280040"/>
          <a:ext cx="2071800" cy="82224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500040" y="4280040"/>
          <a:ext cx="2214720" cy="71424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571920" y="5445000"/>
          <a:ext cx="2071800" cy="10065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714240" y="5445000"/>
          <a:ext cx="2071800" cy="10065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32" name="Connecteur droit avec flèche 17"/>
          <p:cNvCxnSpPr/>
          <p:nvPr/>
        </p:nvCxnSpPr>
        <p:spPr>
          <a:xfrm flipH="1" flipV="1">
            <a:off x="2714400" y="4922640"/>
            <a:ext cx="78624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333" name=""/>
          <p:cNvGraphicFramePr/>
          <p:nvPr/>
        </p:nvGraphicFramePr>
        <p:xfrm>
          <a:off x="6643800" y="3429000"/>
          <a:ext cx="2214360" cy="71424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34" name="Connecteur droit avec flèche 41"/>
          <p:cNvCxnSpPr/>
          <p:nvPr/>
        </p:nvCxnSpPr>
        <p:spPr>
          <a:xfrm flipV="1">
            <a:off x="2785680" y="4922640"/>
            <a:ext cx="78660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Connecteur droit avec flèche 42"/>
          <p:cNvCxnSpPr/>
          <p:nvPr/>
        </p:nvCxnSpPr>
        <p:spPr>
          <a:xfrm flipV="1">
            <a:off x="5785920" y="3571560"/>
            <a:ext cx="78660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Connecteur droit avec flèche 43"/>
          <p:cNvCxnSpPr/>
          <p:nvPr/>
        </p:nvCxnSpPr>
        <p:spPr>
          <a:xfrm flipV="1">
            <a:off x="5643720" y="3642840"/>
            <a:ext cx="1000800" cy="19296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stop.jpg"/>
          <p:cNvPicPr/>
          <p:nvPr/>
        </p:nvPicPr>
        <p:blipFill>
          <a:blip r:embed="rId1"/>
          <a:stretch/>
        </p:blipFill>
        <p:spPr>
          <a:xfrm>
            <a:off x="4211640" y="2205000"/>
            <a:ext cx="649440" cy="647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al dependencies (“limited with”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ircular dependencies between units are forbidden (to avoid illegal circular constructions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partial dependency (“limited with”) allows such circularity, but gives visibility over incomplete types declaration only (see later for more details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Regular “with clauses” can still be used in bodi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960800" y="1989000"/>
          <a:ext cx="3643560" cy="118908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erso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edic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cal_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_Info : Person.Person_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03360" y="1989000"/>
          <a:ext cx="3429000" cy="118908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c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erson_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_Info : Medical.Medical_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42" name="Forme libre 9"/>
          <p:cNvSpPr/>
          <p:nvPr/>
        </p:nvSpPr>
        <p:spPr>
          <a:xfrm>
            <a:off x="4086360" y="2027160"/>
            <a:ext cx="839520" cy="196920"/>
          </a:xfrm>
          <a:custGeom>
            <a:avLst/>
            <a:gdLst>
              <a:gd name="textAreaLeft" fmla="*/ 0 w 839520"/>
              <a:gd name="textAreaRight" fmla="*/ 839880 w 839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39449" h="196121">
                <a:moveTo>
                  <a:pt x="0" y="196121"/>
                </a:moveTo>
                <a:cubicBezTo>
                  <a:pt x="109928" y="106804"/>
                  <a:pt x="219856" y="17488"/>
                  <a:pt x="359764" y="8744"/>
                </a:cubicBezTo>
                <a:cubicBezTo>
                  <a:pt x="499672" y="0"/>
                  <a:pt x="759502" y="117423"/>
                  <a:pt x="839449" y="14365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rme libre 10"/>
          <p:cNvSpPr/>
          <p:nvPr/>
        </p:nvSpPr>
        <p:spPr>
          <a:xfrm rot="10800000">
            <a:off x="4121280" y="2758680"/>
            <a:ext cx="839520" cy="196920"/>
          </a:xfrm>
          <a:custGeom>
            <a:avLst/>
            <a:gdLst>
              <a:gd name="textAreaLeft" fmla="*/ 0 w 839520"/>
              <a:gd name="textAreaRight" fmla="*/ 839880 w 839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39449" h="196121">
                <a:moveTo>
                  <a:pt x="0" y="196121"/>
                </a:moveTo>
                <a:cubicBezTo>
                  <a:pt x="109928" y="106804"/>
                  <a:pt x="219856" y="17488"/>
                  <a:pt x="359764" y="8744"/>
                </a:cubicBezTo>
                <a:cubicBezTo>
                  <a:pt x="499672" y="0"/>
                  <a:pt x="759502" y="117423"/>
                  <a:pt x="839449" y="14365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035680" y="4508640"/>
          <a:ext cx="3929040" cy="118872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erso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edic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cal_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_Info :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.Person_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06200" y="4508640"/>
          <a:ext cx="4000680" cy="1188720"/>
        </p:xfrm>
        <a:graphic>
          <a:graphicData uri="http://schemas.openxmlformats.org/drawingml/2006/table">
            <a:tbl>
              <a:tblPr/>
              <a:tblGrid>
                <a:gridCol w="400068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c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erson_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_Info :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edical.Medical_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s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46" name="Forme libre 18"/>
          <p:cNvSpPr/>
          <p:nvPr/>
        </p:nvSpPr>
        <p:spPr>
          <a:xfrm>
            <a:off x="4160880" y="4546440"/>
            <a:ext cx="839880" cy="196920"/>
          </a:xfrm>
          <a:custGeom>
            <a:avLst/>
            <a:gdLst>
              <a:gd name="textAreaLeft" fmla="*/ 0 w 839880"/>
              <a:gd name="textAreaRight" fmla="*/ 840240 w 839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39449" h="196121">
                <a:moveTo>
                  <a:pt x="0" y="196121"/>
                </a:moveTo>
                <a:cubicBezTo>
                  <a:pt x="109928" y="106804"/>
                  <a:pt x="219856" y="17488"/>
                  <a:pt x="359764" y="8744"/>
                </a:cubicBezTo>
                <a:cubicBezTo>
                  <a:pt x="499672" y="0"/>
                  <a:pt x="759502" y="117423"/>
                  <a:pt x="839449" y="1436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rme libre 19"/>
          <p:cNvSpPr/>
          <p:nvPr/>
        </p:nvSpPr>
        <p:spPr>
          <a:xfrm rot="10800000">
            <a:off x="4195440" y="5277960"/>
            <a:ext cx="839880" cy="196920"/>
          </a:xfrm>
          <a:custGeom>
            <a:avLst/>
            <a:gdLst>
              <a:gd name="textAreaLeft" fmla="*/ 0 w 839880"/>
              <a:gd name="textAreaRight" fmla="*/ 840240 w 839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39449" h="196121">
                <a:moveTo>
                  <a:pt x="0" y="196121"/>
                </a:moveTo>
                <a:cubicBezTo>
                  <a:pt x="109928" y="106804"/>
                  <a:pt x="219856" y="17488"/>
                  <a:pt x="359764" y="8744"/>
                </a:cubicBezTo>
                <a:cubicBezTo>
                  <a:pt x="499672" y="0"/>
                  <a:pt x="759502" y="117423"/>
                  <a:pt x="839449" y="1436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cy shortcut (“use clause”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efix may be overkil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“use clause” allows to omit i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introduce ambiguit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be placed in any sco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71720" y="3375000"/>
          <a:ext cx="2643120" cy="118908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4643280" y="3252960"/>
          <a:ext cx="2428920" cy="320040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X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P1.Proc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P2.Proc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071720" y="4700520"/>
          <a:ext cx="2643120" cy="100656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3" name="Picture 5" descr="stop.jpg"/>
          <p:cNvPicPr/>
          <p:nvPr/>
        </p:nvPicPr>
        <p:blipFill>
          <a:blip r:embed="rId1"/>
          <a:stretch/>
        </p:blipFill>
        <p:spPr>
          <a:xfrm>
            <a:off x="4427640" y="422100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stop.jpg"/>
          <p:cNvPicPr/>
          <p:nvPr/>
        </p:nvPicPr>
        <p:blipFill>
          <a:blip r:embed="rId2"/>
          <a:stretch/>
        </p:blipFill>
        <p:spPr>
          <a:xfrm>
            <a:off x="4427640" y="5300640"/>
            <a:ext cx="2174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3T21:00:55Z</dcterms:modified>
  <cp:revision>116</cp:revision>
  <dc:subject/>
  <dc:title>Diapositive 1</dc:title>
</cp:coreProperties>
</file>