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20BECC0-D719-4AE0-93A9-1F13A491E23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52C299E-F217-4044-B50A-607178032C6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0944C87-9E97-4F5F-BB97-CF829B26EC7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ED3484D-51BD-412D-98A4-9F8E49DA2B9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95A6373-5828-447E-994C-5D081EAC0E7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3D2FD0A-DBFD-4658-ADC4-A3D325480F6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D9DED31-8F36-4DB2-8192-E4586221794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ature Comparison</a:t>
            </a:r>
            <a:endParaRPr b="1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 Language Revis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6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 Evolu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83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late 7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ANSI-MIL-STD-1815 Dec 10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ISO/8652-1987 Mar 12,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9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9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SO-standard OO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2005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revision (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2012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ISO standard of 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ming Structure, Modular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143000"/>
          <a:ext cx="7848720" cy="4449600"/>
        </p:xfrm>
        <a:graphic>
          <a:graphicData uri="http://schemas.openxmlformats.org/drawingml/2006/table">
            <a:tbl>
              <a:tblPr/>
              <a:tblGrid>
                <a:gridCol w="3924360"/>
                <a:gridCol w="981000"/>
                <a:gridCol w="981000"/>
                <a:gridCol w="981000"/>
                <a:gridCol w="981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mited with and mutually dependent spe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pa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param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/Cas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fied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out parameters for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143000"/>
          <a:ext cx="7848720" cy="5126040"/>
        </p:xfrm>
        <a:graphic>
          <a:graphicData uri="http://schemas.openxmlformats.org/drawingml/2006/table">
            <a:tbl>
              <a:tblPr/>
              <a:tblGrid>
                <a:gridCol w="3924360"/>
                <a:gridCol w="981000"/>
                <a:gridCol w="981000"/>
                <a:gridCol w="981000"/>
                <a:gridCol w="98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d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ed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inheritance of inter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d access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cess parameters, Access to sub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anonymous access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aggr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s of limite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hecked deal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types, Accessibility r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cessibility rules for anonymous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5800" y="1143000"/>
          <a:ext cx="7848720" cy="3662280"/>
        </p:xfrm>
        <a:graphic>
          <a:graphicData uri="http://schemas.openxmlformats.org/drawingml/2006/table">
            <a:tbl>
              <a:tblPr/>
              <a:tblGrid>
                <a:gridCol w="3924360"/>
                <a:gridCol w="981000"/>
                <a:gridCol w="981000"/>
                <a:gridCol w="981000"/>
                <a:gridCol w="98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 types, Distributed 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hronized inter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s, Timed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venscar profile, Scheduling poli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rocessor affinity, barr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-queue on synchronized inter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venscar for multiprocessor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tific Computing/Std Libraries/Character Suppor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1143000"/>
          <a:ext cx="7848720" cy="5033880"/>
        </p:xfrm>
        <a:graphic>
          <a:graphicData uri="http://schemas.openxmlformats.org/drawingml/2006/table">
            <a:tbl>
              <a:tblPr/>
              <a:tblGrid>
                <a:gridCol w="3924360"/>
                <a:gridCol w="981000"/>
                <a:gridCol w="981000"/>
                <a:gridCol w="981000"/>
                <a:gridCol w="98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/matrix libr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/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ary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unded Containers, holder containers, multiway t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-safe que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bit ASC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6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6/32 bit (full Unico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 encoding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9415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1-16T13:57:20Z</dcterms:modified>
  <cp:revision>101</cp:revision>
  <dc:subject/>
  <dc:title>Diapositive 1</dc:title>
</cp:coreProperties>
</file>