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B177-DC3C-4F04-94D8-0215FEBAD2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error. Even if the local result is temporary negative, the subtype check is performed only on the assig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D704-2D6B-41FC-AC9A-40444B89B1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_Error will be raised (“or” branch is always evaluate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06F1-9307-4809-BB38-454FB5D79A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print “caught it”. Here, no problem, the exception happens in the sequence of stat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F636-96A5-4C6A-A1AB-AB4094D826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print “caught it” followed by “last chance handler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F1C6-90F6-426F-8344-5D37FA1230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print “last chance handler”. Exceptions in the declarative region of a scope are not handled by the handler in the same sc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9F27-F375-4608-A7F6-87E7F20F28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31FC6C9-B17A-4CC8-995A-E9536F8611D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66ADB60-05B9-4C10-A8B5-E74801714CD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68BCE46-B712-4641-B0CE-1EFCE220BA9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FEE7B8D-4AE3-4586-BBC3-8272FC68552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28306D2-8506-4A4F-B310-2A789A4C2CF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BE9C331-396D-43E5-8419-3D94A467B31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3BFE665-F44B-4F5B-82C2-B6FE75EA122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eption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will be printed? (4/5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340000" y="1844640"/>
          <a:ext cx="4464000" cy="3382920"/>
        </p:xfrm>
        <a:graphic>
          <a:graphicData uri="http://schemas.openxmlformats.org/drawingml/2006/table">
            <a:tbl>
              <a:tblPr/>
              <a:tblGrid>
                <a:gridCol w="4464000"/>
              </a:tblGrid>
              <a:tr h="338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ext_IO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ext_IO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, C : Positiv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= 9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:=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B – A + 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straint_Error =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caught it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 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last chance handler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34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assignment result? (5/5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37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1692360" y="3284640"/>
          <a:ext cx="5832360" cy="1006200"/>
        </p:xfrm>
        <a:graphic>
          <a:graphicData uri="http://schemas.openxmlformats.org/drawingml/2006/table">
            <a:tbl>
              <a:tblPr/>
              <a:tblGrid>
                <a:gridCol w="5832360"/>
              </a:tblGrid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 : Integer := 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=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/= 0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 rais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vision_Error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hen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/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eption Declaration and Rais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da exceptions are a dedicated kind of entity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d with a scope and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d like a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 environment can raise predefined exception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_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_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_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203640" y="2435400"/>
          <a:ext cx="2736720" cy="27432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Exception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p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ual Exception Rais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n exception can be raised manually, and associated with a messag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a raise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a rais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type of the raise expression is determined from the 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2771640" y="2349360"/>
          <a:ext cx="3816360" cy="457200"/>
        </p:xfrm>
        <a:graphic>
          <a:graphicData uri="http://schemas.openxmlformats.org/drawingml/2006/table">
            <a:tbl>
              <a:tblPr/>
              <a:tblGrid>
                <a:gridCol w="381636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is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Exceptio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is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Exceptio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"My message"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2124000" y="3835440"/>
          <a:ext cx="5545080" cy="457200"/>
        </p:xfrm>
        <a:graphic>
          <a:graphicData uri="http://schemas.openxmlformats.org/drawingml/2006/table">
            <a:tbl>
              <a:tblPr/>
              <a:tblGrid>
                <a:gridCol w="554508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ouble (Op :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Valid (Op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Op * 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 rais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erval_Erro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11" name="Picture 7" descr="http://www.lehigh.edu/%7Eclb208/site/terremoto/Work_in_progress.svg.png"/>
          <p:cNvPicPr/>
          <p:nvPr/>
        </p:nvPicPr>
        <p:blipFill>
          <a:blip r:embed="rId1"/>
          <a:stretch/>
        </p:blipFill>
        <p:spPr>
          <a:xfrm>
            <a:off x="7956720" y="3284640"/>
            <a:ext cx="502920" cy="441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C:\Users\ochem\Desktop\ada2012png-black-transparent.png"/>
          <p:cNvPicPr/>
          <p:nvPr/>
        </p:nvPicPr>
        <p:blipFill>
          <a:blip r:embed="rId2"/>
          <a:stretch/>
        </p:blipFill>
        <p:spPr>
          <a:xfrm>
            <a:off x="7093080" y="3284640"/>
            <a:ext cx="76176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Exception can be caught at the end of any block of statement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everal exceptions can be handled by the same cod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042920" y="2276640"/>
          <a:ext cx="7345440" cy="1188720"/>
        </p:xfrm>
        <a:graphic>
          <a:graphicData uri="http://schemas.openxmlformats.org/drawingml/2006/table">
            <a:tbl>
              <a:tblPr/>
              <a:tblGrid>
                <a:gridCol w="3673440"/>
                <a:gridCol w="367200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some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y_Exception =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some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/ some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tc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My_Exception e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/ some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411280" y="4653000"/>
          <a:ext cx="4537080" cy="155412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some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straint_Error | Storage_Error =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some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code for all other excep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eptions Occurences and Rerais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n an exception block, the current exception can be re-rais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 is possible to manipulate the current occurrence by naming it, allowing to extract its message or re-raise an occurrence explicitl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556000" y="2133720"/>
          <a:ext cx="4464000" cy="822240"/>
        </p:xfrm>
        <a:graphic>
          <a:graphicData uri="http://schemas.openxmlformats.org/drawingml/2006/table">
            <a:tbl>
              <a:tblPr/>
              <a:tblGrid>
                <a:gridCol w="446400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i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56000" y="4581360"/>
          <a:ext cx="4464000" cy="1737000"/>
        </p:xfrm>
        <a:graphic>
          <a:graphicData uri="http://schemas.openxmlformats.org/drawingml/2006/table">
            <a:tbl>
              <a:tblPr/>
              <a:tblGrid>
                <a:gridCol w="4464000"/>
              </a:tblGrid>
              <a:tr h="173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a.Exceptions;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a.Exceptions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...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 : </a:t>
                      </a: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Exception_Message (E)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raise_Occurrence (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Quiz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22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3132000" y="2781360"/>
            <a:ext cx="79236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will be printed? (1/5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340000" y="1844640"/>
          <a:ext cx="4464000" cy="2952720"/>
        </p:xfrm>
        <a:graphic>
          <a:graphicData uri="http://schemas.openxmlformats.org/drawingml/2006/table">
            <a:tbl>
              <a:tblPr/>
              <a:tblGrid>
                <a:gridCol w="4464000"/>
              </a:tblGrid>
              <a:tr h="29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ext_IO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ext_IO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Positiv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-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straint_Error =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caught it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 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last chance handler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25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will be printed? (2/5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340000" y="1844640"/>
          <a:ext cx="4464000" cy="3017880"/>
        </p:xfrm>
        <a:graphic>
          <a:graphicData uri="http://schemas.openxmlformats.org/drawingml/2006/table">
            <a:tbl>
              <a:tblPr/>
              <a:tblGrid>
                <a:gridCol w="4464000"/>
              </a:tblGrid>
              <a:tr h="30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ext_IO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ext_IO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Positiv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-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straint_Error =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caught it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i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 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last chance handler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28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will be printed? (3/5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340000" y="1844640"/>
          <a:ext cx="4464000" cy="2952720"/>
        </p:xfrm>
        <a:graphic>
          <a:graphicData uri="http://schemas.openxmlformats.org/drawingml/2006/table">
            <a:tbl>
              <a:tblPr/>
              <a:tblGrid>
                <a:gridCol w="4464000"/>
              </a:tblGrid>
              <a:tr h="29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ext_IO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ext_IO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Positive := -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-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straint_Error =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caught it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 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last chance handler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31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388360" y="71280"/>
            <a:ext cx="554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35:52Z</dcterms:created>
  <dc:creator>ochem</dc:creator>
  <dc:description/>
  <dc:language>en-US</dc:language>
  <cp:lastModifiedBy>Vasiliy Fofanov</cp:lastModifiedBy>
  <dcterms:modified xsi:type="dcterms:W3CDTF">2013-09-24T20:40:51Z</dcterms:modified>
  <cp:revision>300</cp:revision>
  <dc:subject/>
  <dc:title>Diapositive 1</dc:title>
</cp:coreProperties>
</file>