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D6F39BD-6CFF-485A-BCF4-9B42BDF97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2CF2E35-1BFD-4BDD-B56E-3B2B3413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3BC1E597-8CBB-4170-A51E-31B8F58620BF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E64B47DD-E33E-4669-B942-C5E484D0780B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gnatpro-security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33760" cy="15303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072E53E-928C-4C23-AD77-0817EFC7DC34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" descr="sparkpro.png"/>
          <p:cNvPicPr/>
          <p:nvPr/>
        </p:nvPicPr>
        <p:blipFill>
          <a:blip r:embed="rId2"/>
          <a:stretch/>
        </p:blipFill>
        <p:spPr>
          <a:xfrm>
            <a:off x="1447920" y="2762280"/>
            <a:ext cx="6172200" cy="97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sparkpro-slogan.png"/>
          <p:cNvPicPr/>
          <p:nvPr/>
        </p:nvPicPr>
        <p:blipFill>
          <a:blip r:embed="rId3"/>
          <a:stretch/>
        </p:blipFill>
        <p:spPr>
          <a:xfrm>
            <a:off x="1066680" y="3809880"/>
            <a:ext cx="6858000" cy="4460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84E2D8BE-454F-495A-8EC5-F6874D417FC5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sparkprobb.png"/>
          <p:cNvPicPr/>
          <p:nvPr/>
        </p:nvPicPr>
        <p:blipFill>
          <a:blip r:embed="rId2"/>
          <a:stretch/>
        </p:blipFill>
        <p:spPr>
          <a:xfrm>
            <a:off x="549360" y="2819520"/>
            <a:ext cx="8045280" cy="7570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24C4D9FC-34F3-4E89-8DF1-235C65FB9A93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494571C0-1CB0-410A-92CA-2F7B797C1F36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3432CBC0-CEF5-41D1-89B4-10BDFE36DEB5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17F235F-6939-4BE3-8E4B-723E4C5FD9F2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F1FC06C8-6656-454F-B2C3-3D873ED4EC63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862E5BFE-20D2-4185-8353-CC4E8E726986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gnatpro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21160" cy="981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gnatpro-slogan.png"/>
          <p:cNvPicPr/>
          <p:nvPr/>
        </p:nvPicPr>
        <p:blipFill>
          <a:blip r:embed="rId3"/>
          <a:stretch/>
        </p:blipFill>
        <p:spPr>
          <a:xfrm>
            <a:off x="1905120" y="3884760"/>
            <a:ext cx="5257800" cy="458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9A88D87E-DE12-4C38-BF1B-A6287F3FC7AB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odepeer.png"/>
          <p:cNvPicPr/>
          <p:nvPr/>
        </p:nvPicPr>
        <p:blipFill>
          <a:blip r:embed="rId2"/>
          <a:stretch/>
        </p:blipFill>
        <p:spPr>
          <a:xfrm>
            <a:off x="1752480" y="2743200"/>
            <a:ext cx="5677200" cy="103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codepeer-slogan.png"/>
          <p:cNvPicPr/>
          <p:nvPr/>
        </p:nvPicPr>
        <p:blipFill>
          <a:blip r:embed="rId3"/>
          <a:stretch/>
        </p:blipFill>
        <p:spPr>
          <a:xfrm>
            <a:off x="1295280" y="3863880"/>
            <a:ext cx="6477120" cy="422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4274C844-D364-45EB-B8EC-819A4B1A7E78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gnatpro-safety.png"/>
          <p:cNvPicPr/>
          <p:nvPr/>
        </p:nvPicPr>
        <p:blipFill>
          <a:blip r:embed="rId2"/>
          <a:stretch/>
        </p:blipFill>
        <p:spPr>
          <a:xfrm>
            <a:off x="1903320" y="2743200"/>
            <a:ext cx="5335560" cy="15271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ing a BS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8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SP: Board Support Packa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e-Ada initializa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the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th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th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an environment for 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Board specific environmen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ocessor suppor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Ada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urpose: set-up an environment to execute Ada cod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 assembly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processor and board specific, here is an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 manufacturer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lternative: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bootloader/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your code initializatio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Ada Initialization: Rese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ode at reset vecto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r script needed to specify th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from ROM/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50920" y="4149720"/>
          <a:ext cx="4321080" cy="106668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section ".reset","ax"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_reset: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_start_rom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size _reset, . - _reset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5148360" y="4005360"/>
          <a:ext cx="3527280" cy="204156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(_start_rom)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 = 0xfffffffc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reset : AT (0xfffffffc)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EP(*(.reset))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7" name="Rounded Rectangular Callout 1"/>
          <p:cNvSpPr/>
          <p:nvPr/>
        </p:nvSpPr>
        <p:spPr>
          <a:xfrm>
            <a:off x="1835280" y="3141720"/>
            <a:ext cx="2808000" cy="611280"/>
          </a:xfrm>
          <a:prstGeom prst="wedgeRoundRectCallout">
            <a:avLst>
              <a:gd name="adj1" fmla="val -42893"/>
              <a:gd name="adj2" fmla="val 14001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ial sec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e and Executa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ular Callout 8"/>
          <p:cNvSpPr/>
          <p:nvPr/>
        </p:nvSpPr>
        <p:spPr>
          <a:xfrm>
            <a:off x="5292720" y="3068640"/>
            <a:ext cx="1366920" cy="431640"/>
          </a:xfrm>
          <a:prstGeom prst="wedgeRoundRectCallout">
            <a:avLst>
              <a:gd name="adj1" fmla="val -18055"/>
              <a:gd name="adj2" fmla="val 1949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ry poi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ounded Rectangular Callout 9"/>
          <p:cNvSpPr/>
          <p:nvPr/>
        </p:nvSpPr>
        <p:spPr>
          <a:xfrm>
            <a:off x="108000" y="6021360"/>
            <a:ext cx="2448000" cy="432000"/>
          </a:xfrm>
          <a:prstGeom prst="wedgeRoundRectCallout">
            <a:avLst>
              <a:gd name="adj1" fmla="val -3050"/>
              <a:gd name="adj2" fmla="val -29967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mp to reset cod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ounded Rectangular Callout 10"/>
          <p:cNvSpPr/>
          <p:nvPr/>
        </p:nvSpPr>
        <p:spPr>
          <a:xfrm>
            <a:off x="1763640" y="5445000"/>
            <a:ext cx="2448000" cy="432000"/>
          </a:xfrm>
          <a:prstGeom prst="wedgeRoundRectCallout">
            <a:avLst>
              <a:gd name="adj1" fmla="val -52814"/>
              <a:gd name="adj2" fmla="val -106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ze directiv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ular Callout 11"/>
          <p:cNvSpPr/>
          <p:nvPr/>
        </p:nvSpPr>
        <p:spPr>
          <a:xfrm>
            <a:off x="331920" y="3726000"/>
            <a:ext cx="1368360" cy="431640"/>
          </a:xfrm>
          <a:prstGeom prst="wedgeRoundRectCallout">
            <a:avLst>
              <a:gd name="adj1" fmla="val -2208"/>
              <a:gd name="adj2" fmla="val 15913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ry lab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ular Callout 12"/>
          <p:cNvSpPr/>
          <p:nvPr/>
        </p:nvSpPr>
        <p:spPr>
          <a:xfrm>
            <a:off x="4500720" y="6165720"/>
            <a:ext cx="2087280" cy="432000"/>
          </a:xfrm>
          <a:prstGeom prst="wedgeRoundRectCallout">
            <a:avLst>
              <a:gd name="adj1" fmla="val -2500"/>
              <a:gd name="adj2" fmla="val -21842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loc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Ada Initialization: PLLs, Memory banks, …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LL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at low frequency when powere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have an impact on bus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from ROM/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emory bank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 the memory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require internal logic initialization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ache setup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impact on perform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MU setup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be required to declare zone as uncache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powerpc: use B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PU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FPU (if an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Ada Initialization: Copy to RAM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Initialized data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copied from ROM to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, several sections (.data, .sdata, .sdata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ker script, flash address (load addr = lma) /= RAM address (virtual addr = v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eared data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co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as .bss (and .sbss, .sbss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erformance reasons: RAM accesses are faster than Flash ac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ht be needed when programming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very different from initializ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data cache flush / instruction cache in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Ada Initialization: Stack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t the stack pointe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reate an empty fram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You can now call Ada cod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979640" y="1700280"/>
          <a:ext cx="4321080" cy="72072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   %r1,__stack_end@h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i   %r1,%r1,__stack_end@l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835280" y="3357720"/>
          <a:ext cx="4321080" cy="82224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    %r0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wu  %r0,-16(1)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w   %r0,12(1)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835280" y="5013360"/>
          <a:ext cx="4321080" cy="57636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l ma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da Elabor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hunks of gnatbind generate file: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627280" y="1700280"/>
          <a:ext cx="5329440" cy="131112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in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xport (C, adainit, "adainit"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xport (C, main, "main"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324000" y="3933720"/>
          <a:ext cx="7200720" cy="22860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_Main_Program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mport (Ada, Ada_Main_Program, "_ada_sil4_main"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 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in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_Main_Program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6" name="Rounded Rectangular Callout 1"/>
          <p:cNvSpPr/>
          <p:nvPr/>
        </p:nvSpPr>
        <p:spPr>
          <a:xfrm>
            <a:off x="108000" y="1773360"/>
            <a:ext cx="2232000" cy="360360"/>
          </a:xfrm>
          <a:prstGeom prst="wedgeRoundRectCallout">
            <a:avLst>
              <a:gd name="adj1" fmla="val 65768"/>
              <a:gd name="adj2" fmla="val -4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aboration procedur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ular Callout 7"/>
          <p:cNvSpPr/>
          <p:nvPr/>
        </p:nvSpPr>
        <p:spPr>
          <a:xfrm>
            <a:off x="108000" y="2421000"/>
            <a:ext cx="2232000" cy="360360"/>
          </a:xfrm>
          <a:prstGeom prst="wedgeRoundRectCallout">
            <a:avLst>
              <a:gd name="adj1" fmla="val 64310"/>
              <a:gd name="adj2" fmla="val 344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y poin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ular Callout 8"/>
          <p:cNvSpPr/>
          <p:nvPr/>
        </p:nvSpPr>
        <p:spPr>
          <a:xfrm>
            <a:off x="3995640" y="5013360"/>
            <a:ext cx="3168720" cy="719280"/>
          </a:xfrm>
          <a:prstGeom prst="wedgeRoundRectCallout">
            <a:avLst>
              <a:gd name="adj1" fmla="val -95134"/>
              <a:gd name="adj2" fmla="val -67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y point: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elaboration procedure,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main subprogra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ular Callout 9"/>
          <p:cNvSpPr/>
          <p:nvPr/>
        </p:nvSpPr>
        <p:spPr>
          <a:xfrm>
            <a:off x="5651640" y="3500280"/>
            <a:ext cx="2233440" cy="360360"/>
          </a:xfrm>
          <a:prstGeom prst="wedgeRoundRectCallout">
            <a:avLst>
              <a:gd name="adj1" fmla="val -95189"/>
              <a:gd name="adj2" fmla="val 130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 main subprogra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lling Ada code before elabor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It may be easier to write HLL code for pre-initializa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are eas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code insertion provide low-leve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But you cannot call an Ada subprogram before its elabora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it Preelaborate doesn’t always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Using No_Elaboration_Code restriction help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re there is no elaboratio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C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403280" y="4221000"/>
          <a:ext cx="5761080" cy="130968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trictions (No_Elaboration_Code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55:05Z</dcterms:created>
  <dc:creator>Jose F. Ruiz</dc:creator>
  <dc:description/>
  <cp:keywords>Ravenscar GNAT Pro</cp:keywords>
  <dc:language>en-US</dc:language>
  <cp:lastModifiedBy>Office 2004 Test Drive User</cp:lastModifiedBy>
  <dcterms:modified xsi:type="dcterms:W3CDTF">2012-10-08T06:27:56Z</dcterms:modified>
  <cp:revision>76</cp:revision>
  <dc:subject>Ravenscar</dc:subject>
  <dc:title>Ravenscar Overview</dc:title>
</cp:coreProperties>
</file>