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23B8-AF12-45CF-AACB-4F9A91FF9D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5917-8F6C-4A50-B414-4C3C65AF2A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 : full view must be defin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completion of non-limited type cannot be limited, but component type C of type T is lim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parent of full type must descend from parent of private extension, but Grand_Chi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can only initialize with a constructor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completion of non-abstract type cannot be abs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constructor must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non-abstract type T has abstract subprogram 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im is hidden primitive of Root, so not overridden in full view that Call_Prim has access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834-B283-4200-8663-C094EA29E6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patches to a child primi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the package P.Constant is a private package, so it has visibility over the private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DD9-AB95-4339-91DA-FD14EA051A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 and One declarations are OK. However, One_Hundred is of type T2 which representation is in the private part of P.Other_Types. P.Constants does not have access to it and cannot write lit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CE4-646E-4F08-8E94-F26D2FD98B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vate part of P.Services has visibility over the private area of P, which includes the private sub pack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878-E8C8-4F4D-8192-EAA513A935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Constants.Advanced is a regular package, so it doesn’t reduce the visiblity. However, it’s a child of P.Constants, which sets the visibility of the hierarchy to the private part of P. Main doesn’t have access to that, even the with is illeg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F2E-0F67-4C68-B648-FA420CE997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s (can be mentioned in the partial view and not in the full 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bilities (can be mentioned in the full view and not in the partial 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nstraint and capabilites .. But some info anyway sometimes 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al view exposes constraints to the user of the pac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al view gives capabilities to the user of the pac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apability is provided on the partial view, it has to be provided by the full view as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nstraint is put on the full view, it has to be put on the partial view as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 : “private view” is confusing (in the slides of the stick …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view is the correct te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5147-7970-4E24-8CDD-EFF1768A3E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FADFAD1-F300-4443-A25F-B254BD414B0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24A0FA9-4D20-433B-B657-5751D3CECD1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B9DFEC5-6E88-429B-9D89-D11444532B9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2A3CFD6-7106-4538-BE70-79267467FBD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635D24F-7D40-4D7E-91C9-50C1EEB8C20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67F012D-8447-4DD1-B72A-D14A0E7D290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5F9C891-AEBB-463D-8AAD-525594CCC4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Privac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gged abstrac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440" y="114264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rtial view may be abstract even if Full view is no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Full view is abstract, Private view has to be so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bstract primitives have to be public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(otherwise, clients couldn’t derive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08000" y="2765520"/>
          <a:ext cx="5786640" cy="210348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ion idiom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possible to declare an object that can’t be copied, and has to be initialized through a constructor func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Helps keeping track of the object usag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71640" y="2708280"/>
          <a:ext cx="3571920" cy="21034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Incomplete Typ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ple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incomplete type is a premature view on a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pecify the typ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pecify the type 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pecify if the type is t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can be used in contexts where minimum representation information is required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claration of acces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bprograms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nly if the body has full visibility on the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ormal parameter of generics accepting an incomplet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get a Incomplete Type View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rom an explicit decla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rom a limited with (see section on package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rom an incomplete generic formal parameter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(see section on generic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771640" y="1773360"/>
          <a:ext cx="3571920" cy="1371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cces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_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771640" y="4869000"/>
          <a:ext cx="3571920" cy="155412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: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Completion Deferred to the Bod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the private part of a package, it is possible to defer the completion of an incomplete type to the bod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allows to completely hide the implementation of a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76360" y="4437000"/>
          <a:ext cx="2519280" cy="173664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140360" y="4437000"/>
          <a:ext cx="3671640" cy="137160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…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Private library unit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 units and privac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Normally, a child public part cannot access a parent private par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child units are units that can be only made accessible to the private descendance of their paren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private &amp;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iblings private &amp;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iblings public, private &amp;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hey’re used as “implementation details”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14240" y="173196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357720" y="1731960"/>
          <a:ext cx="2714400" cy="93024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1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X2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215040" y="15573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.X1 :=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14240" y="465300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357720" y="4653000"/>
          <a:ext cx="2714400" cy="93024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X2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215040" y="450864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oot.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.X1 :=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10" descr="stop.jpg"/>
          <p:cNvPicPr/>
          <p:nvPr/>
        </p:nvPicPr>
        <p:blipFill>
          <a:blip r:embed="rId1"/>
          <a:stretch/>
        </p:blipFill>
        <p:spPr>
          <a:xfrm>
            <a:off x="3203640" y="1916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stop.jpg"/>
          <p:cNvPicPr/>
          <p:nvPr/>
        </p:nvPicPr>
        <p:blipFill>
          <a:blip r:embed="rId2"/>
          <a:stretch/>
        </p:blipFill>
        <p:spPr>
          <a:xfrm>
            <a:off x="6084720" y="2421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stop.jpg"/>
          <p:cNvPicPr/>
          <p:nvPr/>
        </p:nvPicPr>
        <p:blipFill>
          <a:blip r:embed="rId3"/>
          <a:stretch/>
        </p:blipFill>
        <p:spPr>
          <a:xfrm>
            <a:off x="6012000" y="4724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stop.jpg"/>
          <p:cNvPicPr/>
          <p:nvPr/>
        </p:nvPicPr>
        <p:blipFill>
          <a:blip r:embed="rId4"/>
          <a:stretch/>
        </p:blipFill>
        <p:spPr>
          <a:xfrm>
            <a:off x="6012000" y="5373720"/>
            <a:ext cx="21564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te children &amp; dependenc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ivate package cannot be withed by a public pack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y can by a private child or a child bod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y can be private-with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nce something is private, it can never exit the private area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00040" y="1628640"/>
          <a:ext cx="2786040" cy="57168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357720" y="1628640"/>
          <a:ext cx="2714400" cy="12114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21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1 : Root.Child1.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2 : Root.Child1.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6215040" y="1628640"/>
          <a:ext cx="2571840" cy="1211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1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.X1 :=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00040" y="3357720"/>
          <a:ext cx="2786040" cy="57132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57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357720" y="3357720"/>
          <a:ext cx="2714400" cy="121104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21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oot.Child1.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X2 :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oot.Child1.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215040" y="3357720"/>
          <a:ext cx="2571840" cy="1211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1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.X1 :=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00040" y="5013360"/>
          <a:ext cx="2786040" cy="57132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57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357720" y="4929120"/>
          <a:ext cx="2714400" cy="1211400"/>
        </p:xfrm>
        <a:graphic>
          <a:graphicData uri="http://schemas.openxmlformats.org/drawingml/2006/table">
            <a:tbl>
              <a:tblPr/>
              <a:tblGrid>
                <a:gridCol w="2714400"/>
              </a:tblGrid>
              <a:tr h="121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.Child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1 : Root.Child1.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X2 :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oot.Child1.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215040" y="4929120"/>
          <a:ext cx="2571840" cy="1211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1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ot.Child.X1 := 1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10" descr="stop.jpg"/>
          <p:cNvPicPr/>
          <p:nvPr/>
        </p:nvPicPr>
        <p:blipFill>
          <a:blip r:embed="rId1"/>
          <a:stretch/>
        </p:blipFill>
        <p:spPr>
          <a:xfrm>
            <a:off x="3203640" y="2133720"/>
            <a:ext cx="216000" cy="214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stop.jpg"/>
          <p:cNvPicPr/>
          <p:nvPr/>
        </p:nvPicPr>
        <p:blipFill>
          <a:blip r:embed="rId2"/>
          <a:stretch/>
        </p:blipFill>
        <p:spPr>
          <a:xfrm>
            <a:off x="3203640" y="1628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stop.jpg"/>
          <p:cNvPicPr/>
          <p:nvPr/>
        </p:nvPicPr>
        <p:blipFill>
          <a:blip r:embed="rId3"/>
          <a:stretch/>
        </p:blipFill>
        <p:spPr>
          <a:xfrm>
            <a:off x="6012000" y="3500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stop.jpg"/>
          <p:cNvPicPr/>
          <p:nvPr/>
        </p:nvPicPr>
        <p:blipFill>
          <a:blip r:embed="rId4"/>
          <a:stretch/>
        </p:blipFill>
        <p:spPr>
          <a:xfrm>
            <a:off x="6012000" y="4149720"/>
            <a:ext cx="215640" cy="214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stop.jpg"/>
          <p:cNvPicPr/>
          <p:nvPr/>
        </p:nvPicPr>
        <p:blipFill>
          <a:blip r:embed="rId5"/>
          <a:stretch/>
        </p:blipFill>
        <p:spPr>
          <a:xfrm>
            <a:off x="6012000" y="573264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stop.jpg"/>
          <p:cNvPicPr/>
          <p:nvPr/>
        </p:nvPicPr>
        <p:blipFill>
          <a:blip r:embed="rId6"/>
          <a:stretch/>
        </p:blipFill>
        <p:spPr>
          <a:xfrm>
            <a:off x="3203640" y="5445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stop.jpg"/>
          <p:cNvPicPr/>
          <p:nvPr/>
        </p:nvPicPr>
        <p:blipFill>
          <a:blip r:embed="rId7"/>
          <a:stretch/>
        </p:blipFill>
        <p:spPr>
          <a:xfrm>
            <a:off x="3203640" y="242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stop.jpg"/>
          <p:cNvPicPr/>
          <p:nvPr/>
        </p:nvPicPr>
        <p:blipFill>
          <a:blip r:embed="rId8"/>
          <a:stretch/>
        </p:blipFill>
        <p:spPr>
          <a:xfrm>
            <a:off x="6012000" y="2421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ldren “inherit” from private properties of their parent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ivate property always refers to the direct par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ublic children of private packages stay private to the outside worl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ivate children of private packages restrain even more the accessibil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00080" y="4429080"/>
          <a:ext cx="2786040" cy="57168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4429080" y="3214800"/>
          <a:ext cx="3786120" cy="93024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 childr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 with forbidden outside of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429080" y="4214880"/>
          <a:ext cx="3786120" cy="93024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.Gran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 children</a:t>
                      </a:r>
                      <a:br>
                        <a:rPr sz="1100"/>
                      </a:b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--  with forbidden outside of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.Gran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429080" y="5214960"/>
          <a:ext cx="3786120" cy="121140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121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.Gran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.Child1 bo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with allowed on Root.Child1 child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 with forbidden outside of Root.Child1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--  with forbidden on Ro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 with forbidden on Root child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.Child1.Grand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ype View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8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03640" y="2781360"/>
            <a:ext cx="7268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0" y="2786040"/>
          <a:ext cx="4929120" cy="173664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286000" y="2786040"/>
          <a:ext cx="4357800" cy="210348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286000" y="2786040"/>
          <a:ext cx="5072040" cy="246852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86000" y="2786040"/>
          <a:ext cx="5072040" cy="192096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286000" y="2106720"/>
          <a:ext cx="5072040" cy="246852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2286000" y="4780080"/>
          <a:ext cx="5072040" cy="137160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286000" y="2786040"/>
          <a:ext cx="5072040" cy="192096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 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abstract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286000" y="2786040"/>
          <a:ext cx="5072040" cy="210348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286000" y="2786040"/>
          <a:ext cx="5072040" cy="210348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abstract tagged 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9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42960" y="1521000"/>
          <a:ext cx="3214800" cy="12110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21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42960" y="2857680"/>
          <a:ext cx="3214800" cy="185076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85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A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’Class (V).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3708360" y="4941720"/>
          <a:ext cx="1722600" cy="1616400"/>
        </p:xfrm>
        <a:graphic>
          <a:graphicData uri="http://schemas.openxmlformats.org/drawingml/2006/table">
            <a:tbl>
              <a:tblPr/>
              <a:tblGrid>
                <a:gridCol w="172260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_Prim (V1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_Prim (V2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357800" y="1527120"/>
          <a:ext cx="4429080" cy="10969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357800" y="2857680"/>
          <a:ext cx="4429080" cy="105084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05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B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bilities / Constraints of a type 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e called “Constraints” in a type declaration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e called “Capabilities” in a type decla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ge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10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2960" y="1521000"/>
          <a:ext cx="3214800" cy="12110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21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642960" y="2857680"/>
          <a:ext cx="3214800" cy="185076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85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A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’Class (V).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708360" y="4869000"/>
          <a:ext cx="1714680" cy="161604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61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_Prim (V1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_Prim (V2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357800" y="1527120"/>
          <a:ext cx="4429080" cy="10969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4357800" y="2857680"/>
          <a:ext cx="4429080" cy="105084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05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B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2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1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571760" y="1857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928960" y="4143240"/>
          <a:ext cx="3214800" cy="9302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w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One + On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357800" y="1857240"/>
          <a:ext cx="3643200" cy="7621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2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2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571680" y="1857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357720" y="1857240"/>
          <a:ext cx="3000240" cy="93024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Other_Type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0 .. 20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Other_Type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929120" y="3235320"/>
          <a:ext cx="4000680" cy="1600200"/>
        </p:xfrm>
        <a:graphic>
          <a:graphicData uri="http://schemas.openxmlformats.org/drawingml/2006/table">
            <a:tbl>
              <a:tblPr/>
              <a:tblGrid>
                <a:gridCol w="400068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Other_Types ;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Other_Type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T :=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_Hundred : T2 :=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3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3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71680" y="1857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3357720" y="1857240"/>
          <a:ext cx="2857320" cy="762120"/>
        </p:xfrm>
        <a:graphic>
          <a:graphicData uri="http://schemas.openxmlformats.org/drawingml/2006/table">
            <a:tbl>
              <a:tblPr/>
              <a:tblGrid>
                <a:gridCol w="285732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929120" y="3235320"/>
          <a:ext cx="4000680" cy="1432080"/>
        </p:xfrm>
        <a:graphic>
          <a:graphicData uri="http://schemas.openxmlformats.org/drawingml/2006/table">
            <a:tbl>
              <a:tblPr/>
              <a:tblGrid>
                <a:gridCol w="40006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Service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ute (X : T; Y : T := Zero)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Service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3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4/14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5840" y="200016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000240" y="2001960"/>
          <a:ext cx="2714760" cy="761760"/>
        </p:xfrm>
        <a:graphic>
          <a:graphicData uri="http://schemas.openxmlformats.org/drawingml/2006/table">
            <a:tbl>
              <a:tblPr/>
              <a:tblGrid>
                <a:gridCol w="271476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 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5929200" y="2001960"/>
          <a:ext cx="3000600" cy="76176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.Advance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i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9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n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.Advance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143160" y="4068720"/>
          <a:ext cx="3229200" cy="1600200"/>
        </p:xfrm>
        <a:graphic>
          <a:graphicData uri="http://schemas.openxmlformats.org/drawingml/2006/table">
            <a:tbl>
              <a:tblPr/>
              <a:tblGrid>
                <a:gridCol w="322920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.Advanced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.Advance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T := Ten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4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al vs full view of a typ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440" y="114264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FULL view of a type provide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t least all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apabilities </a:t>
            </a:r>
            <a:br>
              <a:rPr sz="2000"/>
            </a:b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PARTIAL view declares to hav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ies can be mentioned in the full view and not in the parti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PARTIAL view of a type provide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t least all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onstraints</a:t>
            </a:r>
            <a:br>
              <a:rPr sz="2000"/>
            </a:b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FULL view declares to hav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can be mentioned in the partial view and not in the ful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476360" y="4519440"/>
          <a:ext cx="6572160" cy="20656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06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t least as many constraints as [2], can add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t most as many capabilities as [2], can provide 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t most as many constraints as [1], can have 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t least as many capabilities as [1], can provide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rimina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iscriminants with no default must be declared both on the partial and full view 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iscriminants with default (in the full view) may be omitted by the partial view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143080" y="1989000"/>
          <a:ext cx="5786640" cy="160020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124000" y="4446720"/>
          <a:ext cx="5786640" cy="193500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19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V : Integer := 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V : Integer := 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(V : Integer := 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known constrai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possible to establish that the type is unconstrained without any more inform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strained and unconstrained types can complete the private decla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619280" y="3933720"/>
          <a:ext cx="5786280" cy="24685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imited property can apply only to the partial view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the full view is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implicitly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limited, the partial view has to be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explicitly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limi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571760" y="3357720"/>
          <a:ext cx="5786280" cy="320040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gged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142640"/>
            <a:ext cx="82072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f the partial view is tagged, the full view has to be tagg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partial view can hide the fact that the type is tagged in the full view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imitives can be either public or private, except when they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Arial"/>
              </a:rPr>
              <a:t>have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to be derived 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(constructor functions or abstract subprograms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63640" y="2637000"/>
          <a:ext cx="5786640" cy="246852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24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gged extens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partial view may declare an extens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actual extension can be done on the same type, or on any of its childre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692360" y="3357720"/>
          <a:ext cx="5786280" cy="24685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with privat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5-28T22:49:48Z</dcterms:modified>
  <cp:revision>157</cp:revision>
  <dc:subject/>
  <dc:title>Diapositive 1</dc:title>
</cp:coreProperties>
</file>