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169F-1132-47D8-87CA-0AC37DA2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  May require elaboration code.  J will be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F82-D9DB-4B2F-B427-D6AE7BDC16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V is already decl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C213-EA76-4164-8A4E-5F596FD8E2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V is already decl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A407-6FDC-4F12-880A-B3DACC924D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V is used before end of declaration.  Obvious in this case, but may be more intric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42C7-411F-40A6-99EF-097FBBDD63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V used before being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E1D3-9D08-4E58-AEA3-774D9321A2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A7D-269F-46FB-9658-EBD4E9EAEE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  Numeric literal cannot end with a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BF8-7C26-4B59-B8D8-A445999550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.  Ada is case insen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A9B0-8B07-4D86-80A9-38DB61E5ED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.  Double underscores not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B5DC-FB3E-40FB-AAB6-58C6899259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.  Identifiers cannot start with an undersc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0A1-2DAD-4B2B-9825-23BE710144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92F-A1A0-4691-A15F-D7FA0495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02AA329-0050-4E3F-B7A1-A5773B5BB9C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C3DF218-31DC-4D1E-B803-E25763222DB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9024091-1762-4A00-BDA4-EA153A02919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E5BBADA-E3C1-40AC-8D40-88E95DA415F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8642C0E-9AED-48C3-B9A4-CC770811F51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20C722F-F8C1-43C3-AC2D-01EE5E09150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B7984EB-71DD-4335-958D-8C29F26388E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 Declarat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Question-mark-blue-glossy-button.gif"/>
          <p:cNvPicPr/>
          <p:nvPr/>
        </p:nvPicPr>
        <p:blipFill>
          <a:blip r:embed="rId1"/>
          <a:stretch/>
        </p:blipFill>
        <p:spPr>
          <a:xfrm>
            <a:off x="2700360" y="2276640"/>
            <a:ext cx="1743120" cy="1728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: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V + 4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eal := 5.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0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V +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3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V *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6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484360" y="3213000"/>
          <a:ext cx="3591000" cy="8226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Natural := V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49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484360" y="3213000"/>
          <a:ext cx="4175280" cy="45720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ClassRoom : Natural := classroom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8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484360" y="3213000"/>
          <a:ext cx="4175280" cy="27468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__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da identifiers are case insensitiv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LLO = hello = H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art with a lett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Ends with a letter or a numb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May contain non-consecutive underscor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Which of the following are legal?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y__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_Hel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_67_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_CONS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9_A_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P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06" name="Picture 4" descr="Question-mark-blue-glossy-button.gif"/>
          <p:cNvPicPr/>
          <p:nvPr/>
        </p:nvPicPr>
        <p:blipFill>
          <a:blip r:embed="rId1"/>
          <a:stretch/>
        </p:blipFill>
        <p:spPr>
          <a:xfrm>
            <a:off x="468360" y="3429000"/>
            <a:ext cx="5522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484360" y="3213000"/>
          <a:ext cx="4175280" cy="27468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_my_value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9640" y="44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a provides end of line comments with --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re is no block comment (/* */)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071720" y="2000160"/>
          <a:ext cx="7167240" cy="371520"/>
        </p:xfrm>
        <a:graphic>
          <a:graphicData uri="http://schemas.openxmlformats.org/drawingml/2006/table">
            <a:tbl>
              <a:tblPr/>
              <a:tblGrid>
                <a:gridCol w="3584520"/>
                <a:gridCol w="3582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an Ada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This is a C++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underscore is allowed for number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_000_000 = 1000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Numbers can be expressed with a base (from 2 to 16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#255# = 2#1111_1111# = 8#377# = 16#FF#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Numbers can be defined with an exponentiation par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#1#E8 = 25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E8 = 200000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Float literals must have a do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 a digit before and after the do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l of this can be combined and is working for float literals as well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#11.1#E2 = 14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Exponent is always a 10-based integ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s declara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Defined by one (or several) names, followed by :, followed by type reference and possibly an initial value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Elaboration is done sequentially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Initialization is called for each variable individually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:=“ on a declaration is an initialization, not an assignment (special properties, mentioned later)</a:t>
            </a: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76320" y="1916280"/>
          <a:ext cx="7167600" cy="8222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5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:= 7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, E : Integer := F 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5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= 78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 = F (5), e = F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357200" y="328464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Integer := D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MPILA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332000" y="465300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Float := Compute_New_Random;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equivalent to: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Compute_New_Random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Float := Compute_New_Rando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7" name="Picture 7" descr="stop.jpg"/>
          <p:cNvPicPr/>
          <p:nvPr/>
        </p:nvPicPr>
        <p:blipFill>
          <a:blip r:embed="rId1"/>
          <a:stretch/>
        </p:blipFill>
        <p:spPr>
          <a:xfrm>
            <a:off x="1187280" y="3716280"/>
            <a:ext cx="14472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ic valu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No need to give the size – deduced from the contex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’s possible to declare “named numbers” with infinite precis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76320" y="2122560"/>
          <a:ext cx="7167600" cy="37152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Long_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 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976320" y="3635280"/>
          <a:ext cx="7167600" cy="173700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N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.0 / 3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 : Float := N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: Long_Float := NN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3 : Long_Long_Float := N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equals 3.33333333333333333E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4 : Long_Long_Float :=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equals 3.33333343267440796E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NN 1.0 / 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= N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2 = NN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3 = N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4 =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larative block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clarations can only occur in declarative par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atements can only occur in the statement par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Arial"/>
              </a:rPr>
              <a:t>Sub-declaration blocks can be introduced by « declare »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28800" y="4583160"/>
          <a:ext cx="7167600" cy="100656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 Integer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= A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++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efines a declaration lifetim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scope from an object goes from its declaration point to the corresponding “end”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76320" y="2781360"/>
          <a:ext cx="7167600" cy="210348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210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 Integer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d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B : Integer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d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B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MPILA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8" name="Picture 4" descr="stop.jpg"/>
          <p:cNvPicPr/>
          <p:nvPr/>
        </p:nvPicPr>
        <p:blipFill>
          <a:blip r:embed="rId1"/>
          <a:stretch/>
        </p:blipFill>
        <p:spPr>
          <a:xfrm>
            <a:off x="826920" y="4508640"/>
            <a:ext cx="14472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ibilit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Nested scopes can “hide” declarations from outer sco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ith named scopes, it’s still possible to have access to outer enti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28800" y="1700280"/>
          <a:ext cx="7167600" cy="2103480"/>
        </p:xfrm>
        <a:graphic>
          <a:graphicData uri="http://schemas.openxmlformats.org/drawingml/2006/table">
            <a:tbl>
              <a:tblPr/>
              <a:tblGrid>
                <a:gridCol w="3582720"/>
                <a:gridCol w="3584880"/>
              </a:tblGrid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 Integer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eferences to the outer A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A : Floa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eferences to the inner A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references to the oute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references to the inne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203640" y="4898880"/>
          <a:ext cx="2492280" cy="1554480"/>
        </p:xfrm>
        <a:graphic>
          <a:graphicData uri="http://schemas.openxmlformats.org/drawingml/2006/table">
            <a:tbl>
              <a:tblPr/>
              <a:tblGrid>
                <a:gridCol w="2492280"/>
              </a:tblGrid>
              <a:tr h="155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A : Float;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B : Integer;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A := Outer.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2T10:23:58Z</dcterms:modified>
  <cp:revision>47</cp:revision>
  <dc:subject/>
  <dc:title>Diapositive 1</dc:title>
</cp:coreProperties>
</file>