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4902-2AF6-4478-A4C7-4CD09C9548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and il faudra passer d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n type tableau à un type record, le code utilisateur ne changera p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587B-601E-4648-A5CC-316619582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21CD-6B6B-443E-92A7-7A873D0C60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- what's the result float  *? A pointer? An array? Which size? Can it be nu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- same question for the int * par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- what’s the relationship between size and tab? What if size is nu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- the iteration goes one index to far, should be j &lt;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- the assignment in the array is wrong / tab is the input and tab2 the result, not the other way a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- is the division an integer or float multiplication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 - the return address is on the stack, not the he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A7BE-8256-4B19-9919-717BE35B03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9B0D816-9242-49CE-8512-1CA8E3C3745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3A52A0F-BD5E-4381-94A1-4173E4864D6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71CB5DD-8DFB-4498-A5F0-D4B07921911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D70BAB6-1A2E-4152-8B2B-BB3F895A289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42E6438-E9E2-40B0-9B60-7D88E0768F5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E2A651C-0309-42AF-A4EB-7A25678CE40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5DF523E-D9EF-443E-B184-370723E7BBD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 to Ada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Now on to a Few (Final) Claim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da is a general purpose languag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t contains all features of modern programming languages (encapsulation, object orientation, genericity, tasking…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t may hurt, but you can consider it as general-purpose as C++ / Java / C#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da is a modern languag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fined in 83, revised in 95, 2005 and 20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da is easy to learn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t may hurt, but you can consider it to the same level of complexity as C++ / Java / C#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da is efficien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t may hurt, but you can consider it to the same order of efficiency as C++ or other native langua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80880" y="2666520"/>
            <a:ext cx="838224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15 Minutes Overview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ong Typing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type is a semantic entity, independent from its implement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trong typing forbids implicit conversion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Values are checked at run-time (can be deactivated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55640" y="2708280"/>
          <a:ext cx="7848720" cy="155412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Kilometers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loat;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iles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_1 : Miles := 5.0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_2 : Kilometers := 1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 : Kilometers := Length_1 + Length_2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755640" y="5732640"/>
          <a:ext cx="7848720" cy="57924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co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new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20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Math_Score : Score := 2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44" name="Picture 5" descr="stop.jpg"/>
          <p:cNvPicPr/>
          <p:nvPr/>
        </p:nvPicPr>
        <p:blipFill>
          <a:blip r:embed="rId1"/>
          <a:stretch/>
        </p:blipFill>
        <p:spPr>
          <a:xfrm>
            <a:off x="395280" y="3933720"/>
            <a:ext cx="2890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ong typing (continued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Enumeration has a dedicated semantic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50920" y="2349360"/>
          <a:ext cx="8675640" cy="2286000"/>
        </p:xfrm>
        <a:graphic>
          <a:graphicData uri="http://schemas.openxmlformats.org/drawingml/2006/table">
            <a:tbl>
              <a:tblPr/>
              <a:tblGrid>
                <a:gridCol w="4338720"/>
                <a:gridCol w="4336920"/>
              </a:tblGrid>
              <a:tr h="2286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lo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(Red, Blue, White, Green, Black, Yellow)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irecti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North, South, East, Wes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gh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Green, Yellow, Red)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: Color := Red;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This is the Red from Color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: Light := Red;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This is the Red from L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:= L;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This is not permit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:= North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This is not permit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l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Red, Blue, White, Green, Black, Yellow}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irection {North, South, East, West)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 C = Re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= West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/ Ok, but what does it mea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= 666;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/ Ok, but what does it mean?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48" name="Picture 5" descr="stop.jpg"/>
          <p:cNvPicPr/>
          <p:nvPr/>
        </p:nvPicPr>
        <p:blipFill>
          <a:blip r:embed="rId1"/>
          <a:stretch/>
        </p:blipFill>
        <p:spPr>
          <a:xfrm>
            <a:off x="108000" y="4221000"/>
            <a:ext cx="142920" cy="144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stop.jpg"/>
          <p:cNvPicPr/>
          <p:nvPr/>
        </p:nvPicPr>
        <p:blipFill>
          <a:blip r:embed="rId2"/>
          <a:stretch/>
        </p:blipFill>
        <p:spPr>
          <a:xfrm>
            <a:off x="108000" y="4373640"/>
            <a:ext cx="14292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rrays can be indexed by any discrete types (integers, enumeration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First and Last index can be specified at declaration tim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uffer overflows are checked at run-tim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re is an array literal (aggregate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755640" y="4222800"/>
          <a:ext cx="7848720" cy="179856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ome_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lor_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olo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1 : Some_Array (10 .. 11) := (666, 777)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2 : Color_Array (Red .. Green) := (Red =&gt; 0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1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1 (9) := 0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Exception raised, Index out of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ameter mod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ree parameter modes : in (input), out (output) and in-out (input/output)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correct parameter usage is checked at compile-tim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compiler decides if it has to be passed by reference or by copy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at’s a case of explicit pointer avoidanc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84360" y="2924280"/>
          <a:ext cx="7848360" cy="106668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_Something </a:t>
                      </a:r>
                      <a:br>
                        <a:rPr sz="1600"/>
                      </a:b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(P1 :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Integer; 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P1 can't be changed </a:t>
                      </a:r>
                      <a:br>
                        <a:rPr sz="1600"/>
                      </a:b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P2 :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Integer; 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No initial value for P2</a:t>
                      </a:r>
                      <a:br>
                        <a:rPr sz="1600"/>
                      </a:b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P3 :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P3 can be chang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684360" y="5010120"/>
          <a:ext cx="7848360" cy="5796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o_Something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(P1 :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Huge_Structure)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–- Passed by reference if too b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ckage Architectur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040"/>
                </a:solidFill>
                <a:latin typeface="Arial"/>
              </a:rPr>
              <a:t>Specification and Implementation are separat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5280" y="1989000"/>
          <a:ext cx="4176720" cy="179892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179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(V : Integer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3995640" y="4437000"/>
          <a:ext cx="4672080" cy="2041560"/>
        </p:xfrm>
        <a:graphic>
          <a:graphicData uri="http://schemas.openxmlformats.org/drawingml/2006/table">
            <a:tbl>
              <a:tblPr/>
              <a:tblGrid>
                <a:gridCol w="4672080"/>
              </a:tblGrid>
              <a:tr h="204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(V : Integer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ivac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package contains only a well-identified public and private par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user can concentrate on only one part of the fil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187280" y="3174840"/>
          <a:ext cx="6985080" cy="277344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277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(V : Integer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(V : out Integer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Array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1 .. 1000)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rrent_Pos : 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ivate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private type can be implemented by any data structur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User code does not rely on the actual represent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611280" y="2276640"/>
          <a:ext cx="7921440" cy="2773080"/>
        </p:xfrm>
        <a:graphic>
          <a:graphicData uri="http://schemas.openxmlformats.org/drawingml/2006/table">
            <a:tbl>
              <a:tblPr/>
              <a:tblGrid>
                <a:gridCol w="7921440"/>
              </a:tblGrid>
              <a:tr h="27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600"/>
                      </a:b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(S : A_Stack; V : Integer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(S : A_Stack; V :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1 .. 1000)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ta represent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040"/>
                </a:solidFill>
                <a:latin typeface="Arial"/>
              </a:rPr>
              <a:t>Allows to optimize memory usag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040"/>
                </a:solidFill>
                <a:latin typeface="Arial"/>
              </a:rPr>
              <a:t>Allows to precisely map data</a:t>
            </a:r>
            <a:br>
              <a:rPr sz="2400"/>
            </a:br>
            <a:r>
              <a:rPr b="1" lang="fr-FR" sz="2400" spc="-1" strike="noStrike">
                <a:solidFill>
                  <a:srgbClr val="40404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627280" y="2492280"/>
          <a:ext cx="4321080" cy="3017880"/>
        </p:xfrm>
        <a:graphic>
          <a:graphicData uri="http://schemas.openxmlformats.org/drawingml/2006/table">
            <a:tbl>
              <a:tblPr/>
              <a:tblGrid>
                <a:gridCol w="4321080"/>
              </a:tblGrid>
              <a:tr h="301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ize_T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23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Header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ze     : Size_T;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_Next : Boolean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Header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ze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_Next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6 .. 6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 Icon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5" name="Picture 2" descr="http://www.lehigh.edu/~clb208/site/terremoto/Work_in_progress.svg.png"/>
          <p:cNvPicPr/>
          <p:nvPr/>
        </p:nvPicPr>
        <p:blipFill>
          <a:blip r:embed="rId1"/>
          <a:stretch/>
        </p:blipFill>
        <p:spPr>
          <a:xfrm>
            <a:off x="324000" y="907920"/>
            <a:ext cx="3456000" cy="3027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Question-mark-blue-glossy-button.gif"/>
          <p:cNvPicPr/>
          <p:nvPr/>
        </p:nvPicPr>
        <p:blipFill>
          <a:blip r:embed="rId2"/>
          <a:stretch/>
        </p:blipFill>
        <p:spPr>
          <a:xfrm>
            <a:off x="4788000" y="1268280"/>
            <a:ext cx="1743120" cy="1729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http://www.clker.com/cliparts/7/e/4/2/124223856074483192Biohazard_orange.svg.hi.png"/>
          <p:cNvPicPr/>
          <p:nvPr/>
        </p:nvPicPr>
        <p:blipFill>
          <a:blip r:embed="rId3"/>
          <a:stretch/>
        </p:blipFill>
        <p:spPr>
          <a:xfrm>
            <a:off x="5364000" y="3357720"/>
            <a:ext cx="2953080" cy="2950920"/>
          </a:xfrm>
          <a:prstGeom prst="rect">
            <a:avLst/>
          </a:prstGeom>
          <a:ln w="0">
            <a:noFill/>
          </a:ln>
        </p:spPr>
      </p:pic>
      <p:sp>
        <p:nvSpPr>
          <p:cNvPr id="30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1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3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4" descr="C:\Users\ochem\Desktop\fetchUID.INBOX.ochem57348"/>
          <p:cNvPicPr/>
          <p:nvPr/>
        </p:nvPicPr>
        <p:blipFill>
          <a:blip r:embed="rId4"/>
          <a:stretch/>
        </p:blipFill>
        <p:spPr>
          <a:xfrm>
            <a:off x="2052720" y="443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stop.jpg"/>
          <p:cNvPicPr/>
          <p:nvPr/>
        </p:nvPicPr>
        <p:blipFill>
          <a:blip r:embed="rId5"/>
          <a:stretch/>
        </p:blipFill>
        <p:spPr>
          <a:xfrm>
            <a:off x="3276720" y="1052640"/>
            <a:ext cx="1077840" cy="10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Genericit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040"/>
                </a:solidFill>
                <a:latin typeface="Arial"/>
              </a:rPr>
              <a:t>Instantiation has to be explici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50920" y="2492280"/>
          <a:ext cx="8675640" cy="2103480"/>
        </p:xfrm>
        <a:graphic>
          <a:graphicData uri="http://schemas.openxmlformats.org/drawingml/2006/table">
            <a:tbl>
              <a:tblPr/>
              <a:tblGrid>
                <a:gridCol w="4338720"/>
                <a:gridCol w="433692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Integer)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Integer)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1.V := 5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2.V := 6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empl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&gt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V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&lt;int&gt;::V =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&lt;int&gt;::V = 6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urrent Programming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reads and semaphores are first class citizen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556000" y="2205000"/>
          <a:ext cx="4338360" cy="3565440"/>
        </p:xfrm>
        <a:graphic>
          <a:graphicData uri="http://schemas.openxmlformats.org/drawingml/2006/table">
            <a:tbl>
              <a:tblPr/>
              <a:tblGrid>
                <a:gridCol w="4338360"/>
              </a:tblGrid>
              <a:tr h="356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ome_Task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--  Do something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pt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ome_Event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i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Do something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ome_Even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pt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ome_Other_Event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</a:t>
                      </a:r>
                      <a:r>
                        <a:rPr b="0" i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-  Do something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ome_Other_Event;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me_Task.Some_Even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nd more…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Object Orientation (including Java-like interfaces)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Exception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Low level programming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erialization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Language Interfacing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Programming by Contract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04040"/>
                </a:solidFill>
                <a:latin typeface="Arial"/>
              </a:rPr>
              <a:t>and more…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761760" y="114264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Declaration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Basic Typ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Statement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rray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Record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Subprogram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Exception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Packag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Privacy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ccess typ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724280" y="1142640"/>
            <a:ext cx="3810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Inheritanc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Dynamic Polymorphism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dvanced Acces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Limited Typ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dvanced Privacy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Multiple Inheritanc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Genericity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Life Cycl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Elaboration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Low Level and Interfacing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asking Introduction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Course Contents (Mileage May Vary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con Legend (1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IP – This feature is currently under development, requires at least a GNAT Pro wavefront to work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Hazard – This feature requires particular attention when used. Don’t let the instructor move on to something else until you understand!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Quiz – Verify your understanding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16" name="Picture 7" descr="http://www.lehigh.edu/%7Eclb208/site/terremoto/Work_in_progress.svg.png"/>
          <p:cNvPicPr/>
          <p:nvPr/>
        </p:nvPicPr>
        <p:blipFill>
          <a:blip r:embed="rId1"/>
          <a:stretch/>
        </p:blipFill>
        <p:spPr>
          <a:xfrm>
            <a:off x="539640" y="1187280"/>
            <a:ext cx="503280" cy="441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Question-mark-blue-glossy-button.gif"/>
          <p:cNvPicPr/>
          <p:nvPr/>
        </p:nvPicPr>
        <p:blipFill>
          <a:blip r:embed="rId2"/>
          <a:stretch/>
        </p:blipFill>
        <p:spPr>
          <a:xfrm>
            <a:off x="539640" y="4941720"/>
            <a:ext cx="554040" cy="549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http://www.clker.com/cliparts/7/e/4/2/124223856074483192Biohazard_orange.svg.hi.png"/>
          <p:cNvPicPr/>
          <p:nvPr/>
        </p:nvPicPr>
        <p:blipFill>
          <a:blip r:embed="rId3"/>
          <a:stretch/>
        </p:blipFill>
        <p:spPr>
          <a:xfrm>
            <a:off x="611280" y="3141720"/>
            <a:ext cx="43164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con Legend (2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a 2012 – Feature is partially or entirely specific to Ada 2012. This implies WIP for any compiler prior to 7.1.0.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GNAT-Specific – This is only provided by GNAT compiler, other Ada vendors may not support this functionality or support it differentl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dicates a compilation error or some other erroneous condi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21" name="Picture 7" descr="C:\Users\ochem\Desktop\ada2012png-black-transparent.png"/>
          <p:cNvPicPr/>
          <p:nvPr/>
        </p:nvPicPr>
        <p:blipFill>
          <a:blip r:embed="rId1"/>
          <a:stretch/>
        </p:blipFill>
        <p:spPr>
          <a:xfrm>
            <a:off x="250920" y="1268280"/>
            <a:ext cx="761760" cy="37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4" descr="C:\Users\ochem\Desktop\fetchUID.INBOX.ochem57348"/>
          <p:cNvPicPr/>
          <p:nvPr/>
        </p:nvPicPr>
        <p:blipFill>
          <a:blip r:embed="rId2"/>
          <a:stretch/>
        </p:blipFill>
        <p:spPr>
          <a:xfrm>
            <a:off x="334800" y="3141720"/>
            <a:ext cx="570240" cy="569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stop.jpg"/>
          <p:cNvPicPr/>
          <p:nvPr/>
        </p:nvPicPr>
        <p:blipFill>
          <a:blip r:embed="rId3"/>
          <a:stretch/>
        </p:blipFill>
        <p:spPr>
          <a:xfrm>
            <a:off x="250920" y="486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You Find the Seven Bugs?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763640" y="2389320"/>
          <a:ext cx="5977080" cy="301788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301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* compute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* tab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ize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ab2 [size]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* resu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j = 0; j &lt;= size; ++j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b [j] = tab2 [j] / 1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ult = tab2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su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26" name="Picture 5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in Ada?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755640" y="1884240"/>
          <a:ext cx="7848720" cy="399276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399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_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loat_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loat;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mpute (Tab : Int_Array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loat_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b2 : Float_Array (Tab'Range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J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ab'Rang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b (J) := Tab2 (J) / 1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ult : Float_Array := Tab2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 Resu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mput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29" name="Picture 4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content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is is a 20-ish chapters Ada 2012 clas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assumes that you know some Java or some C++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You need to be aware of the concepts of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s / po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s / gene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ome pieces of code will highlight the corresponding Java/C++ syntax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042920" y="5813280"/>
          <a:ext cx="7345440" cy="640080"/>
        </p:xfrm>
        <a:graphic>
          <a:graphicData uri="http://schemas.openxmlformats.org/drawingml/2006/table">
            <a:tbl>
              <a:tblPr/>
              <a:tblGrid>
                <a:gridCol w="3673440"/>
                <a:gridCol w="367200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’s be Hones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da is not the silver bullet to solve all the problems of the programming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t is possible (and easy) to write bad code in Ada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t is cumbersome and awkward to use Ada for things it has not been made for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but …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da is great for software reliability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da is great for software maintainability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da is great for software testability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da is great for software static analysi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da is great for formal proof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uld I use Ada?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 wouldn’t use Ada to develop a smartphone application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 wouldn’t use Ada to develop a video gam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but …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 would use it to develop an embedded application on a High Integrity device (Plane, Train, Space device, Medical device, Car…)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 would use it to develop an application that has to live 20 year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 would use it to develop an application that puts people’s lives at stake (Air Traffic Management, Railroad Signaling…)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Vasiliy Fofanov</cp:lastModifiedBy>
  <dcterms:modified xsi:type="dcterms:W3CDTF">2013-09-22T20:58:29Z</dcterms:modified>
  <cp:revision>97</cp:revision>
  <dc:subject/>
  <dc:title>Diapositive 1</dc:title>
</cp:coreProperties>
</file>