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523F-D1DF-4171-B3A9-C924532563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, Get is a function making an access to a private subpro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. T gets terminated at the end of Main, and skips any other sta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 (the then abort only aborts a specific piece of code, not everything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n’t compile – Replenish must have the same parameter as Remove_Items to work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SE TASK” repeatedly – since T1 doesn’t want to wait on the entry and T2 doesn’t want to wait on the cal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 – select entry calls can only call one entry at a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k. The barrier evaluates to False, and then is never reevaluated because no new entry call or protected procedure termination oc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inates correctly: call to O.P2 causes the barrier condition to be reevalu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FD29CCB-1579-4270-9001-6E2F23D164C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3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0287B93-B8BB-494C-80EE-890CA369A55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ADCFF93-129C-4168-A06B-B2CEACD5607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3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516D4F6-AECD-4CD8-A48D-1E5D5585D79B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3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64D0534-7DFD-45B2-BA3E-447CF12ECCF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3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981CBDB-EC03-4DF8-8C45-3A821E6F77B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3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FAB49B9-768A-4863-A8F1-C3A2A075D52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3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sking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sk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It is possible to create task typ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bjects can be instantiated on the stack or on the he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asks instantiated on the stack are activated at the end of the elaboration of their enclosing declarative part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 if they were declared the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asks instantiated on the heap are activated right away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asks are limited objects (no copies allowed)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050920" y="3500280"/>
          <a:ext cx="2160720" cy="1935360"/>
        </p:xfrm>
        <a:graphic>
          <a:graphicData uri="http://schemas.openxmlformats.org/drawingml/2006/table">
            <a:tbl>
              <a:tblPr/>
              <a:tblGrid>
                <a:gridCol w="2160720"/>
              </a:tblGrid>
              <a:tr h="1935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 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r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_A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p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r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5724360" y="3716280"/>
          <a:ext cx="2160720" cy="1432080"/>
        </p:xfrm>
        <a:graphic>
          <a:graphicData uri="http://schemas.openxmlformats.org/drawingml/2006/table">
            <a:tbl>
              <a:tblPr/>
              <a:tblGrid>
                <a:gridCol w="2160720"/>
              </a:tblGrid>
              <a:tr h="143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3 : A_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.Star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.Star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3 :=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3.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Star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cted object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Like tasks, protected objects can be defined through typ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Instantiation can then be done on the heap or the stack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Protected object types are limited typ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68360" y="3141720"/>
          <a:ext cx="3743280" cy="1600200"/>
        </p:xfrm>
        <a:graphic>
          <a:graphicData uri="http://schemas.openxmlformats.org/drawingml/2006/table">
            <a:tbl>
              <a:tblPr/>
              <a:tblGrid>
                <a:gridCol w="3743280"/>
              </a:tblGrid>
              <a:tr h="160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protected</a:t>
                      </a:r>
                      <a:r>
                        <a:rPr b="0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type</a:t>
                      </a:r>
                      <a:r>
                        <a:rPr b="0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sh (V : Intege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  (V :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uffer : Integer_Array (1 .. 1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ze : Integer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O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_Access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4643280" y="3141720"/>
          <a:ext cx="3745080" cy="2941560"/>
        </p:xfrm>
        <a:graphic>
          <a:graphicData uri="http://schemas.openxmlformats.org/drawingml/2006/table">
            <a:tbl>
              <a:tblPr/>
              <a:tblGrid>
                <a:gridCol w="3745080"/>
              </a:tblGrid>
              <a:tr h="2941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protected</a:t>
                      </a:r>
                      <a:r>
                        <a:rPr b="0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body</a:t>
                      </a:r>
                      <a:r>
                        <a:rPr b="0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sh (V : Integer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ize &lt; Buffer'Length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uffer (Size + 1) := V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ze := Size + 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  (V :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ize &gt; 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Buffer (Size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ze := Size – 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68360" y="5516640"/>
          <a:ext cx="3743280" cy="426960"/>
        </p:xfrm>
        <a:graphic>
          <a:graphicData uri="http://schemas.openxmlformats.org/drawingml/2006/table">
            <a:tbl>
              <a:tblPr/>
              <a:tblGrid>
                <a:gridCol w="374328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, V2 : O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3 : O_Access := </a:t>
                      </a:r>
                      <a:r>
                        <a:rPr b="1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ope of a task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asks can be nested in any declarative block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When nested in e.g. a subprogram, the task and the subprogram body have to finish before the subprogram end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asks declared at library level all have to finish before the program terminate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58920" y="4022640"/>
          <a:ext cx="6572160" cy="2286000"/>
        </p:xfrm>
        <a:graphic>
          <a:graphicData uri="http://schemas.openxmlformats.org/drawingml/2006/table">
            <a:tbl>
              <a:tblPr/>
              <a:tblGrid>
                <a:gridCol w="6572160"/>
              </a:tblGrid>
              <a:tr h="2286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tick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loo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80880" y="2666520"/>
            <a:ext cx="8382240" cy="8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ome Advanced Concepts…</a:t>
            </a:r>
            <a:endParaRPr b="1" lang="en-US" sz="4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iting on different entri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It is convenient to be able to accept several entri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lect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statements can wait simultaneously on a list of entries, and accept the first one that is requested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332000" y="2421000"/>
          <a:ext cx="6572160" cy="3139920"/>
        </p:xfrm>
        <a:graphic>
          <a:graphicData uri="http://schemas.openxmlformats.org/drawingml/2006/table">
            <a:tbl>
              <a:tblPr/>
              <a:tblGrid>
                <a:gridCol w="6572160"/>
              </a:tblGrid>
              <a:tr h="3139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tas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tr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Star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tr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Receive_Message (V : String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tr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Sto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tas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bod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accep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Star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  <a:ea typeface="MS PGothic"/>
                        </a:rPr>
                        <a:t>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accept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Receive_Message (V : String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Put_Line ("Message : " &amp; String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Receive_Message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accep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Sto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xi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selec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 loo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1332000" y="5805360"/>
          <a:ext cx="6572160" cy="701640"/>
        </p:xfrm>
        <a:graphic>
          <a:graphicData uri="http://schemas.openxmlformats.org/drawingml/2006/table">
            <a:tbl>
              <a:tblPr/>
              <a:tblGrid>
                <a:gridCol w="657216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.Star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.Receive_Message ("A"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.Receive_Message ("B"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.Sto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iting with a dela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lect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statement can wait for only a given amount of time, and then do something when tha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lay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is exceeded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 “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lay until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” statement can be used as well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re can be multiple delay statements </a:t>
            </a:r>
            <a:br>
              <a:rPr sz="2000"/>
            </a:b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(useful when the value is not hard-coded)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187280" y="1962000"/>
          <a:ext cx="6572520" cy="2835360"/>
        </p:xfrm>
        <a:graphic>
          <a:graphicData uri="http://schemas.openxmlformats.org/drawingml/2006/table">
            <a:tbl>
              <a:tblPr/>
              <a:tblGrid>
                <a:gridCol w="6572520"/>
              </a:tblGrid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tas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tr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Receive_Message (V : String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tas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bod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accept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Receive_Message (V : String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Put_Line ("Message : " &amp; String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Receive_Message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   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  <a:ea typeface="MS PGothic"/>
                        </a:rPr>
                        <a:t>delay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50.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Put_Line ("Don't wait any longer"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xi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selec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 loo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ing an entry with a delay protec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 call to an entry normally blocks the thread until the entry can be accepted by the task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 is possible to wait for a given amount of time us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lect … delay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statemen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Only one entry call is allow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No “accept statement” is allow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627280" y="2997360"/>
          <a:ext cx="3745080" cy="2073240"/>
        </p:xfrm>
        <a:graphic>
          <a:graphicData uri="http://schemas.openxmlformats.org/drawingml/2006/table">
            <a:tbl>
              <a:tblPr/>
              <a:tblGrid>
                <a:gridCol w="3745080"/>
              </a:tblGrid>
              <a:tr h="207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tas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tr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Receive_Message (V : String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Main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T.Receive_Message ("A"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dela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50.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selec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Main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oid waiting if no entry or accept can be take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 “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” part allows to avoid waiting if the accept statements or entries are not ready to be entered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No delay statement is allowed in this cas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627280" y="2492280"/>
          <a:ext cx="4176720" cy="411480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411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eive_Message (V : String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p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eive_Message (V : String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Received : " &amp; V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eive_Messag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Nothing to receive"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.Receive_Message ("A"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Receive message not called"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rminate alternativ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When waiting for an entry, if all other task dependent on the same master task (including the master task) are terminated, the entry can’t be called anymor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is can be detected by the “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r terminate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” alternative, which terminates the tasks if all other tasks are terminated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themselves waiting on “or terminate” select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Once reached, the task is terminated right away, no additional code is called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698920" y="4508640"/>
          <a:ext cx="3744720" cy="100620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p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ermin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ard expression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040"/>
                </a:solidFill>
                <a:latin typeface="Arial"/>
              </a:rPr>
              <a:t>The accept statement can be activated according to a guard condition</a:t>
            </a:r>
            <a:endParaRPr b="1" lang="en-US" sz="23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040"/>
                </a:solidFill>
                <a:latin typeface="Arial"/>
              </a:rPr>
              <a:t>This condition is evaluated when enter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select</a:t>
            </a:r>
            <a:endParaRPr b="1" lang="en-US" sz="23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411280" y="2781360"/>
          <a:ext cx="4248360" cy="3597120"/>
        </p:xfrm>
        <a:graphic>
          <a:graphicData uri="http://schemas.openxmlformats.org/drawingml/2006/table">
            <a:tbl>
              <a:tblPr/>
              <a:tblGrid>
                <a:gridCol w="4248360"/>
              </a:tblGrid>
              <a:tr h="3597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t (V : Integer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et (V :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: Integer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itialized : Boolean := False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p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t (V : Integer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:= V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itialized := True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Initialized =&g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p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et (V : out Integer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Val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e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elect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loo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Overview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cted object entries (1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Protected entries are a special kind of protected procedur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y can be defined using a barrier, a conditional expression allowing the entry to be called or not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 barriers are evaluated…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time a task request to call an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time a protected entry or procedure is ex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11280" y="4365720"/>
          <a:ext cx="3744720" cy="136692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136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tect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sh (V : Intege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  (V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uffer : Integer_Array (1 .. 1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ze : Integer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O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4932360" y="3727440"/>
          <a:ext cx="3743280" cy="2941560"/>
        </p:xfrm>
        <a:graphic>
          <a:graphicData uri="http://schemas.openxmlformats.org/drawingml/2006/table">
            <a:tbl>
              <a:tblPr/>
              <a:tblGrid>
                <a:gridCol w="3743280"/>
              </a:tblGrid>
              <a:tr h="2941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tect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sh (V : Integer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ize &lt; Buffer'Length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uffer (Size + 1) := V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ze := Size + 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  (V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ize &gt; 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Buffer (Size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ze := Size – 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cted object entries (2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everal tasks can be waiting on entri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Only one task is reactivated when the barrier is relieved, depending on the activation polic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627280" y="2852640"/>
          <a:ext cx="3745080" cy="3200400"/>
        </p:xfrm>
        <a:graphic>
          <a:graphicData uri="http://schemas.openxmlformats.org/drawingml/2006/table">
            <a:tbl>
              <a:tblPr/>
              <a:tblGrid>
                <a:gridCol w="3745080"/>
              </a:tblGrid>
              <a:tr h="3200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 body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.Pop (V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 body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.Pop (V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 body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.Push (4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3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 on protected objects entri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Works the same way as select on task entri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 delay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n else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556000" y="2276640"/>
          <a:ext cx="3744720" cy="118872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.Push (5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0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Delayed overflow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556000" y="4437000"/>
          <a:ext cx="3744720" cy="100656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.Push (5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Overflow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ion of a Queu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rotected entries, protected procedures and task entries can only be activated by one task at a tim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f several tasks are trying to enter a mutually exclusion section, they are put in a queu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By default, task are entering the queue in FIFO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f several tasks are in a queue when the server task is terminated, TASKING_ERROR is sent to the waiting task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eue instruc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queue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” instruction can be called in an entry (task or protected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 places the queued task back to another entry with the same profil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the same entr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Useful if the treatment couldn’t be done and need to be re-considered later 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ame parameter values will be used on the queu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627280" y="4616280"/>
          <a:ext cx="4176720" cy="118908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tract (Qty :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r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ry_Extract (Qty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queu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xtrac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xtrac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ort Statement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ll tasks can be abruptly abort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bortion may stop the task almost anywhere in the assembly cod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Highly unsafe – should be used only as last resor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627280" y="1773360"/>
          <a:ext cx="3745080" cy="2651040"/>
        </p:xfrm>
        <a:graphic>
          <a:graphicData uri="http://schemas.openxmlformats.org/drawingml/2006/table">
            <a:tbl>
              <a:tblPr/>
              <a:tblGrid>
                <a:gridCol w="3745080"/>
              </a:tblGrid>
              <a:tr h="265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in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0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abort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6" name="Picture 4" descr="http://www.clker.com/cliparts/7/e/4/2/124223856074483192Biohazard_orange.svg.hi.png"/>
          <p:cNvPicPr/>
          <p:nvPr/>
        </p:nvPicPr>
        <p:blipFill>
          <a:blip r:embed="rId1"/>
          <a:stretch/>
        </p:blipFill>
        <p:spPr>
          <a:xfrm>
            <a:off x="8532720" y="115920"/>
            <a:ext cx="432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 … then abort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 sequence of statements can be planned to be aborted as a result of an incoming event (entry call or delay expiration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gain, abortion can occur anywhere in the processing, avoid it if other options exis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395280" y="4149720"/>
          <a:ext cx="4032360" cy="137160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ay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ome_Long_Processin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statements to execute after the sel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4788000" y="4149720"/>
          <a:ext cx="4032000" cy="1371600"/>
        </p:xfrm>
        <a:graphic>
          <a:graphicData uri="http://schemas.openxmlformats.org/drawingml/2006/table">
            <a:tbl>
              <a:tblPr/>
              <a:tblGrid>
                <a:gridCol w="403200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.Wait_For_Interruptio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ome_Long_Processin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statements to execute after the sel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1" name="Picture 4" descr="http://www.clker.com/cliparts/7/e/4/2/124223856074483192Biohazard_orange.svg.hi.png"/>
          <p:cNvPicPr/>
          <p:nvPr/>
        </p:nvPicPr>
        <p:blipFill>
          <a:blip r:embed="rId1"/>
          <a:stretch/>
        </p:blipFill>
        <p:spPr>
          <a:xfrm>
            <a:off x="8532720" y="115920"/>
            <a:ext cx="432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Quiz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83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3203640" y="2781360"/>
            <a:ext cx="79200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s this code compile? (1/8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484360" y="1989000"/>
          <a:ext cx="4572000" cy="39322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39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tecte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e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et (V : 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_Count : Integer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tected 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e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_Count := Access_Count +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a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e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et (V :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:= V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e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6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output of this code? (2/8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2484360" y="1989000"/>
          <a:ext cx="4572000" cy="33832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338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p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ermin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elec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Terminated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9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imple task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da implements the notion of a “thread” via the task entity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 task is started when its declaration scope is elaborated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Its enclosing scope exits when all tasks have finished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285920" y="1628640"/>
          <a:ext cx="6572160" cy="3017880"/>
        </p:xfrm>
        <a:graphic>
          <a:graphicData uri="http://schemas.openxmlformats.org/drawingml/2006/table">
            <a:tbl>
              <a:tblPr/>
              <a:tblGrid>
                <a:gridCol w="6572160"/>
              </a:tblGrid>
              <a:tr h="301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in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T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Mai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output of this code? (3/8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484360" y="2367000"/>
          <a:ext cx="4572000" cy="228600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22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ay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.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B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92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s this code compile? (4/8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835280" y="1628640"/>
          <a:ext cx="6121440" cy="466416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466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move_Items (Nb : 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plenish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b_Items : Integer := 10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p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move_Items (Nb :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b_Items &lt; Nb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queu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lush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b_Items := Nb_Items – Nb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move_Items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p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plenish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b_Items := Nb_Items + 10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lush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elec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95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the output of this code? (5/8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4859280" y="2276640"/>
          <a:ext cx="3600360" cy="201600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201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.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963720" y="2133720"/>
          <a:ext cx="3600360" cy="228600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228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p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SELECT TASK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ELSE TASK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99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s this code compile? (6/8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4859280" y="2421000"/>
          <a:ext cx="3600360" cy="158436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158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.E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.E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963720" y="2708280"/>
          <a:ext cx="3600360" cy="86508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86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03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s this code terminate? (7/8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2411280" y="1413000"/>
          <a:ext cx="4572000" cy="44798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47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in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k : Boolean := Fals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tec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tec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k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OK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k := Tru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.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06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s this code terminate? (8/8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484360" y="1165320"/>
          <a:ext cx="4572000" cy="52880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8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in 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k : Boolean := Fals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tect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tect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tr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k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OK"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.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k := Tru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.P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.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09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acting with task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ctive synchroniz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/server model of interacti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asymmetric rendezvou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 task declares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t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for intera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it offers to othe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ait for a client task to request its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task makes an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try 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for a service offered by anothe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wait for the server task to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nd handle entry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assive synchroniz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data objects with concurrency-safe access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tected obje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n Ada – more about them l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ndezvous (1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A task can declare “entries” for interacting and wait for an “entry call” to arrive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249"/>
              </a:spcBef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49"/>
              </a:spcBef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49"/>
              </a:spcBef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49"/>
              </a:spcBef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49"/>
              </a:spcBef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49"/>
              </a:spcBef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49"/>
              </a:spcBef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49"/>
              </a:spcBef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49"/>
              </a:spcBef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When reaching an accept statement, the task will wait until its entry is called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When calling an entry, the caller waits until the task is ready to be called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87280" y="1916280"/>
          <a:ext cx="6572520" cy="1920600"/>
        </p:xfrm>
        <a:graphic>
          <a:graphicData uri="http://schemas.openxmlformats.org/drawingml/2006/table">
            <a:tbl>
              <a:tblPr/>
              <a:tblGrid>
                <a:gridCol w="6572520"/>
              </a:tblGrid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entry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r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entry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eive_Message (V : String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s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accept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r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accept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eive_Message (V : String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1258920" y="5373720"/>
          <a:ext cx="6572160" cy="1006560"/>
        </p:xfrm>
        <a:graphic>
          <a:graphicData uri="http://schemas.openxmlformats.org/drawingml/2006/table">
            <a:tbl>
              <a:tblPr/>
              <a:tblGrid>
                <a:gridCol w="657216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O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.Star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.Receive_Message (""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Locks until somebody calls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.Receive_Message (""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ndezvous (2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task can perform operations while the caller and the callee are in the entry / accept statemen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caller will be released once the end of the accept block is reach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285920" y="2187720"/>
          <a:ext cx="6572160" cy="2682720"/>
        </p:xfrm>
        <a:graphic>
          <a:graphicData uri="http://schemas.openxmlformats.org/drawingml/2006/table">
            <a:tbl>
              <a:tblPr/>
              <a:tblGrid>
                <a:gridCol w="6572160"/>
              </a:tblGrid>
              <a:tr h="268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tas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tr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Star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tr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Receive_Message (V : String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tas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bod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accep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Start 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  <a:ea typeface="MS PGothic"/>
                        </a:rPr>
                        <a:t>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Put_Line ("Start"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Star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accep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Receive_Message (V : String) 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  <a:ea typeface="MS PGothic"/>
                        </a:rPr>
                        <a:t>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Put_Line ("Message : " &amp; V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Receive_Message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loo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MS PGothic"/>
                        </a:rPr>
                        <a:t> 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pting a rendezvou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imple accept statemen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a server task to indicate a willingness to provide the service at a given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elective accept statemen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more than one rendezvous at an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-out if no rendezvous within a period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draw its offer if no rendezvous is immediately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e if no clients can possibly call its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ally accept a rendezvous based on a guard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cted object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asks are “active” object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ynchronization can be achieved through “passive” objects that hold and manage valu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 protected object is an object with an interfac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current modifications are a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 is a natural replacement for a lot of cases where a semaphore is need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11280" y="4870440"/>
          <a:ext cx="3744720" cy="136692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136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protected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Only subprograms are allowed he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et (V : Integer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e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Data decla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cal : Integer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4932360" y="4684680"/>
          <a:ext cx="3743280" cy="1768680"/>
        </p:xfrm>
        <a:graphic>
          <a:graphicData uri="http://schemas.openxmlformats.org/drawingml/2006/table">
            <a:tbl>
              <a:tblPr/>
              <a:tblGrid>
                <a:gridCol w="3743280"/>
              </a:tblGrid>
              <a:tr h="1768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protected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et (V : Integer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cal := V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e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e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ocal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e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cted functions vs. protected procedur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rocedures can modify the state of the protected data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current access to procedures can be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rocedure can be called when functions are c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Functions are just ways to retrieve values, the protected data is read-onl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urrent access to functions can be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unction can be called when a procedure is c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Vasiliy Fofanov</cp:lastModifiedBy>
  <dcterms:modified xsi:type="dcterms:W3CDTF">2013-05-22T15:13:28Z</dcterms:modified>
  <cp:revision>335</cp:revision>
  <dc:subject/>
  <dc:title>Diapositive 1</dc:title>
</cp:coreProperties>
</file>