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dt" idx="1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ftr" idx="2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 type="sldNum" idx="3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AEACD479-0A9A-407A-9E82-42CA49602C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5ABEEB41-CA8C-47CA-B60E-51CE3693A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Slide: </a:t>
            </a:r>
            <a:fld id="{70DD658A-9E10-446F-A731-E0F1D6D037E1}" type="slidenum"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 2012 AdaCore 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1621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Slide: </a:t>
            </a:r>
            <a:fld id="{76668107-49D5-4350-BA82-5D13996647B8}" type="slidenum"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 2012 AdaCore 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2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" descr="gnatpro-security.png"/>
          <p:cNvPicPr/>
          <p:nvPr/>
        </p:nvPicPr>
        <p:blipFill>
          <a:blip r:embed="rId2"/>
          <a:stretch/>
        </p:blipFill>
        <p:spPr>
          <a:xfrm>
            <a:off x="1905120" y="2743200"/>
            <a:ext cx="5333760" cy="153036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1621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Slide: </a:t>
            </a:r>
            <a:fld id="{6A961C49-7B71-468A-A879-57DF8671F113}" type="slidenum"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 2012 AdaCore 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2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1" descr="sparkpro.png"/>
          <p:cNvPicPr/>
          <p:nvPr/>
        </p:nvPicPr>
        <p:blipFill>
          <a:blip r:embed="rId2"/>
          <a:stretch/>
        </p:blipFill>
        <p:spPr>
          <a:xfrm>
            <a:off x="1447920" y="2762280"/>
            <a:ext cx="6172200" cy="9716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sparkpro-slogan.png"/>
          <p:cNvPicPr/>
          <p:nvPr/>
        </p:nvPicPr>
        <p:blipFill>
          <a:blip r:embed="rId3"/>
          <a:stretch/>
        </p:blipFill>
        <p:spPr>
          <a:xfrm>
            <a:off x="1066680" y="3809880"/>
            <a:ext cx="6858000" cy="44604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1621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Slide: </a:t>
            </a:r>
            <a:fld id="{32EA1CB3-9C0B-4840-BF3E-638EFBDC5029}" type="slidenum"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 2012 AdaCore 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2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3" descr="sparkprobb.png"/>
          <p:cNvPicPr/>
          <p:nvPr/>
        </p:nvPicPr>
        <p:blipFill>
          <a:blip r:embed="rId2"/>
          <a:stretch/>
        </p:blipFill>
        <p:spPr>
          <a:xfrm>
            <a:off x="549360" y="2819520"/>
            <a:ext cx="8045280" cy="75708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Slide: </a:t>
            </a:r>
            <a:fld id="{CAF2D66E-16AC-4DCC-A5DD-2816A0CA9E9B}" type="slidenum"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 2012 AdaCore 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698400" y="3535200"/>
            <a:ext cx="7759800" cy="0"/>
          </a:xfrm>
          <a:prstGeom prst="line">
            <a:avLst/>
          </a:prstGeom>
          <a:ln w="9360">
            <a:solidFill>
              <a:srgbClr val="1759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logo_textured_large.psd"/>
          <p:cNvPicPr/>
          <p:nvPr/>
        </p:nvPicPr>
        <p:blipFill>
          <a:blip r:embed="rId2"/>
          <a:stretch/>
        </p:blipFill>
        <p:spPr>
          <a:xfrm>
            <a:off x="457200" y="1185840"/>
            <a:ext cx="1905120" cy="5335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Slide: </a:t>
            </a:r>
            <a:fld id="{29CC6972-B1E8-41D2-B511-17C53FEF0751}" type="slidenum"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 2012 AdaCore 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Slide: </a:t>
            </a:r>
            <a:fld id="{96B2A73D-4B40-4F3A-A25E-238F0ED6C14E}" type="slidenum"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 2012 AdaCore 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Slide: </a:t>
            </a:r>
            <a:fld id="{C639985A-1E9E-4790-BDC9-52067D126DCB}" type="slidenum"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 2012 AdaCore 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Slide: </a:t>
            </a:r>
            <a:fld id="{1C8EA465-9B91-4780-AFA1-54D2BBE29FB3}" type="slidenum"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 2012 AdaCore 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Slide: </a:t>
            </a:r>
            <a:fld id="{5B8E18BB-DE37-458E-A246-91E8025E0229}" type="slidenum"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 2012 AdaCore 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" descr="gnatpro.png"/>
          <p:cNvPicPr/>
          <p:nvPr/>
        </p:nvPicPr>
        <p:blipFill>
          <a:blip r:embed="rId2"/>
          <a:stretch/>
        </p:blipFill>
        <p:spPr>
          <a:xfrm>
            <a:off x="1905120" y="2743200"/>
            <a:ext cx="5321160" cy="981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8" descr="gnatpro-slogan.png"/>
          <p:cNvPicPr/>
          <p:nvPr/>
        </p:nvPicPr>
        <p:blipFill>
          <a:blip r:embed="rId3"/>
          <a:stretch/>
        </p:blipFill>
        <p:spPr>
          <a:xfrm>
            <a:off x="1905120" y="3884760"/>
            <a:ext cx="5257800" cy="4586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1621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Slide: </a:t>
            </a:r>
            <a:fld id="{73C2D0BC-7633-42D9-9F42-9DE5AA7FDED9}" type="slidenum"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 2012 AdaCore 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2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" descr="codepeer.png"/>
          <p:cNvPicPr/>
          <p:nvPr/>
        </p:nvPicPr>
        <p:blipFill>
          <a:blip r:embed="rId2"/>
          <a:stretch/>
        </p:blipFill>
        <p:spPr>
          <a:xfrm>
            <a:off x="1752480" y="2743200"/>
            <a:ext cx="5677200" cy="10335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" descr="codepeer-slogan.png"/>
          <p:cNvPicPr/>
          <p:nvPr/>
        </p:nvPicPr>
        <p:blipFill>
          <a:blip r:embed="rId3"/>
          <a:stretch/>
        </p:blipFill>
        <p:spPr>
          <a:xfrm>
            <a:off x="1295280" y="3863880"/>
            <a:ext cx="6477120" cy="42228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1621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Slide: </a:t>
            </a:r>
            <a:fld id="{8706555B-FEE0-4499-A315-099A55439C39}" type="slidenum"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-5400" y="6634080"/>
            <a:ext cx="14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Copyright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Verdana"/>
              </a:rPr>
              <a:t>©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 2012 AdaCore 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2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gnatpro-safety.png"/>
          <p:cNvPicPr/>
          <p:nvPr/>
        </p:nvPicPr>
        <p:blipFill>
          <a:blip r:embed="rId2"/>
          <a:stretch/>
        </p:blipFill>
        <p:spPr>
          <a:xfrm>
            <a:off x="1903320" y="2743200"/>
            <a:ext cx="5335560" cy="152712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3333600" y="3657240"/>
            <a:ext cx="253368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333600" y="3904920"/>
            <a:ext cx="253368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09120" y="3657240"/>
            <a:ext cx="25909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9120" y="5715000"/>
            <a:ext cx="4103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400" spc="-1" strike="noStrike">
              <a:solidFill>
                <a:srgbClr val="91b9da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609120" y="3904920"/>
            <a:ext cx="25909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5943240" y="3657240"/>
            <a:ext cx="25909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5943240" y="3904920"/>
            <a:ext cx="25909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8"/>
          <p:cNvSpPr>
            <a:spLocks noGrp="1"/>
          </p:cNvSpPr>
          <p:nvPr>
            <p:ph/>
          </p:nvPr>
        </p:nvSpPr>
        <p:spPr>
          <a:xfrm>
            <a:off x="685800" y="2514600"/>
            <a:ext cx="769608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rting the BB Ravenscar Runtim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18" name="PlaceHolder 9"/>
          <p:cNvSpPr>
            <a:spLocks noGrp="1"/>
          </p:cNvSpPr>
          <p:nvPr>
            <p:ph/>
          </p:nvPr>
        </p:nvSpPr>
        <p:spPr>
          <a:xfrm>
            <a:off x="5684760" y="1371240"/>
            <a:ext cx="284976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759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reliminary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rst port the ZFP runtime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2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Ada initi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2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er scri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2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 proced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Ravenscar runtime (powerpc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ヒラギノ角ゴ ProN W3"/>
              </a:rPr>
              <a:t>Very low impact on the board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2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n’t modify the M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2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y to let IR/DR unchang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2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 only the Decrement and External Interrupt ve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ヒラギノ角ゴ ProN W3"/>
              </a:rPr>
              <a:t>Requirements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2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to be started in supervisor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2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ll mask/unmask interru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2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MU should be enabled and BAT 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2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declare cacheable/uncacheable memory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2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ld be enabled l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2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e should be enabled (f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2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PU should be enabled (if a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2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 must be 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Ravenscar BSP (powerpc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2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  <a:ea typeface="ヒラギノ角ゴ ProN W3"/>
              </a:rPr>
              <a:t>See System.BB.Board_Support</a:t>
            </a: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ly Interrupt controller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  <a:ea typeface="ヒラギノ角ゴ ProN W3"/>
              </a:rPr>
              <a:t>See System.BB.Parameter</a:t>
            </a: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interru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ヒラギノ角ゴ ProN W3"/>
              </a:rPr>
              <a:t>Ada.Interrupts.Names defines names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ヒラギノ角ゴ ProN W3"/>
              </a:rPr>
              <a:t>We plan to provide a simpler interface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ed number of interrupt priorities (32 +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ed number of interrupts (12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BSP : Init &amp; Clock (powerpc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ヒラギノ角ゴ ProN W3"/>
              </a:rPr>
              <a:t>Called very early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ヒラギノ角ゴ ProN W3"/>
              </a:rPr>
              <a:t>Called once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ヒラギノ角ゴ ProN W3"/>
              </a:rPr>
              <a:t>Could be used to initialize the interrupt controller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2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other de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ヒラギノ角ゴ ProN W3"/>
              </a:rPr>
              <a:t>Return the Time Base Frequency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ヒラギノ角ゴ ProN W3"/>
              </a:rPr>
              <a:t>This frequency cannot be changed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ヒラギノ角ゴ ProN W3"/>
              </a:rPr>
              <a:t>And cannot be guessed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ヒラギノ角ゴ ProN W3"/>
              </a:rPr>
              <a:t>Acknowledge the alarm interrup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2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hing on 6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1042920" y="1197000"/>
          <a:ext cx="3889440" cy="431640"/>
        </p:xfrm>
        <a:graphic>
          <a:graphicData uri="http://schemas.openxmlformats.org/drawingml/2006/table">
            <a:tbl>
              <a:tblPr/>
              <a:tblGrid>
                <a:gridCol w="3889440"/>
              </a:tblGrid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itialize_Board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8" name=""/>
          <p:cNvGraphicFramePr/>
          <p:nvPr/>
        </p:nvGraphicFramePr>
        <p:xfrm>
          <a:off x="1042920" y="3429000"/>
          <a:ext cx="5832720" cy="433440"/>
        </p:xfrm>
        <a:graphic>
          <a:graphicData uri="http://schemas.openxmlformats.org/drawingml/2006/table">
            <a:tbl>
              <a:tblPr/>
              <a:tblGrid>
                <a:gridCol w="5832720"/>
              </a:tblGrid>
              <a:tr h="433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icks_Per_Second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eturn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atural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9" name=""/>
          <p:cNvGraphicFramePr/>
          <p:nvPr/>
        </p:nvGraphicFramePr>
        <p:xfrm>
          <a:off x="1042920" y="5084640"/>
          <a:ext cx="5832720" cy="433440"/>
        </p:xfrm>
        <a:graphic>
          <a:graphicData uri="http://schemas.openxmlformats.org/drawingml/2006/table">
            <a:tbl>
              <a:tblPr/>
              <a:tblGrid>
                <a:gridCol w="5832720"/>
              </a:tblGrid>
              <a:tr h="433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lear_Alarm_Interrupt;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BSP : Interrupt Controller (powerpc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ヒラギノ角ゴ ProN W3"/>
              </a:rPr>
              <a:t>Return the current interrupt ID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ヒラギノ角ゴ ProN W3"/>
              </a:rPr>
              <a:t>Vector is ignored on PowerPC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2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one interrupt vector (External Interrup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ヒラギノ角ゴ ProN W3"/>
              </a:rPr>
              <a:t>Return the priority of an interrup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ヒラギノ角ゴ ProN W3"/>
              </a:rPr>
              <a:t>Called to set current priority before calling protected objec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ヒラギノ角ゴ ProN W3"/>
              </a:rPr>
              <a:t>At the priority, the interrupt must be masked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ヒラギノ角ゴ ProN W3"/>
              </a:rPr>
              <a:t>Called after the protected object procedure has been called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ヒラギノ角ゴ ProN W3"/>
              </a:rPr>
              <a:t>Mark end of interrup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ヒラギノ角ゴ ProN W3"/>
              </a:rPr>
              <a:t>Called when interrupts are re-enabled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ヒラギノ角ゴ ProN W3"/>
              </a:rPr>
              <a:t>Enable interrupts up to the priority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1042920" y="2349360"/>
          <a:ext cx="6842160" cy="730440"/>
        </p:xfrm>
        <a:graphic>
          <a:graphicData uri="http://schemas.openxmlformats.org/drawingml/2006/table">
            <a:tbl>
              <a:tblPr/>
              <a:tblGrid>
                <a:gridCol w="6842160"/>
              </a:tblGrid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iority_Of_Interrupt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errupt : System.BB.Interrupts.Interrupt_ID)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ystem.Any_Priority;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3" name=""/>
          <p:cNvGraphicFramePr/>
          <p:nvPr/>
        </p:nvGraphicFramePr>
        <p:xfrm>
          <a:off x="1042920" y="4149720"/>
          <a:ext cx="6913800" cy="517680"/>
        </p:xfrm>
        <a:graphic>
          <a:graphicData uri="http://schemas.openxmlformats.org/drawingml/2006/table">
            <a:tbl>
              <a:tblPr/>
              <a:tblGrid>
                <a:gridCol w="6913800"/>
              </a:tblGrid>
              <a:tr h="517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ear_Interrupt_Request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errupt : System.BB.Interrupts.Interrupt_ID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4" name=""/>
          <p:cNvGraphicFramePr/>
          <p:nvPr/>
        </p:nvGraphicFramePr>
        <p:xfrm>
          <a:off x="1042920" y="5445000"/>
          <a:ext cx="7850160" cy="360360"/>
        </p:xfrm>
        <a:graphic>
          <a:graphicData uri="http://schemas.openxmlformats.org/drawingml/2006/table">
            <a:tbl>
              <a:tblPr/>
              <a:tblGrid>
                <a:gridCol w="785016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et_Current_Priority (Priority : Any_Priority);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5" name=""/>
          <p:cNvGraphicFramePr/>
          <p:nvPr/>
        </p:nvGraphicFramePr>
        <p:xfrm>
          <a:off x="900000" y="836640"/>
          <a:ext cx="7850160" cy="519120"/>
        </p:xfrm>
        <a:graphic>
          <a:graphicData uri="http://schemas.openxmlformats.org/drawingml/2006/table">
            <a:tbl>
              <a:tblPr/>
              <a:tblGrid>
                <a:gridCol w="7850160"/>
              </a:tblGrid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et_Interrupt_Request(Vector : CPU_Specific.Vector_Id)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ystem.BB.Interrupts.Interrupt_ID;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Ravenscar – Interrupt flow (powerpc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ヒラギノ角ゴ ProN W3"/>
              </a:rPr>
              <a:t>Hardware trigger an interrupt, external interrupt requested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39480" indent="-3394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ヒラギノ角ゴ ProN W3"/>
              </a:rPr>
              <a:t>CPU external interrupt exception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35480" indent="-282960">
              <a:lnSpc>
                <a:spcPct val="92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rupts are mask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ヒラギノ角ゴ ProN W3"/>
              </a:rPr>
              <a:t>Asm handler switches to interrupt stack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35480" indent="-282960">
              <a:lnSpc>
                <a:spcPct val="92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not already on the interrupt 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ヒラギノ角ゴ ProN W3"/>
              </a:rPr>
              <a:t>Save volatile context, create a frame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39480" indent="-3394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ヒラギノ角ゴ ProN W3"/>
              </a:rPr>
              <a:t>Call ravenscar handler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39480" indent="-3394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ヒラギノ角ゴ ProN W3"/>
              </a:rPr>
              <a:t>Call Get_Interrupt_Request to get interrupt id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39480" indent="-3394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ヒラギノ角ゴ ProN W3"/>
              </a:rPr>
              <a:t>Call Priority_Of_Interrupt to get associated priority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39480" indent="-3394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ヒラギノ角ゴ ProN W3"/>
              </a:rPr>
              <a:t>Switch to priority of the interrup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39480" indent="-3394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ヒラギノ角ゴ ProN W3"/>
              </a:rPr>
              <a:t>Reenable interrupts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39480" indent="-3394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ヒラギノ角ゴ ProN W3"/>
              </a:rPr>
              <a:t>Call user handler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39480" indent="-3394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ヒラギノ角ゴ ProN W3"/>
              </a:rPr>
              <a:t>Disable interrupts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39480" indent="-3394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ヒラギノ角ゴ ProN W3"/>
              </a:rPr>
              <a:t>Switch back priority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39480" indent="-3394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ヒラギノ角ゴ ProN W3"/>
              </a:rPr>
              <a:t>Call Clear_Interrupt_Request for end of interrup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39480" indent="-3394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ヒラギノ角ゴ ProN W3"/>
              </a:rPr>
              <a:t>Possibly switch contex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35480" indent="-282960">
              <a:lnSpc>
                <a:spcPct val="92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a task is awo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2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 priority will be set by the awoken ta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ヒラギノ角ゴ ProN W3"/>
              </a:rPr>
              <a:t>Restore volatile contex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39480" indent="-339480">
              <a:lnSpc>
                <a:spcPct val="92000"/>
              </a:lnSpc>
              <a:spcBef>
                <a:spcPts val="400"/>
              </a:spcBef>
              <a:buClr>
                <a:srgbClr val="4040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ヒラギノ角ゴ ProN W3"/>
              </a:rPr>
              <a:t>Return from interrup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39480" indent="-339480">
              <a:lnSpc>
                <a:spcPct val="92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09:55:05Z</dcterms:created>
  <dc:creator>Jose F. Ruiz</dc:creator>
  <dc:description/>
  <cp:keywords>Ravenscar GNAT Pro</cp:keywords>
  <dc:language>en-US</dc:language>
  <cp:lastModifiedBy>Office 2004 Test Drive User</cp:lastModifiedBy>
  <dcterms:modified xsi:type="dcterms:W3CDTF">2012-10-08T19:44:42Z</dcterms:modified>
  <cp:revision>84</cp:revision>
  <dc:subject>Ravenscar</dc:subject>
  <dc:title>Ravenscar Overview</dc:title>
</cp:coreProperties>
</file>