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22E1-7A8F-4331-BCEF-640EC2BE74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1EF5-2D8E-46A0-8AA8-765BA60281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_Ch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8C42-B066-46E4-A024-067B1B544C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860F-8A8F-47CA-8A4C-E48837E4CB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D2F7-E39C-4613-8C92-2C1E7EB42D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9D2F-B641-42CF-BEC6-381BBF55FD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2A17-7D71-4C25-BFF2-CC44F3ED70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8353-4FF3-493F-A577-467F3D6FE1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C2C-2017-4DF4-AD41-497ABD52A7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-Time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of type Child, conversion to Grand_Child is not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1BB-7A73-4366-BE92-6CB0E8611D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56F3-5627-4D41-BB7E-CF294115C0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6778CB6-59E7-4E5C-87AC-7649F85DC8A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3A5D204-04E1-4907-8CFB-C60BD7C76EB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DC3EBEA-DA89-4066-863C-E470D09C036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C1BD39F-817B-464A-B260-614D268F7BD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57C8B32-A959-4A88-9078-F32A7F5C0B7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401774C-F505-4B39-BBC2-3E813669AE1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1C5344A-922E-463F-9B57-23C97590AD7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ynamic Polymorphism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e and class wide view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4000" y="1142640"/>
            <a:ext cx="8135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 C++, dispatching occurs only on pointe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 Ada, dispatching occur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ly on class wide view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0040" y="2571840"/>
          <a:ext cx="3571920" cy="109692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agge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00040" y="3857760"/>
          <a:ext cx="3571920" cy="8636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(V : Root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(V)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always calls P2 from Ro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286080" y="5000760"/>
          <a:ext cx="5500800" cy="930240"/>
        </p:xfrm>
        <a:graphic>
          <a:graphicData uri="http://schemas.openxmlformats.org/drawingml/2006/table">
            <a:tbl>
              <a:tblPr/>
              <a:tblGrid>
                <a:gridCol w="5500800"/>
              </a:tblGrid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'Class := Child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1.P1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alls P1 from the implicitly overridden subprog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alls P2 from Root 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8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8604360" y="1159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ispatch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142640"/>
            <a:ext cx="7989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agged types are always passed 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Arial"/>
              </a:rPr>
              <a:t>by reference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original object is not copi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fore, it is possible to convert them to different view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714760" y="4429080"/>
          <a:ext cx="6000480" cy="1935360"/>
        </p:xfrm>
        <a:graphic>
          <a:graphicData uri="http://schemas.openxmlformats.org/drawingml/2006/table">
            <a:tbl>
              <a:tblPr/>
              <a:tblGrid>
                <a:gridCol w="6000480"/>
              </a:tblGrid>
              <a:tr h="193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(V : Root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Class : Root’Clas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'Class (V)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aming of a 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(V);     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atic call, uses the definite 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(Root'Class (V))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–- dynamic call (redispatch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(V_Class);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ynamic call (redispatch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P2;       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atic call, uses the definite 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'Class (V).P2;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–- dynamic call (redispatch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Class.P2; 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ynamic call (redispatch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500040" y="3046320"/>
          <a:ext cx="3571920" cy="109692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8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xotic Dispatching Operations</a:t>
            </a:r>
            <a:endParaRPr b="1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44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3132000" y="3573360"/>
            <a:ext cx="2952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dispatching operand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4920" y="1142640"/>
            <a:ext cx="8139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rimitives with multiple dispatching operands are allowed if all operands are of the same typ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t call time, all actual parameters’ tags have to match, either statically or dynamicall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357280" y="2060640"/>
          <a:ext cx="4714920" cy="930240"/>
        </p:xfrm>
        <a:graphic>
          <a:graphicData uri="http://schemas.openxmlformats.org/drawingml/2006/table">
            <a:tbl>
              <a:tblPr/>
              <a:tblGrid>
                <a:gridCol w="4714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Left : Root; Right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Left : Child; Right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556000" y="4149720"/>
          <a:ext cx="4214520" cy="2270160"/>
        </p:xfrm>
        <a:graphic>
          <a:graphicData uri="http://schemas.openxmlformats.org/drawingml/2006/table">
            <a:tbl>
              <a:tblPr/>
              <a:tblGrid>
                <a:gridCol w="4214520"/>
              </a:tblGrid>
              <a:tr h="22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1, R2 :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1, C2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1 : Root'Class := R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2 : Root'Class := R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3 : Root'Class := C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R1, R2);       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ATIC  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R1, C1);       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ATIC 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Cl1, Cl2);     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–- DYNAMIC 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Cl1, Cl3);     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–- DYNAMIC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R1, Cl1);           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ATIC  ERROR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P (Root'Class (R1), Cl1);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YNAMIC 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 case for the equalit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95280" y="1142640"/>
            <a:ext cx="8424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Overriding the default equality for a tagged type involves the use of a function with multiple controlling operands 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Like in the general case, static types of the operands have to be the sam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f dynamic types differ, the equality returns false instead of raising an except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403280" y="2104920"/>
          <a:ext cx="6357960" cy="93024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"=" (Left : Root; Right : Root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"=" (Left : Child; Right : Child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547640" y="5013360"/>
          <a:ext cx="6143760" cy="1600200"/>
        </p:xfrm>
        <a:graphic>
          <a:graphicData uri="http://schemas.openxmlformats.org/drawingml/2006/table">
            <a:tbl>
              <a:tblPr/>
              <a:tblGrid>
                <a:gridCol w="614376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1, R2 :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1, C2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1 : Root'Class := R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2 : Root'Class := R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3 : Root'Class := C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l1 = Cl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–- overridden "=" called through dispatch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l1 = Cl3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…]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–- returns fa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ing result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4920" y="1152000"/>
            <a:ext cx="8139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controlling operand may be the return typ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known as the constructor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f the child adds fields, </a:t>
            </a:r>
            <a:br>
              <a:rPr sz="2200"/>
            </a:b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ll such subprograms have to be overridde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rimitives returning abstract types have to be abstrac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428840" y="2065320"/>
          <a:ext cx="6357960" cy="42696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1143000" y="3389400"/>
          <a:ext cx="7500960" cy="176832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176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OK, F is implicitly inheri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ERROR no implicitly inherited function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1428840" y="5877000"/>
          <a:ext cx="6357960" cy="42696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8" name="Picture 5" descr="stop.jpg"/>
          <p:cNvPicPr/>
          <p:nvPr/>
        </p:nvPicPr>
        <p:blipFill>
          <a:blip r:embed="rId1"/>
          <a:stretch/>
        </p:blipFill>
        <p:spPr>
          <a:xfrm>
            <a:off x="755640" y="4869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ing result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94920" y="1142640"/>
            <a:ext cx="8139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rimitives returning tagged types can be used in a static contex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n a dynamic context, the type has to be known to correctly dispatch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No dispatching is possible when returning access typ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428840" y="2092320"/>
          <a:ext cx="6357960" cy="126540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oot := F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1428840" y="4373640"/>
          <a:ext cx="6357960" cy="143172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'Class := Root'(F);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atic call to Root primi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oot'Class := V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Root'Class := Child'(F)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tatic call to Child primitiv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4 : Root'Class := F;         </a:t>
                      </a: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What is the tag of V4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F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ispatching call to Root primi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= F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ispatching call to Root primi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= F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ispatching call to Child primi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3" name="Picture 5" descr="stop.jpg"/>
          <p:cNvPicPr/>
          <p:nvPr/>
        </p:nvPicPr>
        <p:blipFill>
          <a:blip r:embed="rId1"/>
          <a:stretch/>
        </p:blipFill>
        <p:spPr>
          <a:xfrm>
            <a:off x="1116000" y="4869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6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276720" y="2781360"/>
            <a:ext cx="7905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786280" y="4357800"/>
          <a:ext cx="2000520" cy="930240"/>
        </p:xfrm>
        <a:graphic>
          <a:graphicData uri="http://schemas.openxmlformats.org/drawingml/2006/table">
            <a:tbl>
              <a:tblPr/>
              <a:tblGrid>
                <a:gridCol w="20005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.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69" name="Ellipse 26"/>
          <p:cNvSpPr/>
          <p:nvPr/>
        </p:nvSpPr>
        <p:spPr>
          <a:xfrm>
            <a:off x="5929200" y="4786200"/>
            <a:ext cx="571680" cy="35748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924360" y="4357800"/>
          <a:ext cx="4505400" cy="1096920"/>
        </p:xfrm>
        <a:graphic>
          <a:graphicData uri="http://schemas.openxmlformats.org/drawingml/2006/table">
            <a:tbl>
              <a:tblPr/>
              <a:tblGrid>
                <a:gridCol w="450540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'Class := Grand_Child'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.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4" name="Ellipse 26"/>
          <p:cNvSpPr/>
          <p:nvPr/>
        </p:nvSpPr>
        <p:spPr>
          <a:xfrm>
            <a:off x="4145040" y="4797360"/>
            <a:ext cx="571320" cy="35712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Classes of Type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5357880" y="4357800"/>
          <a:ext cx="2428920" cy="10508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105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W : Grand_Child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 := Child (W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.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9" name="Ellipse 26"/>
          <p:cNvSpPr/>
          <p:nvPr/>
        </p:nvSpPr>
        <p:spPr>
          <a:xfrm>
            <a:off x="5500800" y="4929120"/>
            <a:ext cx="571320" cy="35712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357880" y="4357800"/>
          <a:ext cx="2928960" cy="137160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(V : Roo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1571760" y="4286160"/>
          <a:ext cx="2428920" cy="9302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Call (Root (V)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85" name="Ellipse 26"/>
          <p:cNvSpPr/>
          <p:nvPr/>
        </p:nvSpPr>
        <p:spPr>
          <a:xfrm>
            <a:off x="5862600" y="4929120"/>
            <a:ext cx="571680" cy="35712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4857840" y="4357800"/>
          <a:ext cx="3429000" cy="1311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312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(V : Root'Class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571760" y="4286160"/>
          <a:ext cx="2428920" cy="9302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Call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91" name="Ellipse 26"/>
          <p:cNvSpPr/>
          <p:nvPr/>
        </p:nvSpPr>
        <p:spPr>
          <a:xfrm>
            <a:off x="5357880" y="4929120"/>
            <a:ext cx="571320" cy="35712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4857840" y="4357800"/>
          <a:ext cx="3601800" cy="1447560"/>
        </p:xfrm>
        <a:graphic>
          <a:graphicData uri="http://schemas.openxmlformats.org/drawingml/2006/table">
            <a:tbl>
              <a:tblPr/>
              <a:tblGrid>
                <a:gridCol w="3601800"/>
              </a:tblGrid>
              <a:tr h="1447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(V : Roo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ild'Class (V).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1571760" y="4286160"/>
          <a:ext cx="2428920" cy="9302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Call (Root (V)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97" name="Ellipse 26"/>
          <p:cNvSpPr/>
          <p:nvPr/>
        </p:nvSpPr>
        <p:spPr>
          <a:xfrm>
            <a:off x="5357880" y="4929120"/>
            <a:ext cx="1643040" cy="35712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4857840" y="4357800"/>
          <a:ext cx="3530520" cy="1447560"/>
        </p:xfrm>
        <a:graphic>
          <a:graphicData uri="http://schemas.openxmlformats.org/drawingml/2006/table">
            <a:tbl>
              <a:tblPr/>
              <a:tblGrid>
                <a:gridCol w="3530520"/>
              </a:tblGrid>
              <a:tr h="1447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(V : Roo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'Class (V).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1571760" y="4286160"/>
          <a:ext cx="2428920" cy="9302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Call (Root (V)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03" name="Ellipse 26"/>
          <p:cNvSpPr/>
          <p:nvPr/>
        </p:nvSpPr>
        <p:spPr>
          <a:xfrm>
            <a:off x="5357880" y="4929120"/>
            <a:ext cx="1643040" cy="35712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857840" y="4357800"/>
          <a:ext cx="3429000" cy="13716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(V : Child'Class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(V).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571760" y="4286160"/>
          <a:ext cx="2428920" cy="9302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Call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09" name="Ellipse 26"/>
          <p:cNvSpPr/>
          <p:nvPr/>
        </p:nvSpPr>
        <p:spPr>
          <a:xfrm>
            <a:off x="5357880" y="4929120"/>
            <a:ext cx="1143000" cy="35712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4857840" y="4357800"/>
          <a:ext cx="3429000" cy="13716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(V : Child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nd_Child'Class (V).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1571760" y="4286160"/>
          <a:ext cx="2428920" cy="9302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Call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15" name="Ellipse 26"/>
          <p:cNvSpPr/>
          <p:nvPr/>
        </p:nvSpPr>
        <p:spPr>
          <a:xfrm>
            <a:off x="5357880" y="4929120"/>
            <a:ext cx="2143080" cy="35712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called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77920" y="1571760"/>
          <a:ext cx="4286160" cy="2011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Grand_Chil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4857840" y="4357800"/>
          <a:ext cx="3429000" cy="13716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(V : Child'Class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ild'Class (Root (V)).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ck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1571760" y="4286160"/>
          <a:ext cx="2428920" cy="9302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Call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21" name="Ellipse 26"/>
          <p:cNvSpPr/>
          <p:nvPr/>
        </p:nvSpPr>
        <p:spPr>
          <a:xfrm>
            <a:off x="5357880" y="4929120"/>
            <a:ext cx="2214360" cy="357120"/>
          </a:xfrm>
          <a:prstGeom prst="ellipse">
            <a:avLst/>
          </a:prstGeom>
          <a:noFill/>
          <a:ln w="3492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ses 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440" y="1142640"/>
            <a:ext cx="8134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n Ada, a Class denotes a inheritance subtre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class of T is the class of T and all of its childre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type T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’Class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 can designate any object typed after a type of the class of 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Objects of type T’Class have at least the properties of 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elds of 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mitives of 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050920" y="2781360"/>
          <a:ext cx="5286600" cy="1736640"/>
        </p:xfrm>
        <a:graphic>
          <a:graphicData uri="http://schemas.openxmlformats.org/drawingml/2006/table">
            <a:tbl>
              <a:tblPr/>
              <a:tblGrid>
                <a:gridCol w="528660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Root'Class = {Root, Child1, Child2, Grand_Child1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hild1'Class = {Child1, Grand_Child1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hild2'Class = {Child2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Grand_Child1'Class = {Grand_Child1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finite typ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 class wide type is an indefinite typ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ike an unconstrained array or a record with a discrim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roperties and constraints of indefinite types appl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for parameter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for variable declarati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th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692360" y="3933720"/>
          <a:ext cx="5286240" cy="2468520"/>
        </p:xfrm>
        <a:graphic>
          <a:graphicData uri="http://schemas.openxmlformats.org/drawingml/2006/table">
            <a:tbl>
              <a:tblPr/>
              <a:tblGrid>
                <a:gridCol w="528624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'Class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 : 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C  : D'Class  := Obj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C1 : T'Class  := D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C2 : T'Class  := Obj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D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Obj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TC3 : T'Clas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DC2 : D'Clas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11" name="Picture 5" descr="stop.jpg"/>
          <p:cNvPicPr/>
          <p:nvPr/>
        </p:nvPicPr>
        <p:blipFill>
          <a:blip r:embed="rId1"/>
          <a:stretch/>
        </p:blipFill>
        <p:spPr>
          <a:xfrm>
            <a:off x="1476360" y="59500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stop.jpg"/>
          <p:cNvPicPr/>
          <p:nvPr/>
        </p:nvPicPr>
        <p:blipFill>
          <a:blip r:embed="rId2"/>
          <a:stretch/>
        </p:blipFill>
        <p:spPr>
          <a:xfrm>
            <a:off x="1476360" y="616572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 the type of an objec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tag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of an object denotes its typ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 can be accessed through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‘Tag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ttribut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pplies to both objects and typ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Membership operator is available to check the type against a hierarch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428840" y="2700360"/>
          <a:ext cx="6357960" cy="173664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_Obj : T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_Obj'Tag = T'T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_Obj : D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_Obj'Tag = D'T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C1 : T'Class := T_Obj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C1'Tag = T'T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C2 : T'Class := D_Obj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C2'Tag = D'T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C  : D'Class := TC2;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C'Tag  = D'T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28840" y="5661000"/>
          <a:ext cx="6357960" cy="82224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1 : Boolean := (TC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2 : Boolean := (TC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'Class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3 : Boolean := (D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);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4 : Boolean := (D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;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tract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 tagged type can be declared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bstrac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n, abstract tagged types: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instan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abstract subprograms (with no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abstract derivation of an abstract type must override and implement abstract sub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85840" y="4014720"/>
          <a:ext cx="8715240" cy="2438640"/>
        </p:xfrm>
        <a:graphic>
          <a:graphicData uri="http://schemas.openxmlformats.org/drawingml/2006/table">
            <a:tbl>
              <a:tblPr/>
              <a:tblGrid>
                <a:gridCol w="4357440"/>
                <a:gridCol w="4357800"/>
              </a:tblGrid>
              <a:tr h="243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Root)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nd_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Grand_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rtua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= 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rtua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rand_Child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rtua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ion to primitiv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arning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ubprograms with parameter of type T’Class are primitives of T’Class, not 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efix notation rules apply when the first parameter is of a class wide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071800" y="2782800"/>
          <a:ext cx="5286240" cy="1006560"/>
        </p:xfrm>
        <a:graphic>
          <a:graphicData uri="http://schemas.openxmlformats.org/drawingml/2006/table">
            <a:tbl>
              <a:tblPr/>
              <a:tblGrid>
                <a:gridCol w="52862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'Class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P (V : Child'Class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050920" y="5157720"/>
          <a:ext cx="5286600" cy="1371600"/>
        </p:xfrm>
        <a:graphic>
          <a:graphicData uri="http://schemas.openxmlformats.org/drawingml/2006/table">
            <a:tbl>
              <a:tblPr/>
              <a:tblGrid>
                <a:gridCol w="52866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oot'Class := Root'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.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.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4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611280" y="1197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stop.jpg"/>
          <p:cNvPicPr/>
          <p:nvPr/>
        </p:nvPicPr>
        <p:blipFill>
          <a:blip r:embed="rId2"/>
          <a:stretch/>
        </p:blipFill>
        <p:spPr>
          <a:xfrm>
            <a:off x="1763640" y="3500280"/>
            <a:ext cx="2890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18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Dispatching &amp; Redispatching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s on class-wide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764640"/>
            <a:ext cx="8207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ny subprogram expecting a T object can be called with a T’Class objec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“real” type of the object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is not known at compile time</a:t>
            </a:r>
            <a:br>
              <a:rPr sz="2200"/>
            </a:b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“right” type will be selected at runtim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 is still possible to force a call to be static using a conversion of view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90600" y="1778040"/>
          <a:ext cx="4254480" cy="930240"/>
        </p:xfrm>
        <a:graphic>
          <a:graphicData uri="http://schemas.openxmlformats.org/drawingml/2006/table">
            <a:tbl>
              <a:tblPr/>
              <a:tblGrid>
                <a:gridCol w="42544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676760" y="1778040"/>
          <a:ext cx="4216320" cy="930240"/>
        </p:xfrm>
        <a:graphic>
          <a:graphicData uri="http://schemas.openxmlformats.org/drawingml/2006/table">
            <a:tbl>
              <a:tblPr/>
              <a:tblGrid>
                <a:gridCol w="42163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'Class := […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Child'Class := […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68280" y="3716280"/>
          <a:ext cx="8524800" cy="1006560"/>
        </p:xfrm>
        <a:graphic>
          <a:graphicData uri="http://schemas.openxmlformats.org/drawingml/2006/table">
            <a:tbl>
              <a:tblPr/>
              <a:tblGrid>
                <a:gridCol w="4262400"/>
                <a:gridCol w="42624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'Class := Root'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oot'Class := Child'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.P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alls P of Ro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.P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alls P of 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* V1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* V2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-&gt;P 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-&gt;P 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95280" y="5667480"/>
          <a:ext cx="8524800" cy="930240"/>
        </p:xfrm>
        <a:graphic>
          <a:graphicData uri="http://schemas.openxmlformats.org/drawingml/2006/table">
            <a:tbl>
              <a:tblPr/>
              <a:tblGrid>
                <a:gridCol w="4262400"/>
                <a:gridCol w="4262400"/>
              </a:tblGrid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'Class := Root'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oot'Class := Child'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(V1).P; -- calls P of Ro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(V2).P; -- calls P of Ro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* V1 =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* V2 =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(Root) *V1).P 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(Root) *V2).P 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9-26T09:45:11Z</dcterms:modified>
  <cp:revision>179</cp:revision>
  <dc:subject/>
  <dc:title>Diapositive 1</dc:title>
</cp:coreProperties>
</file>