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HG丸ｺﾞｼｯｸM-PRO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3703-89F6-4811-A7FE-E38934268AE1}" type="slidenum">
              <a:rPr b="0" lang="fr-FR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07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939E-82A4-4D8F-BA6A-7CBBADFF8816}" type="slidenum">
              <a:rPr b="0" lang="fr-FR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8E08-B70E-42A0-9730-995259645E6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07B5-01F0-4C1F-9C23-1BB3A353B1D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68FF-174D-4C18-9F7A-151CAFC680D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3FDD-C382-4095-A14D-00754AAFF24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9566-54C9-4E83-9EA9-9A901CDDE74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81C5-1990-4A60-A8FB-5BA2324A6E3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F464-84FD-4A0E-B149-72D14CDB041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6E68-848D-413A-A9FE-A66B8C78C55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E912-9DA7-45D3-9497-A1B756914F9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906F-7E1E-42EA-A8FF-FE651268EBF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A108-DFF3-4043-A794-EDC140899DE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0B05-04E1-4C9B-B5EF-11CF5D78725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943B-0F6D-4E42-B0E4-6E6A3D96FCF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5A29-4461-48D5-95BB-6E612C29E51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1802-C1C7-4E3A-A18A-5DF0310A895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3CCB-A8BF-44D6-9F9A-7FCADB76820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6145-72FF-4C6B-8105-8CDF8ED2598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4C3F-6D34-4B39-A478-16CB2554CE1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08F5-BD2E-451E-B525-373C4F169EC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5303-5ED4-4F93-95F0-2043DEEA3C0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6E3F-A97F-4A63-B260-26AC88BBF1F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D76F-AA14-4F24-94C6-CDFFE604B4B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9B73-F00B-4E4C-8597-001BC883AFF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HG丸ｺﾞｼｯｸM-PRO"/>
              </a:rPr>
              <a:t>訳注：　</a:t>
            </a:r>
            <a:endParaRPr b="0" lang="en-US" sz="1100" spc="-1" strike="noStrike">
              <a:solidFill>
                <a:srgbClr val="000000"/>
              </a:solidFill>
              <a:latin typeface="HG丸ｺﾞｼｯｸM-PRO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HG丸ｺﾞｼｯｸM-PRO"/>
              </a:rPr>
              <a:t>ここで集成式と訳出した原語は，「</a:t>
            </a:r>
            <a:r>
              <a:rPr b="0" lang="en-US" sz="1100" spc="-1" strike="noStrike">
                <a:solidFill>
                  <a:srgbClr val="000000"/>
                </a:solidFill>
                <a:latin typeface="HG丸ｺﾞｼｯｸM-PRO"/>
              </a:rPr>
              <a:t>Aggregates</a:t>
            </a:r>
            <a:r>
              <a:rPr b="0" lang="ja-JP" sz="1100" spc="-1" strike="noStrike">
                <a:solidFill>
                  <a:srgbClr val="000000"/>
                </a:solidFill>
                <a:latin typeface="HG丸ｺﾞｼｯｸM-PRO"/>
              </a:rPr>
              <a:t>」．</a:t>
            </a:r>
            <a:r>
              <a:rPr b="0" lang="en-US" sz="1100" spc="-1" strike="noStrike">
                <a:solidFill>
                  <a:srgbClr val="000000"/>
                </a:solidFill>
                <a:latin typeface="HG丸ｺﾞｼｯｸM-PRO"/>
              </a:rPr>
              <a:t>Ada</a:t>
            </a:r>
            <a:r>
              <a:rPr b="0" lang="ja-JP" sz="1100" spc="-1" strike="noStrike">
                <a:solidFill>
                  <a:srgbClr val="000000"/>
                </a:solidFill>
                <a:latin typeface="HG丸ｺﾞｼｯｸM-PRO"/>
              </a:rPr>
              <a:t>では，配列型およびレコード型の</a:t>
            </a:r>
            <a:r>
              <a:rPr b="0" lang="ja-JP" sz="1100" spc="-1" strike="noStrike" u="sng">
                <a:solidFill>
                  <a:srgbClr val="000000"/>
                </a:solidFill>
                <a:uFillTx/>
                <a:latin typeface="HG丸ｺﾞｼｯｸM-PRO"/>
              </a:rPr>
              <a:t>値</a:t>
            </a:r>
            <a:r>
              <a:rPr b="0" lang="ja-JP" sz="1100" spc="-1" strike="noStrike">
                <a:solidFill>
                  <a:srgbClr val="000000"/>
                </a:solidFill>
                <a:latin typeface="HG丸ｺﾞｼｯｸM-PRO"/>
              </a:rPr>
              <a:t>のことを指します．</a:t>
            </a:r>
            <a:endParaRPr b="0" lang="en-US" sz="1100" spc="-1" strike="noStrike">
              <a:solidFill>
                <a:srgbClr val="000000"/>
              </a:solidFill>
              <a:latin typeface="HG丸ｺﾞｼｯｸM-PRO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04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0449-CB73-4C85-86D9-B2FD871A7D36}" type="slidenum">
              <a:rPr b="0" lang="fr-FR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96248602-1179-4BCB-8255-44C038C58E70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D6B36E56-7A17-4D61-A522-A728D5C23801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1BBB7BD9-B399-4405-880C-F1965BC0D147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2D571F8A-1BF1-4D49-A8F4-A0BCF78C49AA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Creative Commons License"/>
          <p:cNvPicPr/>
          <p:nvPr/>
        </p:nvPicPr>
        <p:blipFill>
          <a:blip r:embed="rId3"/>
          <a:stretch/>
        </p:blipFill>
        <p:spPr>
          <a:xfrm>
            <a:off x="7885080" y="158760"/>
            <a:ext cx="1106640" cy="390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AdaCoreU-isolated.png"/>
          <p:cNvPicPr/>
          <p:nvPr/>
        </p:nvPicPr>
        <p:blipFill>
          <a:blip r:embed="rId4"/>
          <a:stretch/>
        </p:blipFill>
        <p:spPr>
          <a:xfrm>
            <a:off x="3851280" y="1341360"/>
            <a:ext cx="1658880" cy="2708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119B5794-0FB2-487B-813D-636FCE31FAE5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AdaCoreU-isolated.png"/>
          <p:cNvPicPr/>
          <p:nvPr/>
        </p:nvPicPr>
        <p:blipFill>
          <a:blip r:embed="rId3"/>
          <a:stretch/>
        </p:blipFill>
        <p:spPr>
          <a:xfrm>
            <a:off x="539640" y="404640"/>
            <a:ext cx="662040" cy="1079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E4FC1DBF-679F-4A24-BACF-68539F481E17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5819760" y="153504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1619280" y="42210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university.adacor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Creative Commons License"/>
          <p:cNvPicPr/>
          <p:nvPr/>
        </p:nvPicPr>
        <p:blipFill>
          <a:blip r:embed="rId3"/>
          <a:stretch/>
        </p:blipFill>
        <p:spPr>
          <a:xfrm>
            <a:off x="7904160" y="158760"/>
            <a:ext cx="1106640" cy="390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AdaCoreU-isolated.png"/>
          <p:cNvPicPr/>
          <p:nvPr/>
        </p:nvPicPr>
        <p:blipFill>
          <a:blip r:embed="rId4"/>
          <a:stretch/>
        </p:blipFill>
        <p:spPr>
          <a:xfrm>
            <a:off x="3851280" y="1341360"/>
            <a:ext cx="1658880" cy="27082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44534BE7-3803-4325-9B20-48E92D95BD3B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AdaCoreU-isolated.png"/>
          <p:cNvPicPr/>
          <p:nvPr/>
        </p:nvPicPr>
        <p:blipFill>
          <a:blip r:embed="rId3"/>
          <a:stretch/>
        </p:blipFill>
        <p:spPr>
          <a:xfrm>
            <a:off x="539640" y="404640"/>
            <a:ext cx="662040" cy="107964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7"/>
          <p:cNvGrpSpPr/>
          <p:nvPr/>
        </p:nvGrpSpPr>
        <p:grpSpPr>
          <a:xfrm>
            <a:off x="2879640" y="2641680"/>
            <a:ext cx="3373560" cy="1574640"/>
            <a:chOff x="2879640" y="2641680"/>
            <a:chExt cx="3373560" cy="1574640"/>
          </a:xfrm>
        </p:grpSpPr>
        <p:sp>
          <p:nvSpPr>
            <p:cNvPr id="175" name="TextBox 8"/>
            <p:cNvSpPr/>
            <p:nvPr/>
          </p:nvSpPr>
          <p:spPr>
            <a:xfrm>
              <a:off x="4405320" y="2828880"/>
              <a:ext cx="1847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Quiz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Picture 2" descr="C:\Users\ochem\AppData\Local\Temp\Rar$DR28.624\AdaCoreU Package\icons\quiz.png"/>
            <p:cNvPicPr/>
            <p:nvPr/>
          </p:nvPicPr>
          <p:blipFill>
            <a:blip r:embed="rId4"/>
            <a:stretch/>
          </p:blipFill>
          <p:spPr>
            <a:xfrm>
              <a:off x="2879640" y="2641680"/>
              <a:ext cx="1575000" cy="15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A3ADC1E3-BB46-45F9-8FAC-AEF9095C1E10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8C50220E-BDAA-431C-833F-2F4EB2E178B5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7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正しいです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6532560" y="108000"/>
            <a:ext cx="2611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はい</a:t>
            </a:r>
            <a:br>
              <a:rPr sz="1400"/>
            </a:br>
            <a:r>
              <a:rPr b="1" lang="ja-JP" sz="11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（チェックアイコンをクリックする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5"/>
          <p:cNvSpPr/>
          <p:nvPr/>
        </p:nvSpPr>
        <p:spPr>
          <a:xfrm>
            <a:off x="6996600" y="627120"/>
            <a:ext cx="14382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いいえ</a:t>
            </a:r>
            <a:br>
              <a:rPr sz="1400"/>
            </a:br>
            <a:r>
              <a:rPr b="1" lang="ja-JP" sz="11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（エラーの場所をクリックする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9" descr="correct.png"/>
          <p:cNvPicPr/>
          <p:nvPr/>
        </p:nvPicPr>
        <p:blipFill>
          <a:blip r:embed="rId4"/>
          <a:stretch/>
        </p:blipFill>
        <p:spPr>
          <a:xfrm>
            <a:off x="6084720" y="353880"/>
            <a:ext cx="482760" cy="4827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2C5DC9EB-78B4-41AA-AB82-5EA95BC5B1F9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04" name="TextBox 8"/>
          <p:cNvSpPr/>
          <p:nvPr/>
        </p:nvSpPr>
        <p:spPr>
          <a:xfrm>
            <a:off x="1042920" y="324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正しいです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correct.png"/>
          <p:cNvPicPr/>
          <p:nvPr/>
        </p:nvPicPr>
        <p:blipFill>
          <a:blip r:embed="rId4"/>
          <a:stretch/>
        </p:blipFill>
        <p:spPr>
          <a:xfrm>
            <a:off x="6084720" y="353880"/>
            <a:ext cx="482760" cy="482760"/>
          </a:xfrm>
          <a:prstGeom prst="rect">
            <a:avLst/>
          </a:prstGeom>
          <a:ln w="0">
            <a:noFill/>
          </a:ln>
        </p:spPr>
      </p:pic>
      <p:sp>
        <p:nvSpPr>
          <p:cNvPr id="306" name="TextBox 6"/>
          <p:cNvSpPr/>
          <p:nvPr/>
        </p:nvSpPr>
        <p:spPr>
          <a:xfrm>
            <a:off x="6823440" y="189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は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5EA12C43-0FA8-4B15-A9F5-C0919498D78B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48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正しいです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6"/>
          <p:cNvSpPr/>
          <p:nvPr/>
        </p:nvSpPr>
        <p:spPr>
          <a:xfrm>
            <a:off x="6901200" y="69228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いい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7" descr="wrong.png"/>
          <p:cNvPicPr/>
          <p:nvPr/>
        </p:nvPicPr>
        <p:blipFill>
          <a:blip r:embed="rId4"/>
          <a:stretch/>
        </p:blipFill>
        <p:spPr>
          <a:xfrm>
            <a:off x="6084720" y="358920"/>
            <a:ext cx="478080" cy="47772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579240" y="3933360"/>
            <a:ext cx="8205480" cy="10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1780a6"/>
                </a:solidFill>
                <a:latin typeface="HG丸ｺﾞｼｯｸM-PRO"/>
              </a:rPr>
              <a:t>レコード型</a:t>
            </a:r>
            <a:endParaRPr b="1" lang="en-US" sz="24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79240" y="4581360"/>
            <a:ext cx="82054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a1a1a"/>
                </a:solidFill>
                <a:latin typeface="Calibri"/>
              </a:rPr>
              <a:t>Presented by Quentin Ochem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10920" y="4941720"/>
            <a:ext cx="82040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fbfbf"/>
                </a:solidFill>
                <a:latin typeface="Calibri"/>
              </a:rPr>
              <a:t>university.adacore.com</a:t>
            </a:r>
            <a:endParaRPr b="1" lang="en-US" sz="12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区別子を持ったレコード型の利用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配列で，制約を持たない部分は記述しなければなりません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ある制約に関して，アクセスすることができない要素へのアクセスは，制約エラー（</a:t>
            </a: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</a:rPr>
              <a:t>Constraint_Error</a:t>
            </a: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）を送出しま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注意</a:t>
            </a: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</a:rPr>
              <a:t>: </a:t>
            </a: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区別子は定数です．オブジェクト宣言時に設定しま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1476360" y="1844640"/>
          <a:ext cx="6095880" cy="1008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008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Shape (Circle) := …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2 : Shape := V1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OK, constrained by initial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.Radius := 0.0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OK, radius is in the Circle cas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2.X2 := 0.0;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Raises constraint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区別子を持った集成式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レコードによる集成と同様です．しかし，区別子の値を与える必要がありま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制約に関している値のみを与えま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116000" y="4267080"/>
          <a:ext cx="7129440" cy="457200"/>
        </p:xfrm>
        <a:graphic>
          <a:graphicData uri="http://schemas.openxmlformats.org/drawingml/2006/table">
            <a:tbl>
              <a:tblPr/>
              <a:tblGrid>
                <a:gridCol w="7129440"/>
              </a:tblGrid>
              <a:tr h="459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Shape := (Kind =&gt; Line, X =&gt; 0.0, Y =&gt; 0.0, X2 =&gt; 10.0, Y2 =&gt; 10.0)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Shape := (Circle, 0.0, 0.0, 5.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6" name=""/>
          <p:cNvGraphicFramePr/>
          <p:nvPr/>
        </p:nvGraphicFramePr>
        <p:xfrm>
          <a:off x="1763640" y="2773440"/>
          <a:ext cx="5616720" cy="131112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 B, C : Integer := 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R := (A =&gt; 1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(1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1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1763640" y="2773440"/>
          <a:ext cx="5616720" cy="131112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 B, C : Integer := 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R := (A =&gt; 1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20" name="Oval 2"/>
          <p:cNvSpPr/>
          <p:nvPr/>
        </p:nvSpPr>
        <p:spPr>
          <a:xfrm>
            <a:off x="2793960" y="3716280"/>
            <a:ext cx="141768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traight Connector 3"/>
          <p:cNvSpPr/>
          <p:nvPr/>
        </p:nvSpPr>
        <p:spPr>
          <a:xfrm flipH="1">
            <a:off x="3288960" y="4084560"/>
            <a:ext cx="214200" cy="857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4"/>
          <p:cNvSpPr/>
          <p:nvPr/>
        </p:nvSpPr>
        <p:spPr>
          <a:xfrm>
            <a:off x="1919520" y="4941720"/>
            <a:ext cx="2741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コンパイルエラー．集成式では，他の要素に対して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デフォルト値を与える必要がありま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例えば，「</a:t>
            </a: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A =&gt; 1, others =&gt; &lt;&gt;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」で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8" descr="wrong.png"/>
          <p:cNvPicPr/>
          <p:nvPr/>
        </p:nvPicPr>
        <p:blipFill>
          <a:blip r:embed="rId1"/>
          <a:stretch/>
        </p:blipFill>
        <p:spPr>
          <a:xfrm>
            <a:off x="1476360" y="3781440"/>
            <a:ext cx="2397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2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1763640" y="2408400"/>
          <a:ext cx="5616720" cy="204120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204120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_Intege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 B, C : Integer := 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 : My_Integer := 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R :=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1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2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1763640" y="2408400"/>
          <a:ext cx="5616720" cy="204120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204120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_Intege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 B, C : Integer := 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 : My_Integer := 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R :=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1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28" name="Oval 2"/>
          <p:cNvSpPr/>
          <p:nvPr/>
        </p:nvSpPr>
        <p:spPr>
          <a:xfrm>
            <a:off x="2793960" y="4076640"/>
            <a:ext cx="192240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traight Connector 3"/>
          <p:cNvSpPr/>
          <p:nvPr/>
        </p:nvSpPr>
        <p:spPr>
          <a:xfrm flipH="1">
            <a:off x="3549240" y="4444920"/>
            <a:ext cx="206280" cy="639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4"/>
          <p:cNvSpPr/>
          <p:nvPr/>
        </p:nvSpPr>
        <p:spPr>
          <a:xfrm>
            <a:off x="2338920" y="5084640"/>
            <a:ext cx="2421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コンパイルエラ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全てのコンポーネントは同じ型ではありませ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「</a:t>
            </a: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others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」によって，同じ値を与えることはできませ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8" descr="wrong.png"/>
          <p:cNvPicPr/>
          <p:nvPr/>
        </p:nvPicPr>
        <p:blipFill>
          <a:blip r:embed="rId1"/>
          <a:stretch/>
        </p:blipFill>
        <p:spPr>
          <a:xfrm>
            <a:off x="1476360" y="4141800"/>
            <a:ext cx="2397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3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2195640" y="2895480"/>
          <a:ext cx="4752720" cy="1067040"/>
        </p:xfrm>
        <a:graphic>
          <a:graphicData uri="http://schemas.openxmlformats.org/drawingml/2006/table">
            <a:tbl>
              <a:tblPr/>
              <a:tblGrid>
                <a:gridCol w="4752720"/>
              </a:tblGrid>
              <a:tr h="1067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ell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l : Integ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 : Cell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3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2195640" y="2895480"/>
          <a:ext cx="4752720" cy="1067040"/>
        </p:xfrm>
        <a:graphic>
          <a:graphicData uri="http://schemas.openxmlformats.org/drawingml/2006/table">
            <a:tbl>
              <a:tblPr/>
              <a:tblGrid>
                <a:gridCol w="4752720"/>
              </a:tblGrid>
              <a:tr h="1067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ell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l : Integ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 : Cell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36" name="Oval 2"/>
          <p:cNvSpPr/>
          <p:nvPr/>
        </p:nvSpPr>
        <p:spPr>
          <a:xfrm>
            <a:off x="3419640" y="3360600"/>
            <a:ext cx="61416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traight Connector 3"/>
          <p:cNvSpPr/>
          <p:nvPr/>
        </p:nvSpPr>
        <p:spPr>
          <a:xfrm flipH="1">
            <a:off x="3478320" y="3728880"/>
            <a:ext cx="249120" cy="5637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4"/>
          <p:cNvSpPr/>
          <p:nvPr/>
        </p:nvSpPr>
        <p:spPr>
          <a:xfrm>
            <a:off x="2641680" y="4292640"/>
            <a:ext cx="167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コンパイルエラ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この型定義は，再帰していま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8" descr="wrong.png"/>
          <p:cNvPicPr/>
          <p:nvPr/>
        </p:nvPicPr>
        <p:blipFill>
          <a:blip r:embed="rId1"/>
          <a:stretch/>
        </p:blipFill>
        <p:spPr>
          <a:xfrm>
            <a:off x="1835280" y="3425760"/>
            <a:ext cx="2397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4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1763640" y="2408400"/>
          <a:ext cx="5616720" cy="204120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204120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_Intege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 B, C : Integ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 : My_Integ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R :=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&lt;&gt;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Content Placeholder 3" descr=""/>
          <p:cNvPicPr/>
          <p:nvPr/>
        </p:nvPicPr>
        <p:blipFill>
          <a:blip r:embed="rId1"/>
          <a:stretch/>
        </p:blipFill>
        <p:spPr>
          <a:xfrm>
            <a:off x="55440" y="115920"/>
            <a:ext cx="9033120" cy="66261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Ada</a:t>
            </a: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型モデル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4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1763640" y="2408400"/>
          <a:ext cx="5616720" cy="204120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204120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_Intege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 B, C : Integ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 : My_Integ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R :=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&lt;&gt;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44" name="TextBox 4"/>
          <p:cNvSpPr/>
          <p:nvPr/>
        </p:nvSpPr>
        <p:spPr>
          <a:xfrm>
            <a:off x="1926000" y="5084640"/>
            <a:ext cx="4034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これは正し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レコード定義中で明示的に値が与えられていない場合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A, B, C, D 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は，その時点でのメモリ中の値（何の値かは不定）になりま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5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1763640" y="2773440"/>
          <a:ext cx="5616720" cy="131112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Integer := 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R := (0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5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1763640" y="2773440"/>
          <a:ext cx="5616720" cy="131112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Integer := 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R := (0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49" name="Oval 2"/>
          <p:cNvSpPr/>
          <p:nvPr/>
        </p:nvSpPr>
        <p:spPr>
          <a:xfrm>
            <a:off x="2921040" y="3716280"/>
            <a:ext cx="49860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traight Connector 3"/>
          <p:cNvSpPr/>
          <p:nvPr/>
        </p:nvSpPr>
        <p:spPr>
          <a:xfrm flipH="1">
            <a:off x="2700000" y="4084560"/>
            <a:ext cx="469800" cy="560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4"/>
          <p:cNvSpPr/>
          <p:nvPr/>
        </p:nvSpPr>
        <p:spPr>
          <a:xfrm>
            <a:off x="3515040" y="4724280"/>
            <a:ext cx="103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コンパイルエラ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要素が一つの場合，名前付き表記のみ可能です（例えば，「</a:t>
            </a: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A =&gt; 0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」です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8" descr="wrong.png"/>
          <p:cNvPicPr/>
          <p:nvPr/>
        </p:nvPicPr>
        <p:blipFill>
          <a:blip r:embed="rId1"/>
          <a:stretch/>
        </p:blipFill>
        <p:spPr>
          <a:xfrm>
            <a:off x="1476360" y="3781440"/>
            <a:ext cx="2397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6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1763640" y="2773440"/>
          <a:ext cx="5616720" cy="131112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String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R := (V =&gt; "Hello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6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1763640" y="2773440"/>
          <a:ext cx="5616720" cy="131112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String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R := (V =&gt; "Hello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57" name="Oval 2"/>
          <p:cNvSpPr/>
          <p:nvPr/>
        </p:nvSpPr>
        <p:spPr>
          <a:xfrm>
            <a:off x="2101680" y="2992320"/>
            <a:ext cx="160668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3"/>
          <p:cNvSpPr/>
          <p:nvPr/>
        </p:nvSpPr>
        <p:spPr>
          <a:xfrm flipH="1">
            <a:off x="1908000" y="3360600"/>
            <a:ext cx="997200" cy="1076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4"/>
          <p:cNvSpPr/>
          <p:nvPr/>
        </p:nvSpPr>
        <p:spPr>
          <a:xfrm>
            <a:off x="1777680" y="4560840"/>
            <a:ext cx="30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コンパイルエラ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レコード型は，制約を持たない要素を持つことができませ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8" descr="wrong.png"/>
          <p:cNvPicPr/>
          <p:nvPr/>
        </p:nvPicPr>
        <p:blipFill>
          <a:blip r:embed="rId1"/>
          <a:stretch/>
        </p:blipFill>
        <p:spPr>
          <a:xfrm>
            <a:off x="1476360" y="3057480"/>
            <a:ext cx="2397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7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1763640" y="2773440"/>
          <a:ext cx="5616720" cy="131112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: String (1 .. 10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R := (S =&gt; "Hello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7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1763640" y="2773440"/>
          <a:ext cx="5616720" cy="131112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: String (1 .. 10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R := (S =&gt; "Hello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65" name="Oval 2"/>
          <p:cNvSpPr/>
          <p:nvPr/>
        </p:nvSpPr>
        <p:spPr>
          <a:xfrm>
            <a:off x="3492360" y="3714840"/>
            <a:ext cx="136692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traight Connector 3"/>
          <p:cNvSpPr/>
          <p:nvPr/>
        </p:nvSpPr>
        <p:spPr>
          <a:xfrm flipH="1">
            <a:off x="3506400" y="4083120"/>
            <a:ext cx="669960" cy="1106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4"/>
          <p:cNvSpPr/>
          <p:nvPr/>
        </p:nvSpPr>
        <p:spPr>
          <a:xfrm>
            <a:off x="1738080" y="5189400"/>
            <a:ext cx="353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実行時エラー（またコンパイル時に警告がでます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ここでの文字列長は</a:t>
            </a: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5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です．しかし，長さ</a:t>
            </a: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10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の文字列が必要で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8" descr="wrong.png"/>
          <p:cNvPicPr/>
          <p:nvPr/>
        </p:nvPicPr>
        <p:blipFill>
          <a:blip r:embed="rId1"/>
          <a:stretch/>
        </p:blipFill>
        <p:spPr>
          <a:xfrm>
            <a:off x="1476360" y="3780000"/>
            <a:ext cx="2397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8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1763640" y="2408400"/>
          <a:ext cx="5616720" cy="204120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204120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(D : Integer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R := (D =&gt; 5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R := (D =&gt; 6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= V2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8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763640" y="2408400"/>
          <a:ext cx="5616720" cy="204120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204120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(D : Integer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R := (D =&gt; 5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R := (D =&gt; 6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= V2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73" name="Oval 2"/>
          <p:cNvSpPr/>
          <p:nvPr/>
        </p:nvSpPr>
        <p:spPr>
          <a:xfrm>
            <a:off x="2124000" y="4116240"/>
            <a:ext cx="136836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traight Connector 3"/>
          <p:cNvSpPr/>
          <p:nvPr/>
        </p:nvSpPr>
        <p:spPr>
          <a:xfrm flipH="1">
            <a:off x="1928520" y="4484520"/>
            <a:ext cx="879480" cy="1076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4"/>
          <p:cNvSpPr/>
          <p:nvPr/>
        </p:nvSpPr>
        <p:spPr>
          <a:xfrm>
            <a:off x="1205640" y="5570640"/>
            <a:ext cx="245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V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１と</a:t>
            </a: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V2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は異なる区別子の値を持ちます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この両者は構造的に異なっていると考えま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8" descr="wrong.png"/>
          <p:cNvPicPr/>
          <p:nvPr/>
        </p:nvPicPr>
        <p:blipFill>
          <a:blip r:embed="rId1"/>
          <a:stretch/>
        </p:blipFill>
        <p:spPr>
          <a:xfrm>
            <a:off x="1476360" y="4116240"/>
            <a:ext cx="2397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9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1258920" y="1919160"/>
          <a:ext cx="6626160" cy="3019680"/>
        </p:xfrm>
        <a:graphic>
          <a:graphicData uri="http://schemas.openxmlformats.org/drawingml/2006/table">
            <a:tbl>
              <a:tblPr/>
              <a:tblGrid>
                <a:gridCol w="6626160"/>
              </a:tblGrid>
              <a:tr h="3019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hape_Kind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Circle, Line);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hape (Kind : Shape_Kind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Kind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ine  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, Y : Floa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2, Y2 : Floa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ircle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, Y : Floa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dius : Float;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レコード型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一つの型の中に，名前を持つ異種のデータを格納することができま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各要素には，ドット表記を用いて，アクセスすることができま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2987640" y="2606760"/>
          <a:ext cx="2664000" cy="822240"/>
        </p:xfrm>
        <a:graphic>
          <a:graphicData uri="http://schemas.openxmlformats.org/drawingml/2006/table">
            <a:tbl>
              <a:tblPr/>
              <a:tblGrid>
                <a:gridCol w="2664000"/>
              </a:tblGrid>
              <a:tr h="8222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hap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d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, Y : Floa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3" name=""/>
          <p:cNvGraphicFramePr/>
          <p:nvPr/>
        </p:nvGraphicFramePr>
        <p:xfrm>
          <a:off x="2987640" y="4692600"/>
          <a:ext cx="2664000" cy="824040"/>
        </p:xfrm>
        <a:graphic>
          <a:graphicData uri="http://schemas.openxmlformats.org/drawingml/2006/table">
            <a:tbl>
              <a:tblPr/>
              <a:tblGrid>
                <a:gridCol w="2664000"/>
              </a:tblGrid>
              <a:tr h="824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: Shap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.X := 0.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.Id := 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9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1258920" y="1919160"/>
          <a:ext cx="6626160" cy="3019680"/>
        </p:xfrm>
        <a:graphic>
          <a:graphicData uri="http://schemas.openxmlformats.org/drawingml/2006/table">
            <a:tbl>
              <a:tblPr/>
              <a:tblGrid>
                <a:gridCol w="6626160"/>
              </a:tblGrid>
              <a:tr h="3019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hape_Kind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Circle, Line);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hape (Kind : Shape_Kind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Kind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ine  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, Y : Floa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2, Y2 : Floa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ircle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, Y : Floa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dius : Float;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81" name="Oval 2"/>
          <p:cNvSpPr/>
          <p:nvPr/>
        </p:nvSpPr>
        <p:spPr>
          <a:xfrm>
            <a:off x="2376360" y="3860640"/>
            <a:ext cx="682920" cy="368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traight Connector 3"/>
          <p:cNvSpPr/>
          <p:nvPr/>
        </p:nvSpPr>
        <p:spPr>
          <a:xfrm>
            <a:off x="2717640" y="4229280"/>
            <a:ext cx="522360" cy="1215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4"/>
          <p:cNvSpPr/>
          <p:nvPr/>
        </p:nvSpPr>
        <p:spPr>
          <a:xfrm>
            <a:off x="1737360" y="5445000"/>
            <a:ext cx="30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X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，</a:t>
            </a: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Y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が，</a:t>
            </a: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Line 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と</a:t>
            </a: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 </a:t>
            </a: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Circle 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で重複していま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8" descr="wrong.png"/>
          <p:cNvPicPr/>
          <p:nvPr/>
        </p:nvPicPr>
        <p:blipFill>
          <a:blip r:embed="rId1"/>
          <a:stretch/>
        </p:blipFill>
        <p:spPr>
          <a:xfrm>
            <a:off x="971640" y="3932280"/>
            <a:ext cx="2397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10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1258920" y="1311120"/>
          <a:ext cx="6626160" cy="4237200"/>
        </p:xfrm>
        <a:graphic>
          <a:graphicData uri="http://schemas.openxmlformats.org/drawingml/2006/table">
            <a:tbl>
              <a:tblPr/>
              <a:tblGrid>
                <a:gridCol w="6626160"/>
              </a:tblGrid>
              <a:tr h="423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hape_Kind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Circle, Line);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hape (Kind : Shape_Kind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, Y : Floa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Kind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ine  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2, Y2 : Floa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ircle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dius : Float;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Shape := (Circle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&lt;&gt;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.Kind := Line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.X2 := 0.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.Y2 := 0.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10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1258920" y="1311120"/>
          <a:ext cx="6626160" cy="4237200"/>
        </p:xfrm>
        <a:graphic>
          <a:graphicData uri="http://schemas.openxmlformats.org/drawingml/2006/table">
            <a:tbl>
              <a:tblPr/>
              <a:tblGrid>
                <a:gridCol w="6626160"/>
              </a:tblGrid>
              <a:tr h="423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hape_Kind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Circle, Line);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hape (Kind : Shape_Kind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, Y : Floa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Kind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ine  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2, Y2 : Floa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ircle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dius : Float;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Shape := (Circle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&lt;&gt;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.Kind := Line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.X2 := 0.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.Y2 := 0.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89" name="Oval 2"/>
          <p:cNvSpPr/>
          <p:nvPr/>
        </p:nvSpPr>
        <p:spPr>
          <a:xfrm>
            <a:off x="1619280" y="4705200"/>
            <a:ext cx="201600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traight Connector 3"/>
          <p:cNvSpPr/>
          <p:nvPr/>
        </p:nvSpPr>
        <p:spPr>
          <a:xfrm flipH="1">
            <a:off x="2230560" y="5073480"/>
            <a:ext cx="396720" cy="1071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4"/>
          <p:cNvSpPr/>
          <p:nvPr/>
        </p:nvSpPr>
        <p:spPr>
          <a:xfrm>
            <a:off x="1340640" y="614520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オブジェクトの区別子は定数で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8" descr="wrong.png"/>
          <p:cNvPicPr/>
          <p:nvPr/>
        </p:nvPicPr>
        <p:blipFill>
          <a:blip r:embed="rId1"/>
          <a:stretch/>
        </p:blipFill>
        <p:spPr>
          <a:xfrm>
            <a:off x="971640" y="4770360"/>
            <a:ext cx="2397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ネスト化したレコード型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要素の型としては，全ての確定（</a:t>
            </a: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</a:rPr>
              <a:t>definite</a:t>
            </a: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）型を用いることができま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サイズは実行前準備処理時にのみ決定する場合がありま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</a:rPr>
              <a:t>	</a:t>
            </a: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</a:rPr>
              <a:t>	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</a:rPr>
              <a:t>	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このとき生成するコードに影響を与えます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2916360" y="2162160"/>
          <a:ext cx="2879640" cy="1554120"/>
        </p:xfrm>
        <a:graphic>
          <a:graphicData uri="http://schemas.openxmlformats.org/drawingml/2006/table">
            <a:tbl>
              <a:tblPr/>
              <a:tblGrid>
                <a:gridCol w="287964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sition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, Y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hap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ame : String (1 .. 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: Position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2627280" y="4538520"/>
          <a:ext cx="3960720" cy="1554480"/>
        </p:xfrm>
        <a:graphic>
          <a:graphicData uri="http://schemas.openxmlformats.org/drawingml/2006/table">
            <a:tbl>
              <a:tblPr/>
              <a:tblGrid>
                <a:gridCol w="3960720"/>
              </a:tblGrid>
              <a:tr h="1554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n : Natural := Compute_Len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ame_Typ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new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 (1 .. Len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hap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ame : Name_Typ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: Position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デフォルト値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レコード型の要素に，デフォルト値を与えることができます</a:t>
            </a: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デフォルト値を動的に表現することもでき，オブジェクトの実行前準備処理で評価されます</a:t>
            </a: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2843280" y="1598760"/>
          <a:ext cx="3241440" cy="822240"/>
        </p:xfrm>
        <a:graphic>
          <a:graphicData uri="http://schemas.openxmlformats.org/drawingml/2006/table">
            <a:tbl>
              <a:tblPr/>
              <a:tblGrid>
                <a:gridCol w="3241440"/>
              </a:tblGrid>
              <a:tr h="8222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sition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Integer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 : Integer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2843280" y="3429000"/>
          <a:ext cx="3313080" cy="3200400"/>
        </p:xfrm>
        <a:graphic>
          <a:graphicData uri="http://schemas.openxmlformats.org/drawingml/2006/table">
            <a:tbl>
              <a:tblPr/>
              <a:tblGrid>
                <a:gridCol w="33130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x, Cy : Integer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sition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Integer := Cx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 : Integer := Cy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 : Position; -- = (0, 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x := 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y := 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cl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2 : Position; -- = (1, 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集成式（</a:t>
            </a:r>
            <a:r>
              <a:rPr b="0" lang="en-US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aggregate</a:t>
            </a: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）</a:t>
            </a:r>
            <a:r>
              <a:rPr b="0" lang="en-US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(1/2)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配列と同様に，レコードの値を集成式の形式で与えることができま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名前付き集成式は利用可能です（しかし，途中で位置による指定に戻ることはできません）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2050920" y="2205000"/>
          <a:ext cx="4896000" cy="2103480"/>
        </p:xfrm>
        <a:graphic>
          <a:graphicData uri="http://schemas.openxmlformats.org/drawingml/2006/table">
            <a:tbl>
              <a:tblPr/>
              <a:tblGrid>
                <a:gridCol w="4896000"/>
              </a:tblGrid>
              <a:tr h="210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sition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, Y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hap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ame : String (1 .. 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: Position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enter : Position := (0, 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ircle : Shape := (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' '), Cente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5" name=""/>
          <p:cNvGraphicFramePr/>
          <p:nvPr/>
        </p:nvGraphicFramePr>
        <p:xfrm>
          <a:off x="2124000" y="5516640"/>
          <a:ext cx="4896000" cy="822240"/>
        </p:xfrm>
        <a:graphic>
          <a:graphicData uri="http://schemas.openxmlformats.org/drawingml/2006/table">
            <a:tbl>
              <a:tblPr/>
              <a:tblGrid>
                <a:gridCol w="4896000"/>
              </a:tblGrid>
              <a:tr h="8222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 : Position := (0, Y =&gt; 0);      -- 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2 : Position := (X =&gt; 0, Y =&gt; 0); -- 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3 : Position := (Y =&gt; 0, X =&gt; 0); -- 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P4 : Position := (X =&gt; 0, 0);      -- N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96" name="Picture 8" descr="wrong.png"/>
          <p:cNvPicPr/>
          <p:nvPr/>
        </p:nvPicPr>
        <p:blipFill>
          <a:blip r:embed="rId1"/>
          <a:stretch/>
        </p:blipFill>
        <p:spPr>
          <a:xfrm>
            <a:off x="1908000" y="6051600"/>
            <a:ext cx="2397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集成式</a:t>
            </a:r>
            <a:r>
              <a:rPr b="0" lang="mr-IN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(2/2)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404040"/>
                </a:solidFill>
                <a:latin typeface="HG丸ｺﾞｼｯｸM-PRO"/>
              </a:rPr>
              <a:t>要素が一つの場合，名前付き集成式を用いる必要があります</a:t>
            </a:r>
            <a:endParaRPr b="1" lang="en-US" sz="18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404040"/>
                </a:solidFill>
                <a:latin typeface="HG丸ｺﾞｼｯｸM-PRO"/>
              </a:rPr>
              <a:t>（不定としての）デフォルト値は，名前，あるいは「</a:t>
            </a:r>
            <a:r>
              <a:rPr b="1" lang="en-US" sz="1800" spc="-1" strike="noStrike">
                <a:solidFill>
                  <a:srgbClr val="404040"/>
                </a:solidFill>
                <a:latin typeface="HG丸ｺﾞｼｯｸM-PRO"/>
              </a:rPr>
              <a:t>others</a:t>
            </a:r>
            <a:r>
              <a:rPr b="1" lang="ja-JP" sz="1800" spc="-1" strike="noStrike">
                <a:solidFill>
                  <a:srgbClr val="404040"/>
                </a:solidFill>
                <a:latin typeface="HG丸ｺﾞｼｯｸM-PRO"/>
              </a:rPr>
              <a:t>」のあとで＜＞によって参照できます</a:t>
            </a:r>
            <a:endParaRPr b="1" lang="en-US" sz="18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404040"/>
                </a:solidFill>
                <a:latin typeface="HG丸ｺﾞｼｯｸM-PRO"/>
              </a:rPr>
              <a:t>もし，集成式中で，全ての残りの型</a:t>
            </a:r>
            <a:r>
              <a:rPr b="1" lang="en-US" sz="1800" spc="-1" strike="noStrike">
                <a:solidFill>
                  <a:srgbClr val="404040"/>
                </a:solidFill>
                <a:latin typeface="HG丸ｺﾞｼｯｸM-PRO"/>
              </a:rPr>
              <a:t>が</a:t>
            </a:r>
            <a:r>
              <a:rPr b="1" lang="ja-JP" sz="1800" spc="-1" strike="noStrike">
                <a:solidFill>
                  <a:srgbClr val="404040"/>
                </a:solidFill>
                <a:latin typeface="HG丸ｺﾞｼｯｸM-PRO"/>
              </a:rPr>
              <a:t>同じならば，「</a:t>
            </a:r>
            <a:r>
              <a:rPr b="1" lang="en-US" sz="1800" spc="-1" strike="noStrike">
                <a:solidFill>
                  <a:srgbClr val="404040"/>
                </a:solidFill>
                <a:latin typeface="HG丸ｺﾞｼｯｸM-PRO"/>
              </a:rPr>
              <a:t>others</a:t>
            </a:r>
            <a:r>
              <a:rPr b="1" lang="ja-JP" sz="1800" spc="-1" strike="noStrike">
                <a:solidFill>
                  <a:srgbClr val="404040"/>
                </a:solidFill>
                <a:latin typeface="HG丸ｺﾞｼｯｸM-PRO"/>
              </a:rPr>
              <a:t>」を用いることができます</a:t>
            </a:r>
            <a:endParaRPr b="1" lang="en-US" sz="18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2195640" y="1663560"/>
          <a:ext cx="4895640" cy="1189080"/>
        </p:xfrm>
        <a:graphic>
          <a:graphicData uri="http://schemas.openxmlformats.org/drawingml/2006/table">
            <a:tbl>
              <a:tblPr/>
              <a:tblGrid>
                <a:gridCol w="489564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ingleton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Singleton := (V =&gt; 0); -- 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V2 : Singleton := (0);      -- N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2195640" y="3645000"/>
          <a:ext cx="4895640" cy="1189080"/>
        </p:xfrm>
        <a:graphic>
          <a:graphicData uri="http://schemas.openxmlformats.org/drawingml/2006/table">
            <a:tbl>
              <a:tblPr/>
              <a:tblGrid>
                <a:gridCol w="489564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c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 B, C, D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Rec := 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&lt;&gt;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Rec := (A =&gt; 0, B =&gt; &lt;&gt;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&lt;&gt;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1" name=""/>
          <p:cNvGraphicFramePr/>
          <p:nvPr/>
        </p:nvGraphicFramePr>
        <p:xfrm>
          <a:off x="2268360" y="5479920"/>
          <a:ext cx="4896000" cy="1189080"/>
        </p:xfrm>
        <a:graphic>
          <a:graphicData uri="http://schemas.openxmlformats.org/drawingml/2006/table">
            <a:tbl>
              <a:tblPr/>
              <a:tblGrid>
                <a:gridCol w="489600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c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 B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, D : Floa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Rec := (0, 0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0.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502" name="Picture 8" descr="wrong.png"/>
          <p:cNvPicPr/>
          <p:nvPr/>
        </p:nvPicPr>
        <p:blipFill>
          <a:blip r:embed="rId1"/>
          <a:stretch/>
        </p:blipFill>
        <p:spPr>
          <a:xfrm>
            <a:off x="1908000" y="2600280"/>
            <a:ext cx="2397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区別子が必要な理由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使用する場面に応じて，以下に示すレコード型要素の一部のみを必要とするとしま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もし，形状（</a:t>
            </a: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</a:rPr>
              <a:t>Shape</a:t>
            </a: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）が，線分だとしたとき，半径（</a:t>
            </a: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</a:rPr>
              <a:t>Radius</a:t>
            </a: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）は必要でしょうか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3203640" y="2349360"/>
          <a:ext cx="2663640" cy="1189080"/>
        </p:xfrm>
        <a:graphic>
          <a:graphicData uri="http://schemas.openxmlformats.org/drawingml/2006/table">
            <a:tbl>
              <a:tblPr/>
              <a:tblGrid>
                <a:gridCol w="266364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hap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, Y : Floa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2, Y2 : Floa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dius : Floa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er_Radius : Floa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区別子の利用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区別子を用いて，レコード型をパラメータ化することができます</a:t>
            </a: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この型は不定で，オブジェクトの宣言時に，「制約（</a:t>
            </a:r>
            <a:r>
              <a:rPr b="1" lang="en-US" sz="2000" spc="-1" strike="noStrike">
                <a:solidFill>
                  <a:srgbClr val="404040"/>
                </a:solidFill>
                <a:latin typeface="HG丸ｺﾞｼｯｸM-PRO"/>
              </a:rPr>
              <a:t>constraint</a:t>
            </a: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）」を加える必要があります</a:t>
            </a: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1547640" y="2184480"/>
          <a:ext cx="6096240" cy="24685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46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hape_Kin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Circle, Line, Torus);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hape (Kind : Shape_Kind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, Y : Floa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Kin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ine   =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2, Y2 : Floa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rus  =&gt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er_Radius, Inner_Radius : Floa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ircle    =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dius : Float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1547640" y="5958000"/>
          <a:ext cx="6096240" cy="279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7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Shape (Circle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0:35:52Z</dcterms:created>
  <dc:creator>ochem</dc:creator>
  <dc:description/>
  <dc:language>en-US</dc:language>
  <cp:lastModifiedBy>Ito Masao</cp:lastModifiedBy>
  <dcterms:modified xsi:type="dcterms:W3CDTF">2017-12-08T00:31:13Z</dcterms:modified>
  <cp:revision>364</cp:revision>
  <dc:subject/>
  <dc:title>Diapositive 1</dc:title>
</cp:coreProperties>
</file>