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DF5-4EA6-46C9-8449-F74E3372DBE2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2D7-751B-4C5C-AEC9-ADCB9882B0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FBE0-D3F6-41E5-B933-A119D708E1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066C-FF07-4823-A7D0-1F381704D3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F42-0D60-4EC1-8CC7-3F45575595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E1DA-C85F-45EE-999B-AE34981B9E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5ADF-5EE3-4E9E-B2FE-C13391991D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E396-F787-4DA4-B956-E93690FB73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5207-7413-4E0C-9699-0D59037763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7912-C79C-443B-A74A-DDE2E7283F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FCB6-8581-40AB-B8AE-7459EFF422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CE2A-647A-42E5-B6D3-D60D889AE4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342C-3F12-40C8-A7AA-AF6FFFD9A7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訳注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ここで「完備化」と訳しているのは，完結していない要素に対して，与える情報のこと．例えば，下記の例で，三行目以下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ll 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型に対する「完備化」となります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e Cell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e Cell_Ptr is access Cell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e Cell i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r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xt: Cell_Ptr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alue: Data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nd record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36C-A28C-4B6E-85B6-B9AD4FE52456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20D3-0C16-4BA7-A163-710443DCE6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5A54-AA54-4F91-A9D4-38CFAA6F61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26D0-C9D5-4640-A714-C7B178B94F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9041-1CB1-42F0-98CF-D761193432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C5D2-4B0A-4FE9-89FE-8CB563C167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C2E-2AD8-43EB-8A82-4A9754C06A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360-73C1-4D3D-A640-831F5FD55A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訳注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例の関数では，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0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を入力すると，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9</a:t>
            </a:r>
            <a:r>
              <a:rPr b="0" lang="ja-JP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が返ってく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E76-9A07-4A49-8830-E14F9F5583AF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631CF5C-DCAD-4F26-84C4-E00D46536AB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00C2452-4139-491E-B523-298034E0594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0B43B31-3BDD-4F19-B4D4-B245DA6BB8E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DD20E10-9EA5-47DF-905C-A478E6EE50F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reative Commons License"/>
          <p:cNvPicPr/>
          <p:nvPr/>
        </p:nvPicPr>
        <p:blipFill>
          <a:blip r:embed="rId3"/>
          <a:stretch/>
        </p:blipFill>
        <p:spPr>
          <a:xfrm>
            <a:off x="788508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04DAED6-C3E1-43A0-8350-7C7A4B4E732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61B1CEF-0B63-4DE5-8614-10EE0DF781A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reative Commons License"/>
          <p:cNvPicPr/>
          <p:nvPr/>
        </p:nvPicPr>
        <p:blipFill>
          <a:blip r:embed="rId3"/>
          <a:stretch/>
        </p:blipFill>
        <p:spPr>
          <a:xfrm>
            <a:off x="790416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3AC7D38-430A-4E25-A8D9-131081A00B9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5" name="TextBox 8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C:\Users\ochem\AppData\Local\Temp\Rar$DR28.624\AdaCoreU Package\icons\quiz.png"/>
            <p:cNvPicPr/>
            <p:nvPr/>
          </p:nvPicPr>
          <p:blipFill>
            <a:blip r:embed="rId4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65DD9FA-65C9-4D68-98CB-93D884F1ADE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DC91CD6-8826-4DF3-B099-E17CAA9D022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532560" y="108000"/>
            <a:ext cx="2611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チェックアイコン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6996600" y="627120"/>
            <a:ext cx="1438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br>
              <a:rPr sz="1400"/>
            </a:br>
            <a:r>
              <a:rPr b="1" lang="ja-JP" sz="11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（エラーの場所をクリックする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2268CCC-44EA-42DA-881D-D6C00351789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042920" y="324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6823440" y="189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は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correct.png"/>
          <p:cNvPicPr/>
          <p:nvPr/>
        </p:nvPicPr>
        <p:blipFill>
          <a:blip r:embed="rId4"/>
          <a:stretch/>
        </p:blipFill>
        <p:spPr>
          <a:xfrm>
            <a:off x="608472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50A6CA9-607E-491A-B685-2C1B0540372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正しいです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6901200" y="692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いい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wrong.png"/>
          <p:cNvPicPr/>
          <p:nvPr/>
        </p:nvPicPr>
        <p:blipFill>
          <a:blip r:embed="rId4"/>
          <a:stretch/>
        </p:blipFill>
        <p:spPr>
          <a:xfrm>
            <a:off x="6084720" y="358920"/>
            <a:ext cx="478080" cy="477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780a6"/>
                </a:solidFill>
                <a:latin typeface="HG丸ｺﾞｼｯｸM-PRO"/>
              </a:rPr>
              <a:t>副プログラム</a:t>
            </a:r>
            <a:endParaRPr b="1" lang="en-US" sz="24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1a1a"/>
                </a:solidFill>
                <a:latin typeface="Calibri"/>
              </a:rPr>
              <a:t>Presented by Quentin Ochem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HG丸ｺﾞｼｯｸM-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別名化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は，「明らかな」別名化のエラーを見つける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971640" y="2276640"/>
          <a:ext cx="7561080" cy="3382920"/>
        </p:xfrm>
        <a:graphic>
          <a:graphicData uri="http://schemas.openxmlformats.org/drawingml/2006/table">
            <a:tbl>
              <a:tblPr/>
              <a:tblGrid>
                <a:gridCol w="7561080"/>
              </a:tblGrid>
              <a:tr h="33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hange (X, Y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X := X * 2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Y := Y * 4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X + Y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 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One : Integer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wo : Integer := 4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wo := Change (One, On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warning: writable actual for "X" overlaps with actual for "Y"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wo := Change (One, Two) - Change (One, Two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warning: result may differ if evaluated after other actual in ex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オーバーロード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1/2)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では，サブプログラムのオーバーロードを使用できます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次の点で仕様が異なれば，オーバーロードを使用できます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パラメータの数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パラメータの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結果の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仕様において下記のアスペクトの違いは，オーバーロードの対象となりません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パラメータの名前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パラメータの副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パラメータモード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パラメータデフォルト式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700360" y="1700280"/>
          <a:ext cx="3168720" cy="45720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V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V : Floa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3708360" y="2997360"/>
          <a:ext cx="5040360" cy="63972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ositiv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1 .. Integer'La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V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Print (W 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Positive);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21" name="Picture 8" descr="wrong.png"/>
          <p:cNvPicPr/>
          <p:nvPr/>
        </p:nvPicPr>
        <p:blipFill>
          <a:blip r:embed="rId1"/>
          <a:stretch/>
        </p:blipFill>
        <p:spPr>
          <a:xfrm>
            <a:off x="3419640" y="3429000"/>
            <a:ext cx="2412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オーバーロード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2/2)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オーバーロードを用いると，呼び出し時点であいまいさが生じる場合があり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情報を付加することで，このあいまいさを取り除く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268360" y="3284640"/>
          <a:ext cx="5040360" cy="283500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28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pple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range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Nb_Apples : Apple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Nb_Oranges : Orange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_A : Apples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 (N_A);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Print (0);              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 (Oranges'(0));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 (Nb_Oranges =&gt; 0);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25" name="Picture 8" descr="wrong.png"/>
          <p:cNvPicPr/>
          <p:nvPr/>
        </p:nvPicPr>
        <p:blipFill>
          <a:blip r:embed="rId1"/>
          <a:stretch/>
        </p:blipFill>
        <p:spPr>
          <a:xfrm>
            <a:off x="2027160" y="5445000"/>
            <a:ext cx="2412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演算子オーバーロード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デフォルト演算子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(=, /=, *, /, +, -, &gt;, &lt;, &gt;=, &lt;=, and, or…) 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は，型に関して，オーバーロードしたり・加えたり・取り除くことができます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「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=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」のオーバロードは，自動的に関連する「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/=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」のオーバーロードを生成します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826920" y="2421000"/>
          <a:ext cx="7848720" cy="3017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istanc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urfac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*" (L, R : Distance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istanc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remove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*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*" (L, R : Surface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urfac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removes "*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*" (L, R : Distance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urface;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adds "*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important_Fiel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mportant_Fiel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=" (L, R : Rec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L.Important_Field = R.Important_Fie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=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副プログラムのネスト化と広域変数へのアクセス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全てのスコープで副プログラムをネスト化する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ネスト化された副プログラムは，親の副プログラムパラメータや既に宣言されている変数にアクセス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411280" y="3773520"/>
          <a:ext cx="4680000" cy="210348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V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ste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ヌル（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null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）手続きと式関数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ボディ部を持たない副プログラムは，ヌルとして宣言することができます（実際の利用法は後述します）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式の評価のみからなる関数は，仕様部レベルで完結することができます．これを式関数と呼び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これは，事前／事後条件を記述するための便利な方法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340000" y="2492280"/>
          <a:ext cx="3600360" cy="28728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nu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835280" y="4221000"/>
          <a:ext cx="5400720" cy="2876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dd (L, R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L +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016000" y="2422440"/>
          <a:ext cx="5112000" cy="2013120"/>
        </p:xfrm>
        <a:graphic>
          <a:graphicData uri="http://schemas.openxmlformats.org/drawingml/2006/table">
            <a:tbl>
              <a:tblPr/>
              <a:tblGrid>
                <a:gridCol w="5112000"/>
              </a:tblGrid>
              <a:tr h="201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V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999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2016000" y="2422440"/>
          <a:ext cx="5112000" cy="2013120"/>
        </p:xfrm>
        <a:graphic>
          <a:graphicData uri="http://schemas.openxmlformats.org/drawingml/2006/table">
            <a:tbl>
              <a:tblPr/>
              <a:tblGrid>
                <a:gridCol w="5112000"/>
              </a:tblGrid>
              <a:tr h="201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V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999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0" name="Oval 2"/>
          <p:cNvSpPr/>
          <p:nvPr/>
        </p:nvSpPr>
        <p:spPr>
          <a:xfrm>
            <a:off x="2340000" y="4140360"/>
            <a:ext cx="9637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3"/>
          <p:cNvSpPr/>
          <p:nvPr/>
        </p:nvSpPr>
        <p:spPr>
          <a:xfrm flipH="1">
            <a:off x="2484000" y="4508640"/>
            <a:ext cx="338040" cy="56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1651680" y="50673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関数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F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呼ばれますが，返り値を保持してい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wrong.png"/>
          <p:cNvPicPr/>
          <p:nvPr/>
        </p:nvPicPr>
        <p:blipFill>
          <a:blip r:embed="rId1"/>
          <a:stretch/>
        </p:blipFill>
        <p:spPr>
          <a:xfrm>
            <a:off x="1739880" y="412740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303640" y="2957400"/>
          <a:ext cx="4536720" cy="94464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944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da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における副プログラム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: 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仕様部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Ada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は，関数（値を返す）と手続き（値を返さない）を区別し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50920" y="2421000"/>
          <a:ext cx="8713800" cy="639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81" name="Rounded Rectangular Callout 1"/>
          <p:cNvSpPr/>
          <p:nvPr/>
        </p:nvSpPr>
        <p:spPr>
          <a:xfrm>
            <a:off x="468360" y="1123920"/>
            <a:ext cx="1584360" cy="360360"/>
          </a:xfrm>
          <a:prstGeom prst="wedgeRoundRectCallout">
            <a:avLst>
              <a:gd name="adj1" fmla="val -2847"/>
              <a:gd name="adj2" fmla="val 31022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副プログラム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ular Callout 7"/>
          <p:cNvSpPr/>
          <p:nvPr/>
        </p:nvSpPr>
        <p:spPr>
          <a:xfrm>
            <a:off x="2124000" y="1197000"/>
            <a:ext cx="1584360" cy="360360"/>
          </a:xfrm>
          <a:prstGeom prst="wedgeRoundRectCallout">
            <a:avLst>
              <a:gd name="adj1" fmla="val -87333"/>
              <a:gd name="adj2" fmla="val 30208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パラメータ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ular Callout 8"/>
          <p:cNvSpPr/>
          <p:nvPr/>
        </p:nvSpPr>
        <p:spPr>
          <a:xfrm>
            <a:off x="2627280" y="1628640"/>
            <a:ext cx="1368360" cy="360360"/>
          </a:xfrm>
          <a:prstGeom prst="wedgeRoundRectCallout">
            <a:avLst>
              <a:gd name="adj1" fmla="val -83634"/>
              <a:gd name="adj2" fmla="val 193550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パラメータの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ounded Rectangular Callout 9"/>
          <p:cNvSpPr/>
          <p:nvPr/>
        </p:nvSpPr>
        <p:spPr>
          <a:xfrm>
            <a:off x="4211640" y="1773360"/>
            <a:ext cx="1008000" cy="358560"/>
          </a:xfrm>
          <a:prstGeom prst="wedgeRoundRectCallout">
            <a:avLst>
              <a:gd name="adj1" fmla="val -99666"/>
              <a:gd name="adj2" fmla="val 15827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返り値の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ular Callout 10"/>
          <p:cNvSpPr/>
          <p:nvPr/>
        </p:nvSpPr>
        <p:spPr>
          <a:xfrm>
            <a:off x="1908000" y="3357720"/>
            <a:ext cx="1584360" cy="358560"/>
          </a:xfrm>
          <a:prstGeom prst="wedgeRoundRectCallout">
            <a:avLst>
              <a:gd name="adj1" fmla="val -35402"/>
              <a:gd name="adj2" fmla="val -145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パラメータ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"/>
          <p:cNvSpPr/>
          <p:nvPr/>
        </p:nvSpPr>
        <p:spPr>
          <a:xfrm>
            <a:off x="4098240" y="2446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0"/>
          <p:cNvSpPr/>
          <p:nvPr/>
        </p:nvSpPr>
        <p:spPr>
          <a:xfrm>
            <a:off x="8391600" y="2446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2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303640" y="2957400"/>
          <a:ext cx="4536720" cy="94464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944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8" name="Oval 2"/>
          <p:cNvSpPr/>
          <p:nvPr/>
        </p:nvSpPr>
        <p:spPr>
          <a:xfrm>
            <a:off x="2502000" y="3316320"/>
            <a:ext cx="16383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3"/>
          <p:cNvSpPr/>
          <p:nvPr/>
        </p:nvSpPr>
        <p:spPr>
          <a:xfrm flipH="1">
            <a:off x="2646360" y="3684600"/>
            <a:ext cx="67464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2076840" y="4299120"/>
            <a:ext cx="382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V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，（デフォルトの）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 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in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モードであり，更新することは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8" descr="wrong.png"/>
          <p:cNvPicPr/>
          <p:nvPr/>
        </p:nvPicPr>
        <p:blipFill>
          <a:blip r:embed="rId1"/>
          <a:stretch/>
        </p:blipFill>
        <p:spPr>
          <a:xfrm>
            <a:off x="2027160" y="3357720"/>
            <a:ext cx="2412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303640" y="2743200"/>
          <a:ext cx="4536720" cy="137160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F 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2303640" y="2743200"/>
          <a:ext cx="4536720" cy="137160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F 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3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Oval 2"/>
          <p:cNvSpPr/>
          <p:nvPr/>
        </p:nvSpPr>
        <p:spPr>
          <a:xfrm>
            <a:off x="4140360" y="3794040"/>
            <a:ext cx="31248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3"/>
          <p:cNvSpPr/>
          <p:nvPr/>
        </p:nvSpPr>
        <p:spPr>
          <a:xfrm flipH="1">
            <a:off x="3200040" y="4162320"/>
            <a:ext cx="1096920" cy="48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1776600" y="4649760"/>
            <a:ext cx="28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パラメータがない場合，括弧を用いることはでき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"/>
          <p:cNvSpPr/>
          <p:nvPr/>
        </p:nvSpPr>
        <p:spPr>
          <a:xfrm>
            <a:off x="3560760" y="2738520"/>
            <a:ext cx="31104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3"/>
          <p:cNvSpPr/>
          <p:nvPr/>
        </p:nvSpPr>
        <p:spPr>
          <a:xfrm flipH="1">
            <a:off x="3200040" y="3106800"/>
            <a:ext cx="515880" cy="1542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wrong.png"/>
          <p:cNvPicPr/>
          <p:nvPr/>
        </p:nvPicPr>
        <p:blipFill>
          <a:blip r:embed="rId1"/>
          <a:stretch/>
        </p:blipFill>
        <p:spPr>
          <a:xfrm>
            <a:off x="2100240" y="2759040"/>
            <a:ext cx="239760" cy="238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wrong.png"/>
          <p:cNvPicPr/>
          <p:nvPr/>
        </p:nvPicPr>
        <p:blipFill>
          <a:blip r:embed="rId2"/>
          <a:stretch/>
        </p:blipFill>
        <p:spPr>
          <a:xfrm>
            <a:off x="2100240" y="378936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232000" y="2209680"/>
          <a:ext cx="4680000" cy="24386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43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4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232000" y="2209680"/>
          <a:ext cx="4680000" cy="24386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43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7" name="Oval 2"/>
          <p:cNvSpPr/>
          <p:nvPr/>
        </p:nvSpPr>
        <p:spPr>
          <a:xfrm>
            <a:off x="2654280" y="2781360"/>
            <a:ext cx="16365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3"/>
          <p:cNvSpPr/>
          <p:nvPr/>
        </p:nvSpPr>
        <p:spPr>
          <a:xfrm flipH="1">
            <a:off x="2695320" y="3141720"/>
            <a:ext cx="723960" cy="15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1725840" y="4756320"/>
            <a:ext cx="242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W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，この時点ではまだ可視性が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8" descr="wrong.png"/>
          <p:cNvPicPr/>
          <p:nvPr/>
        </p:nvPicPr>
        <p:blipFill>
          <a:blip r:embed="rId1"/>
          <a:stretch/>
        </p:blipFill>
        <p:spPr>
          <a:xfrm>
            <a:off x="1955880" y="28526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232000" y="2743200"/>
          <a:ext cx="4680000" cy="137160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A STRING"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String (1 .. 2) :=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5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232000" y="2743200"/>
          <a:ext cx="4680000" cy="137160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A STRING"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String (1 .. 2) :=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5" name="Oval 2"/>
          <p:cNvSpPr/>
          <p:nvPr/>
        </p:nvSpPr>
        <p:spPr>
          <a:xfrm>
            <a:off x="3438360" y="3795840"/>
            <a:ext cx="16369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3"/>
          <p:cNvSpPr/>
          <p:nvPr/>
        </p:nvSpPr>
        <p:spPr>
          <a:xfrm flipH="1">
            <a:off x="3582720" y="4164120"/>
            <a:ext cx="672840" cy="56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2500200" y="4802040"/>
            <a:ext cx="23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実行時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V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のサイズと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F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が返す値があってい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8" descr="wrong.png"/>
          <p:cNvPicPr/>
          <p:nvPr/>
        </p:nvPicPr>
        <p:blipFill>
          <a:blip r:embed="rId1"/>
          <a:stretch/>
        </p:blipFill>
        <p:spPr>
          <a:xfrm>
            <a:off x="1979640" y="37670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538360" y="3170160"/>
          <a:ext cx="4068720" cy="517680"/>
        </p:xfrm>
        <a:graphic>
          <a:graphicData uri="http://schemas.openxmlformats.org/drawingml/2006/table">
            <a:tbl>
              <a:tblPr/>
              <a:tblGrid>
                <a:gridCol w="4068720"/>
              </a:tblGrid>
              <a:tr h="5176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Data : 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Resul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(6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538360" y="3170160"/>
          <a:ext cx="4068720" cy="517680"/>
        </p:xfrm>
        <a:graphic>
          <a:graphicData uri="http://schemas.openxmlformats.org/drawingml/2006/table">
            <a:tbl>
              <a:tblPr/>
              <a:tblGrid>
                <a:gridCol w="4068720"/>
              </a:tblGrid>
              <a:tr h="5176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Data : 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Resul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3" name="Oval 2"/>
          <p:cNvSpPr/>
          <p:nvPr/>
        </p:nvSpPr>
        <p:spPr>
          <a:xfrm>
            <a:off x="2577960" y="3357720"/>
            <a:ext cx="37944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3"/>
          <p:cNvSpPr/>
          <p:nvPr/>
        </p:nvSpPr>
        <p:spPr>
          <a:xfrm flipH="1">
            <a:off x="2722680" y="3726000"/>
            <a:ext cx="1752480" cy="56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2972520" y="4292640"/>
            <a:ext cx="327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パラメータ名とモードの違いだけでは，オーバーロードするに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十分では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8" descr="wrong.png"/>
          <p:cNvPicPr/>
          <p:nvPr/>
        </p:nvPicPr>
        <p:blipFill>
          <a:blip r:embed="rId1"/>
          <a:stretch/>
        </p:blipFill>
        <p:spPr>
          <a:xfrm>
            <a:off x="2268360" y="342576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7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2303640" y="2957400"/>
          <a:ext cx="4536720" cy="94464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944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Integer := 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Float := 0.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Ada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における副プログラム</a:t>
            </a:r>
            <a:r>
              <a:rPr b="0" lang="en-US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: </a:t>
            </a: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宣言とボディ部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宣言は必須ではありません．しかし，利用する前には，宣言が必要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関数の返値を無視することはできません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完備化（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completion) /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ボディ部の実体は，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is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」以降に記述し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268360" y="2781360"/>
          <a:ext cx="4537080" cy="118908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 Integer := V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R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-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2268360" y="1916280"/>
          <a:ext cx="4464360" cy="433080"/>
        </p:xfrm>
        <a:graphic>
          <a:graphicData uri="http://schemas.openxmlformats.org/drawingml/2006/table">
            <a:tbl>
              <a:tblPr/>
              <a:tblGrid>
                <a:gridCol w="4464360"/>
              </a:tblGrid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2" name="Rounded Rectangular Callout 6"/>
          <p:cNvSpPr/>
          <p:nvPr/>
        </p:nvSpPr>
        <p:spPr>
          <a:xfrm>
            <a:off x="755640" y="1989000"/>
            <a:ext cx="1152360" cy="360360"/>
          </a:xfrm>
          <a:prstGeom prst="wedgeRoundRectCallout">
            <a:avLst>
              <a:gd name="adj1" fmla="val 75277"/>
              <a:gd name="adj2" fmla="val -235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宣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ounded Rectangular Callout 7"/>
          <p:cNvSpPr/>
          <p:nvPr/>
        </p:nvSpPr>
        <p:spPr>
          <a:xfrm>
            <a:off x="755640" y="2924280"/>
            <a:ext cx="1152360" cy="360360"/>
          </a:xfrm>
          <a:prstGeom prst="wedgeRoundRectCallout">
            <a:avLst>
              <a:gd name="adj1" fmla="val 75277"/>
              <a:gd name="adj2" fmla="val -235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ディ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7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303640" y="2957400"/>
          <a:ext cx="4536720" cy="94464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944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Integer := 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Float := 0.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1" name="Oval 2"/>
          <p:cNvSpPr/>
          <p:nvPr/>
        </p:nvSpPr>
        <p:spPr>
          <a:xfrm>
            <a:off x="2577960" y="3549600"/>
            <a:ext cx="4813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3"/>
          <p:cNvSpPr/>
          <p:nvPr/>
        </p:nvSpPr>
        <p:spPr>
          <a:xfrm flipH="1">
            <a:off x="2722320" y="3917880"/>
            <a:ext cx="9684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4"/>
          <p:cNvSpPr/>
          <p:nvPr/>
        </p:nvSpPr>
        <p:spPr>
          <a:xfrm>
            <a:off x="2501640" y="4653000"/>
            <a:ext cx="219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コンパイルエラ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単に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P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と呼び出すだけではあいまいで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8" descr="wrong.png"/>
          <p:cNvPicPr/>
          <p:nvPr/>
        </p:nvPicPr>
        <p:blipFill>
          <a:blip r:embed="rId1"/>
          <a:stretch/>
        </p:blipFill>
        <p:spPr>
          <a:xfrm>
            <a:off x="2027160" y="3622680"/>
            <a:ext cx="2412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224000" y="1996920"/>
          <a:ext cx="6696000" cy="28656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ultip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V : Integer; Times : Integ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Time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R + V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ultipl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 : Integer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tiply (Res, X, 5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8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224000" y="1996920"/>
          <a:ext cx="6696000" cy="28656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ultip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V : Integer; Times : Integ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Time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R + V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ultipl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 : Integer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tiply (Res, X, 5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9" name="Oval 2"/>
          <p:cNvSpPr/>
          <p:nvPr/>
        </p:nvSpPr>
        <p:spPr>
          <a:xfrm>
            <a:off x="2085840" y="3068640"/>
            <a:ext cx="14781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3"/>
          <p:cNvSpPr/>
          <p:nvPr/>
        </p:nvSpPr>
        <p:spPr>
          <a:xfrm flipH="1">
            <a:off x="1547640" y="3436920"/>
            <a:ext cx="1278000" cy="1647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1134000" y="5157720"/>
            <a:ext cx="339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誤りやす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Multiply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手続きに入るとき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R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は初期化されてい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8" descr="wrong.png"/>
          <p:cNvPicPr/>
          <p:nvPr/>
        </p:nvPicPr>
        <p:blipFill>
          <a:blip r:embed="rId1"/>
          <a:stretch/>
        </p:blipFill>
        <p:spPr>
          <a:xfrm>
            <a:off x="900000" y="311940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620720" y="1569960"/>
          <a:ext cx="5904000" cy="371808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371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, R : My_I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, R : My_I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&lt; 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&lt; 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ru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=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, W : My_Int :=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= W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9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620720" y="1569960"/>
          <a:ext cx="5904000" cy="371808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371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, R : My_I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, R : My_I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&lt; 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&lt; 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ru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=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, W : My_Int :=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= W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7" name="Oval 2"/>
          <p:cNvSpPr/>
          <p:nvPr/>
        </p:nvSpPr>
        <p:spPr>
          <a:xfrm>
            <a:off x="3203640" y="3492360"/>
            <a:ext cx="10080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3"/>
          <p:cNvSpPr/>
          <p:nvPr/>
        </p:nvSpPr>
        <p:spPr>
          <a:xfrm flipH="1">
            <a:off x="2592360" y="3860640"/>
            <a:ext cx="1116000" cy="1360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1627560" y="5425920"/>
            <a:ext cx="549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「＝」演算子に関して，無限の再帰となり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変更することで，問題を解決することができます．例えば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Integer (L) = Integer (R) 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で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8" descr="wrong.png"/>
          <p:cNvPicPr/>
          <p:nvPr/>
        </p:nvPicPr>
        <p:blipFill>
          <a:blip r:embed="rId1"/>
          <a:stretch/>
        </p:blipFill>
        <p:spPr>
          <a:xfrm>
            <a:off x="1258920" y="35514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0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440000" y="1996920"/>
          <a:ext cx="6264000" cy="2865600"/>
        </p:xfrm>
        <a:graphic>
          <a:graphicData uri="http://schemas.openxmlformats.org/drawingml/2006/table">
            <a:tbl>
              <a:tblPr/>
              <a:tblGrid>
                <a:gridCol w="6264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 : Rec; I : Floa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 : Rec; I : Floa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Re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/= 0.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HG丸ｺﾞｼｯｸM-PRO"/>
              </a:rPr>
              <a:t>(10/10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440000" y="1996920"/>
          <a:ext cx="6264000" cy="2865600"/>
        </p:xfrm>
        <a:graphic>
          <a:graphicData uri="http://schemas.openxmlformats.org/drawingml/2006/table">
            <a:tbl>
              <a:tblPr/>
              <a:tblGrid>
                <a:gridCol w="6264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 : Rec; I : Floa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 : Rec; I : Floa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Re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/= 0.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5" name="TextBox 4"/>
          <p:cNvSpPr/>
          <p:nvPr/>
        </p:nvSpPr>
        <p:spPr>
          <a:xfrm>
            <a:off x="2384280" y="513720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問題ありませ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「＝」の宣言は，暗黙に，「</a:t>
            </a:r>
            <a:r>
              <a:rPr b="1" lang="en-US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/=</a:t>
            </a:r>
            <a:r>
              <a:rPr b="1" lang="ja-JP" sz="1400" spc="-1" strike="noStrike">
                <a:solidFill>
                  <a:srgbClr val="17598f"/>
                </a:solidFill>
                <a:latin typeface="HG丸ｺﾞｼｯｸM-PRO"/>
                <a:ea typeface="HG丸ｺﾞｼｯｸM-PRO"/>
              </a:rPr>
              <a:t>」の宣言を作り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パラメータモード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モード「</a:t>
            </a: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in</a:t>
            </a: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」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</a:rPr>
              <a:t>実パラメータが，変更されないことを仕様化していま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</a:rPr>
              <a:t>仮パラメータは，読み込みのみが可能で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</a:rPr>
              <a:t>デフォルト（パラメータ）モードになりま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モード「</a:t>
            </a: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out</a:t>
            </a: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」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</a:rPr>
              <a:t>実パラメータは，更新される可能性がありま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</a:rPr>
              <a:t>仮パラメータは，書き出し用ですが，値の読み出しも可能で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</a:rPr>
              <a:t>初期値は定義されていません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モード「</a:t>
            </a:r>
            <a:r>
              <a:rPr b="1" lang="en-US" sz="1600" spc="-1" strike="noStrike">
                <a:solidFill>
                  <a:srgbClr val="404040"/>
                </a:solidFill>
                <a:latin typeface="HG丸ｺﾞｼｯｸM-PRO"/>
              </a:rPr>
              <a:t>in out</a:t>
            </a:r>
            <a:r>
              <a:rPr b="1" lang="ja-JP" sz="1600" spc="-1" strike="noStrike">
                <a:solidFill>
                  <a:srgbClr val="404040"/>
                </a:solidFill>
                <a:latin typeface="HG丸ｺﾞｼｯｸM-PRO"/>
              </a:rPr>
              <a:t>」</a:t>
            </a:r>
            <a:endParaRPr b="1" lang="en-US" sz="16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</a:rPr>
              <a:t>実パラメータは，読み出しと変更が行われま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</a:rPr>
              <a:t>仮パラメータは，読み込みと更新が行われま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835280" y="5013360"/>
          <a:ext cx="5903640" cy="1371600"/>
        </p:xfrm>
        <a:graphic>
          <a:graphicData uri="http://schemas.openxmlformats.org/drawingml/2006/table">
            <a:tbl>
              <a:tblPr/>
              <a:tblGrid>
                <a:gridCol w="59036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 Integer := V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R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-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パラメータ受け渡しメカニズム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コピー渡し（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by-copy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）と参照渡し（</a:t>
            </a:r>
            <a:r>
              <a:rPr b="1" lang="en-US" sz="2000" spc="-1" strike="noStrike">
                <a:solidFill>
                  <a:srgbClr val="404040"/>
                </a:solidFill>
                <a:latin typeface="HG丸ｺﾞｼｯｸM-PRO"/>
              </a:rPr>
              <a:t>by-reference</a:t>
            </a: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）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コピー渡し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仮パラメータは，実パラメータと異なるオブジェクトとなります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実パラメータのコピーが呼び出し前に仮パラメータに設定されます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仮パラメータのコピーは，呼び出し後，実パラメータにコピーされます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参照渡し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仮パラメータは実パラメータと同じものを参照します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仮パラメータの更新は，実パラメータに直接，影響を与えます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404040"/>
                </a:solidFill>
                <a:latin typeface="HG丸ｺﾞｼｯｸM-PRO"/>
              </a:rPr>
              <a:t>パラメータの上記選択の制御機構</a:t>
            </a:r>
            <a:endParaRPr b="1" lang="en-US" sz="20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相当するパラメータモードはありません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規格化されているパラメータ受け渡し規則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「コピー渡し」の型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スカラー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アクセス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「コピー渡し」型として，完全に定義されている非公開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04040"/>
                </a:solidFill>
                <a:latin typeface="HG丸ｺﾞｼｯｸM-PRO"/>
              </a:rPr>
              <a:t>「参照渡し」の型</a:t>
            </a:r>
            <a:endParaRPr b="1" lang="en-US" sz="18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タグ付き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タスク型および保護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限定型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参照渡しの要素型を持つ複合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「参照渡し」型として，完全に定義されている非公開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実装定義の型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「コピー渡し」要素のみを含んでいる配列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「コピー渡し」要素のみを含んでいる非限定レコード型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</a:rPr>
              <a:t>効率的な方法による実装選択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サブプログラム呼び出し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パラメータがない場合，括弧「（）」はつけません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名前付き引数を利用可能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out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モードと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in out 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モードでは，オブジェクトが必要で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2771640" y="1844640"/>
          <a:ext cx="3529080" cy="6397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2771640" y="3213000"/>
          <a:ext cx="3529080" cy="64764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A, B, C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B =&gt; 0, C =&gt; 0, A =&gt;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2771640" y="4799160"/>
          <a:ext cx="3529080" cy="10062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X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デフォルト値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「</a:t>
            </a:r>
            <a:r>
              <a:rPr b="1" lang="en-US" sz="2200" spc="-1" strike="noStrike">
                <a:solidFill>
                  <a:srgbClr val="404040"/>
                </a:solidFill>
                <a:latin typeface="HG丸ｺﾞｼｯｸM-PRO"/>
              </a:rPr>
              <a:t>in</a:t>
            </a: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」パラメータは，デフォルト値を持つ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デフォルト値は，動的な式です．明示的な式が与えられていなければ，呼び出し時点で評価され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2268360" y="2349360"/>
          <a:ext cx="5040360" cy="28764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A : Integer := 0; B : Integer :=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2771640" y="5126040"/>
          <a:ext cx="3456000" cy="82224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         -- A = 0, B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1);      -- A = 1, B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B =&gt; 2); -- A = 0, B 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1, 2);   -- A = 1, B 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780a6"/>
                </a:solidFill>
                <a:latin typeface="HG丸ｺﾞｼｯｸM-PRO"/>
                <a:ea typeface="HG丸ｺﾞｼｯｸM-PRO"/>
              </a:rPr>
              <a:t>不定パラメータと返り値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サブプログラムは，不定パラメータと返り値を持つことができ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G丸ｺﾞｼｯｸM-PR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制約は呼び出し時点で計算されます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HG丸ｺﾞｼｯｸM-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HG丸ｺﾞｼｯｸM-PRO"/>
              </a:rPr>
              <a:t>境界に前提をおいてはいけません</a:t>
            </a:r>
            <a:endParaRPr b="1" lang="en-US" sz="2200" spc="-1" strike="noStrike">
              <a:solidFill>
                <a:srgbClr val="404040"/>
              </a:solidFill>
              <a:latin typeface="HG丸ｺﾞｼｯｸM-PRO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2195640" y="2276640"/>
          <a:ext cx="5040360" cy="118872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ment (Stmt : String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"/*" &amp; Stmt &amp; "*/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mme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:= Comment ("a=0"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return /*a=0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2195640" y="4676760"/>
          <a:ext cx="5040360" cy="192096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mt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Stmt'Length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Incorr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mt (J) := ' '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:= "ABCxxx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 (S (4 .. 6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Ito Masao</cp:lastModifiedBy>
  <dcterms:modified xsi:type="dcterms:W3CDTF">2017-12-08T00:59:10Z</dcterms:modified>
  <cp:revision>430</cp:revision>
  <dc:subject/>
  <dc:title>Diapositive 1</dc:title>
</cp:coreProperties>
</file>