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7AC5-A100-48EF-86E3-DF7B4E9C64DB}" type="slidenum"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18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BA64-E1E0-4206-B110-26A1A0727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21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AA79-E9B8-47AC-8536-A2FAC73C9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4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60DB-BDED-478E-AEE0-236C8AFF1150}" type="slidenum"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5997-882F-4F66-BADE-B1FBD71E77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DDBE-5A74-4FF2-BEFC-B07FADBC12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B940-79B6-4B25-8A11-C0C820DB80B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81D8-19A8-45B4-BF8B-97E886E5977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68E9-276B-42B5-B251-9453B6EC339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E3CC-4AED-4950-A088-A944B435012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6EEF-347F-498B-90BC-D94233CB7F3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0730-A90E-4135-BD8D-3DAF8822AF1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E140-6DCC-466A-AC97-5EDF3D72117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E0E7-782F-479B-900E-BE141760B02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B81B-A212-49A1-BC50-4B5B6DB15A2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FB85-A9AB-41EB-A0F0-FA37C1A4397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EB78-45C1-4D5D-8D78-9BEF370943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B0A9-0381-4686-95AC-19D33FF85C4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F509-2E6D-4D2B-8FB3-3F823DCE429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DCEF-B65F-467D-B83A-EFBF34A695D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G丸ｺﾞｼｯｸM-PRO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07D4-F813-4785-B1DC-9F6A2E57C97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B5B7-87EA-4E65-BAD6-70CBA6DC71B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CA9B-D9C3-4E39-9E31-3A930B00812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BAF3-8A1B-414D-9719-B5D3140EB7A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HG丸ｺﾞｼｯｸM-PRO"/>
              </a:rPr>
              <a:t>訳注：　</a:t>
            </a:r>
            <a:endParaRPr b="0" lang="en-US" sz="1100" spc="-1" strike="noStrike">
              <a:solidFill>
                <a:srgbClr val="000000"/>
              </a:solidFill>
              <a:latin typeface="HG丸ｺﾞｼｯｸM-PRO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HG丸ｺﾞｼｯｸM-PRO"/>
              </a:rPr>
              <a:t>ここで</a:t>
            </a: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</a:rPr>
              <a:t>実行時準備処理としているのは，</a:t>
            </a:r>
            <a:r>
              <a:rPr b="0" lang="ja-JP" sz="1100" spc="-1" strike="noStrike">
                <a:solidFill>
                  <a:srgbClr val="000000"/>
                </a:solidFill>
                <a:latin typeface="HG丸ｺﾞｼｯｸM-PRO"/>
              </a:rPr>
              <a:t>宣言や式の評価といった実行前に行う処理のこと．</a:t>
            </a:r>
            <a:endParaRPr b="0" lang="en-US" sz="1100" spc="-1" strike="noStrike">
              <a:solidFill>
                <a:srgbClr val="000000"/>
              </a:solidFill>
              <a:latin typeface="HG丸ｺﾞｼｯｸM-PRO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</a:rPr>
              <a:t>_x0010_</a:t>
            </a:r>
            <a:endParaRPr b="0" lang="en-US" sz="11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15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8E57-AA56-4E5F-8A37-F25D8E1A86DB}" type="slidenum"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C31D5C9E-218F-4803-A12D-6DD38D819D51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55DF7DF7-E9BB-4942-833D-0E3CF8AF5ED6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C721D50E-C5DC-41A2-A18D-5E9B652B4693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FE4601F-F5D3-4A9C-8595-FE8BB3BA47B2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Creative Commons License"/>
          <p:cNvPicPr/>
          <p:nvPr/>
        </p:nvPicPr>
        <p:blipFill>
          <a:blip r:embed="rId3"/>
          <a:stretch/>
        </p:blipFill>
        <p:spPr>
          <a:xfrm>
            <a:off x="7885080" y="158760"/>
            <a:ext cx="1106640" cy="390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AdaCoreU-isolated.png"/>
          <p:cNvPicPr/>
          <p:nvPr/>
        </p:nvPicPr>
        <p:blipFill>
          <a:blip r:embed="rId4"/>
          <a:stretch/>
        </p:blipFill>
        <p:spPr>
          <a:xfrm>
            <a:off x="3851280" y="1341360"/>
            <a:ext cx="1658880" cy="2708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DB1C712A-0289-4D99-ADF0-081B41E41B04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AdaCoreU-isolated.png"/>
          <p:cNvPicPr/>
          <p:nvPr/>
        </p:nvPicPr>
        <p:blipFill>
          <a:blip r:embed="rId3"/>
          <a:stretch/>
        </p:blipFill>
        <p:spPr>
          <a:xfrm>
            <a:off x="539640" y="404640"/>
            <a:ext cx="662040" cy="1079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4ACE87C-F37A-4D86-9013-A13529728A46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5819760" y="153504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1619280" y="4221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university.adacor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Creative Commons License"/>
          <p:cNvPicPr/>
          <p:nvPr/>
        </p:nvPicPr>
        <p:blipFill>
          <a:blip r:embed="rId3"/>
          <a:stretch/>
        </p:blipFill>
        <p:spPr>
          <a:xfrm>
            <a:off x="7904160" y="158760"/>
            <a:ext cx="1106640" cy="390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AdaCoreU-isolated.png"/>
          <p:cNvPicPr/>
          <p:nvPr/>
        </p:nvPicPr>
        <p:blipFill>
          <a:blip r:embed="rId4"/>
          <a:stretch/>
        </p:blipFill>
        <p:spPr>
          <a:xfrm>
            <a:off x="3851280" y="1341360"/>
            <a:ext cx="1658880" cy="2708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69553DC-C134-4238-8EA5-F2D39315113D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AdaCoreU-isolated.png"/>
          <p:cNvPicPr/>
          <p:nvPr/>
        </p:nvPicPr>
        <p:blipFill>
          <a:blip r:embed="rId3"/>
          <a:stretch/>
        </p:blipFill>
        <p:spPr>
          <a:xfrm>
            <a:off x="539640" y="404640"/>
            <a:ext cx="662040" cy="107964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7"/>
          <p:cNvGrpSpPr/>
          <p:nvPr/>
        </p:nvGrpSpPr>
        <p:grpSpPr>
          <a:xfrm>
            <a:off x="2879640" y="2641680"/>
            <a:ext cx="3373560" cy="1574640"/>
            <a:chOff x="2879640" y="2641680"/>
            <a:chExt cx="3373560" cy="1574640"/>
          </a:xfrm>
        </p:grpSpPr>
        <p:sp>
          <p:nvSpPr>
            <p:cNvPr id="175" name="TextBox 8"/>
            <p:cNvSpPr/>
            <p:nvPr/>
          </p:nvSpPr>
          <p:spPr>
            <a:xfrm>
              <a:off x="4405320" y="2828880"/>
              <a:ext cx="1847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Quiz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Picture 2" descr="C:\Users\ochem\AppData\Local\Temp\Rar$DR28.624\AdaCoreU Package\icons\quiz.png"/>
            <p:cNvPicPr/>
            <p:nvPr/>
          </p:nvPicPr>
          <p:blipFill>
            <a:blip r:embed="rId4"/>
            <a:stretch/>
          </p:blipFill>
          <p:spPr>
            <a:xfrm>
              <a:off x="2879640" y="2641680"/>
              <a:ext cx="1575000" cy="15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724B4926-8CB8-47C1-A524-A50CD54D7556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3E51BAA4-2BCF-4FDE-A42E-9E0698DD2214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7021080" y="108000"/>
            <a:ext cx="16056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はい</a:t>
            </a:r>
            <a:br>
              <a:rPr sz="1400"/>
            </a:br>
            <a:r>
              <a:rPr b="1" lang="ja-JP" sz="11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（チェックアイコンをクリックする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5"/>
          <p:cNvSpPr/>
          <p:nvPr/>
        </p:nvSpPr>
        <p:spPr>
          <a:xfrm>
            <a:off x="6996600" y="627120"/>
            <a:ext cx="14382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いいえ</a:t>
            </a:r>
            <a:br>
              <a:rPr sz="1400"/>
            </a:br>
            <a:r>
              <a:rPr b="1" lang="ja-JP" sz="11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（エラーの場所をクリックする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9" descr="correct.png"/>
          <p:cNvPicPr/>
          <p:nvPr/>
        </p:nvPicPr>
        <p:blipFill>
          <a:blip r:embed="rId4"/>
          <a:stretch/>
        </p:blipFill>
        <p:spPr>
          <a:xfrm>
            <a:off x="6084720" y="353880"/>
            <a:ext cx="482760" cy="4827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正しいです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B209F07F-C389-4032-8254-8D84B4678F6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04" name="TextBox 6"/>
          <p:cNvSpPr/>
          <p:nvPr/>
        </p:nvSpPr>
        <p:spPr>
          <a:xfrm>
            <a:off x="6823440" y="189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は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correct.png"/>
          <p:cNvPicPr/>
          <p:nvPr/>
        </p:nvPicPr>
        <p:blipFill>
          <a:blip r:embed="rId4"/>
          <a:stretch/>
        </p:blipFill>
        <p:spPr>
          <a:xfrm>
            <a:off x="6084720" y="353880"/>
            <a:ext cx="482760" cy="482760"/>
          </a:xfrm>
          <a:prstGeom prst="rect">
            <a:avLst/>
          </a:prstGeom>
          <a:ln w="0">
            <a:noFill/>
          </a:ln>
        </p:spPr>
      </p:pic>
      <p:sp>
        <p:nvSpPr>
          <p:cNvPr id="306" name="TextBox 8"/>
          <p:cNvSpPr/>
          <p:nvPr/>
        </p:nvSpPr>
        <p:spPr>
          <a:xfrm>
            <a:off x="1042920" y="324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正しいです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35C1E8E-9958-4A67-BF25-BC4B9C94CC66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48" name="TextBox 6"/>
          <p:cNvSpPr/>
          <p:nvPr/>
        </p:nvSpPr>
        <p:spPr>
          <a:xfrm>
            <a:off x="6901200" y="6922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いい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7" descr="wrong.png"/>
          <p:cNvPicPr/>
          <p:nvPr/>
        </p:nvPicPr>
        <p:blipFill>
          <a:blip r:embed="rId4"/>
          <a:stretch/>
        </p:blipFill>
        <p:spPr>
          <a:xfrm>
            <a:off x="6084720" y="358920"/>
            <a:ext cx="478080" cy="477720"/>
          </a:xfrm>
          <a:prstGeom prst="rect">
            <a:avLst/>
          </a:prstGeom>
          <a:ln w="0">
            <a:noFill/>
          </a:ln>
        </p:spPr>
      </p:pic>
      <p:sp>
        <p:nvSpPr>
          <p:cNvPr id="350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正しいです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579240" y="3933360"/>
            <a:ext cx="820548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HG丸ｺﾞｼｯｸM-PRO"/>
              </a:rPr>
              <a:t>基本型</a:t>
            </a:r>
            <a:endParaRPr b="1" lang="en-US" sz="24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79240" y="4581360"/>
            <a:ext cx="82054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a1a1a"/>
                </a:solidFill>
                <a:latin typeface="Calibri"/>
              </a:rPr>
              <a:t>Presented by Quentin Ochem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10920" y="4941720"/>
            <a:ext cx="82040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Calibri"/>
              </a:rPr>
              <a:t>university.adacore.com</a:t>
            </a:r>
            <a:endParaRPr b="1" lang="en-US" sz="12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Content Placeholder 3" descr=""/>
          <p:cNvPicPr/>
          <p:nvPr/>
        </p:nvPicPr>
        <p:blipFill>
          <a:blip r:embed="rId1"/>
          <a:stretch/>
        </p:blipFill>
        <p:spPr>
          <a:xfrm>
            <a:off x="-49320" y="115920"/>
            <a:ext cx="9028080" cy="662616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Ada</a:t>
            </a:r>
            <a:r>
              <a:rPr b="0" lang="ja-JP" sz="2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型モデル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Content Placeholder 3" descr=""/>
          <p:cNvPicPr/>
          <p:nvPr/>
        </p:nvPicPr>
        <p:blipFill>
          <a:blip r:embed="rId1"/>
          <a:stretch/>
        </p:blipFill>
        <p:spPr>
          <a:xfrm>
            <a:off x="-49320" y="115920"/>
            <a:ext cx="9028080" cy="662616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Ada</a:t>
            </a:r>
            <a:r>
              <a:rPr b="0" lang="ja-JP" sz="2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型モデル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スカラー型・離散型・実数型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スカラー型は単一の値を持ち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整数・浮動小数点・列挙は全てスカラーです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スカラー型は，「離散」型（有限の値をとる）と「連続」型に分かれ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幾つかのスカラー型は，数値演算に関係してい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pic>
        <p:nvPicPr>
          <p:cNvPr id="510" name="Content Placeholder 3" descr=""/>
          <p:cNvPicPr/>
          <p:nvPr/>
        </p:nvPicPr>
        <p:blipFill>
          <a:blip r:embed="rId1"/>
          <a:stretch/>
        </p:blipFill>
        <p:spPr>
          <a:xfrm>
            <a:off x="6608880" y="115920"/>
            <a:ext cx="249876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標準型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Calibri"/>
              </a:rPr>
              <a:t>符号付き整数型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Short_Integer, Integer, Long_Integer, Long_Long_Integer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Calibri"/>
              </a:rPr>
              <a:t>列挙型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文字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,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ブール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Calibri"/>
              </a:rPr>
              <a:t>浮動小数点型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Short_Float, Float, Long_Float, Long_Long_Float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型のカスタム宣言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整数型を値の範囲と共に定義します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列挙型を値のリストとともに定義します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浮動小数点型は，最小の有効桁数とともに定義します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範囲指定で，浮動小数点型の（演算実行の）性能が低下します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258920" y="1700280"/>
          <a:ext cx="6095880" cy="649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64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core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2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ercentage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100 .. 10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1042920" y="4865760"/>
          <a:ext cx="7656480" cy="579240"/>
        </p:xfrm>
        <a:graphic>
          <a:graphicData uri="http://schemas.openxmlformats.org/drawingml/2006/table">
            <a:tbl>
              <a:tblPr/>
              <a:tblGrid>
                <a:gridCol w="765648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istance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git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emperature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git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5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273.15 .. 1_000_000.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1258920" y="3213000"/>
          <a:ext cx="6095880" cy="647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64764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lo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Red, Green, Blue, Yellow, Black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ernary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True, False, Unknown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518" name="Picture 23" descr="C:\Users\ochem3\Desktop\AdaCoreU Package\AdaCoreU Package\icons\hazard.png"/>
          <p:cNvPicPr/>
          <p:nvPr/>
        </p:nvPicPr>
        <p:blipFill>
          <a:blip r:embed="rId1"/>
          <a:stretch/>
        </p:blipFill>
        <p:spPr>
          <a:xfrm>
            <a:off x="684360" y="587700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既存の型から（新しい）型を作る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Calibri"/>
              </a:rPr>
              <a:t>既存の型から，新しい型を作ることが可能で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Calibri"/>
              </a:rPr>
              <a:t>新しい型は，値の範囲を制限することができ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1403280" y="1844640"/>
          <a:ext cx="6096240" cy="434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3488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th_Score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core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1403280" y="4005360"/>
          <a:ext cx="6553440" cy="722160"/>
        </p:xfrm>
        <a:graphic>
          <a:graphicData uri="http://schemas.openxmlformats.org/drawingml/2006/table">
            <a:tbl>
              <a:tblPr/>
              <a:tblGrid>
                <a:gridCol w="6553440"/>
              </a:tblGrid>
              <a:tr h="72216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th_Score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core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mary_Colo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lo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d .. Blue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型変換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型を他の型に変換できる場合があり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両者が同一の構造を持っている場合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一方の型が他から派生している場合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変換は明示的に行う必要があり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変換によって検証が必要になる場合があり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987640" y="3548160"/>
          <a:ext cx="3168720" cy="45720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459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Float := 0.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Integer := Integer (V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2627280" y="5013360"/>
          <a:ext cx="3960720" cy="100656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T1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T2 := T2 (V1); -- Run-time error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Ada</a:t>
            </a: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における演算子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Calibri"/>
              </a:rPr>
              <a:t>符号付きと浮動小数点型に共通の演算子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Calibri"/>
              </a:rPr>
              <a:t>符号付き型で注意が必要な演算子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258920" y="1989000"/>
          <a:ext cx="6985080" cy="370080"/>
        </p:xfrm>
        <a:graphic>
          <a:graphicData uri="http://schemas.openxmlformats.org/drawingml/2006/table">
            <a:tbl>
              <a:tblPr/>
              <a:tblGrid>
                <a:gridCol w="582480"/>
                <a:gridCol w="581040"/>
                <a:gridCol w="582840"/>
                <a:gridCol w="582480"/>
                <a:gridCol w="581040"/>
                <a:gridCol w="582480"/>
                <a:gridCol w="582840"/>
                <a:gridCol w="581040"/>
                <a:gridCol w="582480"/>
                <a:gridCol w="582480"/>
                <a:gridCol w="581040"/>
                <a:gridCol w="582840"/>
              </a:tblGrid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4140360" y="3933720"/>
          <a:ext cx="1439640" cy="370080"/>
        </p:xfrm>
        <a:graphic>
          <a:graphicData uri="http://schemas.openxmlformats.org/drawingml/2006/table">
            <a:tbl>
              <a:tblPr/>
              <a:tblGrid>
                <a:gridCol w="720720"/>
                <a:gridCol w="718920"/>
              </a:tblGrid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1" name=""/>
          <p:cNvGraphicFramePr/>
          <p:nvPr/>
        </p:nvGraphicFramePr>
        <p:xfrm>
          <a:off x="2484360" y="5386320"/>
          <a:ext cx="1582920" cy="274680"/>
        </p:xfrm>
        <a:graphic>
          <a:graphicData uri="http://schemas.openxmlformats.org/drawingml/2006/table">
            <a:tbl>
              <a:tblPr/>
              <a:tblGrid>
                <a:gridCol w="1582920"/>
              </a:tblGrid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o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5 =&gt;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5724360" y="5386320"/>
          <a:ext cx="1584360" cy="27468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m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 =&gt; 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cxnSp>
        <p:nvCxnSpPr>
          <p:cNvPr id="533" name="Straight Arrow Connector 8"/>
          <p:cNvCxnSpPr/>
          <p:nvPr/>
        </p:nvCxnSpPr>
        <p:spPr>
          <a:xfrm flipH="1">
            <a:off x="3276360" y="4292640"/>
            <a:ext cx="1296000" cy="10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4" name="Straight Arrow Connector 10"/>
          <p:cNvCxnSpPr/>
          <p:nvPr/>
        </p:nvCxnSpPr>
        <p:spPr>
          <a:xfrm>
            <a:off x="5219280" y="4292640"/>
            <a:ext cx="1297800" cy="10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属性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属性は，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</a:rPr>
              <a:t>Ada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エンティティの標準的なプロパティで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240120" indent="-24012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240120" indent="-24012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「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</a:rPr>
              <a:t>'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」でアクセスすることができ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240120" indent="-24012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240120" indent="-24012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240120" indent="-24012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型が属するカテゴリによって，異なる組の属性を利用でき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240120" indent="-24012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240120" indent="-24012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240120" indent="-24012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240120" indent="-24012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240120" indent="-24012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240120" indent="-24012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240120" indent="-24012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240120" indent="-24012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240120" indent="-24012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240120" indent="-24012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</a:rPr>
              <a:t>Example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1547640" y="2924280"/>
          <a:ext cx="6096240" cy="2746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: String := Integer'Image (4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スカラー型に特有の属性例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9" name="Content Placeholder 3" descr=""/>
          <p:cNvPicPr/>
          <p:nvPr/>
        </p:nvPicPr>
        <p:blipFill>
          <a:blip r:embed="rId1"/>
          <a:stretch/>
        </p:blipFill>
        <p:spPr>
          <a:xfrm>
            <a:off x="6608880" y="115920"/>
            <a:ext cx="2498760" cy="252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0" name=""/>
          <p:cNvGraphicFramePr/>
          <p:nvPr/>
        </p:nvGraphicFramePr>
        <p:xfrm>
          <a:off x="971640" y="2276640"/>
          <a:ext cx="6769080" cy="3889080"/>
        </p:xfrm>
        <a:graphic>
          <a:graphicData uri="http://schemas.openxmlformats.org/drawingml/2006/table">
            <a:tbl>
              <a:tblPr/>
              <a:tblGrid>
                <a:gridCol w="2077920"/>
                <a:gridCol w="4691160"/>
              </a:tblGrid>
              <a:tr h="388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HG丸ｺﾞｼｯｸM-PRO"/>
                          <a:ea typeface="HG丸ｺﾞｼｯｸM-PRO"/>
                        </a:rPr>
                        <a:t>属性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HG丸ｺﾞｼｯｸM-PRO"/>
                          <a:ea typeface="HG丸ｺﾞｼｯｸM-PRO"/>
                        </a:rPr>
                        <a:t>説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</a:tr>
              <a:tr h="388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Fi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型の最初の値を返しま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389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L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型の最後の値を返しま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388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Image 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値を相当する文字列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String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）に変換しま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388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Value 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文字列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String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）を相当する値に変換しま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389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Min (X, 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二つの値の大きくない方を返しま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388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Max (X, 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二つの値の小さくない方を返しま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389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Pred 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一つ前の値を返しま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388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Succ 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次の値を返しま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388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T’First ..T’Last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と同じで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380880" y="2940120"/>
            <a:ext cx="838224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丸ｺﾞｼｯｸM-PRO"/>
              </a:rPr>
              <a:t>幾つかの構文上の注意</a:t>
            </a:r>
            <a:endParaRPr b="1" lang="en-US" sz="3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離散型に特有の属性例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2" name="Content Placeholder 3" descr=""/>
          <p:cNvPicPr/>
          <p:nvPr/>
        </p:nvPicPr>
        <p:blipFill>
          <a:blip r:embed="rId1"/>
          <a:stretch/>
        </p:blipFill>
        <p:spPr>
          <a:xfrm>
            <a:off x="6608880" y="115920"/>
            <a:ext cx="2498760" cy="252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3" name=""/>
          <p:cNvGraphicFramePr/>
          <p:nvPr/>
        </p:nvGraphicFramePr>
        <p:xfrm>
          <a:off x="1258920" y="2852640"/>
          <a:ext cx="6095880" cy="1224000"/>
        </p:xfrm>
        <a:graphic>
          <a:graphicData uri="http://schemas.openxmlformats.org/drawingml/2006/table">
            <a:tbl>
              <a:tblPr/>
              <a:tblGrid>
                <a:gridCol w="1871640"/>
                <a:gridCol w="4224240"/>
              </a:tblGrid>
              <a:tr h="408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HG丸ｺﾞｼｯｸM-PRO"/>
                          <a:ea typeface="HG丸ｺﾞｼｯｸM-PRO"/>
                        </a:rPr>
                        <a:t>属性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HG丸ｺﾞｼｯｸM-PRO"/>
                          <a:ea typeface="HG丸ｺﾞｼｯｸM-PRO"/>
                        </a:rPr>
                        <a:t>説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</a:tr>
              <a:tr h="407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Pos 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型における位置を返しま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407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Val 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位置の値を返しま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1403280" y="5059440"/>
          <a:ext cx="6096240" cy="4572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Character := Character’Val (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 : Next_Character := Character’Val (Character’Pos (V) +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浮動小数点型に特有の属性例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404040"/>
                </a:solidFill>
                <a:latin typeface="HG丸ｺﾞｼｯｸM-PRO"/>
              </a:rPr>
              <a:t>浮動小数から整数への変換は，</a:t>
            </a:r>
            <a:r>
              <a:rPr b="1" lang="en-US" sz="1800" spc="-1" strike="noStrike">
                <a:solidFill>
                  <a:srgbClr val="404040"/>
                </a:solidFill>
                <a:latin typeface="HG丸ｺﾞｼｯｸM-PRO"/>
              </a:rPr>
              <a:t>Rounding</a:t>
            </a:r>
            <a:r>
              <a:rPr b="1" lang="ja-JP" sz="1800" spc="-1" strike="noStrike">
                <a:solidFill>
                  <a:srgbClr val="404040"/>
                </a:solidFill>
                <a:latin typeface="HG丸ｺﾞｼｯｸM-PRO"/>
              </a:rPr>
              <a:t>による丸めです．</a:t>
            </a:r>
            <a:r>
              <a:rPr b="1" lang="en-US" sz="1800" spc="-1" strike="noStrike">
                <a:solidFill>
                  <a:srgbClr val="404040"/>
                </a:solidFill>
                <a:latin typeface="HG丸ｺﾞｼｯｸM-PRO"/>
              </a:rPr>
              <a:t>Truncation</a:t>
            </a:r>
            <a:r>
              <a:rPr b="1" lang="ja-JP" sz="1800" spc="-1" strike="noStrike">
                <a:solidFill>
                  <a:srgbClr val="404040"/>
                </a:solidFill>
                <a:latin typeface="HG丸ｺﾞｼｯｸM-PRO"/>
              </a:rPr>
              <a:t>による小数部を切り捨てではありません！</a:t>
            </a:r>
            <a:endParaRPr b="1" lang="en-US" sz="18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pic>
        <p:nvPicPr>
          <p:cNvPr id="547" name="Content Placeholder 3" descr=""/>
          <p:cNvPicPr/>
          <p:nvPr/>
        </p:nvPicPr>
        <p:blipFill>
          <a:blip r:embed="rId1"/>
          <a:stretch/>
        </p:blipFill>
        <p:spPr>
          <a:xfrm>
            <a:off x="6608880" y="115920"/>
            <a:ext cx="2498760" cy="252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8" name=""/>
          <p:cNvGraphicFramePr/>
          <p:nvPr/>
        </p:nvGraphicFramePr>
        <p:xfrm>
          <a:off x="1258920" y="2276640"/>
          <a:ext cx="6095880" cy="2473200"/>
        </p:xfrm>
        <a:graphic>
          <a:graphicData uri="http://schemas.openxmlformats.org/drawingml/2006/table">
            <a:tbl>
              <a:tblPr/>
              <a:tblGrid>
                <a:gridCol w="1871640"/>
                <a:gridCol w="4224240"/>
              </a:tblGrid>
              <a:tr h="412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HG丸ｺﾞｼｯｸM-PRO"/>
                          <a:ea typeface="HG丸ｺﾞｼｯｸM-PRO"/>
                        </a:rPr>
                        <a:t>属性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HG丸ｺﾞｼｯｸM-PRO"/>
                          <a:ea typeface="HG丸ｺﾞｼｯｸM-PRO"/>
                        </a:rPr>
                        <a:t>説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Ceiling 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X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以降の最も小さい整数値を返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412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Floor 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X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以前の最も大きな整数値を返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412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Truncation 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0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に近くなるよう小数部を切り捨てま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Rounding 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最も近い整数にまとめ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412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Remainder (X, 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ユークリッド除法における余りを返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</a:tbl>
          </a:graphicData>
        </a:graphic>
      </p:graphicFrame>
      <p:pic>
        <p:nvPicPr>
          <p:cNvPr id="549" name="Picture 23" descr="C:\Users\ochem3\Desktop\AdaCoreU Package\AdaCoreU Package\icons\hazard.png"/>
          <p:cNvPicPr/>
          <p:nvPr/>
        </p:nvPicPr>
        <p:blipFill>
          <a:blip r:embed="rId2"/>
          <a:stretch/>
        </p:blipFill>
        <p:spPr>
          <a:xfrm>
            <a:off x="684360" y="547200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1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2484360" y="3213000"/>
          <a:ext cx="3591000" cy="457200"/>
        </p:xfrm>
        <a:graphic>
          <a:graphicData uri="http://schemas.openxmlformats.org/drawingml/2006/table">
            <a:tbl>
              <a:tblPr/>
              <a:tblGrid>
                <a:gridCol w="359100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 := 7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 := V + 5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1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2484360" y="3213000"/>
          <a:ext cx="3591000" cy="457200"/>
        </p:xfrm>
        <a:graphic>
          <a:graphicData uri="http://schemas.openxmlformats.org/drawingml/2006/table">
            <a:tbl>
              <a:tblPr/>
              <a:tblGrid>
                <a:gridCol w="359100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 := 7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 := V + 5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54" name="Oval 2"/>
          <p:cNvSpPr/>
          <p:nvPr/>
        </p:nvSpPr>
        <p:spPr>
          <a:xfrm>
            <a:off x="2502000" y="3357720"/>
            <a:ext cx="31572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3"/>
          <p:cNvSpPr/>
          <p:nvPr/>
        </p:nvSpPr>
        <p:spPr>
          <a:xfrm>
            <a:off x="2658960" y="3645000"/>
            <a:ext cx="311400" cy="792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4"/>
          <p:cNvSpPr/>
          <p:nvPr/>
        </p:nvSpPr>
        <p:spPr>
          <a:xfrm>
            <a:off x="1739160" y="450864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V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は，既に宣言されているのでコンパイルエラーになりま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8" descr="wrong.png"/>
          <p:cNvPicPr/>
          <p:nvPr/>
        </p:nvPicPr>
        <p:blipFill>
          <a:blip r:embed="rId1"/>
          <a:stretch/>
        </p:blipFill>
        <p:spPr>
          <a:xfrm>
            <a:off x="2197080" y="340668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2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2700360" y="3213000"/>
          <a:ext cx="3814920" cy="274680"/>
        </p:xfrm>
        <a:graphic>
          <a:graphicData uri="http://schemas.openxmlformats.org/drawingml/2006/table">
            <a:tbl>
              <a:tblPr/>
              <a:tblGrid>
                <a:gridCol w="3814920"/>
              </a:tblGrid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2 ** 256 .. 2 ** 256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0" name=""/>
          <p:cNvGraphicFramePr/>
          <p:nvPr/>
        </p:nvGraphicFramePr>
        <p:xfrm>
          <a:off x="2700360" y="3213000"/>
          <a:ext cx="3814920" cy="274680"/>
        </p:xfrm>
        <a:graphic>
          <a:graphicData uri="http://schemas.openxmlformats.org/drawingml/2006/table">
            <a:tbl>
              <a:tblPr/>
              <a:tblGrid>
                <a:gridCol w="3814920"/>
              </a:tblGrid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2 ** 256 .. 2 ** 256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2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Oval 2"/>
          <p:cNvSpPr/>
          <p:nvPr/>
        </p:nvSpPr>
        <p:spPr>
          <a:xfrm>
            <a:off x="4284720" y="3213000"/>
            <a:ext cx="224460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3"/>
          <p:cNvSpPr/>
          <p:nvPr/>
        </p:nvSpPr>
        <p:spPr>
          <a:xfrm flipH="1">
            <a:off x="4643280" y="3500280"/>
            <a:ext cx="763920" cy="792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4"/>
          <p:cNvSpPr/>
          <p:nvPr/>
        </p:nvSpPr>
        <p:spPr>
          <a:xfrm>
            <a:off x="3348000" y="4437000"/>
            <a:ext cx="36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この演算は，現在の多くのシステムでは大きすぎる値となります．従って，コンパイラは表現することができず，エラーを発行しま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8" descr="wrong.png"/>
          <p:cNvPicPr/>
          <p:nvPr/>
        </p:nvPicPr>
        <p:blipFill>
          <a:blip r:embed="rId1"/>
          <a:stretch/>
        </p:blipFill>
        <p:spPr>
          <a:xfrm>
            <a:off x="2387520" y="321300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3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2484360" y="3213000"/>
          <a:ext cx="3591000" cy="274680"/>
        </p:xfrm>
        <a:graphic>
          <a:graphicData uri="http://schemas.openxmlformats.org/drawingml/2006/table">
            <a:tbl>
              <a:tblPr/>
              <a:tblGrid>
                <a:gridCol w="3591000"/>
              </a:tblGrid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Float := 5.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3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484360" y="3213000"/>
          <a:ext cx="3591000" cy="274680"/>
        </p:xfrm>
        <a:graphic>
          <a:graphicData uri="http://schemas.openxmlformats.org/drawingml/2006/table">
            <a:tbl>
              <a:tblPr/>
              <a:tblGrid>
                <a:gridCol w="3591000"/>
              </a:tblGrid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Float := 5.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70" name="TextBox 4"/>
          <p:cNvSpPr/>
          <p:nvPr/>
        </p:nvSpPr>
        <p:spPr>
          <a:xfrm>
            <a:off x="4872960" y="36450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エラーはありませ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4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2484360" y="3213000"/>
          <a:ext cx="4175280" cy="457200"/>
        </p:xfrm>
        <a:graphic>
          <a:graphicData uri="http://schemas.openxmlformats.org/drawingml/2006/table">
            <a:tbl>
              <a:tblPr/>
              <a:tblGrid>
                <a:gridCol w="417528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assRoom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atural := 5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_ClassRoom : Natural := classroom +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識別子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HG丸ｺﾞｼｯｸM-PRO"/>
              </a:rPr>
              <a:t>Ada </a:t>
            </a: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の識別子は大文字と小文字の区別をしません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HELLO = hello = HellO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文字で開始します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文字ないしは数字で終了します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連続しないアンダースコアを含む場合があります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404040"/>
                </a:solidFill>
                <a:latin typeface="HG丸ｺﾞｼｯｸM-PRO"/>
              </a:rPr>
              <a:t>以下で妥当なのはどれでしょうか</a:t>
            </a:r>
            <a:endParaRPr b="1" lang="en-US" sz="18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35480" indent="-28296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</a:rPr>
              <a:t>Something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</a:rPr>
              <a:t>My__Id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</a:rPr>
              <a:t>_Hello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</a:rPr>
              <a:t>A_67_9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</a:rPr>
              <a:t>_CONSTANT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</a:rPr>
              <a:t>09_A_2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</a:rPr>
              <a:t>YOP_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39480" indent="-3394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pic>
        <p:nvPicPr>
          <p:cNvPr id="481" name="Picture 5" descr="quiz.png"/>
          <p:cNvPicPr/>
          <p:nvPr/>
        </p:nvPicPr>
        <p:blipFill>
          <a:blip r:embed="rId1"/>
          <a:stretch/>
        </p:blipFill>
        <p:spPr>
          <a:xfrm>
            <a:off x="468360" y="335772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4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2484360" y="3213000"/>
          <a:ext cx="4175280" cy="457200"/>
        </p:xfrm>
        <a:graphic>
          <a:graphicData uri="http://schemas.openxmlformats.org/drawingml/2006/table">
            <a:tbl>
              <a:tblPr/>
              <a:tblGrid>
                <a:gridCol w="417528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assRoom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atural := 5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_ClassRoom : Natural := classroom +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75" name="TextBox 4"/>
          <p:cNvSpPr/>
          <p:nvPr/>
        </p:nvSpPr>
        <p:spPr>
          <a:xfrm>
            <a:off x="4082400" y="3860640"/>
            <a:ext cx="216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誤りはありませ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Ada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は大文字／小文字を区別しませ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5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2484360" y="3213000"/>
          <a:ext cx="4175280" cy="639720"/>
        </p:xfrm>
        <a:graphic>
          <a:graphicData uri="http://schemas.openxmlformats.org/drawingml/2006/table">
            <a:tbl>
              <a:tblPr/>
              <a:tblGrid>
                <a:gridCol w="417528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10 .. 1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100 .. 10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8" name=""/>
          <p:cNvGraphicFramePr/>
          <p:nvPr/>
        </p:nvGraphicFramePr>
        <p:xfrm>
          <a:off x="2484360" y="3213000"/>
          <a:ext cx="4175280" cy="639720"/>
        </p:xfrm>
        <a:graphic>
          <a:graphicData uri="http://schemas.openxmlformats.org/drawingml/2006/table">
            <a:tbl>
              <a:tblPr/>
              <a:tblGrid>
                <a:gridCol w="417528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10 .. 1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100 .. 10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5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Oval 2"/>
          <p:cNvSpPr/>
          <p:nvPr/>
        </p:nvSpPr>
        <p:spPr>
          <a:xfrm>
            <a:off x="4716360" y="3527280"/>
            <a:ext cx="122400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traight Connector 3"/>
          <p:cNvSpPr/>
          <p:nvPr/>
        </p:nvSpPr>
        <p:spPr>
          <a:xfrm flipH="1">
            <a:off x="3843000" y="3895560"/>
            <a:ext cx="1484280" cy="397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4"/>
          <p:cNvSpPr/>
          <p:nvPr/>
        </p:nvSpPr>
        <p:spPr>
          <a:xfrm>
            <a:off x="3418560" y="4344840"/>
            <a:ext cx="178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範囲を拡張することはできませ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狭くすることができるだけで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8" descr="wrong.png"/>
          <p:cNvPicPr/>
          <p:nvPr/>
        </p:nvPicPr>
        <p:blipFill>
          <a:blip r:embed="rId1"/>
          <a:stretch/>
        </p:blipFill>
        <p:spPr>
          <a:xfrm>
            <a:off x="2235240" y="359244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6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2852640" y="3429000"/>
          <a:ext cx="3448080" cy="274680"/>
        </p:xfrm>
        <a:graphic>
          <a:graphicData uri="http://schemas.openxmlformats.org/drawingml/2006/table">
            <a:tbl>
              <a:tblPr/>
              <a:tblGrid>
                <a:gridCol w="3448080"/>
              </a:tblGrid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Float := Float'Succ (0.9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6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TextBox 4"/>
          <p:cNvSpPr/>
          <p:nvPr/>
        </p:nvSpPr>
        <p:spPr>
          <a:xfrm>
            <a:off x="2268360" y="4005360"/>
            <a:ext cx="496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合っていま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浮動小数点でも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，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Succ 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を利用可能です．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0.9 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に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最も近い次の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浮動小数点の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値を返しま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2852640" y="3429000"/>
          <a:ext cx="3448080" cy="274680"/>
        </p:xfrm>
        <a:graphic>
          <a:graphicData uri="http://schemas.openxmlformats.org/drawingml/2006/table">
            <a:tbl>
              <a:tblPr/>
              <a:tblGrid>
                <a:gridCol w="3448080"/>
              </a:tblGrid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Float := Float'Succ (0.9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このコードの出力は何でしょう </a:t>
            </a:r>
            <a:r>
              <a:rPr b="0" lang="en-US" sz="2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? (7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2786040" y="3214800"/>
          <a:ext cx="3500640" cy="1006200"/>
        </p:xfrm>
        <a:graphic>
          <a:graphicData uri="http://schemas.openxmlformats.org/drawingml/2006/table">
            <a:tbl>
              <a:tblPr/>
              <a:tblGrid>
                <a:gridCol w="3500640"/>
              </a:tblGrid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  : Float   := 7.6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v : Integer := 1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:= Float (Integer (F) / Div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Float’Image (F)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このコードの出力は何でしょう </a:t>
            </a:r>
            <a:r>
              <a:rPr b="0" lang="en-US" sz="2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? (7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2786040" y="3214800"/>
          <a:ext cx="3500640" cy="1006200"/>
        </p:xfrm>
        <a:graphic>
          <a:graphicData uri="http://schemas.openxmlformats.org/drawingml/2006/table">
            <a:tbl>
              <a:tblPr/>
              <a:tblGrid>
                <a:gridCol w="3500640"/>
              </a:tblGrid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  : Float   := 7.6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v : Integer := 1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:= Float (Integer (F) / Div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Float’Image (F)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93" name="TextBox 5"/>
          <p:cNvSpPr/>
          <p:nvPr/>
        </p:nvSpPr>
        <p:spPr>
          <a:xfrm>
            <a:off x="6084720" y="4678200"/>
            <a:ext cx="5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8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2786040" y="3214800"/>
          <a:ext cx="3214800" cy="822240"/>
        </p:xfrm>
        <a:graphic>
          <a:graphicData uri="http://schemas.openxmlformats.org/drawingml/2006/table">
            <a:tbl>
              <a:tblPr/>
              <a:tblGrid>
                <a:gridCol w="3214800"/>
              </a:tblGrid>
              <a:tr h="8222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A, B, C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T := T'Val ("A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T := T'Value (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8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2786040" y="3214800"/>
          <a:ext cx="3214800" cy="822240"/>
        </p:xfrm>
        <a:graphic>
          <a:graphicData uri="http://schemas.openxmlformats.org/drawingml/2006/table">
            <a:tbl>
              <a:tblPr/>
              <a:tblGrid>
                <a:gridCol w="3214800"/>
              </a:tblGrid>
              <a:tr h="8222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A, B, C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T := T'Val ("A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T := T'Value (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98" name="Straight Connector 3"/>
          <p:cNvSpPr/>
          <p:nvPr/>
        </p:nvSpPr>
        <p:spPr>
          <a:xfrm>
            <a:off x="4214880" y="4005360"/>
            <a:ext cx="1682640" cy="699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4767120" y="4705200"/>
            <a:ext cx="226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コンパイルエラーになります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T'Val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は，位置から値を返しま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T'Value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は，文字列から値を返しま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2"/>
          <p:cNvSpPr/>
          <p:nvPr/>
        </p:nvSpPr>
        <p:spPr>
          <a:xfrm>
            <a:off x="3930480" y="3573360"/>
            <a:ext cx="57024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8" descr="wrong.png"/>
          <p:cNvPicPr/>
          <p:nvPr/>
        </p:nvPicPr>
        <p:blipFill>
          <a:blip r:embed="rId1"/>
          <a:stretch/>
        </p:blipFill>
        <p:spPr>
          <a:xfrm>
            <a:off x="2525760" y="3551400"/>
            <a:ext cx="239760" cy="2379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8" descr="wrong.png"/>
          <p:cNvPicPr/>
          <p:nvPr/>
        </p:nvPicPr>
        <p:blipFill>
          <a:blip r:embed="rId2"/>
          <a:stretch/>
        </p:blipFill>
        <p:spPr>
          <a:xfrm>
            <a:off x="2527200" y="3838680"/>
            <a:ext cx="2397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9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2786040" y="3214800"/>
          <a:ext cx="3214800" cy="1006200"/>
        </p:xfrm>
        <a:graphic>
          <a:graphicData uri="http://schemas.openxmlformats.org/drawingml/2006/table">
            <a:tbl>
              <a:tblPr/>
              <a:tblGrid>
                <a:gridCol w="3214800"/>
              </a:tblGrid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A, B, C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T := T'Value ("A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T := T'Value ("a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3 : T :=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'Value (" a 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80a6"/>
                </a:solidFill>
                <a:latin typeface="HG丸ｺﾞｼｯｸM-PRO"/>
              </a:rPr>
              <a:t>Identifiers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76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HG丸ｺﾞｼｯｸM-PRO"/>
              </a:rPr>
              <a:t>Ada </a:t>
            </a:r>
            <a:r>
              <a:rPr b="1" lang="ja-JP" sz="1900" spc="-1" strike="noStrike">
                <a:solidFill>
                  <a:srgbClr val="404040"/>
                </a:solidFill>
                <a:latin typeface="HG丸ｺﾞｼｯｸM-PRO"/>
              </a:rPr>
              <a:t>の識別子は大文字と小文字の区別をしません</a:t>
            </a:r>
            <a:endParaRPr b="1" lang="en-US" sz="19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G丸ｺﾞｼｯｸM-PRO"/>
              </a:rPr>
              <a:t>HELLO = hello = HellO</a:t>
            </a:r>
            <a:endParaRPr b="0" lang="en-US" sz="17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10000"/>
              </a:lnSpc>
              <a:spcBef>
                <a:spcPts val="476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900" spc="-1" strike="noStrike">
                <a:solidFill>
                  <a:srgbClr val="404040"/>
                </a:solidFill>
                <a:latin typeface="HG丸ｺﾞｼｯｸM-PRO"/>
              </a:rPr>
              <a:t>文字で開始します</a:t>
            </a:r>
            <a:endParaRPr b="1" lang="en-US" sz="19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10000"/>
              </a:lnSpc>
              <a:spcBef>
                <a:spcPts val="476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900" spc="-1" strike="noStrike">
                <a:solidFill>
                  <a:srgbClr val="404040"/>
                </a:solidFill>
                <a:latin typeface="HG丸ｺﾞｼｯｸM-PRO"/>
              </a:rPr>
              <a:t>文字ないしは数字で終了します</a:t>
            </a:r>
            <a:endParaRPr b="1" lang="en-US" sz="19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10000"/>
              </a:lnSpc>
              <a:spcBef>
                <a:spcPts val="476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900" spc="-1" strike="noStrike">
                <a:solidFill>
                  <a:srgbClr val="404040"/>
                </a:solidFill>
                <a:latin typeface="HG丸ｺﾞｼｯｸM-PRO"/>
              </a:rPr>
              <a:t>連続しないアンダースコアを含む場合があります</a:t>
            </a:r>
            <a:endParaRPr b="1" lang="en-US" sz="19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10000"/>
              </a:lnSpc>
              <a:spcBef>
                <a:spcPts val="476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700" spc="-1" strike="noStrike">
                <a:solidFill>
                  <a:srgbClr val="404040"/>
                </a:solidFill>
                <a:latin typeface="HG丸ｺﾞｼｯｸM-PRO"/>
              </a:rPr>
              <a:t>以下で妥当なのはどれでしょうか</a:t>
            </a:r>
            <a:endParaRPr b="1" lang="en-US" sz="17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G丸ｺﾞｼｯｸM-PRO"/>
              </a:rPr>
              <a:t>Something</a:t>
            </a:r>
            <a:endParaRPr b="0" lang="en-US" sz="19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ff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HG丸ｺﾞｼｯｸM-PRO"/>
              </a:rPr>
              <a:t>My__Id</a:t>
            </a:r>
            <a:endParaRPr b="0" lang="en-US" sz="19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ff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HG丸ｺﾞｼｯｸM-PRO"/>
              </a:rPr>
              <a:t>_Hello</a:t>
            </a:r>
            <a:endParaRPr b="0" lang="en-US" sz="19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G丸ｺﾞｼｯｸM-PRO"/>
              </a:rPr>
              <a:t>A_67_9</a:t>
            </a:r>
            <a:endParaRPr b="0" lang="en-US" sz="19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ff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HG丸ｺﾞｼｯｸM-PRO"/>
              </a:rPr>
              <a:t>_CONSTANT</a:t>
            </a:r>
            <a:endParaRPr b="0" lang="en-US" sz="19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ff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HG丸ｺﾞｼｯｸM-PRO"/>
              </a:rPr>
              <a:t>09_A_2</a:t>
            </a:r>
            <a:endParaRPr b="0" lang="en-US" sz="19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ff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HG丸ｺﾞｼｯｸM-PRO"/>
              </a:rPr>
              <a:t>YOP_</a:t>
            </a:r>
            <a:endParaRPr b="0" lang="en-US" sz="19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10000"/>
              </a:lnSpc>
              <a:spcBef>
                <a:spcPts val="476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pic>
        <p:nvPicPr>
          <p:cNvPr id="484" name="Picture 8" descr="wrong.png"/>
          <p:cNvPicPr/>
          <p:nvPr/>
        </p:nvPicPr>
        <p:blipFill>
          <a:blip r:embed="rId1"/>
          <a:stretch/>
        </p:blipFill>
        <p:spPr>
          <a:xfrm>
            <a:off x="1069920" y="4149720"/>
            <a:ext cx="333360" cy="3348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0" descr="wrong.png"/>
          <p:cNvPicPr/>
          <p:nvPr/>
        </p:nvPicPr>
        <p:blipFill>
          <a:blip r:embed="rId2"/>
          <a:stretch/>
        </p:blipFill>
        <p:spPr>
          <a:xfrm>
            <a:off x="1069920" y="451008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1" descr="wrong.png"/>
          <p:cNvPicPr/>
          <p:nvPr/>
        </p:nvPicPr>
        <p:blipFill>
          <a:blip r:embed="rId3"/>
          <a:stretch/>
        </p:blipFill>
        <p:spPr>
          <a:xfrm>
            <a:off x="1069920" y="5300640"/>
            <a:ext cx="333360" cy="3351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2" descr="wrong.png"/>
          <p:cNvPicPr/>
          <p:nvPr/>
        </p:nvPicPr>
        <p:blipFill>
          <a:blip r:embed="rId4"/>
          <a:stretch/>
        </p:blipFill>
        <p:spPr>
          <a:xfrm>
            <a:off x="1069920" y="56610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3" descr="wrong.png"/>
          <p:cNvPicPr/>
          <p:nvPr/>
        </p:nvPicPr>
        <p:blipFill>
          <a:blip r:embed="rId5"/>
          <a:stretch/>
        </p:blipFill>
        <p:spPr>
          <a:xfrm>
            <a:off x="1069920" y="602136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9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2786040" y="3214800"/>
          <a:ext cx="3214800" cy="1006200"/>
        </p:xfrm>
        <a:graphic>
          <a:graphicData uri="http://schemas.openxmlformats.org/drawingml/2006/table">
            <a:tbl>
              <a:tblPr/>
              <a:tblGrid>
                <a:gridCol w="3214800"/>
              </a:tblGrid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A, B, C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T := T'Value ("A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T := T'Value ("a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3 : T :=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'Value (" a 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07" name="TextBox 3"/>
          <p:cNvSpPr/>
          <p:nvPr/>
        </p:nvSpPr>
        <p:spPr>
          <a:xfrm>
            <a:off x="5220000" y="4365720"/>
            <a:ext cx="2207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エラーはありませ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変換では，大文字／小文字を区別しませ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また，自動的にスペースをトリムしま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10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3571920" y="3214800"/>
          <a:ext cx="2357280" cy="500040"/>
        </p:xfrm>
        <a:graphic>
          <a:graphicData uri="http://schemas.openxmlformats.org/drawingml/2006/table">
            <a:tbl>
              <a:tblPr/>
              <a:tblGrid>
                <a:gridCol w="2357280"/>
              </a:tblGrid>
              <a:tr h="500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10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3571920" y="3214800"/>
          <a:ext cx="2357280" cy="500040"/>
        </p:xfrm>
        <a:graphic>
          <a:graphicData uri="http://schemas.openxmlformats.org/drawingml/2006/table">
            <a:tbl>
              <a:tblPr/>
              <a:tblGrid>
                <a:gridCol w="2357280"/>
              </a:tblGrid>
              <a:tr h="500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12" name="TextBox 3"/>
          <p:cNvSpPr/>
          <p:nvPr/>
        </p:nvSpPr>
        <p:spPr>
          <a:xfrm>
            <a:off x="4435920" y="3933720"/>
            <a:ext cx="267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エラーはありませ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T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は空の範囲を持ちます．役に立つ場面がありま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コメント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HG丸ｺﾞｼｯｸM-PRO"/>
              </a:rPr>
              <a:t>Ada</a:t>
            </a: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では，</a:t>
            </a:r>
            <a:r>
              <a:rPr b="1" lang="en-US" sz="2000" spc="-1" strike="noStrike">
                <a:solidFill>
                  <a:srgbClr val="404040"/>
                </a:solidFill>
                <a:latin typeface="HG丸ｺﾞｼｯｸM-PRO"/>
              </a:rPr>
              <a:t>-- </a:t>
            </a: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を用いて行コメントを付けることができます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ブロックコメントはありません</a:t>
            </a:r>
            <a:r>
              <a:rPr b="1" lang="en-US" sz="2000" spc="-1" strike="noStrike">
                <a:solidFill>
                  <a:srgbClr val="404040"/>
                </a:solidFill>
                <a:latin typeface="HG丸ｺﾞｼｯｸM-PRO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HG丸ｺﾞｼｯｸM-PRO"/>
              </a:rPr>
              <a:t>(/* */)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071720" y="2708280"/>
          <a:ext cx="7167240" cy="371520"/>
        </p:xfrm>
        <a:graphic>
          <a:graphicData uri="http://schemas.openxmlformats.org/drawingml/2006/table">
            <a:tbl>
              <a:tblPr/>
              <a:tblGrid>
                <a:gridCol w="3584520"/>
                <a:gridCol w="3582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This is an Ada com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// This is a C++ com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数字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数字では，アンダースコアを使用することができます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1_000_000 = 1000000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基数を用いて数字を表現することができます</a:t>
            </a:r>
            <a:r>
              <a:rPr b="1" lang="en-US" sz="2000" spc="-1" strike="noStrike">
                <a:solidFill>
                  <a:srgbClr val="404040"/>
                </a:solidFill>
                <a:latin typeface="HG丸ｺﾞｼｯｸM-PRO"/>
              </a:rPr>
              <a:t>(2</a:t>
            </a: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から</a:t>
            </a:r>
            <a:r>
              <a:rPr b="1" lang="en-US" sz="2000" spc="-1" strike="noStrike">
                <a:solidFill>
                  <a:srgbClr val="404040"/>
                </a:solidFill>
                <a:latin typeface="HG丸ｺﾞｼｯｸM-PRO"/>
              </a:rPr>
              <a:t>16</a:t>
            </a: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まで</a:t>
            </a:r>
            <a:r>
              <a:rPr b="1" lang="en-US" sz="2000" spc="-1" strike="noStrike">
                <a:solidFill>
                  <a:srgbClr val="404040"/>
                </a:solidFill>
                <a:latin typeface="HG丸ｺﾞｼｯｸM-PRO"/>
              </a:rPr>
              <a:t>)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10#255# = 2#1111_1111# = 8#377# = 16#FF#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浮動小数点リテラルは，必ず小数点（</a:t>
            </a:r>
            <a:r>
              <a:rPr b="1" lang="en-US" sz="2000" spc="-1" strike="noStrike">
                <a:solidFill>
                  <a:srgbClr val="404040"/>
                </a:solidFill>
                <a:latin typeface="HG丸ｺﾞｼｯｸM-PRO"/>
              </a:rPr>
              <a:t>"."</a:t>
            </a: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）を持つ必要があります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小数点の前後には数字が必要です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1.0 /= 1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変数宣言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404040"/>
                </a:solidFill>
                <a:latin typeface="HG丸ｺﾞｼｯｸM-PRO"/>
              </a:rPr>
              <a:t>一つないしは複数の名前が定義されます．</a:t>
            </a:r>
            <a:r>
              <a:rPr b="1" lang="en-US" sz="1800" spc="-1" strike="noStrike">
                <a:solidFill>
                  <a:srgbClr val="404040"/>
                </a:solidFill>
                <a:latin typeface="HG丸ｺﾞｼｯｸM-PRO"/>
              </a:rPr>
              <a:t>  </a:t>
            </a:r>
            <a:r>
              <a:rPr b="1" lang="en-US" sz="1800" spc="-1" strike="noStrike">
                <a:solidFill>
                  <a:srgbClr val="404040"/>
                </a:solidFill>
                <a:latin typeface="HG丸ｺﾞｼｯｸM-PRO"/>
              </a:rPr>
              <a:t>":" </a:t>
            </a:r>
            <a:r>
              <a:rPr b="1" lang="ja-JP" sz="1800" spc="-1" strike="noStrike">
                <a:solidFill>
                  <a:srgbClr val="404040"/>
                </a:solidFill>
                <a:latin typeface="HG丸ｺﾞｼｯｸM-PRO"/>
              </a:rPr>
              <a:t>記号のあとに，型の名場合によっては更に初期値が続きます</a:t>
            </a:r>
            <a:endParaRPr b="1" lang="en-US" sz="18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371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404040"/>
                </a:solidFill>
                <a:latin typeface="HG丸ｺﾞｼｯｸM-PRO"/>
              </a:rPr>
              <a:t>実行時準備処理（</a:t>
            </a:r>
            <a:r>
              <a:rPr b="1" lang="en-US" sz="1800" spc="-1" strike="noStrike">
                <a:solidFill>
                  <a:srgbClr val="404040"/>
                </a:solidFill>
                <a:latin typeface="HG丸ｺﾞｼｯｸM-PRO"/>
              </a:rPr>
              <a:t>elaboration</a:t>
            </a:r>
            <a:r>
              <a:rPr b="1" lang="ja-JP" sz="1800" spc="-1" strike="noStrike">
                <a:solidFill>
                  <a:srgbClr val="404040"/>
                </a:solidFill>
                <a:latin typeface="HG丸ｺﾞｼｯｸM-PRO"/>
              </a:rPr>
              <a:t>）は，順次行われます</a:t>
            </a:r>
            <a:endParaRPr b="1" lang="en-US" sz="18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404040"/>
                </a:solidFill>
                <a:latin typeface="HG丸ｺﾞｼｯｸM-PRO"/>
              </a:rPr>
              <a:t>変数毎に個別に初期化されます</a:t>
            </a:r>
            <a:endParaRPr b="1" lang="en-US" sz="18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404040"/>
                </a:solidFill>
                <a:latin typeface="HG丸ｺﾞｼｯｸM-PRO"/>
              </a:rPr>
              <a:t>宣言における</a:t>
            </a:r>
            <a:r>
              <a:rPr b="1" lang="en-US" sz="1800" spc="-1" strike="noStrike">
                <a:solidFill>
                  <a:srgbClr val="404040"/>
                </a:solidFill>
                <a:latin typeface="HG丸ｺﾞｼｯｸM-PRO"/>
              </a:rPr>
              <a:t>“</a:t>
            </a:r>
            <a:r>
              <a:rPr b="1" lang="en-US" sz="1800" spc="-1" strike="noStrike">
                <a:solidFill>
                  <a:srgbClr val="404040"/>
                </a:solidFill>
                <a:latin typeface="HG丸ｺﾞｼｯｸM-PRO"/>
              </a:rPr>
              <a:t>:=“ </a:t>
            </a:r>
            <a:r>
              <a:rPr b="1" lang="ja-JP" sz="1800" spc="-1" strike="noStrike">
                <a:solidFill>
                  <a:srgbClr val="404040"/>
                </a:solidFill>
                <a:latin typeface="HG丸ｺﾞｼｯｸM-PRO"/>
              </a:rPr>
              <a:t>は，初期化であって，代入ではありません　（特別なプロパティについて後述します）</a:t>
            </a:r>
            <a:endParaRPr b="1" lang="en-US" sz="18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1258920" y="1959120"/>
          <a:ext cx="7167600" cy="822240"/>
        </p:xfrm>
        <a:graphic>
          <a:graphicData uri="http://schemas.openxmlformats.org/drawingml/2006/table">
            <a:tbl>
              <a:tblPr/>
              <a:tblGrid>
                <a:gridCol w="3584520"/>
                <a:gridCol w="3583080"/>
              </a:tblGrid>
              <a:tr h="82224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: Integer := 5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:= 78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, E : Integer := F (5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;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 = 5;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 = 78;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 = F (5), e = F(5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1258920" y="3284640"/>
          <a:ext cx="6095880" cy="8222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82224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 := 5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: Integer := A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C : Integer := D;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-- COMPILATION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 : Integer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1258920" y="4869000"/>
          <a:ext cx="6095880" cy="8222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82224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 : Float := Compute_New_Random;</a:t>
                      </a:r>
                      <a:br>
                        <a:rPr sz="1200"/>
                      </a:b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This is equivalent to: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Float := Compute_New_Random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: Float := Compute_New_Random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99" name="Picture 8" descr="wrong.png"/>
          <p:cNvPicPr/>
          <p:nvPr/>
        </p:nvPicPr>
        <p:blipFill>
          <a:blip r:embed="rId1"/>
          <a:stretch/>
        </p:blipFill>
        <p:spPr>
          <a:xfrm>
            <a:off x="900000" y="3695760"/>
            <a:ext cx="2397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2940120"/>
            <a:ext cx="8382240" cy="97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丸ｺﾞｼｯｸM-PRO"/>
              </a:rPr>
              <a:t>単純なスカラー型</a:t>
            </a:r>
            <a:endParaRPr b="1" lang="en-US" sz="3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Ada</a:t>
            </a: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の強い型付け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型は，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</a:rPr>
              <a:t>Ada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モデルの基本で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意味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</a:rPr>
              <a:t> ≠ 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表現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</a:rPr>
              <a:t>Ada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の型は名前を持ち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プロパティ（範囲，属性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</a:rPr>
              <a:t>...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）や操作と関連づけられてい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不整合がある場合，コンパイラは警告を出力し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076400" y="3573360"/>
          <a:ext cx="7167600" cy="639720"/>
        </p:xfrm>
        <a:graphic>
          <a:graphicData uri="http://schemas.openxmlformats.org/drawingml/2006/table">
            <a:tbl>
              <a:tblPr/>
              <a:tblGrid>
                <a:gridCol w="3584520"/>
                <a:gridCol w="358308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 := 10 * Integer (0.9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 := Integ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Float (10) * 0.9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= 10 * 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0:35:52Z</dcterms:created>
  <dc:creator>ochem</dc:creator>
  <dc:description/>
  <dc:language>en-US</dc:language>
  <cp:lastModifiedBy>Ito Masao</cp:lastModifiedBy>
  <cp:lastPrinted>2017-12-08T01:03:00Z</cp:lastPrinted>
  <dcterms:modified xsi:type="dcterms:W3CDTF">2017-12-08T01:03:50Z</dcterms:modified>
  <cp:revision>184</cp:revision>
  <dc:subject/>
  <dc:title>Diapositive 1</dc:title>
</cp:coreProperties>
</file>