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78A-304E-4F20-82F1-5D33FACEC35B}" type="slidenum"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758B-AFCA-4ECA-B72A-A385CD8D8E85}" type="slidenum"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AB30-C423-42D5-8903-4B7D91B895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D20-A444-492B-94AF-4DC34D77B6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755-1ED5-4C96-9C39-431E1D771C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1FB0-799C-42B4-B9D3-C5793C3C35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5F10-5AA5-422C-AC2C-B35182BB01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39F1-E6DE-4278-98FC-D3C5036CA3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D906-C380-42E0-97E8-FAFB25B6C2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4DF-2221-4B8C-A8D8-26480D3A75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198-2618-4FD0-ABF0-5D6968865F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AEDE-E39A-4B3A-A97A-2CAAADA412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695-D4D5-4675-9D74-454E8E5B8F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3ED3-B6D3-4395-9C7E-C9E6B8F7CF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634-A394-43C9-AF53-A7B0D241D5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029D-7FAA-4E38-B44E-4CAD7411BC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121-DA5B-4379-BC82-45BAE4182A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A615-40E8-4D52-9F37-B7CE8D35DA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CA8E-9E0B-4BCF-815B-AD6548882F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6F07-5DE1-41C7-9CE4-18E6172520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0B7-930E-4715-B690-CE607FC491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2792-4B26-4CA2-8C72-268A3EA72D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72E2D74-6B15-44CB-A94D-C6A44F43FC4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C005E88-D141-4A3D-88E4-EB9D8E91081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10DF494-0ED8-4F56-8EE0-2E5F527910B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E10A4AD-61C2-40A1-A352-13E2CA19DE5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6543C71-8CAD-43F1-A49F-322C18586FE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3A6C1D6-DC36-483F-8445-0A1D5D12C0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216238A-252D-498D-9370-26C9A31D64A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779BC10-00E9-44DF-B1A8-E83128C683C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2B82BFB-3303-4179-A833-E80F9D64D60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532560" y="108000"/>
            <a:ext cx="2611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チェックアイコン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996600" y="627120"/>
            <a:ext cx="1438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エラーの場所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2A8D336-F44F-4807-A1E1-06D92BB77B1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042920" y="324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6"/>
          <p:cNvSpPr/>
          <p:nvPr/>
        </p:nvSpPr>
        <p:spPr>
          <a:xfrm>
            <a:off x="6823440" y="18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FEC5C89-18E2-43C3-BE86-E7117F9CA06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690120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wrong.png"/>
          <p:cNvPicPr/>
          <p:nvPr/>
        </p:nvPicPr>
        <p:blipFill>
          <a:blip r:embed="rId4"/>
          <a:stretch/>
        </p:blipFill>
        <p:spPr>
          <a:xfrm>
            <a:off x="6084720" y="358920"/>
            <a:ext cx="478080" cy="477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</a:rPr>
              <a:t>パッケージ</a:t>
            </a:r>
            <a:endParaRPr b="1" lang="en-US" sz="24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演算子シンボルの可視性についての注意事項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with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節だけでは，型に対する操作は，可視にはなりません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「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use type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」を用いることで，型に対する操作が可視になります．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前置記法も利用可能で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456000" y="3789360"/>
          <a:ext cx="2643120" cy="100800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1763640" y="4869000"/>
          <a:ext cx="2643120" cy="137160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P1.T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P1."+" (A, B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5241960" y="4869000"/>
          <a:ext cx="2643120" cy="155412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 type P1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P1.T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ッケージは，高いレベルの意味を持ったエンティティである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コンパイラは，構造的・意味的一貫性が保たれていることを確実に検査します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214280" y="2289240"/>
          <a:ext cx="7167600" cy="4114800"/>
        </p:xfrm>
        <a:graphic>
          <a:graphicData uri="http://schemas.openxmlformats.org/drawingml/2006/table">
            <a:tbl>
              <a:tblPr/>
              <a:tblGrid>
                <a:gridCol w="3584880"/>
                <a:gridCol w="358272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te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 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nclude “p.hi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i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I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I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 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c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754360" y="3127320"/>
          <a:ext cx="3635280" cy="260676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260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out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2754360" y="1268280"/>
          <a:ext cx="3635280" cy="126540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2754360" y="3486240"/>
          <a:ext cx="3635280" cy="260676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260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2754360" y="1268280"/>
          <a:ext cx="3635280" cy="126540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Oval 2"/>
          <p:cNvSpPr/>
          <p:nvPr/>
        </p:nvSpPr>
        <p:spPr>
          <a:xfrm>
            <a:off x="3000240" y="1844640"/>
            <a:ext cx="27241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3"/>
          <p:cNvSpPr/>
          <p:nvPr/>
        </p:nvSpPr>
        <p:spPr>
          <a:xfrm flipH="1">
            <a:off x="2484000" y="2212920"/>
            <a:ext cx="1878120" cy="7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613880" y="283356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ラ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Read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関数はボディ部に「実現」が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wrong.png"/>
          <p:cNvPicPr/>
          <p:nvPr/>
        </p:nvPicPr>
        <p:blipFill>
          <a:blip r:embed="rId1"/>
          <a:stretch/>
        </p:blipFill>
        <p:spPr>
          <a:xfrm>
            <a:off x="2455920" y="19098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771640" y="3894120"/>
          <a:ext cx="3637080" cy="143208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754360" y="1268280"/>
          <a:ext cx="3635280" cy="210348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out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771640" y="3894120"/>
          <a:ext cx="3637080" cy="143208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2754360" y="1268280"/>
          <a:ext cx="3635280" cy="2103480"/>
        </p:xfrm>
        <a:graphic>
          <a:graphicData uri="http://schemas.openxmlformats.org/drawingml/2006/table">
            <a:tbl>
              <a:tblPr/>
              <a:tblGrid>
                <a:gridCol w="363528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8" name="Oval 2"/>
          <p:cNvSpPr/>
          <p:nvPr/>
        </p:nvSpPr>
        <p:spPr>
          <a:xfrm>
            <a:off x="3000240" y="2197080"/>
            <a:ext cx="2724120" cy="94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3"/>
          <p:cNvSpPr/>
          <p:nvPr/>
        </p:nvSpPr>
        <p:spPr>
          <a:xfrm flipH="1">
            <a:off x="2484000" y="3141720"/>
            <a:ext cx="1878120" cy="646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250920" y="3481560"/>
            <a:ext cx="223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ラ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手続きのボディ部をパッケージの仕様部に書く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wrong.png"/>
          <p:cNvPicPr/>
          <p:nvPr/>
        </p:nvPicPr>
        <p:blipFill>
          <a:blip r:embed="rId1"/>
          <a:stretch/>
        </p:blipFill>
        <p:spPr>
          <a:xfrm>
            <a:off x="2316240" y="2614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477040" y="2922480"/>
          <a:ext cx="2214360" cy="100656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1452600" y="2924280"/>
          <a:ext cx="2571840" cy="1006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477040" y="2922480"/>
          <a:ext cx="2214360" cy="100656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452600" y="2924280"/>
          <a:ext cx="2571840" cy="1006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8" name="Oval 2"/>
          <p:cNvSpPr/>
          <p:nvPr/>
        </p:nvSpPr>
        <p:spPr>
          <a:xfrm>
            <a:off x="5691240" y="3213000"/>
            <a:ext cx="123804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3"/>
          <p:cNvSpPr/>
          <p:nvPr/>
        </p:nvSpPr>
        <p:spPr>
          <a:xfrm flipH="1">
            <a:off x="5651640" y="3581280"/>
            <a:ext cx="658800" cy="7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4626720" y="4437000"/>
            <a:ext cx="29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の宣言のために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"with P1;"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with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節が必要に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wrong.png"/>
          <p:cNvPicPr/>
          <p:nvPr/>
        </p:nvPicPr>
        <p:blipFill>
          <a:blip r:embed="rId1"/>
          <a:stretch/>
        </p:blipFill>
        <p:spPr>
          <a:xfrm>
            <a:off x="5219640" y="32781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500120" y="2143080"/>
          <a:ext cx="3000600" cy="7146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357880" y="213660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571760" y="471492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ッケージ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パッケージは，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言語におけるソフトウェアアーキテクチャの基礎となるもので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コンパイラが検査を行う，意味を有したエンティティで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明確に，仕様と実現（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implementation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）に分かれ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19240" y="3429000"/>
          <a:ext cx="7167600" cy="26510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26510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500120" y="2143080"/>
          <a:ext cx="3000600" cy="7146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5357880" y="213660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571760" y="471492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0" name="Oval 2"/>
          <p:cNvSpPr/>
          <p:nvPr/>
        </p:nvSpPr>
        <p:spPr>
          <a:xfrm>
            <a:off x="5508720" y="2852640"/>
            <a:ext cx="1079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3"/>
          <p:cNvSpPr/>
          <p:nvPr/>
        </p:nvSpPr>
        <p:spPr>
          <a:xfrm flipH="1">
            <a:off x="5468760" y="3141720"/>
            <a:ext cx="5796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194080" y="405936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T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ボディ部で宣言され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他の場所からはアクセスすることが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9" descr="wrong.png"/>
          <p:cNvPicPr/>
          <p:nvPr/>
        </p:nvPicPr>
        <p:blipFill>
          <a:blip r:embed="rId1"/>
          <a:stretch/>
        </p:blipFill>
        <p:spPr>
          <a:xfrm>
            <a:off x="5076720" y="285264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143000" y="2560680"/>
          <a:ext cx="3000240" cy="173664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5286240" y="2560680"/>
          <a:ext cx="2714760" cy="1736640"/>
        </p:xfrm>
        <a:graphic>
          <a:graphicData uri="http://schemas.openxmlformats.org/drawingml/2006/table">
            <a:tbl>
              <a:tblPr/>
              <a:tblGrid>
                <a:gridCol w="271476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143000" y="2560680"/>
          <a:ext cx="3000240" cy="173664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5286240" y="2560680"/>
          <a:ext cx="2714760" cy="1736640"/>
        </p:xfrm>
        <a:graphic>
          <a:graphicData uri="http://schemas.openxmlformats.org/drawingml/2006/table">
            <a:tbl>
              <a:tblPr/>
              <a:tblGrid>
                <a:gridCol w="271476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0" name="Oval 2"/>
          <p:cNvSpPr/>
          <p:nvPr/>
        </p:nvSpPr>
        <p:spPr>
          <a:xfrm>
            <a:off x="5148360" y="2565360"/>
            <a:ext cx="1079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"/>
          <p:cNvSpPr/>
          <p:nvPr/>
        </p:nvSpPr>
        <p:spPr>
          <a:xfrm flipH="1">
            <a:off x="4643280" y="2852640"/>
            <a:ext cx="1044720" cy="20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3167640" y="5084640"/>
            <a:ext cx="23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と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2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間で，依存が循環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"/>
          <p:cNvSpPr/>
          <p:nvPr/>
        </p:nvSpPr>
        <p:spPr>
          <a:xfrm>
            <a:off x="1042920" y="2565360"/>
            <a:ext cx="1081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3"/>
          <p:cNvSpPr/>
          <p:nvPr/>
        </p:nvSpPr>
        <p:spPr>
          <a:xfrm>
            <a:off x="1584360" y="2852640"/>
            <a:ext cx="3058920" cy="20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wrong.png"/>
          <p:cNvPicPr/>
          <p:nvPr/>
        </p:nvPicPr>
        <p:blipFill>
          <a:blip r:embed="rId1"/>
          <a:stretch/>
        </p:blipFill>
        <p:spPr>
          <a:xfrm>
            <a:off x="4836960" y="261468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wrong.png"/>
          <p:cNvPicPr/>
          <p:nvPr/>
        </p:nvPicPr>
        <p:blipFill>
          <a:blip r:embed="rId2"/>
          <a:stretch/>
        </p:blipFill>
        <p:spPr>
          <a:xfrm>
            <a:off x="733320" y="256536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00120" y="185724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357880" y="185724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5357880" y="478008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500120" y="185724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5357880" y="185724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5357880" y="478008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5" name="TextBox 4"/>
          <p:cNvSpPr/>
          <p:nvPr/>
        </p:nvSpPr>
        <p:spPr>
          <a:xfrm>
            <a:off x="1370160" y="4365720"/>
            <a:ext cx="276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こでは，循環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2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仕様のみに依存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2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ボディ部は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仕様部に依存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3"/>
          <p:cNvSpPr/>
          <p:nvPr/>
        </p:nvSpPr>
        <p:spPr>
          <a:xfrm>
            <a:off x="6516720" y="2924280"/>
            <a:ext cx="0" cy="172872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3"/>
          <p:cNvSpPr/>
          <p:nvPr/>
        </p:nvSpPr>
        <p:spPr>
          <a:xfrm>
            <a:off x="3564000" y="3573360"/>
            <a:ext cx="2844720" cy="115092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3"/>
          <p:cNvSpPr/>
          <p:nvPr/>
        </p:nvSpPr>
        <p:spPr>
          <a:xfrm flipH="1">
            <a:off x="4572000" y="2421000"/>
            <a:ext cx="720720" cy="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042920" y="3362400"/>
          <a:ext cx="3168720" cy="10080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4572000" y="2997360"/>
          <a:ext cx="3816360" cy="17366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ant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constant P1.T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constant P1.T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wo  : constant P1.T := One + O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042920" y="3362400"/>
          <a:ext cx="3168720" cy="10080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572000" y="2997360"/>
          <a:ext cx="3816360" cy="17366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ant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constant P1.T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constant P1.T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wo  : constant P1.T := One + O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5" name="Oval 2"/>
          <p:cNvSpPr/>
          <p:nvPr/>
        </p:nvSpPr>
        <p:spPr>
          <a:xfrm>
            <a:off x="7378560" y="407664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3"/>
          <p:cNvSpPr/>
          <p:nvPr/>
        </p:nvSpPr>
        <p:spPr>
          <a:xfrm flipH="1">
            <a:off x="6552720" y="4365720"/>
            <a:ext cx="9702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4788000" y="5157720"/>
            <a:ext cx="35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Types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パッケージに対する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Use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節がないために，この演算子を，利用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8" descr="wrong.png"/>
          <p:cNvPicPr/>
          <p:nvPr/>
        </p:nvPicPr>
        <p:blipFill>
          <a:blip r:embed="rId1"/>
          <a:stretch/>
        </p:blipFill>
        <p:spPr>
          <a:xfrm>
            <a:off x="4284720" y="4076640"/>
            <a:ext cx="2379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71720" y="202572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4786200" y="4786200"/>
          <a:ext cx="2428920" cy="14288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4786200" y="2217600"/>
          <a:ext cx="2214720" cy="64008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071720" y="202572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4786200" y="4786200"/>
          <a:ext cx="2428920" cy="14288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4786200" y="2217600"/>
          <a:ext cx="2214720" cy="64008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7" name="TextBox 4"/>
          <p:cNvSpPr/>
          <p:nvPr/>
        </p:nvSpPr>
        <p:spPr>
          <a:xfrm>
            <a:off x="1385280" y="4005360"/>
            <a:ext cx="245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エラー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子パッケージは，親に対して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（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Use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節と同様の）可視性を持っ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405080" y="2743200"/>
          <a:ext cx="2214360" cy="1371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5024520" y="292572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ッケージの一般的な構造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エンティティは，明示的にボディ部中に置かれるべきです．エンティティを外部で利用したい場合は別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ボディ部は，仕様部と比べ，変更が容易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285920" y="1413000"/>
          <a:ext cx="6572160" cy="27082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public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,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external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, exceptions, task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implementation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 sub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for the compiler from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n certain cases, visible from the compiler for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405080" y="2743200"/>
          <a:ext cx="2214360" cy="1371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5024520" y="292572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4" name="Oval 2"/>
          <p:cNvSpPr/>
          <p:nvPr/>
        </p:nvSpPr>
        <p:spPr>
          <a:xfrm>
            <a:off x="1835280" y="2708280"/>
            <a:ext cx="1081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3"/>
          <p:cNvSpPr/>
          <p:nvPr/>
        </p:nvSpPr>
        <p:spPr>
          <a:xfrm>
            <a:off x="2376360" y="2997360"/>
            <a:ext cx="1094040" cy="20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2206440" y="508464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子パッケージは，常にその親に依存してい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従って，ここで循環が生じ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wrong.png"/>
          <p:cNvPicPr/>
          <p:nvPr/>
        </p:nvPicPr>
        <p:blipFill>
          <a:blip r:embed="rId1"/>
          <a:stretch/>
        </p:blipFill>
        <p:spPr>
          <a:xfrm>
            <a:off x="1116000" y="2757600"/>
            <a:ext cx="2379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714680" y="2357280"/>
          <a:ext cx="2214360" cy="714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714680" y="4222800"/>
          <a:ext cx="2428560" cy="1428840"/>
        </p:xfrm>
        <a:graphic>
          <a:graphicData uri="http://schemas.openxmlformats.org/drawingml/2006/table">
            <a:tbl>
              <a:tblPr/>
              <a:tblGrid>
                <a:gridCol w="242856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5357880" y="2214720"/>
          <a:ext cx="2571840" cy="1006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714680" y="2357280"/>
          <a:ext cx="2214360" cy="714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714680" y="4222800"/>
          <a:ext cx="2428560" cy="1428840"/>
        </p:xfrm>
        <a:graphic>
          <a:graphicData uri="http://schemas.openxmlformats.org/drawingml/2006/table">
            <a:tbl>
              <a:tblPr/>
              <a:tblGrid>
                <a:gridCol w="242856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357880" y="2214720"/>
          <a:ext cx="2571840" cy="1006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36" name="TextBox 4"/>
          <p:cNvSpPr/>
          <p:nvPr/>
        </p:nvSpPr>
        <p:spPr>
          <a:xfrm>
            <a:off x="4781160" y="4581360"/>
            <a:ext cx="315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エラーはありません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ボディ部は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1.Child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仕様に依存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3"/>
          <p:cNvSpPr/>
          <p:nvPr/>
        </p:nvSpPr>
        <p:spPr>
          <a:xfrm>
            <a:off x="2771640" y="3068640"/>
            <a:ext cx="0" cy="108108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3"/>
          <p:cNvSpPr/>
          <p:nvPr/>
        </p:nvSpPr>
        <p:spPr>
          <a:xfrm flipH="1">
            <a:off x="2916360" y="2924280"/>
            <a:ext cx="2232000" cy="122544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3"/>
          <p:cNvSpPr/>
          <p:nvPr/>
        </p:nvSpPr>
        <p:spPr>
          <a:xfrm flipV="1">
            <a:off x="3924360" y="2700360"/>
            <a:ext cx="1224000" cy="7920"/>
          </a:xfrm>
          <a:prstGeom prst="line">
            <a:avLst/>
          </a:prstGeom>
          <a:ln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例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77920" y="907920"/>
          <a:ext cx="6094440" cy="2941920"/>
        </p:xfrm>
        <a:graphic>
          <a:graphicData uri="http://schemas.openxmlformats.org/drawingml/2006/table">
            <a:tbl>
              <a:tblPr/>
              <a:tblGrid>
                <a:gridCol w="6094440"/>
              </a:tblGrid>
              <a:tr h="294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_Stack_Array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Int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ata : Int_Stack_Arra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st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; Val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 :=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Data =&gt; (others =&gt; 0), Last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798640" y="3860640"/>
          <a:ext cx="6094440" cy="2708280"/>
        </p:xfrm>
        <a:graphic>
          <a:graphicData uri="http://schemas.openxmlformats.org/drawingml/2006/table">
            <a:tbl>
              <a:tblPr/>
              <a:tblGrid>
                <a:gridCol w="6094440"/>
              </a:tblGrid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; Val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Last := S.Last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Data (S.Last) := Val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Last := S.Last -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S.Data (S.Last + 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ッケージのコンポーネントにアクセスする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公開部で宣言されているエンティティのみが，（そのパッケージの利用者から）アクセスできます（可視状態）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ドット表記を用いて，エンティティを参照する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714920" y="242892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500120" y="2428920"/>
          <a:ext cx="2214720" cy="10065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b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643280" y="3786120"/>
          <a:ext cx="2428920" cy="210348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Pub_Proc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1.Priv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1500120" y="3720960"/>
          <a:ext cx="2214720" cy="10065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v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3" name="Picture 8" descr="wrong.png"/>
          <p:cNvPicPr/>
          <p:nvPr/>
        </p:nvPicPr>
        <p:blipFill>
          <a:blip r:embed="rId1"/>
          <a:stretch/>
        </p:blipFill>
        <p:spPr>
          <a:xfrm>
            <a:off x="4332240" y="5062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子単位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子単位は，パッケージの拡張で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ネームスペースを組織化したり，大きなパッケージを分割するときに利用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子単位は，親に対して可視性を持ち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一般に，可能な限り機能を複数のパッケージに分割することは，良い習慣で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571920" y="292428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85840" y="3852720"/>
          <a:ext cx="2071440" cy="8636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1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3571920" y="392436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6786720" y="3852720"/>
          <a:ext cx="2071440" cy="8636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3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000240" y="4917960"/>
          <a:ext cx="3500640" cy="86364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-grand_child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完全な依存（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with 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節の使用）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with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節は，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2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つのパッケージ間の依存を定義し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全ての公開宣言に対して，（パッケージ利用者は）アクセスができ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仕様部或いはボディ部で使用することができ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通常，仕様部に依存し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「仕様部での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with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節」は，そのボディ部に適用され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「仕様部での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with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節」は，その子単位にも適用されます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他の推移関係は存在しません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643200" y="428004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00040" y="4280040"/>
          <a:ext cx="2214720" cy="7142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571920" y="544500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714240" y="544500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507" name="Connecteur droit avec flèche 17"/>
          <p:cNvCxnSpPr/>
          <p:nvPr/>
        </p:nvCxnSpPr>
        <p:spPr>
          <a:xfrm flipH="1" flipV="1">
            <a:off x="2714400" y="4922640"/>
            <a:ext cx="78624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08" name=""/>
          <p:cNvGraphicFramePr/>
          <p:nvPr/>
        </p:nvGraphicFramePr>
        <p:xfrm>
          <a:off x="6643800" y="3429000"/>
          <a:ext cx="2214360" cy="71424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509" name="Connecteur droit avec flèche 41"/>
          <p:cNvCxnSpPr/>
          <p:nvPr/>
        </p:nvCxnSpPr>
        <p:spPr>
          <a:xfrm flipV="1">
            <a:off x="2785680" y="4922640"/>
            <a:ext cx="7866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Connecteur droit avec flèche 42"/>
          <p:cNvCxnSpPr/>
          <p:nvPr/>
        </p:nvCxnSpPr>
        <p:spPr>
          <a:xfrm flipV="1">
            <a:off x="5785920" y="3571560"/>
            <a:ext cx="7866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1" name="Connecteur droit avec flèche 43"/>
          <p:cNvCxnSpPr/>
          <p:nvPr/>
        </p:nvCxnSpPr>
        <p:spPr>
          <a:xfrm flipV="1">
            <a:off x="5643720" y="3642840"/>
            <a:ext cx="1000800" cy="19296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「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with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キーワードの利用について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予約語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with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は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言語において様々な役割を持って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二つのユニット間の依存性を宣言するのに用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アスペクトを導入するために用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レコード型を拡張するために用い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同様の他の場合においても利用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635280" y="3933720"/>
          <a:ext cx="2489400" cy="457200"/>
        </p:xfrm>
        <a:graphic>
          <a:graphicData uri="http://schemas.openxmlformats.org/drawingml/2006/table">
            <a:tbl>
              <a:tblPr/>
              <a:tblGrid>
                <a:gridCol w="24894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635280" y="4869000"/>
          <a:ext cx="2489400" cy="463320"/>
        </p:xfrm>
        <a:graphic>
          <a:graphicData uri="http://schemas.openxmlformats.org/drawingml/2006/table">
            <a:tbl>
              <a:tblPr/>
              <a:tblGrid>
                <a:gridCol w="2489400"/>
              </a:tblGrid>
              <a:tr h="46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635280" y="2997360"/>
          <a:ext cx="2489400" cy="458640"/>
        </p:xfrm>
        <a:graphic>
          <a:graphicData uri="http://schemas.openxmlformats.org/drawingml/2006/table">
            <a:tbl>
              <a:tblPr/>
              <a:tblGrid>
                <a:gridCol w="2489400"/>
              </a:tblGrid>
              <a:tr h="458640"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Text_I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依存性におけるショートカット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use </a:t>
            </a: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節</a:t>
            </a:r>
            <a:r>
              <a:rPr b="0" lang="en-US" sz="2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（パッケージ名の）前置にうんざりする時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use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節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は，その煩雑さを取り除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あいまいさが，紛れ込む可能性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全てのスコープ中に置くことがで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71720" y="3375000"/>
          <a:ext cx="2643120" cy="118908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643280" y="3252960"/>
          <a:ext cx="2428920" cy="320040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1.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2.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1071720" y="470052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2" name="Picture 8" descr="wrong.png"/>
          <p:cNvPicPr/>
          <p:nvPr/>
        </p:nvPicPr>
        <p:blipFill>
          <a:blip r:embed="rId1"/>
          <a:stretch/>
        </p:blipFill>
        <p:spPr>
          <a:xfrm>
            <a:off x="4332240" y="414972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wrong.png"/>
          <p:cNvPicPr/>
          <p:nvPr/>
        </p:nvPicPr>
        <p:blipFill>
          <a:blip r:embed="rId2"/>
          <a:stretch/>
        </p:blipFill>
        <p:spPr>
          <a:xfrm>
            <a:off x="4332240" y="527832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Ito Masao</cp:lastModifiedBy>
  <dcterms:modified xsi:type="dcterms:W3CDTF">2017-12-08T00:14:57Z</dcterms:modified>
  <cp:revision>237</cp:revision>
  <dc:subject/>
  <dc:title>Diapositive 1</dc:title>
</cp:coreProperties>
</file>