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E5CA-8BC3-4F21-B4F7-60812B20C326}" type="slidenum"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5067-6054-4ECA-9078-BA72AA5AABC2}" type="slidenum"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54CA-EE4F-46A5-96CC-005FBDB7B0E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C591-8D82-4220-95F5-83F8468D7B6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D49D-0419-43D4-BF63-A3AF5EBDFAF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D57A-D168-4BF7-94B2-AD2E5D21208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26C-C39C-4A87-AA88-857AF52087B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1662-F961-4792-867B-6F4A7692689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46A4-F67D-482C-8C91-22E8A193B3C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9BFE-4A76-4A4F-89AD-BF691BD8E54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039A-C60F-41DD-B424-7EE0E2172D6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225-EE85-4DE6-853D-69E61E06265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30CB-33F0-4989-8A07-EBE5C0FBC78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FB7E-DD27-4BFB-B75E-2D1A56C797B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2BA-1810-46D4-B867-8080CC6D38A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3693-D370-4B31-9115-3ECFFB52758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1359-1B81-4298-A659-0C129BB00B8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5085-6961-43AC-A7F9-A2829745663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96A-4028-431B-BDFB-E02BA3C48C2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4E52-61A5-4551-B4E7-0A68C6F2BC2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462-4B23-419D-A1CC-0B6A16AC0B2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65B-60F1-413B-91FB-A5798B9EB12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2AB0-15E5-47C6-8CB9-1E2CAF833421}" type="slidenum"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訳注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最後の例では，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X/=0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が偽となるために，（ガード条件は必ず偽となるため）右側被演算子は評価しません．即ち，省略されています．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D88-8EEF-4437-A616-01D4FD76DB1E}" type="slidenum"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訳注；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上段が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Case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文，下段が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Case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式の例です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77C9-0FA0-49EC-A0DE-C52EA5D6B9E7}" type="slidenum"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4A9-DC1F-4DA7-8922-8C6290757B1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11C6CC3-03CF-424C-97DE-0342A3BAC86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BAEBA5A-DBED-4B39-82FD-49B76BF034C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84B256C-6AD1-4C79-AFB9-B309D6BB28D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9EB5755-7412-499F-BA19-C5A99322BA2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reative Commons License"/>
          <p:cNvPicPr/>
          <p:nvPr/>
        </p:nvPicPr>
        <p:blipFill>
          <a:blip r:embed="rId3"/>
          <a:stretch/>
        </p:blipFill>
        <p:spPr>
          <a:xfrm>
            <a:off x="788508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879EDFE-CEB2-47A0-B7E5-6AA6094E2C0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9F93209-EFD7-483C-B647-EBFB3C609BE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  <a:ea typeface="Arial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reative Commons License"/>
          <p:cNvPicPr/>
          <p:nvPr/>
        </p:nvPicPr>
        <p:blipFill>
          <a:blip r:embed="rId3"/>
          <a:stretch/>
        </p:blipFill>
        <p:spPr>
          <a:xfrm>
            <a:off x="790416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1B2812D-9C7D-40E1-B01E-F6BAD7359CA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5" name="TextBox 8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C:\Users\ochem\AppData\Local\Temp\Rar$DR28.624\AdaCoreU Package\icons\quiz.png"/>
            <p:cNvPicPr/>
            <p:nvPr/>
          </p:nvPicPr>
          <p:blipFill>
            <a:blip r:embed="rId4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C727F43-A4D4-42C6-AC54-F131D73B560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EF03950-E2C4-4DA3-876E-950796D3D4E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532560" y="108000"/>
            <a:ext cx="2611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チェックアイコン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6996600" y="627120"/>
            <a:ext cx="1438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エラーの場所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03AD87A-26BA-40C1-B37A-AAD7762C10B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042920" y="324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6823440" y="189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F1E7059-D764-4EA0-AB8F-73C16070DCC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6901200" y="692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wrong.png"/>
          <p:cNvPicPr/>
          <p:nvPr/>
        </p:nvPicPr>
        <p:blipFill>
          <a:blip r:embed="rId4"/>
          <a:stretch/>
        </p:blipFill>
        <p:spPr>
          <a:xfrm>
            <a:off x="6084720" y="358920"/>
            <a:ext cx="478080" cy="477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文</a:t>
            </a:r>
            <a:endParaRPr b="1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1a1a"/>
                </a:solidFill>
                <a:latin typeface="Calibri"/>
              </a:rPr>
              <a:t>Presented by Quentin Ochem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For .. Loop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文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範囲内で繰り返しを行うことができ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範囲は昇順で与え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繰り返しは必ず次の値になります．逆順が指定された場合は，前の値になり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843280" y="1773360"/>
          <a:ext cx="3744720" cy="82224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2340000" y="3357720"/>
          <a:ext cx="4824360" cy="822240"/>
        </p:xfrm>
        <a:graphic>
          <a:graphicData uri="http://schemas.openxmlformats.org/drawingml/2006/table">
            <a:tbl>
              <a:tblPr/>
              <a:tblGrid>
                <a:gridCol w="482436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t cal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914560" y="5486400"/>
          <a:ext cx="3745080" cy="82224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ver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「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for loop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制御変数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for loop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」中で宣言される変数は，明示的に型を持たなければなりません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全ての離散型で可能です．範囲が指定されていない場合は，型が持つ全ての範囲となり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制御変数は，ループ中では定数で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411280" y="2173320"/>
          <a:ext cx="4681800" cy="82404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411280" y="3933720"/>
          <a:ext cx="4681800" cy="8226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226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aract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411280" y="5702400"/>
          <a:ext cx="4681800" cy="82224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:= X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28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2195640" y="5979960"/>
            <a:ext cx="257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「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for loop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範囲の評価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ループ範囲の評価は，ループに入ったときに</a:t>
            </a:r>
            <a:r>
              <a:rPr b="1" lang="ja-JP" sz="2200" spc="-1" strike="noStrike" u="sng">
                <a:solidFill>
                  <a:srgbClr val="404040"/>
                </a:solidFill>
                <a:uFillTx/>
                <a:latin typeface="HG丸ｺﾞｼｯｸM-PRO"/>
                <a:ea typeface="HG丸ｺﾞｼｯｸM-PRO"/>
              </a:rPr>
              <a:t>一度だけ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行われ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195640" y="3614760"/>
          <a:ext cx="5041800" cy="8222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.. B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B + 1; -- no effect on the 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32" name="Picture 11" descr="C:\Users\ochem3\Desktop\AdaCoreU Package\AdaCoreU Package\icons\hazard.png"/>
          <p:cNvPicPr/>
          <p:nvPr/>
        </p:nvPicPr>
        <p:blipFill>
          <a:blip r:embed="rId1"/>
          <a:stretch/>
        </p:blipFill>
        <p:spPr>
          <a:xfrm>
            <a:off x="8501040" y="157320"/>
            <a:ext cx="4636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宣言ブロック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全ての文列において，（新しい変数の宣言や例外ハンドラなどに対して）再度宣言ブロックを用いること，副式列を用いることは有益で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これは，新しい宣言ブロックによって行うことができ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195640" y="4221000"/>
          <a:ext cx="5041800" cy="131148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ヌル（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null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）文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空の文列は，規則に反しています．しかし，．．．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．．．何もしないことを示す文を用いることは可能ですそれがヌル（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null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）文です．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195640" y="4494240"/>
          <a:ext cx="5041800" cy="131112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3" name="Oval 2"/>
          <p:cNvSpPr/>
          <p:nvPr/>
        </p:nvSpPr>
        <p:spPr>
          <a:xfrm>
            <a:off x="2343240" y="3036960"/>
            <a:ext cx="4712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3"/>
          <p:cNvSpPr/>
          <p:nvPr/>
        </p:nvSpPr>
        <p:spPr>
          <a:xfrm>
            <a:off x="2579760" y="3324240"/>
            <a:ext cx="390600" cy="1112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1778400" y="4489560"/>
            <a:ext cx="302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Ada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では，「＝」によって，同値であることを示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76360" y="303696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has been assigned to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has been assigned to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1" name="Oval 2"/>
          <p:cNvSpPr/>
          <p:nvPr/>
        </p:nvSpPr>
        <p:spPr>
          <a:xfrm>
            <a:off x="2343240" y="3036960"/>
            <a:ext cx="4712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3"/>
          <p:cNvSpPr/>
          <p:nvPr/>
        </p:nvSpPr>
        <p:spPr>
          <a:xfrm>
            <a:off x="2579760" y="3324240"/>
            <a:ext cx="390600" cy="1112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4"/>
          <p:cNvSpPr/>
          <p:nvPr/>
        </p:nvSpPr>
        <p:spPr>
          <a:xfrm>
            <a:off x="3287880" y="448956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:=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」は，（比較）演算子ではありません．条件中で用いることは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76360" y="303696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幾つかの全般的情報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文は複数の行にまたがる場合があります．また，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;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」によって終了する必要があり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文は，一連の文として（指定の場所に）記述する必要があり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843280" y="4997520"/>
          <a:ext cx="3744720" cy="13111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ut_Line ("Hello World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 World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2914560" y="2262240"/>
          <a:ext cx="3745080" cy="131112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 World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82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2514600" y="528480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9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Simple digit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ong 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First .. -1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9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Simple digit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ong 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First .. -1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9" name="Oval 2"/>
          <p:cNvSpPr/>
          <p:nvPr/>
        </p:nvSpPr>
        <p:spPr>
          <a:xfrm>
            <a:off x="1952640" y="2708280"/>
            <a:ext cx="2332080" cy="172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3"/>
          <p:cNvSpPr/>
          <p:nvPr/>
        </p:nvSpPr>
        <p:spPr>
          <a:xfrm flipH="1">
            <a:off x="2292120" y="4437000"/>
            <a:ext cx="82692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1775880" y="5373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０が抜け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76360" y="270828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Integer'Last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atural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Integer'Last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atural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7" name="Oval 2"/>
          <p:cNvSpPr/>
          <p:nvPr/>
        </p:nvSpPr>
        <p:spPr>
          <a:xfrm>
            <a:off x="2313000" y="3465360"/>
            <a:ext cx="3051000" cy="250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3"/>
          <p:cNvSpPr/>
          <p:nvPr/>
        </p:nvSpPr>
        <p:spPr>
          <a:xfrm flipH="1">
            <a:off x="1560600" y="3608280"/>
            <a:ext cx="752400" cy="1549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731520" y="5140440"/>
            <a:ext cx="399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1..Integer'Last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と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0..Integer'Last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が重複し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32080" y="338292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Float := 10.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 .. Float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’First .. -1.0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Float := 10.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 .. Float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'First .. -1.0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5" name="Oval 2"/>
          <p:cNvSpPr/>
          <p:nvPr/>
        </p:nvSpPr>
        <p:spPr>
          <a:xfrm>
            <a:off x="1952640" y="2708280"/>
            <a:ext cx="1395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3"/>
          <p:cNvSpPr/>
          <p:nvPr/>
        </p:nvSpPr>
        <p:spPr>
          <a:xfrm flipH="1" flipV="1">
            <a:off x="1332000" y="1988640"/>
            <a:ext cx="63000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1071360" y="141300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評価される値は，離散的でなければな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46120" y="2739960"/>
            <a:ext cx="2574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=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=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3" name="Oval 2"/>
          <p:cNvSpPr/>
          <p:nvPr/>
        </p:nvSpPr>
        <p:spPr>
          <a:xfrm>
            <a:off x="1952640" y="3284640"/>
            <a:ext cx="139536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3"/>
          <p:cNvSpPr/>
          <p:nvPr/>
        </p:nvSpPr>
        <p:spPr>
          <a:xfrm flipH="1">
            <a:off x="1483920" y="3429000"/>
            <a:ext cx="46836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1113480" y="4076640"/>
            <a:ext cx="279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I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ループ中では定数です．代入は禁止され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92200" y="3300480"/>
            <a:ext cx="2574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出力は？　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I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9" name="Titre 1"/>
          <p:cNvSpPr/>
          <p:nvPr/>
        </p:nvSpPr>
        <p:spPr>
          <a:xfrm>
            <a:off x="4140360" y="360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r-IN" sz="3200" spc="-1" strike="noStrike">
                <a:solidFill>
                  <a:srgbClr val="1780a6"/>
                </a:solidFill>
                <a:latin typeface="HG丸ｺﾞｼｯｸM-PRO"/>
              </a:rPr>
              <a:t>(</a:t>
            </a: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7</a:t>
            </a:r>
            <a:r>
              <a:rPr b="0" lang="mr-IN" sz="3200" spc="-1" strike="noStrike">
                <a:solidFill>
                  <a:srgbClr val="1780a6"/>
                </a:solidFill>
                <a:latin typeface="HG丸ｺﾞｼｯｸM-PRO"/>
              </a:rPr>
              <a:t>/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re 1"/>
          <p:cNvSpPr/>
          <p:nvPr/>
        </p:nvSpPr>
        <p:spPr>
          <a:xfrm>
            <a:off x="4140360" y="360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r-IN" sz="3200" spc="-1" strike="noStrike">
                <a:solidFill>
                  <a:srgbClr val="1780a6"/>
                </a:solidFill>
                <a:latin typeface="HG丸ｺﾞｼｯｸM-PRO"/>
              </a:rPr>
              <a:t>(</a:t>
            </a: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7</a:t>
            </a:r>
            <a:r>
              <a:rPr b="0" lang="mr-IN" sz="3200" spc="-1" strike="noStrike">
                <a:solidFill>
                  <a:srgbClr val="1780a6"/>
                </a:solidFill>
                <a:latin typeface="HG丸ｺﾞｼｯｸM-PRO"/>
              </a:rPr>
              <a:t>/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出力は？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I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3" name="TextBox 4"/>
          <p:cNvSpPr/>
          <p:nvPr/>
        </p:nvSpPr>
        <p:spPr>
          <a:xfrm>
            <a:off x="832320" y="4076640"/>
            <a:ext cx="297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何もお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ループの範囲は空にな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逆順にするためには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reverse 0..10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が必要で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If 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文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/ If 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式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If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文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If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式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971640" y="1773360"/>
          <a:ext cx="7599240" cy="2041560"/>
        </p:xfrm>
        <a:graphic>
          <a:graphicData uri="http://schemas.openxmlformats.org/drawingml/2006/table">
            <a:tbl>
              <a:tblPr/>
              <a:tblGrid>
                <a:gridCol w="3800520"/>
                <a:gridCol w="3798720"/>
              </a:tblGrid>
              <a:tr h="20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B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Else... 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 == 0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 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B == 0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B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Else...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9640" y="4654440"/>
          <a:ext cx="8280360" cy="1798920"/>
        </p:xfrm>
        <a:graphic>
          <a:graphicData uri="http://schemas.openxmlformats.org/drawingml/2006/table">
            <a:tbl>
              <a:tblPr/>
              <a:tblGrid>
                <a:gridCol w="4138560"/>
                <a:gridCol w="414180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A is 0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B is 0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Else"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A == 0 ? "A is 0"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B == 0 ? "B is 0"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Else..."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87" name="TextBox 1"/>
          <p:cNvSpPr/>
          <p:nvPr/>
        </p:nvSpPr>
        <p:spPr>
          <a:xfrm>
            <a:off x="8031960" y="1825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228880" y="4705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7"/>
          <p:cNvSpPr/>
          <p:nvPr/>
        </p:nvSpPr>
        <p:spPr>
          <a:xfrm>
            <a:off x="4215600" y="1825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8"/>
          <p:cNvSpPr/>
          <p:nvPr/>
        </p:nvSpPr>
        <p:spPr>
          <a:xfrm>
            <a:off x="4079880" y="477684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140000" y="360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!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not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40000" y="360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!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not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8" name="Oval 2"/>
          <p:cNvSpPr/>
          <p:nvPr/>
        </p:nvSpPr>
        <p:spPr>
          <a:xfrm>
            <a:off x="2340000" y="2997360"/>
            <a:ext cx="43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3"/>
          <p:cNvSpPr/>
          <p:nvPr/>
        </p:nvSpPr>
        <p:spPr>
          <a:xfrm flipH="1">
            <a:off x="2555640" y="2368440"/>
            <a:ext cx="664920" cy="62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4"/>
          <p:cNvSpPr/>
          <p:nvPr/>
        </p:nvSpPr>
        <p:spPr>
          <a:xfrm>
            <a:off x="2703600" y="184464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Ada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では，不等号は，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/=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」と記述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76360" y="323532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40000" y="360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 Natur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40000" y="360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 Natur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6" name="TextBox 4"/>
          <p:cNvSpPr/>
          <p:nvPr/>
        </p:nvSpPr>
        <p:spPr>
          <a:xfrm>
            <a:off x="1368360" y="458136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正しい．しかし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I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宣言は冗長で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出力は？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763640" y="2651040"/>
          <a:ext cx="5616720" cy="15559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55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1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   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9" name="Titre 1"/>
          <p:cNvSpPr/>
          <p:nvPr/>
        </p:nvSpPr>
        <p:spPr>
          <a:xfrm>
            <a:off x="4140360" y="360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r-IN" sz="3200" spc="-1" strike="noStrike">
                <a:solidFill>
                  <a:srgbClr val="1780a6"/>
                </a:solidFill>
                <a:latin typeface="HG丸ｺﾞｼｯｸM-PRO"/>
              </a:rPr>
              <a:t>(</a:t>
            </a: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10</a:t>
            </a:r>
            <a:r>
              <a:rPr b="0" lang="mr-IN" sz="3200" spc="-1" strike="noStrike">
                <a:solidFill>
                  <a:srgbClr val="1780a6"/>
                </a:solidFill>
                <a:latin typeface="HG丸ｺﾞｼｯｸM-PRO"/>
              </a:rPr>
              <a:t>/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出力は？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763640" y="2651040"/>
          <a:ext cx="5616720" cy="15559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55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1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   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2" name="TextBox 4"/>
          <p:cNvSpPr/>
          <p:nvPr/>
        </p:nvSpPr>
        <p:spPr>
          <a:xfrm>
            <a:off x="3068640" y="4869000"/>
            <a:ext cx="34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一度だけ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"A"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が出力されます．ループに入る前に範囲が評価され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itre 1"/>
          <p:cNvSpPr/>
          <p:nvPr/>
        </p:nvSpPr>
        <p:spPr>
          <a:xfrm>
            <a:off x="4140360" y="360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r-IN" sz="3200" spc="-1" strike="noStrike">
                <a:solidFill>
                  <a:srgbClr val="1780a6"/>
                </a:solidFill>
                <a:latin typeface="HG丸ｺﾞｼｯｸM-PRO"/>
              </a:rPr>
              <a:t>(</a:t>
            </a: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10</a:t>
            </a:r>
            <a:r>
              <a:rPr b="0" lang="mr-IN" sz="3200" spc="-1" strike="noStrike">
                <a:solidFill>
                  <a:srgbClr val="1780a6"/>
                </a:solidFill>
                <a:latin typeface="HG丸ｺﾞｼｯｸM-PRO"/>
              </a:rPr>
              <a:t>/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条件演算子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比較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二値ブール演算子と省略制御形式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871640" y="4643280"/>
          <a:ext cx="5724720" cy="1009800"/>
        </p:xfrm>
        <a:graphic>
          <a:graphicData uri="http://schemas.openxmlformats.org/drawingml/2006/table">
            <a:tbl>
              <a:tblPr/>
              <a:tblGrid>
                <a:gridCol w="1144440"/>
                <a:gridCol w="1144800"/>
                <a:gridCol w="1146240"/>
                <a:gridCol w="1144440"/>
                <a:gridCol w="1144800"/>
              </a:tblGrid>
              <a:tr h="64008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二値ブール演算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省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制御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 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808360" y="2276640"/>
          <a:ext cx="3492360" cy="36972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480"/>
                <a:gridCol w="582840"/>
                <a:gridCol w="581040"/>
                <a:gridCol w="582480"/>
              </a:tblGrid>
              <a:tr h="36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二値ブール演算子についての注記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and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」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,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or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」は省略制御形式ではありません．両被演算子は，常に評価され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省略制御形式による実行は，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and then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」と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or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　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else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」で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571760" y="2362320"/>
          <a:ext cx="6095880" cy="274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= 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/ X &gt;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MAY RAISE AN 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571760" y="4307040"/>
          <a:ext cx="6095880" cy="274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= 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 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/ X &gt;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Case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文と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Case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式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2360" y="981000"/>
          <a:ext cx="8712360" cy="3168720"/>
        </p:xfrm>
        <a:graphic>
          <a:graphicData uri="http://schemas.openxmlformats.org/drawingml/2006/table">
            <a:tbl>
              <a:tblPr/>
              <a:tblGrid>
                <a:gridCol w="3743280"/>
                <a:gridCol w="4969080"/>
              </a:tblGrid>
              <a:tr h="316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zero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 .. -1 | 1 .. 9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digit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it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0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ea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8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7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6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4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3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2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5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6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9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digit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ea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fau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other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971640" y="4581360"/>
          <a:ext cx="7421400" cy="1800360"/>
        </p:xfrm>
        <a:graphic>
          <a:graphicData uri="http://schemas.openxmlformats.org/drawingml/2006/table">
            <a:tbl>
              <a:tblPr/>
              <a:tblGrid>
                <a:gridCol w="4103640"/>
                <a:gridCol w="3317760"/>
              </a:tblGrid>
              <a:tr h="18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zero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 .. -1 | 1 .. 9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digit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other"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同等の表現は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C++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にはありませ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03" name="TextBox 5"/>
          <p:cNvSpPr/>
          <p:nvPr/>
        </p:nvSpPr>
        <p:spPr>
          <a:xfrm>
            <a:off x="8292960" y="1033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6"/>
          <p:cNvSpPr/>
          <p:nvPr/>
        </p:nvSpPr>
        <p:spPr>
          <a:xfrm>
            <a:off x="3423600" y="1033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Case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文の規則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式の型が必要とする全ての値を，記述する必要があり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値は，ユニークでなければなりません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571760" y="2276640"/>
          <a:ext cx="6095880" cy="1188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…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-- NOK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1571760" y="4532400"/>
          <a:ext cx="6095880" cy="19209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…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0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First .. 0 =&gt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ループ文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ループは，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loop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」と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end loop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」ブロックによって囲まれ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ループは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while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文に脱出条件を記述することによって制御することができます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843280" y="2117880"/>
          <a:ext cx="3744720" cy="13111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916360" y="5025960"/>
          <a:ext cx="3744720" cy="106704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lt;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A := A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exit 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文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いつでも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exit 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文によってループを抜け出すことができます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ネスト化されたループでは，名前を用いて脱出位置を定めることができます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5003640" y="1700280"/>
          <a:ext cx="3745080" cy="115884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A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&gt; 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B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755640" y="1700280"/>
          <a:ext cx="3745080" cy="201276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201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A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gt; 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B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2771640" y="4511520"/>
          <a:ext cx="3745080" cy="179892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_1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A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_2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B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op_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&gt; 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Ito Masao</cp:lastModifiedBy>
  <dcterms:modified xsi:type="dcterms:W3CDTF">2017-12-08T00:47:06Z</dcterms:modified>
  <cp:revision>208</cp:revision>
  <dc:subject/>
  <dc:title>Diapositive 1</dc:title>
</cp:coreProperties>
</file>